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382-119E-4014-AF4E-DD6383B2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DE0-D9A8-4513-B8E3-8A11D538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BB4-6119-4E4A-B072-FFE21FFC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17F-EBF7-4C40-8426-8C3DBED2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12D00-B15A-43CF-868A-3AFE94891B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4E4F2-DBAF-4A93-BA0B-0F33971F4B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66568-761D-4E39-9435-7FBEFDBCF1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98A22-3673-4FF4-90EE-5B745B7762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CBAB0-5B37-4A95-9E7E-51C9D2DF62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AF52D-6A4A-4473-B433-13DD4B40CD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51D2C-6AB7-42BB-B264-5B5E080AEC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FF4C-B04B-44BA-A7A8-78BDF10E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0D347-43F9-49D0-98D7-9B008DDEDA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7E00B-80D2-4690-B407-5F6CA1CB29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81169-6A26-42D2-BE17-47AEBC817C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3AB98-74C1-44B7-A0BF-B952A27885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54272-75A6-4DA0-8968-9BC99E6C70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0FB-D587-434E-8C8A-54EE18D0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AFC-5B4E-4DC6-A08F-105A562B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B935-C574-4C46-84E0-DF5338D2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CF4-48ED-4553-8FBD-1CC93453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1DF-537D-46CD-9B66-DDCED12F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1B0-86F5-4609-9527-C148ED60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47E-7C4F-47DE-8AED-13D9CF42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1ABE-631A-4F28-A8FB-33D8308BDB70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A4C1-1833-4AED-9556-A12BED576CBA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III - Adi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266040"/>
            <a:ext cx="740736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Transformando Conhecimento em A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conhecimento inferido deve ser usado para auxiliar o agente  a realizar 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regras que relacionem o estado atual do mundo às ações que o agente pode rea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vanç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próxima caver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gir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90 graus à direita ou à esquer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eg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m objeto na mesma caverna que o agent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tir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 direção para onde o agente está olhando (a flecha para quando encontra uma parede ou mata o Wumpus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ai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a cave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CFA-D789-4EBB-81EB-2E48DC76F2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266040"/>
            <a:ext cx="74804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Transformando Conhecimento em A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 de Reg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gente está na caverna (1,1) virado para a direita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Wumpus está na caverna (2,1), ent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1-1 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Dir 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W2-1 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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avanç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essas regras, o agente pode então perguntar à BC que ação ele deve real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o avanç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o girar para a esquer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o atirar?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859-AD0C-484D-B65E-8F6E571051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1516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gente-BC com Lógica Proposicion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9596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gente-BC-Proposicion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ercepçã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el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ercepções-Sentenç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ercepção,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 c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sta de possíveis 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ç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s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C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ergunta-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,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 &lt;- 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or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C1E-AE78-46E2-91AB-D24FD36730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blemas com o Agente Proposicion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ógica Proposicion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capaz de fazer inferências que resultam em 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udo, esta lógica é “fraca”, não sendo capaz de lidar com domínios simples como o Mundo de Wumpu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1B2-8E01-4D01-8E68-E6DB42B2F0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blemas com o Agente Proposicion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istem proposições demai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: a regra: “não avance se o Wumpus estiver em frente a você“ só pode ser representada com um conjunto de 64 reg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m, serão necessárias milhares de regras para definir um agente eficiente, e o processo de inferência ficará muito l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o 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omínios dinâmic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A36-EF86-4AFC-93BA-80BF2D139B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920" y="31680"/>
            <a:ext cx="751680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blemas com o Agente Proposicion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804096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ndo o agente faz seu primeiro movimento, a proposição A(1,1) torna-se falsa,  e  A(2,1) torna-se verdadei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podemos apenas “apagar”  A(1,1) porque o agente precisa saber onde esteve 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a solução é usar símbolos diferentes para a localização do agente a cada temp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 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ud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so requer regras dependentes do temp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BC tem que ser “reescrita” a cada temp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 o ag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cutar 100 passos, a BC terá 6400 regras apenas para dizer que ele não deve avançar quando o Wumpus estiver em frente a ele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1D8-1A69-4FA1-BEB3-49974627E1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Uma Solução: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155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 lógica representa objetos e relações entre objetos, além das proposi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5AC-C41D-494E-BE14-44699BD27C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(descri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7FA-0D63-4EE5-8E3E-13ACE91D94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557360"/>
            <a:ext cx="7993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Mundo do Wu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5364000"/>
            <a:ext cx="7921440" cy="131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 Mundo do Wumpu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- proposto em 1972 por Gregory Yob; cansado dos jogos da época que eram baseados em grades cartesianas, ele decidiu então criar um novo tipo de jogo para computador. A idéia era fazer com que o agente não mais caminhasse por entre campos de um ambiente mas sim por entre arestas de uma figura geométrica: as arestas funcionariam como espécie de corredores que levariam o agente para diferentes estados.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http://www.ime.usp.br/~leliane/LabVIA/historia.h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2276" r="0" b="1331"/>
          <a:stretch/>
        </p:blipFill>
        <p:spPr>
          <a:xfrm>
            <a:off x="3276720" y="2060640"/>
            <a:ext cx="3528720" cy="3227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7080" y="30686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u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781360"/>
            <a:ext cx="901800" cy="9223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410920" y="3284640"/>
            <a:ext cx="124308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6160" y="438156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Agente caça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de teso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73440" y="4221000"/>
            <a:ext cx="898560" cy="85104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916360" y="4653000"/>
            <a:ext cx="73008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FA4-FDDF-4D4A-BD41-BF2E903CFD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88280"/>
            <a:ext cx="626436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Um Agente-BC para o Mundo do Wump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Base de Conheciment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(BC) consiste e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ntenças representando as percepções do a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ntenças válidas implicadas a partir das sentenças das percep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ras utilizadas para implicar novas sentenças a partir das sentença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ímbol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x-y significa que “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g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á na caverna (x,y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x-y significa que “existe um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burac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 caverna (x,y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x-y significa que “o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Wumpu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á na caverna (x,y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x-y significa que “o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u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á na caverna (x,y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x-y significa que “exist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bris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 caverna (x,y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x-y significa que “exist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fed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 caverna (x,y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x-y significa que “exist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lu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 caverna (x,y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4343-9FB6-4DB6-8216-9063C14017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188280"/>
            <a:ext cx="71294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ase de Conhecimento para o Mundo do Wump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3832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base nas percepções do estado abaixo,  a BC deverá conter as seguintes  sentenç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760" y="4297320"/>
            <a:ext cx="1213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V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cav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i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431600" y="3008160"/>
            <a:ext cx="2711880" cy="3012120"/>
            <a:chOff x="4431600" y="3008160"/>
            <a:chExt cx="2711880" cy="3012120"/>
          </a:xfrm>
        </p:grpSpPr>
        <p:sp>
          <p:nvSpPr>
            <p:cNvPr id="118" name=""/>
            <p:cNvSpPr/>
            <p:nvPr/>
          </p:nvSpPr>
          <p:spPr>
            <a:xfrm>
              <a:off x="4789080" y="3009600"/>
              <a:ext cx="2349000" cy="250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7640" y="361296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87640" y="422244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87640" y="483192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90640" y="300816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97240" y="300816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04200" y="300816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31600" y="498276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31600" y="429696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31600" y="37638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62960" y="568440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09400" y="5684400"/>
              <a:ext cx="17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16360" y="5684400"/>
              <a:ext cx="17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23320" y="5684400"/>
              <a:ext cx="17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31600" y="315396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3880" y="5235120"/>
              <a:ext cx="387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11240" y="4451040"/>
              <a:ext cx="439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22800" y="4176360"/>
              <a:ext cx="348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5840" y="4320720"/>
              <a:ext cx="387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19040" y="4930560"/>
              <a:ext cx="29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61360" y="4930560"/>
              <a:ext cx="29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3880" y="5006520"/>
              <a:ext cx="387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480" y="4938480"/>
              <a:ext cx="41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B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18680" y="3741480"/>
              <a:ext cx="45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 Black"/>
                </a:rPr>
                <a:t>W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31200" y="307980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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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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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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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5D4-277B-4B43-A90B-94630A1681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920" y="45360"/>
            <a:ext cx="79250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ase de Conhecimento para o Mundo do Wump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920" y="1523520"/>
            <a:ext cx="7850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gente também tem algum conhecimento prévio sobre o ambiente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ma caverna não te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ed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nt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o Wumpus não está nessa caverna, nem está em nenhuma caverna adjacente a 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gente terá um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egr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averna no seu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1: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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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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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2: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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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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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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3: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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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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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gente também deve saber que, se exist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ed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m (1,2), então deve haver um Wumpus em (1,2) ou em alguma caverna adjacente a 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4: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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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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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E02-DDB3-41FB-8089-9C76429415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560" y="266040"/>
            <a:ext cx="74804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mo Encontrar o Wumpus - Inferência!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Wumpus está em (1,3). Como provar is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agente precisa mostrar qu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BC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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uma sentenç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váli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nstruindo 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abela-Ver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a sente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usand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gras de inferê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658-D9CB-41E9-A281-687F9F5557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107280"/>
            <a:ext cx="74437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mo Encontrar o Wumpus - Inferência!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996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icialmente, vamos mostrar que o Wumpus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á em nenhuma outra caverna, e então concluir, por eliminação, que ele está em (1,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plica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Modus Ponen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 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mos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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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plica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-elimin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a (1), obtemos três sentenças isola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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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plica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Modus Ponen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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em seguida aplica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-eliminação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mos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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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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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plica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Modus Ponen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mos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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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2-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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F8B-AA8B-4F33-AA4B-E94236E064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266040"/>
            <a:ext cx="74804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mo Encontrar o Wumpus - Inferência!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plica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esolução Un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nd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é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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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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mos (do passo 2, temo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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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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plica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esolução Un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nd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é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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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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mos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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plica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esolução Un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nd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é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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mos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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7BF-CB5E-4EBC-83E3-1447315FF1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27T10:21:22Z</dcterms:modified>
  <cp:revision>622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