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D9BB-DFCF-4A40-930F-D30D806A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50BC-5F3E-4E61-9B31-2BA4BA74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1F3-06AC-4E3D-B19A-B37AD832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1102-8ED2-4085-A682-429CA88F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8919DC-DB24-44D0-B6B8-9412654D86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DEA25-72F6-4C98-BE97-5B5BCB702B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13ADC-A76F-4833-ADC5-7C1BD732BF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B0407-8456-4659-AF19-E3C1968774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D7508-5005-4927-8F6D-A93F11D40F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F5A36C-A5E9-4A9A-BDE8-34FAABD0AF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52347-81D6-4882-86E7-A30886F7C3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590-CA86-4991-B8A4-42FCBF06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0ACBA-0742-45E2-8B8F-5B413E60B9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5D29A-F4DD-4297-A0BF-03DC2D988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DB08A-47F5-4240-81EE-6BED510976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283E9-9CF1-4C6C-85F2-4AB1DEBA65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041C9-9C77-4C5E-881B-A844A67CDE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469C-28AE-4167-8150-32F7D623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8AB-9D26-4A71-ADB5-252D3BE0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1ECB-D9D1-496F-945A-CAE3FC05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D2FD-8E54-4203-B9D6-599D8EF7E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BA4-28C7-49D0-A15D-915FD807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90E-1E79-4BE7-A37B-BEA19A8D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7EF-F446-49DB-8D76-25397ECE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B06-E95D-4FE5-A548-3688A1C10AC8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BC4F-18F7-43EA-A724-CC5A30ED630E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kr.tuwien.ac.at/students/prak_wumpusjava/simulator/Welcome.html" TargetMode="External"/><Relationship Id="rId2" Type="http://schemas.openxmlformats.org/officeDocument/2006/relationships/hyperlink" Target="http://www.kr.tuwien.ac.at/students/prak_wumpusjava/simulator/TestDumb.html" TargetMode="External"/><Relationship Id="rId3" Type="http://schemas.openxmlformats.org/officeDocument/2006/relationships/hyperlink" Target="http://www.ime.usp.br/~leliane/LabVIA/historia.ht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1280" y="188280"/>
            <a:ext cx="62643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aciocinando e Agindo n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672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ndo em (2,2), o agente move-se para (2,3) e encontra o ou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58200" y="2924280"/>
            <a:ext cx="2711880" cy="3012120"/>
            <a:chOff x="1258200" y="2924280"/>
            <a:chExt cx="2711880" cy="3012120"/>
          </a:xfrm>
        </p:grpSpPr>
        <p:sp>
          <p:nvSpPr>
            <p:cNvPr id="173" name=""/>
            <p:cNvSpPr/>
            <p:nvPr/>
          </p:nvSpPr>
          <p:spPr>
            <a:xfrm>
              <a:off x="1615680" y="2925720"/>
              <a:ext cx="2349000" cy="2501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14240" y="352872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14240" y="413856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14240" y="4748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21688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2384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044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58200" y="48988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58200" y="4213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58200" y="367956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8956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600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44296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4992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58200" y="3070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85880" y="5151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1720" y="41241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8560" y="42368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45640" y="484632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87960" y="484632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26240" y="49226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98360" y="485424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45280" y="365724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24520" y="444492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363280" y="2924280"/>
            <a:ext cx="2711880" cy="3012120"/>
            <a:chOff x="5363280" y="2924280"/>
            <a:chExt cx="2711880" cy="3012120"/>
          </a:xfrm>
        </p:grpSpPr>
        <p:sp>
          <p:nvSpPr>
            <p:cNvPr id="198" name=""/>
            <p:cNvSpPr/>
            <p:nvPr/>
          </p:nvSpPr>
          <p:spPr>
            <a:xfrm>
              <a:off x="5720760" y="292572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18960" y="352908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8960" y="413856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18960" y="474804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196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892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35880" y="2924280"/>
              <a:ext cx="0" cy="250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63280" y="48988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3280" y="4213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63280" y="367992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9464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4108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4804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155000" y="560052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63280" y="3070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5151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74600" y="351324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3640" y="42368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50360" y="48466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93400" y="48466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31320" y="4922640"/>
              <a:ext cx="433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03080" y="485460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50360" y="365760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6960" y="42148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44360" y="444348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85720" y="4214880"/>
              <a:ext cx="29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458400" y="3909960"/>
              <a:ext cx="505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FB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63560" y="3605040"/>
              <a:ext cx="46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58040" y="3071880"/>
              <a:ext cx="46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P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900000" y="5877000"/>
            <a:ext cx="360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) Depois do terceiro movimento,          com a percepção                                                [Fedor, Nad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19640" y="5843520"/>
            <a:ext cx="37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Depois do quinto movimento, com a percepção                       [Nada, Bris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B096-E2E9-450A-AF96-E9A01194B3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xercício... Encontrar o ouro?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534996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9712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0372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0996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276360" y="2421000"/>
            <a:ext cx="2776320" cy="2529000"/>
            <a:chOff x="3276360" y="2421000"/>
            <a:chExt cx="2776320" cy="2529000"/>
          </a:xfrm>
        </p:grpSpPr>
        <p:sp>
          <p:nvSpPr>
            <p:cNvPr id="235" name=""/>
            <p:cNvSpPr/>
            <p:nvPr/>
          </p:nvSpPr>
          <p:spPr>
            <a:xfrm>
              <a:off x="3605040" y="2421000"/>
              <a:ext cx="244764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3480" y="304488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3480" y="365436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33480" y="4264200"/>
              <a:ext cx="24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3540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4164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48240" y="244008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76360" y="44150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6360" y="3729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360" y="319572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6360" y="258624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711600" y="442116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17720" y="251640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32480" y="3811680"/>
              <a:ext cx="459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W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35360" y="3202200"/>
              <a:ext cx="326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 Black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44960" y="3760920"/>
              <a:ext cx="407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P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0B6C-68A0-4F29-B313-524EF85C01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534996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9712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3720" y="454032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9960" y="454032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9214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ks interessantes (implementação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kr.tuwien.ac.at/students/prak_wumpusjava/simulator/Welc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kr.tuwien.ac.at/students/prak_wumpusjava/simulator/TestDumb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-96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www.ime.usp.br/~leliane/LabVIA/histori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52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AD3-CA63-4F0D-A3C0-79BD6488CB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95DA-9175-4697-AEEC-29E694186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557360"/>
            <a:ext cx="7993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Mundo do Wum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445000"/>
            <a:ext cx="792180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 Mundo do Wumpu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Caverna que consiste em salas conectadas por passagen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 - proposto em 1972 por Gregory Yob; cansado dos jogos da época que eram baseados em grades cartesianas, ele decidiu então criar um novo tipo de jogo para computador. A idéia era fazer com que o agente não mais caminhasse por entre campos de um ambiente mas sim por entre arestas de uma figura geométrica: as arestas funcionariam como espécie de corredores que levariam o agente para diferentes estados. (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http://www.ime.usp.br/~leliane/LabVIA/historia.h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2276" r="0" b="1331"/>
          <a:stretch/>
        </p:blipFill>
        <p:spPr>
          <a:xfrm>
            <a:off x="3276720" y="2060640"/>
            <a:ext cx="3528720" cy="3227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17080" y="306864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u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81360"/>
            <a:ext cx="901800" cy="92232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410920" y="3284640"/>
            <a:ext cx="1243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66160" y="4381560"/>
            <a:ext cx="216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Agente caçad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cc00"/>
                </a:solidFill>
                <a:latin typeface="Arial"/>
              </a:rPr>
              <a:t>de tesou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73440" y="4221000"/>
            <a:ext cx="898560" cy="851040"/>
          </a:xfrm>
          <a:prstGeom prst="ellipse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916360" y="4653000"/>
            <a:ext cx="73008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8666-83AC-4C60-A526-631E23D2D8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agente estiver em uma sala diretamente (não diagonalmente) ao lado da sala do Wumpus, perceberá um fedor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en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salas ao lado de uma sala com precipício/buraco/poço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passa uma bris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eez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sala com ouro, o agente percebe um bril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jogador tem apenas um tiro para tentar matar o Wum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 Wumpus for morto, dará um berro/grito que será escutado em toda a caver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Jogador morre se ficar em uma sala com o Wumpus vivo ou entrar em uma sala com precipí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9BAD-26E1-4EBC-A3F7-7BD6FEA477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5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mbi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des, Wumpus, cavernas, buracos, o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do inici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 na caverna (1,1) com apenas uma fle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umpus e buracos em cavernas quais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gar a barra de ouro e voltar à caverna (1,1) com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7503-9F2E-4412-9AE2-880BBE623D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epçõ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dor (ao lado do Wum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isa (ao lado dos bura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rilho (na caverna do ou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oque (contra a parede da cavern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ito do Wumpus (quando mo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721-1B85-430F-8B92-763A936519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751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formulação do problema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nçar para próxima cav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irar 90 graus à direita ou à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gar um objeto na mesma caverna do a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irar na direção para onde o agente está olhando (a flecha para quando encontra uma parede ou mata o Wum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6400" indent="-350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ir da cav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FC60-B4F0-43C5-80D7-CC40264CAE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buClr>
                <a:srgbClr val="cccc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280" y="313560"/>
            <a:ext cx="77151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 Mundo do Wumpus: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Codificaçã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184400" y="1628640"/>
            <a:ext cx="42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50160" cy="3512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71640" y="5877000"/>
            <a:ext cx="41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) Situação inicial, depois da percepção [Nada, Nad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5843520"/>
            <a:ext cx="33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b) Depois de um movimento,         com a percepção                            [Nada, Brisa, Nada, Nada, Nada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9C19-FD4D-4652-B867-05251323858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280" y="161280"/>
            <a:ext cx="727236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aciocinando e Agindo no Mundo do Wumpu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0400" y="1483920"/>
            <a:ext cx="82836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hecimento do ag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início do jogo, depois de receber sua primeira percep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pois do 1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ovimento, com a seqüência de percep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[nada,brisa,nada,nada,nad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31280" y="3511440"/>
            <a:ext cx="2711880" cy="3012480"/>
            <a:chOff x="1331280" y="3511440"/>
            <a:chExt cx="2711880" cy="3012480"/>
          </a:xfrm>
        </p:grpSpPr>
        <p:sp>
          <p:nvSpPr>
            <p:cNvPr id="129" name=""/>
            <p:cNvSpPr/>
            <p:nvPr/>
          </p:nvSpPr>
          <p:spPr>
            <a:xfrm>
              <a:off x="1688760" y="3512880"/>
              <a:ext cx="2349000" cy="2502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6960" y="411624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86960" y="472572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86960" y="5335560"/>
              <a:ext cx="235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996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9692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3880" y="3511440"/>
              <a:ext cx="0" cy="250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1280" y="54864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1280" y="4800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31280" y="426708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264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0908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1604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3000" y="6188040"/>
              <a:ext cx="178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1280" y="3657600"/>
              <a:ext cx="2977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9920" y="568620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89920" y="49244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4200" y="5610240"/>
              <a:ext cx="4334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 Black"/>
                </a:rPr>
                <a:t>O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19800" y="5365800"/>
              <a:ext cx="34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Black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925880" y="3513240"/>
            <a:ext cx="2347920" cy="250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24440" y="411624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924440" y="472608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24440" y="533556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780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3404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740640" y="3511440"/>
            <a:ext cx="0" cy="2509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68400" y="54864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68400" y="4800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68400" y="426708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99400" y="6188040"/>
            <a:ext cx="179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6560" y="6188040"/>
            <a:ext cx="17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753160" y="6188040"/>
            <a:ext cx="17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59400" y="6188040"/>
            <a:ext cx="179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68400" y="365760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6440" y="57387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28400" y="4824360"/>
            <a:ext cx="43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55480" y="5433840"/>
            <a:ext cx="29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603040" y="5300640"/>
            <a:ext cx="433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 Black"/>
              </a:rPr>
              <a:t>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86240" y="5472000"/>
            <a:ext cx="4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62440" y="4848120"/>
            <a:ext cx="464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63960" y="3832200"/>
            <a:ext cx="1213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 Black"/>
              </a:rPr>
              <a:t>V -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av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i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F64-D0C5-481C-B227-D670C6AA5B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7T10:20:58Z</dcterms:modified>
  <cp:revision>620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