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17A1-46F4-49AA-8B4C-4DFA7EED2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692E-DB34-4D29-9BDD-D2B5D6B4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CD05-B9FF-4956-BF62-6F9A9AC72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ECE3-BE32-4267-B11D-B1EAFC602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3EF8E-9D37-43F8-89CE-4A70DB4A02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5E59B-8E45-48F4-B726-5096EE69D6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2DEDB4-6AEB-4336-81F7-61CEE63928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982F7-C2CA-4C79-BAC9-C385C4197D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BFAAC-B005-4552-BE22-AC8631A492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436354-004A-4B13-B6DD-6403E4AC84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14C0C-8164-46F8-B55C-C8BF18B2CC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EFD1-60DF-452A-8000-58D07E7B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7BE4A-156C-4DF7-BCAD-31D823BD23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ABC534-7EC9-48F0-98AF-864545E5F7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EDDC0-1C8C-4828-9EDE-9E924160CF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401CA3-0194-42F8-9081-DD642CF1E2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FB9E3-0860-4141-8F22-1A50FC27DA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776E-3A49-4C2A-83F8-BF53C0CC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7E57-5F2A-431E-94BB-18F08D59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B903-8F46-4A2B-9A7B-2A11B931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6D08-F68A-4BE5-B63F-F96452C5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7A8C-1E3C-407B-8D8E-5E44664B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1021-4700-42A8-9983-BC869746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957D-63BC-4235-8925-38835EA1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561D-B940-495D-9FBC-1E08062ED88E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06200" y="6165720"/>
            <a:ext cx="720720" cy="620640"/>
            <a:chOff x="106200" y="6165720"/>
            <a:chExt cx="720720" cy="620640"/>
          </a:xfrm>
        </p:grpSpPr>
        <p:sp>
          <p:nvSpPr>
            <p:cNvPr id="8" name=""/>
            <p:cNvSpPr/>
            <p:nvPr/>
          </p:nvSpPr>
          <p:spPr>
            <a:xfrm>
              <a:off x="10620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9708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14076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9960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14148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0" y="0"/>
            <a:ext cx="2340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F1D7-D9A5-4DCF-BFEE-ECB1E66C1ED8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826920" y="6381360"/>
            <a:ext cx="576360" cy="476640"/>
            <a:chOff x="826920" y="6381360"/>
            <a:chExt cx="576360" cy="476640"/>
          </a:xfrm>
        </p:grpSpPr>
        <p:sp>
          <p:nvSpPr>
            <p:cNvPr id="56" name=""/>
            <p:cNvSpPr/>
            <p:nvPr/>
          </p:nvSpPr>
          <p:spPr>
            <a:xfrm>
              <a:off x="826920" y="6762960"/>
              <a:ext cx="57636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59480" y="653256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853920" y="638100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1640" y="653976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855360" y="638856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556000" y="2179440"/>
            <a:ext cx="626400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Representação do Conhecimento    (Parte 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71640" y="1599840"/>
            <a:ext cx="7921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te exemplo simples, é possível perceber três pontos importantes na conversão de sentenças do português em fórmulas da lóg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uitas sentenças do português são ambíguas (por exemplo, 5, 6 e 7). A escolha da interpretação correta pode ser difíc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iste freqüentemente uma escolha de como representar o conhecimento. Representações simples são desejáveis mas elas podem impedir certos tipos de raciocín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smo em situações muito simples, um conjunto de sentenças não parece conter toda a informação necessária para raciocinar sobre o tópico em quest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ser capaz de usar um conjunto de fórmulas efetivamente, é muitas vezes necessário ter acesso a um outro conjunto de fórmulas que representam fatos considerados óbvios demais para mencionar (senso comu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20AD-BC8F-4F86-BC15-4153D8711B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o responder à quest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arco era leal a César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F467-3A2A-4D43-99D1-E0DED34043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7280" y="1706400"/>
            <a:ext cx="7561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ece que usando 7 e 8, dá para concluir que Marco não era leal a César (ignorando a distinção entre passado e present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á a necessidade de inclusão de conhecimento de senso com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9. Todos os homens são pesso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403280" y="4653000"/>
                <a:ext cx="43210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rPr>
                        <m:lit/>
                        <m:nor/>
                      </m:rPr>
                      <m:t xml:space="preserve">X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home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 pesso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54FB-FFDD-4319-AB5D-39323CCFAB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Engenharia de Conhecimento em Lógica de Primeira Ord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42560" y="162864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 processo de engenharia de conhec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0000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dentificar a tare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0000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regar o conhecimento relev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0000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finir um vocabulário de predicados, funções e cons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0000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dificar o conhecimento geral sobre o domí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0000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dificar uma descrição da instância específica do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0000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rmular consultas ao procedimento de inferência e obter respo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0000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purar a base de conhec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BAD9-ADA0-4073-B689-DCF027DEE3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187280" y="2421000"/>
            <a:ext cx="7128000" cy="30272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Engenharia de Conhecimento em Lógica de Primeira Ord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42560" y="1628280"/>
            <a:ext cx="7704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O domínio dos circuitos eletrô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89080" y="6458400"/>
            <a:ext cx="71280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do do livro Artificial Intelligence: A Modern Approach by Stuart Russell and Peter Norvig,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6732720" y="5589720"/>
            <a:ext cx="10792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6495-B2F7-4A9F-8CF9-3A2A942268F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Engenharia de Conhecimento em Lógica de Primeira Ord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 domínio dos circuitos eletrô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. Identificar a tare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38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circuito realmente efetua soma de modo apropria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38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todas as entradas estão em nível alto, qual será a saída da porta A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38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circuito contém laços de realimentaçã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. Agregar conhecimento relev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38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sinais fluem pelos fios até os terminais de entrada das portas, e cada porta produz um sinal no terminal de saída que flui por outro f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38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o funcionam as portas AND, OR, XOR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2622-94FB-4DA3-88D4-A0FF734A8DC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Engenharia de Conhecimento em Lógica de Primeira Ord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 domínio dos circuitos eletrô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3. Definir um vocabulá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rtas: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Tip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= XOR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ntrad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1,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Conectad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Saíd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1,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ntrad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1,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)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82A6-3F06-4C7B-9349-997B2909472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Engenharia de Conhecimento em Lógica de Primeira Ord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 domínio dos circuitos eletrô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4. Codificar o conhecimento geral do domí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6040" indent="-3560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dois terminais estão conectados, eles têm o mesmo sin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6040" indent="-3560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sinal em todo terminal é 1 ou 0 (mas não ambo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6040" indent="-3560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ectados é um predicado comutativ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050920" y="3500280"/>
                <a:ext cx="532764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nectad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Sina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a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771640" y="4540320"/>
                <a:ext cx="331164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Sinal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∨</m:t>
                        </m:r>
                        <m:r>
                          <m:rPr>
                            <m:lit/>
                            <m:nor/>
                          </m:rPr>
                          <m:t xml:space="preserve">Sinal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1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195640" y="5877000"/>
                <a:ext cx="51670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nectad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Conectad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42CD-2C42-4D98-AE4C-6E3181595A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Engenharia de Conhecimento em Lógica de Primeira Ord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993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 domínio dos circuitos eletrô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4. Codificar o conhecimento geral do domí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saída de uma porta OR é 1 se e somente se qualquer de suas entradas é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saída de uma porta AND é 0 se e somente se qualquer de suas entradas é 0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124000" y="3716280"/>
                <a:ext cx="57610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Tipo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al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aída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⇔</m:t>
                        </m:r>
                        <m:r>
                          <m:t xml:space="preserve">∃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Sinal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ntrada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050920" y="5516640"/>
                <a:ext cx="59770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Tipo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al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aída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⇔</m:t>
                        </m:r>
                        <m:r>
                          <m:t xml:space="preserve">∃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Sinal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ntrada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9C99-8788-49D4-B463-DDAFB8A2B9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Engenharia de Conhecimento em Lógica de Primeira Ord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993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 domínio dos circuitos eletrô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4. Codificar o conhecimento geral do domí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saída de uma porta XOR é 1 se e somente se suas entradas são difer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saída de uma porta NOT é diferente de sua entra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116000" y="3789360"/>
                <a:ext cx="78487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Tipo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OR</m:t>
                        </m:r>
                        <m:r>
                          <m:t xml:space="preserve">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al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aída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⇔</m:t>
                        </m:r>
                        <m:r>
                          <m:rPr>
                            <m:lit/>
                            <m:nor/>
                          </m:rPr>
                          <m:t xml:space="preserve">Sinal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ntrada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Sinal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ntrada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116000" y="5516640"/>
                <a:ext cx="741672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ipo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OT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Sinal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aída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rPr>
                        <m:lit/>
                        <m:nor/>
                      </m:rPr>
                      <m:t xml:space="preserve">Sinal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Entrada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A202-810F-45CC-8A5C-D9E9ED661B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ógica de Predicados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7631-77A7-43C0-A1E9-3EEB0B583E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Engenharia de Conhecimento em Lógica de Primeira Ord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993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 domínio dos circuitos eletrô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5. Codificar a instância específica do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050920" y="3860640"/>
                <a:ext cx="4897440" cy="12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ipo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OR</m:t>
                        </m:r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rPr>
                            <m:lit/>
                            <m:nor/>
                          </m:rPr>
                          <m:t xml:space="preserve">Tipo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ipo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rPr>
                            <m:lit/>
                            <m:nor/>
                          </m:rPr>
                          <m:t xml:space="preserve">Tipo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ipo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1332000" y="314172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tegoria das port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C3C4-B8F1-483F-9149-EC1B3F3EB78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Engenharia de Conhecimento em Lógica de Primeira Ord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993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 domínio dos circuitos eletrô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5. Codificar a instância específica do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71640" y="299736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exões entre as port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95280" y="3573360"/>
            <a:ext cx="8605800" cy="2217960"/>
            <a:chOff x="395280" y="3573360"/>
            <a:chExt cx="8605800" cy="2217960"/>
          </a:xfrm>
        </p:grpSpPr>
        <p:sp>
          <p:nvSpPr>
            <p:cNvPr id="168" name=""/>
            <p:cNvSpPr/>
            <p:nvPr/>
          </p:nvSpPr>
          <p:spPr>
            <a:xfrm>
              <a:off x="395280" y="3573360"/>
              <a:ext cx="8605800" cy="221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636120" y="3700080"/>
                  <a:ext cx="8328240" cy="201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Conectados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Saída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Entrada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     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ectados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Entrada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Entrada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onectados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Saída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Entrada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     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ectados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Entrada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Entrada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onectados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Saída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Entrada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      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ectados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Entrada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Entrada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onectados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Saída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Entrada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     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ectados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Entrada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Entrada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onectados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Saída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Saida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         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ectados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Entrada</m:t>
                          </m:r>
                          <m:r>
                            <m:t xml:space="preserve">(</m:t>
                          </m:r>
                          <m:r>
                            <m:t xml:space="preserve">3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Entrada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onectados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Saída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Saida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         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ectados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Entrada</m:t>
                          </m:r>
                          <m:r>
                            <m:t xml:space="preserve">(</m:t>
                          </m:r>
                          <m:r>
                            <m:t xml:space="preserve">3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Entrada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EB33-28FF-476C-A9CC-AD85CA42F3C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79280" y="4437000"/>
            <a:ext cx="871380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Engenharia de Conhecimento em Lógica de Primeira Ord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993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 domínio dos circuitos eletrô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6. Formular consultas ao procedimento de infer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e combinações de entradas fariam a primeira saída de C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o bit de soma) ser 0 e a segunda saída de C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o bit de transporte) ser 1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398520" y="4437000"/>
                <a:ext cx="85662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∃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al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ntrada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Sinal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ntrada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al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ntrada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Sinal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aída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Sinal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aída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3F21-F52D-444B-8A6B-DA3566DF0A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Engenharia de Conhecimento em Lógica de Primeira Ord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993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 domínio dos circuitos eletrô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6. Formular consultas ao procedimento de infer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respostas são substituições para as variáveis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tais que a sentença resultante é conseqüência lógica da base de conhecimento. Existem três substituições desse tip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187280" y="4508640"/>
                <a:ext cx="74170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    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     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2785-ECA8-4E4F-8478-34546BFBEA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50920" y="4221000"/>
            <a:ext cx="889308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Engenharia de Conhecimento em Lógica de Primeira Ord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993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 domínio dos circuitos eletrô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6. Formular consultas ao procedimento de infer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is são os conjuntos de valores possíveis de todos os terminais para o circuito somado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30120" y="4270320"/>
                <a:ext cx="87044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∃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 o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 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al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ntrada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Sinal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ntrada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al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ntrada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Sinal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aída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Sinal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aída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9C23-3BCA-4392-ACD1-135C4FAD728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Engenharia de Conhecimento em Lógica de Primeira Ord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84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 domínio dos circuitos eletrô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7. Depurar a base de conhec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demos perturbar a base de conhecimento de várias maneiras, a fim de verificar que tipos de comportamentos errôneos emerg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4572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r exemplo, suponha que omitimos a asserção de qu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sistema será incapaz de provar diversas saídas para o circui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7885080" y="4075200"/>
                <a:ext cx="6476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20E4-CD90-42CD-959B-25D9D94E55F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Engenharia de Conhecimento em Lógica de Primeira Ord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7417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desenvolvimento de uma base de conhecimento em lógica de primeira ordem exige um processo cuidadoso de análise do domínio, escolha de um vocabulário e codificação dos axiomas necessários para dar suporte às inferências desej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4B07-6CD5-482D-97B6-1031DDB8A3B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1700280"/>
            <a:ext cx="792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Inteligência Artificial (IA) deve ter mecanismos para a representação de fat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resentação do conhecimento do mundo que um sistema de IA necessita - uso da lógica proposicion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resenta-se os fatos do mundo real por meio da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órmulas bem formadas ("fbf's")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u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roposições lóg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prova de teoremas foi um dos primeiros domínios a explorar as técnicas de 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0409-4A5B-4056-B257-16A310E67B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1042920" y="1562040"/>
            <a:ext cx="79218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É importante lembrar qu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ógica proposicional - O termo proposição recobre a idéia de asserção formulada seguindo uma certa sintaxe e susceptível de ser avaliado "verdadeiro" ou "falso" por um universo d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ógica de predicados de primeira ordem - pode ser vista como uma extensão da lógica das proposi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unida de propriedades de base da lógica das proposições, permite introduzir elementos gerais chamados "variáveis“ (normalmente chamadas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z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que podem ser quantificadas pelo quantificador universal ∀ (qualquer que seja) ou pelo quantificador existencial ∃ (exis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37F2-C678-4451-9033-BC66DB70A3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1042920" y="1562040"/>
            <a:ext cx="79218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É importante lembrar qu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noção de primeira ordem é associada ao fato das variáveis poderem ser quantificadas, mas não os predicados nem as fun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144E-4F52-4BEE-86A2-6794EEFEB9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42920" y="1773360"/>
            <a:ext cx="785016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Simbologia a ser utilizad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implicaçã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   ”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negaçã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   ”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disjunçã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   ”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conjunçã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   ”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quantificação universal = "para todos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   ”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quantificação existencial = "existe"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547640" y="3238560"/>
                <a:ext cx="28584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¬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786040" y="4952880"/>
                <a:ext cx="1522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2880" y="-1080"/>
            <a:ext cx="241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0000"/>
                </a:solidFill>
                <a:latin typeface="Erie"/>
                <a:ea typeface="Times New Roman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63640" y="551664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619280" y="4940280"/>
                <a:ext cx="24120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547640" y="4437000"/>
                <a:ext cx="30492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547640" y="4030560"/>
                <a:ext cx="28908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546200" y="3598920"/>
                <a:ext cx="289080" cy="26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1E63-44D3-4E03-AAA2-A6CC7F525D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6000" y="1844280"/>
            <a:ext cx="7632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bjetiv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Explorar o uso da lógica de predicados como uma forma para representar o conhec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idere o seguinte conjunto de sentenç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. Marco era um hom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. Marco era um pompei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. Todos os pompeianos eram roma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4. César era um sober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5. Todos os romanos ou eram leais a César ou o odiav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6. Todos são leais a algué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7. As pessoas somente tentam assassinar soberanos aos quais elas não são le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8. Marco tentou assassinar Cés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2643-3085-4F5D-86E2-93A21079A1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6327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resentação dos fatos descritos por estas sentenças a partir de um conjunto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bf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's na lógica de predica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. Marco era um hom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homem(Mar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. Marco era um pompei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pompeiano(Mar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. Todos os pompeianos eram roma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4. César era um sober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soberano(Ces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547640" y="5235480"/>
                <a:ext cx="4321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rPr>
                        <m:lit/>
                        <m:nor/>
                      </m:rPr>
                      <m:t xml:space="preserve">X: pompeiano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 romano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9788-F0D1-481A-A6D7-3AB8C9C9DE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7561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5. Todos os romanos ou eram leais a César ou o odiav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6. Todos são leais a algué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7. As pessoas somente tentam assassinar soberanos aos quais elas não são le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8. Marco tentou assassinar Cés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547640" y="2120760"/>
                <a:ext cx="63374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rPr>
                        <m:lit/>
                        <m:nor/>
                      </m:rPr>
                      <m:t xml:space="preserve">X: romano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 leal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X,Cesar</m:t>
                    </m:r>
                    <m:r>
                      <m:t xml:space="preserve">)</m:t>
                    </m:r>
                    <m:r>
                      <m:t xml:space="preserve">∨</m:t>
                    </m:r>
                    <m:r>
                      <m:rPr>
                        <m:lit/>
                        <m:nor/>
                      </m:rPr>
                      <m:t xml:space="preserve"> odia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X,Cesa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547640" y="323064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rPr>
                        <m:lit/>
                        <m:nor/>
                      </m:rPr>
                      <m:t xml:space="preserve">X:</m:t>
                    </m:r>
                    <m:r>
                      <m:t xml:space="preserve">∃</m:t>
                    </m:r>
                    <m:r>
                      <m:rPr>
                        <m:lit/>
                        <m:nor/>
                      </m:rPr>
                      <m:t xml:space="preserve">Y: leal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X,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996840" y="4510080"/>
                <a:ext cx="79678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rPr>
                        <m:lit/>
                        <m:nor/>
                      </m:rPr>
                      <m:t xml:space="preserve">X:</m:t>
                    </m:r>
                    <m:r>
                      <m:t xml:space="preserve">∀</m:t>
                    </m:r>
                    <m:r>
                      <m:rPr>
                        <m:lit/>
                        <m:nor/>
                      </m:rPr>
                      <m:t xml:space="preserve">Y: pesso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tentarassassina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X,Y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¬</m:t>
                    </m:r>
                    <m:r>
                      <m:rPr>
                        <m:lit/>
                        <m:nor/>
                      </m:rPr>
                      <m:t xml:space="preserve">leal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X,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476360" y="5662440"/>
                <a:ext cx="4291200" cy="43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entarassassina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arco,Cesa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D9CA-5F54-4FFC-A17E-71990DCB66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8-02-20T09:07:53Z</dcterms:modified>
  <cp:revision>599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