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CC9-A834-4D04-8613-77B60D2A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093-F7E5-4A59-A85F-8DE4D88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B9F-A07A-4143-9363-FF4A3A56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D51-5E47-4549-A901-B9E9B8F7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ABB63-68A5-4F52-8FCD-94A8454441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EA0B3-039D-4519-8469-8ACC24DD84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4222B-ED61-4211-B7DE-6D8C4ABDCF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8A9DA-978F-4B38-A17E-7BD2D08D91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2F892-882A-495D-942D-0ABD559A3E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AA9A4-F7BD-4061-AC04-434C2E2B63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F8BFA-F180-4E9B-B1F5-2041791C8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501-56C5-4207-9E1C-9D6B22C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78A7B-54E3-4200-A11F-0657FBDEA9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A2323-6145-406E-9A2C-3EF02F3AC0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E5A81-5AFF-4522-93AC-7251F2259A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5A3B2-B521-4185-BB23-A40ED05755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599CF-5646-4483-AE85-83D116706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AB1-25CB-4305-BE07-165638E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80D-0A29-4002-AB7F-5A66129C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DA4-203D-4235-9E7F-A69C61E2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B97-28F2-4A37-80E0-443389D7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E0F-F84E-49DD-9C59-8362FD6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CBD-221A-4CFA-B6D9-C31D43A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445-C7E7-43A2-AC04-DA9D3AD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4090-512D-43FF-B427-C19FB7AE7A3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33ED-7AFE-4520-8DF9-392EA717454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 - Exercí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Ana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De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De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ciocínio por Ab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908-96F0-49E1-8069-AC98B05B30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ACD-252C-4DD3-9F1E-9E4CAE2337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ferro conduz eletricid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ferro é me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uro conduz eletricid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uro é me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bre conduz eletricida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bre é met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 os metais conduzem eletricidad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F6A-74F0-48C1-B704-5B99E8E84B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ra e Marte são planetas, giram em torno do sol e têm atmosf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ra é habit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e também deve ser habi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98D-39D0-4795-8C9A-83F4408928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alunos gostam de inteligência artificial. Francisco é aluno. Francisco gosta de inteligência artif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450-B883-48A5-885D-4100B3F0B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alunos que foram entrevistados gostam de Inteligência Artif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aluno gosta de inteligência artifi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748-90D9-46E9-A2E9-EC2D46F86B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s os feijões deste saco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s feijões provêm deste sa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s feijões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95F-36FD-4882-9A79-F2D0E8CA99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provêm deste sa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feijões deste saco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A8A-6451-45FE-8932-2DFCC40D46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916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. Determine o tipo de raciocínio utilizad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feijões deste saco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são bran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s feijões provêm deste s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D90-D591-4A44-A953-109BAC3110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11-17T10:41:51Z</dcterms:modified>
  <cp:revision>60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