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5E5A-854A-44A6-96F9-EBF4C710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D1CE-F56E-43B1-B6C2-11CB4582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DCF1-7722-4FE3-9990-A08D1FDC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E22C-59C7-4BFE-8BBF-FB2D7C13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673B0-4425-4E74-9498-342312ECD7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675D5-217A-4377-8F28-BE0AB3CE19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B686E-F1A5-4FA1-A626-44BDFC5F42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6FC42-222B-4BFC-B7EB-FD4CAD0143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10A9F-93E0-4449-8530-AF4EDCF5C7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76746-462B-4DD8-96D9-4142536201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392B5-800C-44D2-BB9C-A442058287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6E24-E06E-4E08-8A27-84CB7327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A9C68-87A3-46E7-8451-6D3AC9BE0E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B82F4-80ED-4752-88E1-2CD4ECB6C9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71FD1-3A61-4C51-9B63-28F9ED72E9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E16EE-846C-483D-9A24-86E676AACD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03BE8-DBFF-433A-B34D-DBE986CAB2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0C28-D3BE-41F8-822B-61E796F1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886D-CADF-413A-8737-902BB879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7904-8AA0-4C08-8774-B5660369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F3FD-440B-4C9D-B066-20D125C7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EDDE-DCC1-4A51-9CA5-77A417BF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D5F9-D54F-4898-94B9-481B890C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286C-290A-49D9-A703-15499637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CE1B-29BC-443A-89DD-E0AE4445BA9A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06200" y="6165720"/>
            <a:ext cx="720720" cy="620640"/>
            <a:chOff x="1062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62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70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07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996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14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902C-5DF0-49D6-9F8F-F608B8E2B9F1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26920" y="6381360"/>
            <a:ext cx="576360" cy="476640"/>
            <a:chOff x="826920" y="6381360"/>
            <a:chExt cx="576360" cy="476640"/>
          </a:xfrm>
        </p:grpSpPr>
        <p:sp>
          <p:nvSpPr>
            <p:cNvPr id="56" name=""/>
            <p:cNvSpPr/>
            <p:nvPr/>
          </p:nvSpPr>
          <p:spPr>
            <a:xfrm>
              <a:off x="826920" y="6762960"/>
              <a:ext cx="57636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59480" y="65325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853920" y="638100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1640" y="65397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855360" y="638856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Representação do Conhecimento    (Parte I - Adicional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1906560" y="3886200"/>
            <a:ext cx="6152040" cy="2584440"/>
            <a:chOff x="1906560" y="3886200"/>
            <a:chExt cx="6152040" cy="2584440"/>
          </a:xfrm>
        </p:grpSpPr>
        <p:sp>
          <p:nvSpPr>
            <p:cNvPr id="117" name=""/>
            <p:cNvSpPr/>
            <p:nvPr/>
          </p:nvSpPr>
          <p:spPr>
            <a:xfrm>
              <a:off x="1920240" y="5263200"/>
              <a:ext cx="608076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5256000" y="5900400"/>
              <a:ext cx="2802600" cy="570240"/>
              <a:chOff x="5256000" y="5900400"/>
              <a:chExt cx="2802600" cy="570240"/>
            </a:xfrm>
          </p:grpSpPr>
          <p:sp>
            <p:nvSpPr>
              <p:cNvPr id="119" name=""/>
              <p:cNvSpPr/>
              <p:nvPr/>
            </p:nvSpPr>
            <p:spPr>
              <a:xfrm>
                <a:off x="5256000" y="6361560"/>
                <a:ext cx="1437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502240" y="5900400"/>
                <a:ext cx="89388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pt-BR" sz="1800" spc="-1" strike="noStrike">
                    <a:solidFill>
                      <a:srgbClr val="000000"/>
                    </a:solidFill>
                    <a:latin typeface="Arial"/>
                  </a:rPr>
                  <a:t>impl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762240" y="6102360"/>
                <a:ext cx="129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sentenç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1906560" y="4624200"/>
              <a:ext cx="3336840" cy="1818720"/>
              <a:chOff x="1906560" y="4624200"/>
              <a:chExt cx="3336840" cy="1818720"/>
            </a:xfrm>
          </p:grpSpPr>
          <p:sp>
            <p:nvSpPr>
              <p:cNvPr id="123" name=""/>
              <p:cNvSpPr/>
              <p:nvPr/>
            </p:nvSpPr>
            <p:spPr>
              <a:xfrm>
                <a:off x="1906560" y="5808960"/>
                <a:ext cx="18201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Representaçã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4534920" y="4624200"/>
                <a:ext cx="0" cy="136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6320000">
                <a:off x="3735000" y="5316120"/>
                <a:ext cx="1224360" cy="33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pt-BR" sz="1800" spc="-1" strike="noStrike">
                    <a:solidFill>
                      <a:srgbClr val="000000"/>
                    </a:solidFill>
                    <a:latin typeface="Arial"/>
                  </a:rPr>
                  <a:t>semânt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947040" y="6102360"/>
                <a:ext cx="129636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sentenç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2296440" y="4088520"/>
              <a:ext cx="2575080" cy="685800"/>
              <a:chOff x="2296440" y="4088520"/>
              <a:chExt cx="2575080" cy="685800"/>
            </a:xfrm>
          </p:grpSpPr>
          <p:sp>
            <p:nvSpPr>
              <p:cNvPr id="128" name=""/>
              <p:cNvSpPr/>
              <p:nvPr/>
            </p:nvSpPr>
            <p:spPr>
              <a:xfrm>
                <a:off x="2296440" y="4435200"/>
                <a:ext cx="9363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Mund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45040" y="4088520"/>
                <a:ext cx="72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fat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5060160" y="3886200"/>
              <a:ext cx="2387520" cy="2222280"/>
              <a:chOff x="5060160" y="3886200"/>
              <a:chExt cx="2387520" cy="222228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7084800" y="4532400"/>
                <a:ext cx="0" cy="155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6320000">
                <a:off x="6283440" y="5320800"/>
                <a:ext cx="1224360" cy="33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pt-BR" sz="1800" spc="-1" strike="noStrike">
                    <a:solidFill>
                      <a:srgbClr val="000000"/>
                    </a:solidFill>
                    <a:latin typeface="Arial"/>
                  </a:rPr>
                  <a:t>semânt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5060160" y="3886200"/>
                <a:ext cx="2387520" cy="495720"/>
                <a:chOff x="5060160" y="3886200"/>
                <a:chExt cx="2387520" cy="4957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5060160" y="4255920"/>
                  <a:ext cx="1566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437800" y="3886200"/>
                  <a:ext cx="1122480" cy="33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i="1" lang="pt-BR" sz="1800" spc="-1" strike="noStrike">
                      <a:solidFill>
                        <a:srgbClr val="000000"/>
                      </a:solidFill>
                      <a:latin typeface="Arial"/>
                    </a:rPr>
                    <a:t>segue-s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721200" y="4013640"/>
                  <a:ext cx="726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00"/>
                      </a:solidFill>
                      <a:latin typeface="Arial"/>
                    </a:rPr>
                    <a:t>fat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"/>
          <p:cNvSpPr/>
          <p:nvPr/>
        </p:nvSpPr>
        <p:spPr>
          <a:xfrm>
            <a:off x="1143000" y="1600200"/>
            <a:ext cx="754380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584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aciocínio “correto”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arante que as novas sentenças representam fatos que se seguem dos fatos representados pelas sentenças existentes na B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plementa a relação de “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implic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” entre sentenç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Baseados em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2218-4E20-4DDC-9565-A0A8E45158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18800" y="260280"/>
            <a:ext cx="8016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Linguagens de Representação do Conhecimento (LRC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777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spcAft>
                <a:spcPts val="1500"/>
              </a:spcAft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Linguagem de Representação do Conheciment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definida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) uma 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sintax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que descreve as configurações que podem constituir sentenças daquela linguag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) uma 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semântic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que liga cada sentença aos fatos no mundo que  ela repres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sentença faz uma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firm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a respeito do mun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spcAft>
                <a:spcPts val="1001"/>
              </a:spcAft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agente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credit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as sentenças que correspondem a sua configuração inte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 um mecanismo de inferência associado =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aciocí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6DDC-9F3F-42A7-93EA-94DCB1E494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751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Linguagens de Representação do Conhecimento (LRC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564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nguagens de program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precisas, porém não são suficientemente express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nguagens natura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muito expressivas, porém são ambígu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nguagens de representação de conhecimento (LRC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tilizadas para expressar as sentenças das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istem 3 grandes clas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inguagens (predominantemente) declar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inguagens procediment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inguagens híbr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1350-F02A-47A0-B1B1-D7900FE3C6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ritérios de avaliação de LRC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564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pressiv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que é possível dizer facilmente na linguagem?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ferência disponí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e tipo de inferência é possível fazer na linguag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rre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inferência é plausível? A semântica é bem defini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fici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inferência se realiza em um tempo razoável?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8CD4-359B-43C2-BA4F-D9CAA75BA9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ritérios de avaliação de LRC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ular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fácil identificar e reutilizar partes do conhecimento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gibilida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fácil de ler e entender o que está escri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ficiência aquisic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fácil adicionar conhecimen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DBD7-189E-49D6-AB12-8F5612391F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5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bservações sobre linguagem e raciocíni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71640" y="169992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paração controle - conhecim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ja  qual for o raciocínio, haverá sempre um motor geral que o implementar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tarefa do pesquisador de IA é “só” codificar corretamente o conheci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gramação Declarativ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diz “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qu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presentação descritiva dos fatos, relacionamentos e reg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 as partes de uma bicicleta e seus relacionamen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gramação Procediment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diz “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atos e seqüências de instruções para manipular esses f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: como desmontar uma bicicl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87F1-2317-4FE7-ADE7-5E4CC835FF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rodução (continuaçã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B17C-D7A9-4F4A-AD25-3108410721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212840" y="1828800"/>
            <a:ext cx="7169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 componentes principais (separado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se de 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canismo de In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Baseados em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64A6-D72F-454B-963E-CF329CF478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87280" y="1828800"/>
            <a:ext cx="749016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ase de Conheci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ém sentenças em uma </a:t>
            </a:r>
            <a:r>
              <a:rPr b="1" i="1" lang="pt-BR" sz="2400" spc="-1" strike="noStrike">
                <a:solidFill>
                  <a:srgbClr val="0000ff"/>
                </a:solidFill>
                <a:latin typeface="Arial"/>
              </a:rPr>
              <a:t>Linguagem de Representação de Conhecimento</a:t>
            </a:r>
            <a:r>
              <a:rPr b="1" i="1" lang="pt-BR" sz="2400" spc="-1" strike="noStrike">
                <a:solidFill>
                  <a:srgbClr val="cccc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tratável” pelo compu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ções de regras e f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canismo (máquina) de Inferência associa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ponsável por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inferir,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 partir do conhecimento da base, novos fatos ou hipóteses intermediárias/temporá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Baseados em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6456-191E-41D2-9BD6-D0022A8ABE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21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West é criminoso ou não?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lei americana diz que é proibido vender armas a uma nação hostil. Cuba possui alguns mísseis, e todos eles foram vendidos pelo Capitão West, que é american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resolver este problema de classificaçã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Linguagem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 você entende o que está escrito em portuguê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nheciment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 você sabe um pouco de geopolítica e ar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inferênci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 você é capaz de raciocinar usando este conhecimento descrito em portuguê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878E-8632-44AD-9756-1B1529273C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817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o uma máquina poderia resolver este proble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gundo a IA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entificar 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heci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o domí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á-lo em um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inguage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f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plementar um mecanismo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ferênc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ara utilizá-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estões-c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adquirir esse conhecime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representá-lo adequadamen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raciocinar com ele correta e eficientemen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7D96-FC5E-496A-BBEA-E881560079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42560" y="1557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nhecimento na Máqu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eias numéricas ou alfanuméricas que não possuem significado associ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 12, m1, west, 10.... ( 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form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ados organizados: significam alguma coisa para quem os rece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 01, 03,  04, 06, 07, 08, 10 (meses ??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heci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ado, informação ou abstração formatado de maneira a permitir raciocínio por um ser humano ou por uma má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Baseados em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AEDA-7E09-425C-B65C-733A3F6BA3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42560" y="1557000"/>
            <a:ext cx="771516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 de 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asses e ob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lação Arma - Míssil - m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órmula da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imigoPolítico(Cuba,U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tribuição de probabilidade prévia e condicional de variáveis aleatór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(Cuba-usar-míssil-contra-USA |Cuba-tem-m1) = 0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asta saber is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, é preciso saber como estruturar o conhecimento, identificar sua natureza para efetivamente saber como usá-lo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Baseados em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C163-BD53-4B06-A550-5524B68984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43000" y="1828800"/>
            <a:ext cx="7702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ase de Conheci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.: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x  Míssil(x)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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ma(x)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Míssil(M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canismo (máquina) de Inferência associa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.: M1 é uma a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Baseados em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E2E6-35CB-4225-9A34-CDC9D3E80A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Alberto Lima</cp:lastModifiedBy>
  <dcterms:modified xsi:type="dcterms:W3CDTF">2008-11-17T10:42:50Z</dcterms:modified>
  <cp:revision>594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