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0DF-E10E-4A70-B08C-17F564D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792-14B1-45E2-8B40-B32E35AF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03C-A34C-4698-B4C9-58D3E735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FD0-D592-44CD-B171-E8060135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B2E29-6D10-499C-BA29-20FD1764A2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C9A8B-4680-40A5-A0E8-9647335938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B368-EC1B-41F1-8160-C08BCAD351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F2550-D21A-403B-9CD9-D9F680D860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65E05-0855-4556-95EB-7544DCCBAC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3097-28A1-42D8-9D5A-B43A41339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4F41-A8BE-4086-A8E9-82FCA72B5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567-C485-4C2B-9816-1201C30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93743-DEE6-4B29-A16D-23CE59E19B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F2BD-E525-43A4-A9B9-02F1E3ACB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74E90-C8A8-434A-9AC4-5BEC873FB9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75B4-5B93-4E5E-85F2-E123954500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81B21-EC49-4FF6-A0DD-FB01F4C9F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447-0F36-4755-95AC-531A0C6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7A4-2CDA-4C4D-BF51-216AA344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475-7D71-43CE-988F-CF1D775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91B-F07E-4160-B50E-6E08FC3D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F74-EEF3-4351-8BDB-AB6D386B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E6E-CB64-48F1-B0EF-055959B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281-CCF5-4072-AF72-555A0FCB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C36-CF44-4883-BC10-C41E5674ED1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C591-1A8E-46D6-9890-6DC07C3D976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s de paradigmas de representação do conhec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hecimento Proced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Árvores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hecimento Estat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quemas Híb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451-34D5-45F0-93F6-78A298471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hecimento Proced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o conhecimento é representado em forma de funções/proced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o conhecimento é representado por um rótulo de grafos direcionados, cujos nós representam conceitos e entidades, enquanto os arcos representam a relação entre entidades e conce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arecido com a rede semântica, exceto que cada nó representa conceito e/ou situações. Cada nó tem várias propriedades que podem ser especificadas ou herdadas pelo padr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óg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odo de declaração que representa o 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5A6-A734-4978-A8A7-AF104FAC20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Árvores de Decisã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onceitos são organizados em forma de árv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hecimento Estatíst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uso de fatores de certeza, Redes Bayesianas, Lógica Fuzz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r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sistemas de produção para codificar regras de condição/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quemas Híbrid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qualquer representação do formalismo que emprega a combinação de esquemas de representação do 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uma experiência passada, acumulando casos e tentando descobrir, por analogia, soluções para outros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030-A1F4-40B9-9F95-59F92FFAA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etaConheciment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[Rich  and Knight 1991] pode definir-se como conhecimento acerca do próprio conhecimento que se deté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ode ser usado par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uiar a seleção, localização e uso de reg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ar informação acerca das regras e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justificar as regras melhorando a capacidade de ex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ar na detecção de erros ao introduzir novas reg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acilitar a introdução de nov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FF8-2570-4C96-81D6-64361D581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conhecimento - sub-área de IA cujo objetivo principal é a busca de formalismos que possam ser usados para representar informação a respeito do mundo re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 do que se faz em IA baseia-se na chamada hipótese da representação do conhec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cordo com Reichgelt (1991), formalismos de representação do conhecimento podem ser discutidos em quatro níveis distintos: executável, lógico, epistemológico e concei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950080"/>
            <a:ext cx="74901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istemologia -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"estudo da ciência"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vem do grego,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piste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= ciência, conhecimento científico,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= palavra, verbo, estudo, discur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799-EDA8-4905-B26B-1EFAADAFC5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oderíamos conceber um mecanismo geral para representar o conheci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odemos representar definições? E exceçõ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sistema inteligente deve fazer suposições pré-concebidas sobre informação ausente e como ele poderia ajustar o seu raciocínio caso estas suposições se mostrem err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odemos representar o tempo da melhor forma possível? E a casualidade? E a incertez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9D8-774F-4577-8B88-ED9E3993FF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556560"/>
            <a:ext cx="77151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&amp; Raciocín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ciocíni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é um processo de construção de novas sentenças a partir  de sentenças ex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3048120"/>
            <a:ext cx="70246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tegorias (Típicas) de Racioc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877000"/>
            <a:ext cx="712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as categorias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nalog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Resolução de restri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DE1-9BFA-41B5-A3DD-91C42F72AF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de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720440"/>
            <a:ext cx="817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de raciocínio no qual uma conclusão segue necessariamente das premissas sup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ia-se na criação de novas sentenças a partir de premissas dadas como verdadeiras. A sentença criada é necessariamente verdadei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as regras básicas da inferência da Lógica Dedutiva: regra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dus ponen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Latim: modo que afir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X é verdade e se X sendo verdade implica que Y é verdade, então Y é ver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35F-8C5C-465B-988D-D618B86537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de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9963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 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odo homem é m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 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João é hom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lu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João é mor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49B-EB5E-46AA-991F-888A0A0FC0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in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8067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clusão sobre todos os membros de uma classe por meio do exame de apenas uns poucos membros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maneira geral, raciocínio do particular para o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lment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ra um conjunto de objetos, X={a,b,c,d,...}, se a propriedade P é verdade para a, e se P é verdade para b, e se P é verdade para c,... então P é verdade para tod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7BD-6887-4563-807C-4685653908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9DF-2A8C-4011-A46B-E15817632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in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8067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so 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seana é profess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seana tem um ótimo sal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so 2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stáquio é 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stáquio tem um ótimo sal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so 3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mar é 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mar tem um ótimo sal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i geral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fessor tem um ótimo salár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C52-BFBF-4BD7-9501-BF64D9F015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b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770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e em, dada uma premissa do tipo P → Q,  e sabendo-se que Q é verdadeira, admite-se que, talvez, P seja verdade, ou seja, supõe-se, sem certeza, que P é ver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heurística para fazer “inferências plausívei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icia uma conclusão plausível consistente com a informação disponível, a qual pode de fato está er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lment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Y é verdade e X implica em Y, então X é ver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35E-FC6A-421D-BB11-74D06EC52A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b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8901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eu leio  que fumar causa câncer de pulmão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sé morreu de câncer de pulm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i Ge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osso inferir que José era um fum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530-8FC7-4471-98C5-DF6476D596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na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3320" y="1844280"/>
            <a:ext cx="78897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ia-se na experiência de casos anteriores, dos quais há verdades conhecidas. Se o caso que está sendo analisado assemelha-se ao(s) caso(s) anterior(es), então supõe-se, sem certeza absoluta, que as mesmas verdades são verdadeiras também para esse ca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e do particular para o particular, não possui, do ponto de vista formal, uma força de prova, mas somente é verossímil ou prová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E85-F760-43DE-B4D2-362A42A1B6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na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8901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o anterior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João ingeriu bebida alcoólica em demasia. João teve amné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o analisad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aria ingeriu bebida alcoólica em dema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erência por analogi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ria teve amné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F41-0C43-4E81-A93A-11AEEF3DCA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96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hecimento novo baseado no raciocínio dedutivo é sempre verdade se as suposições são verdadeira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hecimento novo baseado em vários casos (indução) é geralmente verdadeiro desde que os sistemas estudados sejam bem comportados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inferência baseada na abdução pode ser plausível mas deve carregar um fator de confiança para indicar a probabilidade de estar corr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8ED-AF72-4B53-A48E-6EE3A41AC6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 baseado em conhecimento (dedutivo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1644480"/>
            <a:ext cx="908280" cy="4953240"/>
          </a:xfrm>
          <a:custGeom>
            <a:avLst/>
            <a:gdLst>
              <a:gd name="textAreaLeft" fmla="*/ 44280 w 908280"/>
              <a:gd name="textAreaRight" fmla="*/ 864000 w 908280"/>
              <a:gd name="textAreaTop" fmla="*/ 44280 h 4953240"/>
              <a:gd name="textAreaBottom" fmla="*/ 4908960 h 4953240"/>
            </a:gdLst>
            <a:ahLst/>
            <a:rect l="textAreaLeft" t="textAreaTop" r="textAreaRight" b="textAreaBottom"/>
            <a:pathLst>
              <a:path w="21600" h="117756">
                <a:moveTo>
                  <a:pt x="3600" y="0"/>
                </a:moveTo>
                <a:arcTo wR="3600" hR="3600" stAng="16200000" swAng="-5400000"/>
                <a:lnTo>
                  <a:pt x="0" y="114156"/>
                </a:lnTo>
                <a:arcTo wR="3600" hR="3600" stAng="10800000" swAng="-5400000"/>
                <a:lnTo>
                  <a:pt x="18000" y="1177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73360" y="1720800"/>
            <a:ext cx="5886360" cy="480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17760" y="2254320"/>
            <a:ext cx="181584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7760" y="5530680"/>
            <a:ext cx="181584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e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01920" y="3068640"/>
            <a:ext cx="1846440" cy="2157480"/>
          </a:xfrm>
          <a:prstGeom prst="can">
            <a:avLst>
              <a:gd name="adj" fmla="val 10564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Bas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speci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57" idx="1"/>
          </p:cNvCxnSpPr>
          <p:nvPr/>
        </p:nvCxnSpPr>
        <p:spPr>
          <a:xfrm>
            <a:off x="3347640" y="2482560"/>
            <a:ext cx="878760" cy="5720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7" idx="3"/>
            <a:endCxn id="156" idx="3"/>
          </p:cNvCxnSpPr>
          <p:nvPr/>
        </p:nvCxnSpPr>
        <p:spPr>
          <a:xfrm rot="5400000">
            <a:off x="3526560" y="5060520"/>
            <a:ext cx="519840" cy="878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6362640" y="3168720"/>
            <a:ext cx="1816200" cy="2057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áquin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In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en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48360" y="3701880"/>
            <a:ext cx="120168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44560" y="3343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48360" y="4235400"/>
            <a:ext cx="120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5640" y="387684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48360" y="4768920"/>
            <a:ext cx="120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48160" y="44100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92640" y="5302080"/>
            <a:ext cx="1981080" cy="990720"/>
          </a:xfrm>
          <a:prstGeom prst="wedgeRoundRectCallout">
            <a:avLst>
              <a:gd name="adj1" fmla="val -44712"/>
              <a:gd name="adj2" fmla="val -11410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presentação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quisição de Conhecimen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78640" y="2254320"/>
            <a:ext cx="1371600" cy="609480"/>
          </a:xfrm>
          <a:prstGeom prst="wedgeRoundRectCallout">
            <a:avLst>
              <a:gd name="adj1" fmla="val -12500"/>
              <a:gd name="adj2" fmla="val 160157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aciocínio Auto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630-F99C-4F2A-9D3F-2985F42439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adquirir conheciment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50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r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as técnic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izagem Sim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plicitar: engenharia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as técnic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ção em lógica, sistemas de produção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31A-4174-417D-B452-DC06CE13B4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46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clo de vida dos 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5640" y="1773360"/>
            <a:ext cx="8217360" cy="4795560"/>
            <a:chOff x="755640" y="1773360"/>
            <a:chExt cx="8217360" cy="4795560"/>
          </a:xfrm>
        </p:grpSpPr>
        <p:sp>
          <p:nvSpPr>
            <p:cNvPr id="173" name=""/>
            <p:cNvSpPr/>
            <p:nvPr/>
          </p:nvSpPr>
          <p:spPr>
            <a:xfrm>
              <a:off x="922320" y="1773360"/>
              <a:ext cx="218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</a:rPr>
                <a:t>Nível de Conhecimen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35080" y="3373560"/>
              <a:ext cx="184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</a:rPr>
                <a:t>Nível Lógic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11680" y="2759040"/>
              <a:ext cx="538200" cy="320760"/>
            </a:xfrm>
            <a:prstGeom prst="downArrow">
              <a:avLst>
                <a:gd name="adj1" fmla="val 50000"/>
                <a:gd name="adj2" fmla="val 2503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81520" y="4054320"/>
              <a:ext cx="471600" cy="320760"/>
            </a:xfrm>
            <a:prstGeom prst="downArrow">
              <a:avLst>
                <a:gd name="adj1" fmla="val 50000"/>
                <a:gd name="adj2" fmla="val 2503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81520" y="5334120"/>
              <a:ext cx="471600" cy="320400"/>
            </a:xfrm>
            <a:prstGeom prst="downArrow">
              <a:avLst>
                <a:gd name="adj1" fmla="val 50000"/>
                <a:gd name="adj2" fmla="val 2503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5640" y="4363920"/>
              <a:ext cx="22924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</a:rPr>
                <a:t>Nível de Implementaçã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03920" y="5300640"/>
              <a:ext cx="522360" cy="43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88000" y="4797360"/>
              <a:ext cx="476280" cy="379440"/>
            </a:xfrm>
            <a:custGeom>
              <a:avLst/>
              <a:gdLst/>
              <a:ahLst/>
              <a:rect l="l" t="t" r="r" b="b"/>
              <a:pathLst>
                <a:path w="325" h="239">
                  <a:moveTo>
                    <a:pt x="233" y="238"/>
                  </a:moveTo>
                  <a:lnTo>
                    <a:pt x="324" y="168"/>
                  </a:lnTo>
                  <a:lnTo>
                    <a:pt x="283" y="168"/>
                  </a:lnTo>
                  <a:lnTo>
                    <a:pt x="283" y="139"/>
                  </a:lnTo>
                  <a:lnTo>
                    <a:pt x="274" y="87"/>
                  </a:lnTo>
                  <a:lnTo>
                    <a:pt x="258" y="64"/>
                  </a:lnTo>
                  <a:lnTo>
                    <a:pt x="241" y="43"/>
                  </a:lnTo>
                  <a:lnTo>
                    <a:pt x="225" y="26"/>
                  </a:lnTo>
                  <a:lnTo>
                    <a:pt x="200" y="15"/>
                  </a:lnTo>
                  <a:lnTo>
                    <a:pt x="175" y="6"/>
                  </a:lnTo>
                  <a:lnTo>
                    <a:pt x="150" y="3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41" y="73"/>
                  </a:lnTo>
                  <a:lnTo>
                    <a:pt x="158" y="78"/>
                  </a:lnTo>
                  <a:lnTo>
                    <a:pt x="175" y="93"/>
                  </a:lnTo>
                  <a:lnTo>
                    <a:pt x="183" y="114"/>
                  </a:lnTo>
                  <a:lnTo>
                    <a:pt x="183" y="137"/>
                  </a:lnTo>
                  <a:lnTo>
                    <a:pt x="183" y="165"/>
                  </a:lnTo>
                  <a:lnTo>
                    <a:pt x="141" y="165"/>
                  </a:lnTo>
                  <a:lnTo>
                    <a:pt x="233" y="238"/>
                  </a:lnTo>
                </a:path>
              </a:pathLst>
            </a:custGeom>
            <a:solidFill>
              <a:srgbClr val="ffcc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179880" y="2224080"/>
              <a:ext cx="336240" cy="3811680"/>
              <a:chOff x="3179880" y="2224080"/>
              <a:chExt cx="336240" cy="3811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181320" y="6033960"/>
                <a:ext cx="330480" cy="1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5640" y="2224080"/>
                <a:ext cx="33048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79880" y="2225520"/>
                <a:ext cx="0" cy="3808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042800" y="2073240"/>
              <a:ext cx="185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AQUISI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53360" y="3292560"/>
              <a:ext cx="2602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FORM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29520" y="4587840"/>
              <a:ext cx="2856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IMPLEMENT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54080" y="5883120"/>
              <a:ext cx="243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REFI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6160" y="1844640"/>
              <a:ext cx="2814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6160" y="3139920"/>
              <a:ext cx="2814480" cy="8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6160" y="4435560"/>
              <a:ext cx="2814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6160" y="5730840"/>
              <a:ext cx="2814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58920" y="208440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linguagem na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02560" y="3068640"/>
              <a:ext cx="216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linguagem de 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presentaçã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35560" y="4435560"/>
              <a:ext cx="183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linguagens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gram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D75-32CD-431A-85C5-10A34CF07E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9560" y="182844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Estud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to que produz um comportamento diferente a um estímulo externo devido a excitações recebidas no passado e é, de uma certa forma, sinônimo de aquisição de conhec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se aprendizado pode ser considerado como parte do estudo do conhecimento, o que é conhecime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é o que faz com que seja possível o encadeamento e desenvolvimento da intelig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DD0-F2C4-4069-9430-C794C63B8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[Russel  and Norvig 1995] é um conjunto integrado de fatos e relações que quando devidamente interpretado, produz um desempenho eficient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s Sistemas Baseados em Conhecimento há uma separação clara entre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heciment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ciocín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ou seja, o controle do programa não se mistura com a especificação do conheciment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ciocín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 estratég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1AC-D1AC-4CAC-A4FC-C753CECF90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conhecimento que devem ser analis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volum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diversos aspectos, características e detalhes. A cada momento, novo conhecimento é gera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difícil caracter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sabemos explicar com formalismo como,quando e de que forma o conhecimento foi adquirido, como também temos dificuldade de explicá-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constant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perfeiçoado sistematicamente, crescendo e se modificando permanent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individual e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indivíduo interpreta seu conhecimento de forma ú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853-1563-448C-A91B-159DEFC7ED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42560" y="1915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que um sistema computacional possa utilizar aspectos do conhecimento existe a necessidade de estruturação daquilo que será empregado pelo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estruturação é conhecida pelo nom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399-45F6-4266-9274-05B3CF5CF2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 Representação do 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neraliz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pontos de vista do mesmo conhecimento concebem uma representação de modo que possa ser atribuído a diversas situações e interpret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passível de atualização/cor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hecimento é dinâmico, portanto, existe a necessidade permanente de atualização e ajustes do me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b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tal forma que seja possível a sua utilização mesmo não abordando todas as situações possíveis, ou seja, mesmo sendo incompleta e imprec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reen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eensível ao ser humano e possível a sua interpre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466-CEA0-4D72-82E0-42CFD34C3C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Estud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 do conhecimento ou aprendizado, tenta responder às seguintes quest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ntroduzir conhecimento na máquin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tratar consistência e redundância?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manifestação inteligente pressupõ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rência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FB5-10C0-4835-B87C-EC50835B60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844640"/>
            <a:ext cx="7921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se discute representação do conhecimento, se lida com dois tipos diferentes de entida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a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Verdades em algum mundo relevante. Essas são as coisas que queremos represent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de fa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om algum formalismo escolhido. Essas são as coisas que efetivamente seremos capazes de manip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B85-8CB2-45B8-A005-ECD065A3B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11-17T10:40:28Z</dcterms:modified>
  <cp:revision>60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