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BF4D-72F8-4E88-9400-D02045DA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989-DACF-426E-893A-C7DBFC72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A792-7472-4EE5-98E0-22831D2F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D6F7-6019-4FD6-9768-52C3F1B9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45D8C-A22D-480A-90EA-7791BDD5AF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CC742-F022-4005-8475-A4CAFF8C57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6D1A7-7377-46FD-869E-F9174B26CA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6638B-434F-45B2-AB15-A68642903C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77937-DC68-4E21-AFD6-1F7C6C0ECD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D0276-7C22-4343-9B7D-DBC4593157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36E6E-BAF7-43E1-BBE1-03A07C01BE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6C2-4217-4435-99AC-485C7A08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3BBB8-0C54-48B8-89EE-8AA0F117C8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93E15-EC02-42C4-9887-D757A1D144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2FE27-9797-4C31-8DCF-67877A9B24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7FA66-DD6A-431E-BC82-3BBC7C56B7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992899-DA9C-479D-9F60-E408D0D7CC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CE9-079F-4695-811A-3599BF9D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2C8-0F19-4967-B02A-3C0C9E7A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E41-3178-4801-A07B-821B679E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9AF-F498-47FF-A90A-E5DFE52A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977-C44F-40E2-AE69-061C5275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0CC-9720-485E-A37B-6E128A5D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61D-1AA1-46BC-A957-88FCC437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3002-39FC-4AC2-8B85-1B6818A47A66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C12D-E0B6-4BFA-9104-07EF0D0C0541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   (Parte V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stratégias ótim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a uma árvore de jogo, a estratégia ótima pode ser determinada a partir do valor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inima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cada n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valor minimax (para MAX) é a utilidade de MAX para cada estado,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ssumindo que MIN escolhe os estados mais vantajos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ele mesmo (i.e. os estado com menor valor utilidade para MA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FB6-2669-4741-9515-206F48217E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Minimax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1172160" y="4923000"/>
            <a:ext cx="75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açã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a escolha ótima para MAX, porque leva ao su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mais alto valor minim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71600" y="1700280"/>
            <a:ext cx="7010280" cy="2959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258920" y="580536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elhor jogada para um jogo determinístico assumindo o melhor o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CAB4-7543-4C60-9E7A-BF708EF766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da 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minimax: n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estados do jogo é exponencial em relação ao n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movimento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a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lcular a decisão correta sem examinar todos os nós da árvore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torna o mesmo que minimax, porém sem percorrer todos os es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a técnica requer a manutenção de dois valores limites, um representando o limite inferior que um nó maximizante poderá receber em última instância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f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e outro representando o limite superior de valor que um nó minimizante poderá ter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e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0B0D-697F-4B76-A4E0-C125902C91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da 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8229600" cy="37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485C-34B9-4EA9-915B-EEA61E00B5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da 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8229600" cy="376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8CF-699A-4D1F-B16A-936CC5321E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da 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8229600" cy="37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285-5BF6-4A86-A379-3D42CAD1C8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da 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8229600" cy="376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C86-637B-45AC-AEBE-76CBC7F243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oda 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pt-BR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8229600" cy="377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9D1-7F7B-47F2-BEC1-8979F1F202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Jogos não determinís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mento aleatório proveniente de jogo de dados, sorteio de cart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determinismo é inerente em domínios re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studo de algoritmos para jogos com elemento aleatório é um passo em direção a métodos aplicados no mundo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1EC1-79A2-43D2-8F62-76003802B7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Jogos não determiníst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árvore de um jogo não determinístico deve incluir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ós de acas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lém de nós minim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mificações que levam a cada nó de acaso denotam “jogadas de dados possíveis” (a probabilidade de cada mudança de estado não determinístic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CF1-B366-48F7-8016-34093F1EDD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1989000"/>
            <a:ext cx="7632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olução de Problemas por meio de bus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362F-CB25-42A0-93AF-68915A7CB0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Jog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064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Jogo de Damas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hinook, que funciona em PCs comuns e utiliza busca alfa-beta, encerrou o reinado de 40 anos como campeão mundial de Marion Tinsley em 1994. Usa um banco de dados pré-calculado de todas as posições (444 bilhões) com oito ou menos peças no tabuleiro para tornar seu fim de jogo infalív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Xadrez: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Deep Blue derrotou o campeão mundial Garry Kasparov em uma competição de seis partidas em 1997. A máquina vencedora era um computador paralelo com 30 processadores IBM RS/6000 e 480 processadores VLSI que buscava 126 milhões de nós/segundo, em média. O coração da máquina é uma busca alfa-beta de aprofundamento iterativo padrão com uma tabela de transposição que chegou a alcançar profundidade de 40 jog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7331-82DD-4C4C-AA24-720F7C7274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Jog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jogos que envolvem adversários são um pouco diferentes dos vistos até agora (Xadrez, Damas, …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jogador não tem que se preocupar apenas em chegar ao objetivo final, mas em evitar que algum oponente chegue antes dele, ou seja, vença o jo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jogador deve se antecipar à jogada do seu adversário para poder fazer a s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oponente é “imprevisível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ar em consideração todos os movimentos possíveis de opon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 de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ar uma decisão, mesmo que não seja ó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BC01-1DF0-474C-940B-077CC27AB8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ecisões ótimas em jog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6000" y="1773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icialmente jogos com dois jogado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’ e ‘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jogo pode ser definido como uma árvore de bus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d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ção sucessor (-&gt; movimento, est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ste de tér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ção utilidade: dá um valor numérico para os estados term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FCE-8A91-45B5-8E79-FD2D8BA13B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ecisões ótimas em jog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1699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é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ciar na posição corrente e usar o gerador de movimentos para gerar o conjunto de possíveis posições sucess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r a função de avaliação a estas posições e simplesmente escolher a melh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ar os efeitos da jogada do adversário e maximizar o efeito da própria jog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546-0220-4C78-8F8C-4AC65AB372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ecisões ótimas em jog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é um método para minimizar a perda máxima possív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 ser considerado como a maximização do ganho mínim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i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-se estender o conceito para jogos mais complexos e para tomada de decisão na presença de incertez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BDE6-995B-4C14-B63C-EE06FA4718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ecisões ótimas em jog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a versão simples do algoritmo minimax lida com jogos como o jogo da velha, no qual cada jogador pode ganhar, perder ou empat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o jogador A pode vencer com um movimento, seu melhor movimento é o movimento para a vitó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o jogador B identifica que um movimento levará a uma situação em que o adversário pode ganhar em um movimento, enquanto outro movimento levará a uma situação de empate, então a melhor jogada do jogador B é a que leva para o emp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ós algumas rodadas é fácil identificar qual é o melhor movi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4E51-2F3B-4E39-8199-9C744FCCB0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Decisões ótimas em jog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640" y="1773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lgoritm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juda a encontrar a melhor jogada ao caminhar pelas opções válidas a partir do fim do jog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da passo assume-se que o jogador A está tentan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iz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chances de A ganhar, enquanto na próxima rodada o jogador B está tentan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iz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chances de isso acontecer (ao maximizar as chances de que ele próprio ganh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DAFD-235C-4956-8070-C1CDF5B1B5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Árvore de jogo (2 jogadores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6237360"/>
            <a:ext cx="648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 ponto de vista de max, valores altos de utilidade são b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858000" cy="472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2074-B9C5-4659-9A8A-B780463E83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2-06T08:37:40Z</dcterms:modified>
  <cp:revision>568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