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649-DFCC-4C1D-87AB-7D25FF9C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15B-B12C-4291-B5E3-E49CD7E0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C12-4566-481F-96A8-AB7C79C4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DA2-A5B7-4B05-A284-42223EF3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04D98-BAEB-4939-9F35-415514D347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0D6FF-CEC5-433E-950D-E6556EE432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E306C-3403-489E-B752-C9A0BF46BA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9E9A3-B387-4E8D-BCB3-4B83E4486C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ACCAD-B513-41BB-AC65-FCEAF48161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F7B06-5106-4995-A80A-C5BAA3BA0B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A99F3-8417-4766-849F-59E8366A2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A9F-69D2-4C56-A999-02846A62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07670-5244-4B2C-8A5E-9720384A13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D1B73-AB25-4E62-9E69-95253F6C89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0D7BD-D932-48A0-A999-1022A1FCE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305D1-FE2B-465E-9F54-BEE99A05DF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844A-4426-4C29-A4D8-54F776CDE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315-DAAB-4E6A-92F5-A46919DE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383-82D5-45B7-9A83-A4D3764B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200-D9BD-46EC-B9F5-D29F89AB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2F2-CA64-43F0-9A62-1485F1A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271-8B84-4C36-88E9-FA5340E8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A99-6748-4C5C-B945-26C69F9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CAE-AA71-495A-8C9E-DAC297AA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C95B-0322-4611-B9DF-9269CB57D21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3EA2-B8D7-472D-BABE-F4E53F41C97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3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84000" y="2179440"/>
            <a:ext cx="6480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(Parte V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810720"/>
            <a:ext cx="77151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2637000"/>
            <a:ext cx="3382920" cy="50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637000"/>
            <a:ext cx="3744720" cy="50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332000" y="2655720"/>
            <a:ext cx="7271280" cy="3581280"/>
            <a:chOff x="1332000" y="2655720"/>
            <a:chExt cx="7271280" cy="3581280"/>
          </a:xfrm>
        </p:grpSpPr>
        <p:grpSp>
          <p:nvGrpSpPr>
            <p:cNvPr id="197" name=""/>
            <p:cNvGrpSpPr/>
            <p:nvPr/>
          </p:nvGrpSpPr>
          <p:grpSpPr>
            <a:xfrm>
              <a:off x="1332000" y="2655720"/>
              <a:ext cx="3812040" cy="492480"/>
              <a:chOff x="1332000" y="2655720"/>
              <a:chExt cx="3812040" cy="492480"/>
            </a:xfrm>
          </p:grpSpPr>
          <p:sp>
            <p:nvSpPr>
              <p:cNvPr id="198" name=""/>
              <p:cNvSpPr/>
              <p:nvPr/>
            </p:nvSpPr>
            <p:spPr>
              <a:xfrm>
                <a:off x="1425960" y="265572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inguagem natu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2000" y="265572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144400" y="2655720"/>
              <a:ext cx="3458880" cy="492480"/>
              <a:chOff x="5144400" y="2655720"/>
              <a:chExt cx="3458880" cy="492480"/>
            </a:xfrm>
          </p:grpSpPr>
          <p:sp>
            <p:nvSpPr>
              <p:cNvPr id="201" name=""/>
              <p:cNvSpPr/>
              <p:nvPr/>
            </p:nvSpPr>
            <p:spPr>
              <a:xfrm>
                <a:off x="5238360" y="265572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44400" y="265572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332000" y="3148200"/>
              <a:ext cx="3812040" cy="625320"/>
              <a:chOff x="1332000" y="3148200"/>
              <a:chExt cx="3812040" cy="625320"/>
            </a:xfrm>
          </p:grpSpPr>
          <p:sp>
            <p:nvSpPr>
              <p:cNvPr id="204" name=""/>
              <p:cNvSpPr/>
              <p:nvPr/>
            </p:nvSpPr>
            <p:spPr>
              <a:xfrm>
                <a:off x="1425960" y="3148200"/>
                <a:ext cx="3624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omossom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32000" y="3148200"/>
                <a:ext cx="381204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144400" y="3148200"/>
              <a:ext cx="3458880" cy="625320"/>
              <a:chOff x="5144400" y="3148200"/>
              <a:chExt cx="3458880" cy="625320"/>
            </a:xfrm>
          </p:grpSpPr>
          <p:sp>
            <p:nvSpPr>
              <p:cNvPr id="207" name=""/>
              <p:cNvSpPr/>
              <p:nvPr/>
            </p:nvSpPr>
            <p:spPr>
              <a:xfrm>
                <a:off x="5238360" y="3148200"/>
                <a:ext cx="3270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íduo,string, cromossomo, árvo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44400" y="3148200"/>
                <a:ext cx="3458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332000" y="3773520"/>
              <a:ext cx="3812040" cy="492840"/>
              <a:chOff x="1332000" y="3773520"/>
              <a:chExt cx="3812040" cy="492840"/>
            </a:xfrm>
          </p:grpSpPr>
          <p:sp>
            <p:nvSpPr>
              <p:cNvPr id="210" name=""/>
              <p:cNvSpPr/>
              <p:nvPr/>
            </p:nvSpPr>
            <p:spPr>
              <a:xfrm>
                <a:off x="1425960" y="3773520"/>
                <a:ext cx="36244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e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32000" y="3773520"/>
                <a:ext cx="381204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144400" y="3773520"/>
              <a:ext cx="3458880" cy="492840"/>
              <a:chOff x="5144400" y="3773520"/>
              <a:chExt cx="3458880" cy="492840"/>
            </a:xfrm>
          </p:grpSpPr>
          <p:sp>
            <p:nvSpPr>
              <p:cNvPr id="213" name=""/>
              <p:cNvSpPr/>
              <p:nvPr/>
            </p:nvSpPr>
            <p:spPr>
              <a:xfrm>
                <a:off x="5238360" y="3773520"/>
                <a:ext cx="3270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racterístic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44400" y="3773520"/>
                <a:ext cx="345888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332000" y="4266360"/>
              <a:ext cx="3812040" cy="492480"/>
              <a:chOff x="1332000" y="4266360"/>
              <a:chExt cx="3812040" cy="492480"/>
            </a:xfrm>
          </p:grpSpPr>
          <p:sp>
            <p:nvSpPr>
              <p:cNvPr id="216" name=""/>
              <p:cNvSpPr/>
              <p:nvPr/>
            </p:nvSpPr>
            <p:spPr>
              <a:xfrm>
                <a:off x="1425960" y="426636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lel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32000" y="426636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144400" y="4266360"/>
              <a:ext cx="3458880" cy="492480"/>
              <a:chOff x="5144400" y="4266360"/>
              <a:chExt cx="3458880" cy="492480"/>
            </a:xfrm>
          </p:grpSpPr>
          <p:sp>
            <p:nvSpPr>
              <p:cNvPr id="219" name=""/>
              <p:cNvSpPr/>
              <p:nvPr/>
            </p:nvSpPr>
            <p:spPr>
              <a:xfrm>
                <a:off x="5238360" y="426636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0" y="426636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332000" y="4759200"/>
              <a:ext cx="3812040" cy="492840"/>
              <a:chOff x="1332000" y="4759200"/>
              <a:chExt cx="3812040" cy="492840"/>
            </a:xfrm>
          </p:grpSpPr>
          <p:sp>
            <p:nvSpPr>
              <p:cNvPr id="222" name=""/>
              <p:cNvSpPr/>
              <p:nvPr/>
            </p:nvSpPr>
            <p:spPr>
              <a:xfrm>
                <a:off x="1425960" y="4759200"/>
                <a:ext cx="36244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oc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32000" y="4759200"/>
                <a:ext cx="381204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144400" y="4759200"/>
              <a:ext cx="3458880" cy="492840"/>
              <a:chOff x="5144400" y="4759200"/>
              <a:chExt cx="3458880" cy="492840"/>
            </a:xfrm>
          </p:grpSpPr>
          <p:sp>
            <p:nvSpPr>
              <p:cNvPr id="225" name=""/>
              <p:cNvSpPr/>
              <p:nvPr/>
            </p:nvSpPr>
            <p:spPr>
              <a:xfrm>
                <a:off x="5238360" y="4759200"/>
                <a:ext cx="3270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osi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44400" y="4759200"/>
                <a:ext cx="345888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332000" y="5252040"/>
              <a:ext cx="3812040" cy="492480"/>
              <a:chOff x="1332000" y="5252040"/>
              <a:chExt cx="3812040" cy="492480"/>
            </a:xfrm>
          </p:grpSpPr>
          <p:sp>
            <p:nvSpPr>
              <p:cNvPr id="228" name=""/>
              <p:cNvSpPr/>
              <p:nvPr/>
            </p:nvSpPr>
            <p:spPr>
              <a:xfrm>
                <a:off x="1425960" y="525204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enóti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32000" y="525204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144400" y="5252040"/>
              <a:ext cx="3458880" cy="492480"/>
              <a:chOff x="5144400" y="5252040"/>
              <a:chExt cx="3458880" cy="492480"/>
            </a:xfrm>
          </p:grpSpPr>
          <p:sp>
            <p:nvSpPr>
              <p:cNvPr id="231" name=""/>
              <p:cNvSpPr/>
              <p:nvPr/>
            </p:nvSpPr>
            <p:spPr>
              <a:xfrm>
                <a:off x="5238360" y="525204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strutu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44400" y="525204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332000" y="5744520"/>
              <a:ext cx="3812040" cy="492480"/>
              <a:chOff x="1332000" y="5744520"/>
              <a:chExt cx="3812040" cy="492480"/>
            </a:xfrm>
          </p:grpSpPr>
          <p:sp>
            <p:nvSpPr>
              <p:cNvPr id="234" name=""/>
              <p:cNvSpPr/>
              <p:nvPr/>
            </p:nvSpPr>
            <p:spPr>
              <a:xfrm>
                <a:off x="1425960" y="574452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enóti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32000" y="574452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144400" y="5744520"/>
              <a:ext cx="3458880" cy="492480"/>
              <a:chOff x="5144400" y="5744520"/>
              <a:chExt cx="3458880" cy="492480"/>
            </a:xfrm>
          </p:grpSpPr>
          <p:sp>
            <p:nvSpPr>
              <p:cNvPr id="237" name=""/>
              <p:cNvSpPr/>
              <p:nvPr/>
            </p:nvSpPr>
            <p:spPr>
              <a:xfrm>
                <a:off x="5238360" y="574452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junto de parâmetr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4400" y="574452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854-E12A-4DA3-BB3D-D1B9AD5C65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b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mais comum devido a sua simpl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bits – 0 o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A = 1 0 1 1 0 0 1 0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B = 1 1 1 1 1 1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a moch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lista de coisas com preços e tamanhos. É fornecido o valor da capacidade da mochila. Escolha as coisas de forma a maximizar o valor daquilo que cabe dentro da mochila, sem ultrapassar sua capac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bit é usado para dizer se a coisa correspondente está ou não na moch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162-C612-4B9C-A280-76FF704D4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por per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usado em problemas de orde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números que representa uma posição numa seqü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 5  3  2  6  4  7  9  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B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 5  6  7  2  3  1  4  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o caixeiro via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dadas cidades e as distâncias entre elas. O caixeiro viajante tem que visitar todas elas, sem viajar mais do que o necessário. A solução do problema consiste em encontrar a seqüência de cidades em que as viagens devem ser feitas de forma que a distância percorrida seja a mínima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s cromossomos descrevem a ordem em que o caixeiro irá visitar as 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8A5-00EA-4641-BAF7-0D8CB74797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p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em problemas nos quais valores mais complicados são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seqüência de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A: 1.2324 5.3243 0.4556 2.3293 2.45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B: ABDJEIFJDHDIERJFDLDFLFEG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C: (back), (back), (right), (forward), (le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ada uma estrutura, encontrar pesos para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rede neural com arquitetura definida. Encontre os pesos entre os neurônios da rede de forma a obter a resposta desejada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es reais num cromossomo representam pesos em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520-3427-4E03-949C-9E7A171635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unção d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a maneira utilizada pelos AG para determinar a qualidade de um indivíduo como solução do problema  em quest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uma nota dada ao indivíduo na resolução do probl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á usada para a escolha dos indivíduos pelo módulo de seleção de pais, sendo a forma de diferenciar entre as boas e as más soluções para um proble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a a generalidade dos AG, a função de avaliação, em muitos casos, é a única ligação verdadeira do programa com o problem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6B9-49C5-431B-B4B7-7FCA1FB76C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unção d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mbém chamada de função de custo (função de aptid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 então um valor numérico que reflete quão bons os parâmetros representados no cromossomo resolvem o probl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a todos os valores armazenados no cromossomo (os parâmetros) e retorna um valor numérico, cujo significado é uma métrica da qualidade da solução obtida usando-se aqueles parâme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unção de avaliação deve ser tal que se o cromossomo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presenta uma solução melhor do que o cromossomo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então a avaliação de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ve ser maior do que a avaliação de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F63-29E9-4713-8393-E27F17C6AA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leção dos 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método de seleção de pais deve simular o mecanismo de seleção natu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is mais capazes geram mais filh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is menos aptos também podem gerar descend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mos que privilegiar os indivíduos com função de avaliação alta, sem desprezar completamente aqueles indivíduos com função de avaliação extremamente baix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é indivíduos com péssima avaliação podem ter características genéticas que sejam favoráveis à criação de um indivíduo ótimo. Estas características podem não estar presentes em nenhum outro cromossom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551-A6DB-43B0-B040-EEFF3F0390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leção dos P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simples e muito adotado: método da roleta viciada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iamos uma roleta (virtual) na qual cada cromossomo recebe um pedaço proporcional à sua avaliação (a soma dos pedaços não pode superar 10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damos a role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selecionado será o indivíduo sobre o qual ela para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FF3-A0C4-45CC-A224-1F21DF6568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eleção de P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16000" y="2276640"/>
            <a:ext cx="2818440" cy="3752280"/>
            <a:chOff x="1116000" y="2276640"/>
            <a:chExt cx="2818440" cy="3752280"/>
          </a:xfrm>
        </p:grpSpPr>
        <p:grpSp>
          <p:nvGrpSpPr>
            <p:cNvPr id="256" name=""/>
            <p:cNvGrpSpPr/>
            <p:nvPr/>
          </p:nvGrpSpPr>
          <p:grpSpPr>
            <a:xfrm>
              <a:off x="1116000" y="2276640"/>
              <a:ext cx="1393560" cy="624960"/>
              <a:chOff x="1116000" y="2276640"/>
              <a:chExt cx="1393560" cy="624960"/>
            </a:xfrm>
          </p:grpSpPr>
          <p:sp>
            <p:nvSpPr>
              <p:cNvPr id="257" name=""/>
              <p:cNvSpPr/>
              <p:nvPr/>
            </p:nvSpPr>
            <p:spPr>
              <a:xfrm>
                <a:off x="1218960" y="2276640"/>
                <a:ext cx="11876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divídu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16000" y="2276640"/>
                <a:ext cx="139356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509920" y="2276640"/>
              <a:ext cx="1424520" cy="624960"/>
              <a:chOff x="2509920" y="2276640"/>
              <a:chExt cx="1424520" cy="624960"/>
            </a:xfrm>
          </p:grpSpPr>
          <p:sp>
            <p:nvSpPr>
              <p:cNvPr id="260" name=""/>
              <p:cNvSpPr/>
              <p:nvPr/>
            </p:nvSpPr>
            <p:spPr>
              <a:xfrm>
                <a:off x="2612160" y="2276640"/>
                <a:ext cx="1218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vali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509920" y="2276640"/>
                <a:ext cx="142452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116000" y="2901600"/>
              <a:ext cx="1393560" cy="625320"/>
              <a:chOff x="1116000" y="2901600"/>
              <a:chExt cx="1393560" cy="625320"/>
            </a:xfrm>
          </p:grpSpPr>
          <p:sp>
            <p:nvSpPr>
              <p:cNvPr id="263" name=""/>
              <p:cNvSpPr/>
              <p:nvPr/>
            </p:nvSpPr>
            <p:spPr>
              <a:xfrm>
                <a:off x="1218960" y="2901600"/>
                <a:ext cx="1187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0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16000" y="2901600"/>
                <a:ext cx="13935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09920" y="2901600"/>
              <a:ext cx="1424520" cy="625320"/>
              <a:chOff x="2509920" y="2901600"/>
              <a:chExt cx="1424520" cy="625320"/>
            </a:xfrm>
          </p:grpSpPr>
          <p:sp>
            <p:nvSpPr>
              <p:cNvPr id="266" name=""/>
              <p:cNvSpPr/>
              <p:nvPr/>
            </p:nvSpPr>
            <p:spPr>
              <a:xfrm>
                <a:off x="2612160" y="2901600"/>
                <a:ext cx="1218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09920" y="2901600"/>
                <a:ext cx="1424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116000" y="3527280"/>
              <a:ext cx="1393560" cy="624960"/>
              <a:chOff x="1116000" y="3527280"/>
              <a:chExt cx="1393560" cy="624960"/>
            </a:xfrm>
          </p:grpSpPr>
          <p:sp>
            <p:nvSpPr>
              <p:cNvPr id="269" name=""/>
              <p:cNvSpPr/>
              <p:nvPr/>
            </p:nvSpPr>
            <p:spPr>
              <a:xfrm>
                <a:off x="1218960" y="3527280"/>
                <a:ext cx="11876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0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16000" y="3527280"/>
                <a:ext cx="139356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509920" y="3527280"/>
              <a:ext cx="1424520" cy="624960"/>
              <a:chOff x="2509920" y="3527280"/>
              <a:chExt cx="1424520" cy="62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2612160" y="3527280"/>
                <a:ext cx="1218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09920" y="3527280"/>
                <a:ext cx="142452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116000" y="4152600"/>
              <a:ext cx="1393560" cy="625320"/>
              <a:chOff x="1116000" y="4152600"/>
              <a:chExt cx="1393560" cy="62532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8960" y="4152600"/>
                <a:ext cx="1187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16000" y="4152600"/>
                <a:ext cx="13935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509920" y="4152600"/>
              <a:ext cx="1424520" cy="625320"/>
              <a:chOff x="2509920" y="4152600"/>
              <a:chExt cx="1424520" cy="625320"/>
            </a:xfrm>
          </p:grpSpPr>
          <p:sp>
            <p:nvSpPr>
              <p:cNvPr id="278" name=""/>
              <p:cNvSpPr/>
              <p:nvPr/>
            </p:nvSpPr>
            <p:spPr>
              <a:xfrm>
                <a:off x="2612160" y="4152600"/>
                <a:ext cx="1218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09920" y="4152600"/>
                <a:ext cx="1424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116000" y="4778280"/>
              <a:ext cx="1393560" cy="624960"/>
              <a:chOff x="1116000" y="4778280"/>
              <a:chExt cx="1393560" cy="624960"/>
            </a:xfrm>
          </p:grpSpPr>
          <p:sp>
            <p:nvSpPr>
              <p:cNvPr id="281" name=""/>
              <p:cNvSpPr/>
              <p:nvPr/>
            </p:nvSpPr>
            <p:spPr>
              <a:xfrm>
                <a:off x="1218960" y="4778280"/>
                <a:ext cx="11876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1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16000" y="4778280"/>
                <a:ext cx="139356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509920" y="4778280"/>
              <a:ext cx="1424520" cy="624960"/>
              <a:chOff x="2509920" y="4778280"/>
              <a:chExt cx="1424520" cy="62496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2160" y="4778280"/>
                <a:ext cx="1218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09920" y="4778280"/>
                <a:ext cx="142452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116000" y="5403600"/>
              <a:ext cx="1393560" cy="625320"/>
              <a:chOff x="1116000" y="5403600"/>
              <a:chExt cx="1393560" cy="625320"/>
            </a:xfrm>
          </p:grpSpPr>
          <p:sp>
            <p:nvSpPr>
              <p:cNvPr id="287" name=""/>
              <p:cNvSpPr/>
              <p:nvPr/>
            </p:nvSpPr>
            <p:spPr>
              <a:xfrm>
                <a:off x="1218960" y="5403600"/>
                <a:ext cx="1187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16000" y="5403600"/>
                <a:ext cx="13935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09920" y="5403600"/>
              <a:ext cx="1424520" cy="625320"/>
              <a:chOff x="2509920" y="5403600"/>
              <a:chExt cx="1424520" cy="625320"/>
            </a:xfrm>
          </p:grpSpPr>
          <p:sp>
            <p:nvSpPr>
              <p:cNvPr id="290" name=""/>
              <p:cNvSpPr/>
              <p:nvPr/>
            </p:nvSpPr>
            <p:spPr>
              <a:xfrm>
                <a:off x="2612160" y="5403600"/>
                <a:ext cx="1218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09920" y="5403600"/>
                <a:ext cx="1424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5219640" y="2133720"/>
            <a:ext cx="3594600" cy="3921120"/>
            <a:chOff x="5219640" y="2133720"/>
            <a:chExt cx="3594600" cy="3921120"/>
          </a:xfrm>
        </p:grpSpPr>
        <p:grpSp>
          <p:nvGrpSpPr>
            <p:cNvPr id="293" name=""/>
            <p:cNvGrpSpPr/>
            <p:nvPr/>
          </p:nvGrpSpPr>
          <p:grpSpPr>
            <a:xfrm>
              <a:off x="5219640" y="2133720"/>
              <a:ext cx="1955520" cy="793800"/>
              <a:chOff x="5219640" y="2133720"/>
              <a:chExt cx="1955520" cy="793800"/>
            </a:xfrm>
          </p:grpSpPr>
          <p:sp>
            <p:nvSpPr>
              <p:cNvPr id="294" name=""/>
              <p:cNvSpPr/>
              <p:nvPr/>
            </p:nvSpPr>
            <p:spPr>
              <a:xfrm>
                <a:off x="5338080" y="2133720"/>
                <a:ext cx="17179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edaço da roleta (%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19640" y="2133720"/>
                <a:ext cx="195552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175520" y="2133720"/>
              <a:ext cx="1638720" cy="793800"/>
              <a:chOff x="7175520" y="2133720"/>
              <a:chExt cx="1638720" cy="793800"/>
            </a:xfrm>
          </p:grpSpPr>
          <p:sp>
            <p:nvSpPr>
              <p:cNvPr id="297" name=""/>
              <p:cNvSpPr/>
              <p:nvPr/>
            </p:nvSpPr>
            <p:spPr>
              <a:xfrm>
                <a:off x="7293960" y="2133720"/>
                <a:ext cx="140148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edaço da roleta (º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75520" y="2133720"/>
                <a:ext cx="163872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219640" y="2927520"/>
              <a:ext cx="1955520" cy="625320"/>
              <a:chOff x="5219640" y="2927520"/>
              <a:chExt cx="1955520" cy="625320"/>
            </a:xfrm>
          </p:grpSpPr>
          <p:sp>
            <p:nvSpPr>
              <p:cNvPr id="300" name=""/>
              <p:cNvSpPr/>
              <p:nvPr/>
            </p:nvSpPr>
            <p:spPr>
              <a:xfrm>
                <a:off x="5338080" y="2927520"/>
                <a:ext cx="17179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6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19640" y="2927520"/>
                <a:ext cx="1955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175520" y="2927520"/>
              <a:ext cx="1638720" cy="625320"/>
              <a:chOff x="7175520" y="2927520"/>
              <a:chExt cx="1638720" cy="62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7293960" y="2927520"/>
                <a:ext cx="1401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75520" y="2927520"/>
                <a:ext cx="16387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219640" y="3552840"/>
              <a:ext cx="1955520" cy="625680"/>
              <a:chOff x="5219640" y="3552840"/>
              <a:chExt cx="1955520" cy="625680"/>
            </a:xfrm>
          </p:grpSpPr>
          <p:sp>
            <p:nvSpPr>
              <p:cNvPr id="306" name=""/>
              <p:cNvSpPr/>
              <p:nvPr/>
            </p:nvSpPr>
            <p:spPr>
              <a:xfrm>
                <a:off x="5338080" y="3552840"/>
                <a:ext cx="17179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.5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19640" y="3552840"/>
                <a:ext cx="19555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175520" y="3552840"/>
              <a:ext cx="1638720" cy="625680"/>
              <a:chOff x="7175520" y="3552840"/>
              <a:chExt cx="1638720" cy="625680"/>
            </a:xfrm>
          </p:grpSpPr>
          <p:sp>
            <p:nvSpPr>
              <p:cNvPr id="309" name=""/>
              <p:cNvSpPr/>
              <p:nvPr/>
            </p:nvSpPr>
            <p:spPr>
              <a:xfrm>
                <a:off x="7293960" y="3552840"/>
                <a:ext cx="140148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2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75520" y="3552840"/>
                <a:ext cx="16387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219640" y="4178520"/>
              <a:ext cx="1955520" cy="625320"/>
              <a:chOff x="5219640" y="4178520"/>
              <a:chExt cx="1955520" cy="625320"/>
            </a:xfrm>
          </p:grpSpPr>
          <p:sp>
            <p:nvSpPr>
              <p:cNvPr id="312" name=""/>
              <p:cNvSpPr/>
              <p:nvPr/>
            </p:nvSpPr>
            <p:spPr>
              <a:xfrm>
                <a:off x="5338080" y="4178520"/>
                <a:ext cx="17179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.8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19640" y="4178520"/>
                <a:ext cx="1955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175520" y="4178520"/>
              <a:ext cx="1638720" cy="625320"/>
              <a:chOff x="7175520" y="4178520"/>
              <a:chExt cx="1638720" cy="625320"/>
            </a:xfrm>
          </p:grpSpPr>
          <p:sp>
            <p:nvSpPr>
              <p:cNvPr id="315" name=""/>
              <p:cNvSpPr/>
              <p:nvPr/>
            </p:nvSpPr>
            <p:spPr>
              <a:xfrm>
                <a:off x="7293960" y="4178520"/>
                <a:ext cx="1401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2.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75520" y="4178520"/>
                <a:ext cx="16387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219640" y="4803840"/>
              <a:ext cx="1955520" cy="625680"/>
              <a:chOff x="5219640" y="4803840"/>
              <a:chExt cx="1955520" cy="625680"/>
            </a:xfrm>
          </p:grpSpPr>
          <p:sp>
            <p:nvSpPr>
              <p:cNvPr id="318" name=""/>
              <p:cNvSpPr/>
              <p:nvPr/>
            </p:nvSpPr>
            <p:spPr>
              <a:xfrm>
                <a:off x="5338080" y="4803840"/>
                <a:ext cx="17179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8.0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19640" y="4803840"/>
                <a:ext cx="19555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175520" y="4803840"/>
              <a:ext cx="1638720" cy="625680"/>
              <a:chOff x="7175520" y="4803840"/>
              <a:chExt cx="1638720" cy="625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293960" y="4803840"/>
                <a:ext cx="140148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9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75520" y="4803840"/>
                <a:ext cx="16387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219640" y="5429520"/>
              <a:ext cx="1955520" cy="625320"/>
              <a:chOff x="5219640" y="5429520"/>
              <a:chExt cx="1955520" cy="625320"/>
            </a:xfrm>
          </p:grpSpPr>
          <p:sp>
            <p:nvSpPr>
              <p:cNvPr id="324" name=""/>
              <p:cNvSpPr/>
              <p:nvPr/>
            </p:nvSpPr>
            <p:spPr>
              <a:xfrm>
                <a:off x="5338080" y="5429520"/>
                <a:ext cx="17179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0.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19640" y="5429520"/>
                <a:ext cx="1955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75520" y="5429520"/>
              <a:ext cx="1638720" cy="625320"/>
              <a:chOff x="7175520" y="5429520"/>
              <a:chExt cx="1638720" cy="625320"/>
            </a:xfrm>
          </p:grpSpPr>
          <p:sp>
            <p:nvSpPr>
              <p:cNvPr id="327" name=""/>
              <p:cNvSpPr/>
              <p:nvPr/>
            </p:nvSpPr>
            <p:spPr>
              <a:xfrm>
                <a:off x="7293960" y="5429520"/>
                <a:ext cx="1401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60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75520" y="5429520"/>
                <a:ext cx="16387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4140360" y="371628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4E0-DB4F-49BA-A1E1-28116B48A1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eleção dos 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(cont.) – Graficamente,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Figura4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029200" cy="36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FFE-A75F-420B-B76A-6684FF1134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ões – Algoritmos de Busc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goritmos Gené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2B1-A105-413A-8C6A-F03571485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es de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Crossover 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remos trabalhar agora com a versão mais simples dos operadores gené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sta versão, eles atuam em conjunto, como se fossem um s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096-A94F-4138-AD17-31D6508E15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mos começar com o operado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is simples, chamado de operado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um pont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ois de selecionados dois pais pelo módulo de seleção de pais, um ponto de corte é selecion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ponto de corte constitui uma posição entre dois genes de um cromosso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indivídu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enes cont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-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ntos de cor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2D8-B4FC-41A7-866C-0658847F64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3583800" y="2995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30520" y="3506760"/>
            <a:ext cx="635040" cy="779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3506760"/>
            <a:ext cx="635040" cy="77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3506760"/>
            <a:ext cx="635040" cy="779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35640" y="3506760"/>
            <a:ext cx="635040" cy="77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7352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0856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70680" y="3506760"/>
            <a:ext cx="635040" cy="779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4360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03440" y="3378240"/>
            <a:ext cx="889200" cy="103644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55000" y="495792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os de Cor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86640" y="4935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02600" y="4935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56360" y="495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91400" y="495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D61-5A35-4DE6-AB61-8A712D0FE6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ois de sorteado o ponto de corte, separa-se os pais em duas partes: uma à esquerda do ponto de corte e outra à dire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importante notar que: não necessariamente estas duas partes têm o mesmo tamanh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meiro fil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osto através da concatenação da parte esquerda do primeiro pai com a parte direita do segundo p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gundo fil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osto através da concatenação das partes que sobraram (a metade esquerda do segundo pai com a metade à direita do primeiro pa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632-10C6-4B1A-A591-76A515FBD0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perador d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ross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peração deve ser realizada sobre os cromossomos dos pais para a criação de desc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m1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0 | 00100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m2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1 | 110000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ho 1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0 | 110000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ho 2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1 | 00100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B87-508E-4F1B-8421-9676E9B8CD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77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53360" y="6381720"/>
            <a:ext cx="5766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http://www.icmc.usp.br/~andre/research/genetic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16000" y="2349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257800" cy="1728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042920" y="4708800"/>
            <a:ext cx="7705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 exemplo de crossover de um po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dois indivíduos são escolh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um ponto (4) de crossover é escolh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são recombinadas as características, gerando dois novos indivídu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C20-4F5C-4977-8E03-344FE0E2A8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ois de compostos os filhos, entra em ação o operador de mut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e opera da seguinte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 tem associada uma probabilidade extremamente baixa (da ordem de 0,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rtea-se um número entre 0 e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ele for menor do que a probabilidade pré-determinada então o operador atua sobre o gene em questão, alterando-lhe o valor aleatori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pete-se então o processo para todos os gens componentes dos dois filho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3D9-2D59-42E7-9BBC-307C0B5489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da mutação é evitar que as soluções na população fiquem apenas num mínim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1 a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100001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2 a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110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01101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1 depo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100001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2 depo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110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01101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3311640" cy="11145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37360" y="6308640"/>
            <a:ext cx="5766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http://www.icmc.usp.br/~andre/research/genetic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20720" y="5229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9BC-15EA-4E8F-A756-7FCB89BB59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71640" y="3212640"/>
            <a:ext cx="201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es em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97520" y="14367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06320" y="1467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6400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6600" y="2063880"/>
            <a:ext cx="2840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3064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3240" y="2063880"/>
            <a:ext cx="2840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9728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75920" y="18464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6400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6600" y="28256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3064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3240" y="28256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9728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81320" y="32130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19720" y="2271600"/>
            <a:ext cx="1133640" cy="725760"/>
          </a:xfrm>
          <a:prstGeom prst="rightArrow">
            <a:avLst>
              <a:gd name="adj1" fmla="val 50000"/>
              <a:gd name="adj2" fmla="val 3905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Selecionamos 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ponto  de 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6748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080" y="2063880"/>
            <a:ext cx="2840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3412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16720" y="2063880"/>
            <a:ext cx="2844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01120" y="2063880"/>
            <a:ext cx="2822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11160" y="18464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6748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0080" y="28256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3412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16720" y="2825640"/>
            <a:ext cx="2844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01120" y="2825640"/>
            <a:ext cx="2822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05400" y="32130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134120" y="1908000"/>
            <a:ext cx="0" cy="151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11760" y="3602160"/>
            <a:ext cx="1371600" cy="96840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Depois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operador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cross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67480" y="5781600"/>
            <a:ext cx="28260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0080" y="5781600"/>
            <a:ext cx="28404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34120" y="50180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16720" y="5018040"/>
            <a:ext cx="2844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701120" y="5018040"/>
            <a:ext cx="2822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8600" y="480060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67480" y="5024520"/>
            <a:ext cx="28260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0080" y="5024520"/>
            <a:ext cx="28404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34120" y="5781600"/>
            <a:ext cx="28260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16720" y="5781600"/>
            <a:ext cx="28440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701120" y="5781600"/>
            <a:ext cx="28224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84000" y="616752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240160" y="5237280"/>
            <a:ext cx="1216080" cy="725400"/>
          </a:xfrm>
          <a:prstGeom prst="rightArrow">
            <a:avLst>
              <a:gd name="adj1" fmla="val 50000"/>
              <a:gd name="adj2" fmla="val 4191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Depois 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operador de mu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21240" y="5781600"/>
            <a:ext cx="28260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03840" y="5781600"/>
            <a:ext cx="28404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87880" y="50180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70480" y="50180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54520" y="50180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2360" y="480060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21240" y="5024520"/>
            <a:ext cx="28260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03840" y="5024520"/>
            <a:ext cx="28404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87880" y="5781600"/>
            <a:ext cx="28260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70480" y="5781600"/>
            <a:ext cx="28404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37760" y="616752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54520" y="5781600"/>
            <a:ext cx="282600" cy="36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97280" y="5721480"/>
            <a:ext cx="397080" cy="4842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26520" y="6132600"/>
            <a:ext cx="11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Gen alte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pela mu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35200" y="650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18680" y="649908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FD0-C1D8-46C6-9983-4FBCB70125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ódul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ável pelo controle da popul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 simplicidade, população não pode cres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que armazenemos a população em um vetor de tamanho constante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is têm que ser substituídos conforme os filhos vão nasc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de parecer estranho, visto que estamos acostumados a ver a população humana sempre cresce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etanto, simula bem ambientes de recursos lim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84D-B184-4AB1-9AC3-B04FA807F3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68836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4E3-8653-4744-9D88-688804303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ódul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simples de obten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ada atuação do operador genético são criados dois filh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s vão sendo armazenados em um espaço auxiliar até que o número de filhos criado seja igual ao tamanho da popul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ste ponto o módulo de população entra em 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ais são então descartados e os filhos copiados para cima de suas posições de memória, indo tornar-se os pais da nova geraçã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70F-E9D2-478B-AEA0-A0ABB2070A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pectos Pr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plementação prática de um AG requer atenção para várias quest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scolha da Função de Avaliação/Aptid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Problemas de conv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Escolha da Técnica de Sel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Lacuna entre geraçõ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neration g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E73-EDB7-4ED8-BC3B-5C5705AB5E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 Genético Aplicado ao Caixeiro Viaj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Uma população inicial é gerada aleatoriamente. Cada indivíduo da população é uma rota. Lembrando que as cidades não podem ser repet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Cada indivíduo é avaliado definindo se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valor de adequação) que é inversamente proporcional a distância total da r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Um número aleatório de indivíduos (pode ser predefinido) é selecionado na r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Alguns dos indivíduos selecionados passam por alterações, através dos operadores genétic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mutaç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Uma nova população é gerada e repete-se os passos do 2 ao 5 até que um número pré-definido de gerações seja alcanç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4C2-9239-45ED-B604-77C2A58ADE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443-DD15-446E-AE93-BC3867F7C2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258920" y="1773360"/>
            <a:ext cx="7313400" cy="4896000"/>
            <a:chOff x="1258920" y="1773360"/>
            <a:chExt cx="7313400" cy="4896000"/>
          </a:xfrm>
        </p:grpSpPr>
        <p:sp>
          <p:nvSpPr>
            <p:cNvPr id="108" name=""/>
            <p:cNvSpPr/>
            <p:nvPr/>
          </p:nvSpPr>
          <p:spPr>
            <a:xfrm>
              <a:off x="2315880" y="2987640"/>
              <a:ext cx="18723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ção:  escolhe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íduos que participar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processo reprodutó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8920" y="3619440"/>
              <a:ext cx="2571480" cy="889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47840" y="3635280"/>
              <a:ext cx="2374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licamos a funçã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a cada um dos indivíduos desta ger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052720" y="2540880"/>
              <a:ext cx="834840" cy="2156040"/>
              <a:chOff x="2052720" y="2540880"/>
              <a:chExt cx="834840" cy="215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2052720" y="2540880"/>
                <a:ext cx="834840" cy="215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809" swAng="36694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809" swAng="3669489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60000" y="254304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227" h="194">
                    <a:moveTo>
                      <a:pt x="227" y="0"/>
                    </a:moveTo>
                    <a:lnTo>
                      <a:pt x="0" y="85"/>
                    </a:lnTo>
                    <a:lnTo>
                      <a:pt x="82" y="19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559040" y="2986200"/>
              <a:ext cx="2791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genéticos: Aplica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de recombinação e mut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s indivíduos escolhidos para “pai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92600" y="2443320"/>
              <a:ext cx="934560" cy="174600"/>
              <a:chOff x="3792600" y="2443320"/>
              <a:chExt cx="934560" cy="174600"/>
            </a:xfrm>
          </p:grpSpPr>
          <p:sp>
            <p:nvSpPr>
              <p:cNvPr id="116" name=""/>
              <p:cNvSpPr/>
              <p:nvPr/>
            </p:nvSpPr>
            <p:spPr>
              <a:xfrm>
                <a:off x="3792600" y="2530080"/>
                <a:ext cx="70020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15240" y="2443320"/>
                <a:ext cx="511920" cy="174600"/>
              </a:xfrm>
              <a:custGeom>
                <a:avLst/>
                <a:gdLst/>
                <a:ahLst/>
                <a:rect l="l" t="t" r="r" b="b"/>
                <a:pathLst>
                  <a:path w="373" h="135">
                    <a:moveTo>
                      <a:pt x="373" y="69"/>
                    </a:moveTo>
                    <a:lnTo>
                      <a:pt x="0" y="0"/>
                    </a:lnTo>
                    <a:lnTo>
                      <a:pt x="0" y="135"/>
                    </a:lnTo>
                    <a:lnTo>
                      <a:pt x="373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591000" y="4181400"/>
              <a:ext cx="2458800" cy="1630440"/>
            </a:xfrm>
            <a:custGeom>
              <a:avLst/>
              <a:gdLst/>
              <a:ahLst/>
              <a:rect l="l" t="t" r="r" b="b"/>
              <a:pathLst>
                <a:path w="1590" h="1050">
                  <a:moveTo>
                    <a:pt x="795" y="0"/>
                  </a:moveTo>
                  <a:lnTo>
                    <a:pt x="0" y="525"/>
                  </a:lnTo>
                  <a:lnTo>
                    <a:pt x="795" y="1050"/>
                  </a:lnTo>
                  <a:lnTo>
                    <a:pt x="1590" y="525"/>
                  </a:lnTo>
                  <a:lnTo>
                    <a:pt x="795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86720" y="4664160"/>
              <a:ext cx="15735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tisfizemos o critéri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parada ? (por nº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ões ou por qua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dade das soluçõe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490120" y="3743280"/>
              <a:ext cx="2149920" cy="1247400"/>
              <a:chOff x="2490120" y="3743280"/>
              <a:chExt cx="2149920" cy="1247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490120" y="3743280"/>
                <a:ext cx="2149920" cy="124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12" y="21600"/>
                    </a:moveTo>
                    <a:arcTo wR="10800" hR="10800" stAng="5396252" swAng="4051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12" y="21600"/>
                    </a:moveTo>
                    <a:arcTo wR="10800" hR="10800" stAng="5396252" swAng="4051165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92280" y="4370400"/>
                <a:ext cx="203760" cy="371880"/>
              </a:xfrm>
              <a:custGeom>
                <a:avLst/>
                <a:gdLst/>
                <a:ahLst/>
                <a:rect l="l" t="t" r="r" b="b"/>
                <a:pathLst>
                  <a:path w="173" h="322">
                    <a:moveTo>
                      <a:pt x="0" y="0"/>
                    </a:moveTo>
                    <a:lnTo>
                      <a:pt x="76" y="322"/>
                    </a:lnTo>
                    <a:lnTo>
                      <a:pt x="173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019320" y="4680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30680" y="648648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713120" y="5819760"/>
              <a:ext cx="227160" cy="541440"/>
              <a:chOff x="4713120" y="5819760"/>
              <a:chExt cx="227160" cy="54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4830840" y="5819760"/>
                <a:ext cx="1080" cy="3322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13120" y="5915160"/>
                <a:ext cx="227160" cy="446040"/>
              </a:xfrm>
              <a:custGeom>
                <a:avLst/>
                <a:gdLst/>
                <a:ahLst/>
                <a:rect l="l" t="t" r="r" b="b"/>
                <a:pathLst>
                  <a:path w="166" h="393">
                    <a:moveTo>
                      <a:pt x="85" y="393"/>
                    </a:moveTo>
                    <a:lnTo>
                      <a:pt x="166" y="0"/>
                    </a:lnTo>
                    <a:lnTo>
                      <a:pt x="0" y="0"/>
                    </a:lnTo>
                    <a:lnTo>
                      <a:pt x="85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007960" y="5969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8280" y="3619440"/>
              <a:ext cx="2837160" cy="8510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75200" y="3683160"/>
              <a:ext cx="26971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ódulo de população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imos a nova população a part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 geração existente e dos fil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858360" y="2540160"/>
              <a:ext cx="713520" cy="2154600"/>
              <a:chOff x="6858360" y="2540160"/>
              <a:chExt cx="713520" cy="2154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858360" y="2540160"/>
                <a:ext cx="642960" cy="21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8" y="0"/>
                    </a:moveTo>
                    <a:arcTo wR="10800" hR="10800" stAng="-5429243" swAng="42836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8" y="0"/>
                    </a:moveTo>
                    <a:arcTo wR="10800" hR="10800" stAng="-5429243" swAng="4283664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84680" y="3256920"/>
                <a:ext cx="187200" cy="362160"/>
              </a:xfrm>
              <a:custGeom>
                <a:avLst/>
                <a:gdLst/>
                <a:ahLst/>
                <a:rect l="l" t="t" r="r" b="b"/>
                <a:pathLst>
                  <a:path w="136" h="244">
                    <a:moveTo>
                      <a:pt x="82" y="244"/>
                    </a:moveTo>
                    <a:lnTo>
                      <a:pt x="136" y="0"/>
                    </a:lnTo>
                    <a:lnTo>
                      <a:pt x="0" y="9"/>
                    </a:lnTo>
                    <a:lnTo>
                      <a:pt x="82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057720" y="4456080"/>
              <a:ext cx="963720" cy="612360"/>
              <a:chOff x="6057720" y="4456080"/>
              <a:chExt cx="963720" cy="612360"/>
            </a:xfrm>
          </p:grpSpPr>
          <p:sp>
            <p:nvSpPr>
              <p:cNvPr id="135" name=""/>
              <p:cNvSpPr/>
              <p:nvPr/>
            </p:nvSpPr>
            <p:spPr>
              <a:xfrm>
                <a:off x="6271920" y="4456080"/>
                <a:ext cx="749520" cy="578880"/>
              </a:xfrm>
              <a:custGeom>
                <a:avLst/>
                <a:gdLst/>
                <a:ahLst/>
                <a:rect l="l" t="t" r="r" b="b"/>
                <a:pathLst>
                  <a:path w="626" h="568">
                    <a:moveTo>
                      <a:pt x="0" y="568"/>
                    </a:moveTo>
                    <a:lnTo>
                      <a:pt x="46" y="557"/>
                    </a:lnTo>
                    <a:lnTo>
                      <a:pt x="93" y="537"/>
                    </a:lnTo>
                    <a:lnTo>
                      <a:pt x="142" y="515"/>
                    </a:lnTo>
                    <a:lnTo>
                      <a:pt x="192" y="484"/>
                    </a:lnTo>
                    <a:lnTo>
                      <a:pt x="243" y="448"/>
                    </a:lnTo>
                    <a:lnTo>
                      <a:pt x="295" y="412"/>
                    </a:lnTo>
                    <a:lnTo>
                      <a:pt x="339" y="368"/>
                    </a:lnTo>
                    <a:lnTo>
                      <a:pt x="391" y="320"/>
                    </a:lnTo>
                    <a:lnTo>
                      <a:pt x="438" y="267"/>
                    </a:lnTo>
                    <a:lnTo>
                      <a:pt x="485" y="210"/>
                    </a:lnTo>
                    <a:lnTo>
                      <a:pt x="533" y="152"/>
                    </a:lnTo>
                    <a:lnTo>
                      <a:pt x="574" y="89"/>
                    </a:lnTo>
                    <a:lnTo>
                      <a:pt x="613" y="25"/>
                    </a:lnTo>
                    <a:lnTo>
                      <a:pt x="6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7720" y="4929840"/>
                <a:ext cx="296640" cy="138600"/>
              </a:xfrm>
              <a:custGeom>
                <a:avLst/>
                <a:gdLst/>
                <a:ahLst/>
                <a:rect l="l" t="t" r="r" b="b"/>
                <a:pathLst>
                  <a:path w="248" h="136">
                    <a:moveTo>
                      <a:pt x="0" y="72"/>
                    </a:moveTo>
                    <a:lnTo>
                      <a:pt x="248" y="136"/>
                    </a:lnTo>
                    <a:lnTo>
                      <a:pt x="243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057000" y="5178600"/>
              <a:ext cx="10720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hos ger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vivem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ão copi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 seus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265880" y="4457880"/>
              <a:ext cx="185760" cy="1325160"/>
              <a:chOff x="7265880" y="4457880"/>
              <a:chExt cx="185760" cy="1325160"/>
            </a:xfrm>
          </p:grpSpPr>
          <p:sp>
            <p:nvSpPr>
              <p:cNvPr id="139" name=""/>
              <p:cNvSpPr/>
              <p:nvPr/>
            </p:nvSpPr>
            <p:spPr>
              <a:xfrm>
                <a:off x="7358760" y="4457880"/>
                <a:ext cx="1440" cy="11876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65880" y="5481000"/>
                <a:ext cx="185760" cy="302040"/>
              </a:xfrm>
              <a:custGeom>
                <a:avLst/>
                <a:gdLst/>
                <a:ahLst/>
                <a:rect l="l" t="t" r="r" b="b"/>
                <a:pathLst>
                  <a:path w="136" h="233">
                    <a:moveTo>
                      <a:pt x="68" y="23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68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7387560" y="4929120"/>
              <a:ext cx="109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 a antig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ão de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721960" y="2088360"/>
              <a:ext cx="800280" cy="751320"/>
              <a:chOff x="2721960" y="2088360"/>
              <a:chExt cx="800280" cy="751320"/>
            </a:xfrm>
          </p:grpSpPr>
          <p:sp>
            <p:nvSpPr>
              <p:cNvPr id="143" name=""/>
              <p:cNvSpPr/>
              <p:nvPr/>
            </p:nvSpPr>
            <p:spPr>
              <a:xfrm>
                <a:off x="2725200" y="2088360"/>
                <a:ext cx="794160" cy="75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94" y="56"/>
                    </a:moveTo>
                    <a:arcTo wR="10800" hR="10800" stAng="-5051033" swAng="2964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94" y="56"/>
                    </a:moveTo>
                    <a:arcTo wR="10800" hR="10800" stAng="-5051033" swAng="296465"/>
                  </a:path>
                </a:pathLst>
              </a:custGeom>
              <a:solidFill>
                <a:srgbClr val="ff00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23400" y="2089080"/>
                <a:ext cx="79776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6" y="190"/>
                    </a:moveTo>
                    <a:arcTo wR="10800" hR="10800" stAng="-4754568" swAng="3190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6" y="190"/>
                    </a:moveTo>
                    <a:arcTo wR="10800" hR="10800" stAng="-4754568" swAng="3190165"/>
                  </a:path>
                </a:pathLst>
              </a:custGeom>
              <a:solidFill>
                <a:srgbClr val="00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21960" y="2089080"/>
                <a:ext cx="800280" cy="75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01" y="6053"/>
                    </a:moveTo>
                    <a:arcTo wR="10800" hR="10800" stAng="-1564403" swAng="5523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01" y="6053"/>
                    </a:moveTo>
                    <a:arcTo wR="10800" hR="10800" stAng="-1564403" swAng="5523770"/>
                  </a:path>
                </a:pathLst>
              </a:custGeom>
              <a:solidFill>
                <a:srgbClr val="0000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2320" y="2089080"/>
                <a:ext cx="79884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95" y="20665"/>
                    </a:moveTo>
                    <a:arcTo wR="10800" hR="10800" stAng="3959367" swAng="12589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95" y="20665"/>
                    </a:moveTo>
                    <a:arcTo wR="10800" hR="10800" stAng="3959367" swAng="12589600"/>
                  </a:path>
                </a:pathLst>
              </a:custGeom>
              <a:solidFill>
                <a:srgbClr val="ff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011560" y="2143080"/>
              <a:ext cx="777960" cy="7333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5087880" y="2349360"/>
              <a:ext cx="566640" cy="109800"/>
              <a:chOff x="5087880" y="2349360"/>
              <a:chExt cx="566640" cy="109800"/>
            </a:xfrm>
          </p:grpSpPr>
          <p:sp>
            <p:nvSpPr>
              <p:cNvPr id="149" name=""/>
              <p:cNvSpPr/>
              <p:nvPr/>
            </p:nvSpPr>
            <p:spPr>
              <a:xfrm>
                <a:off x="5087880" y="2349360"/>
                <a:ext cx="1155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00560" y="234936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25920" y="2349360"/>
                <a:ext cx="11664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14680" y="234936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40400" y="2349360"/>
                <a:ext cx="1141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087880" y="2639880"/>
              <a:ext cx="566640" cy="111240"/>
              <a:chOff x="5087880" y="2639880"/>
              <a:chExt cx="566640" cy="111240"/>
            </a:xfrm>
          </p:grpSpPr>
          <p:sp>
            <p:nvSpPr>
              <p:cNvPr id="155" name=""/>
              <p:cNvSpPr/>
              <p:nvPr/>
            </p:nvSpPr>
            <p:spPr>
              <a:xfrm>
                <a:off x="5087880" y="2639880"/>
                <a:ext cx="11556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00560" y="263988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25920" y="263988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14680" y="263988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40400" y="2639880"/>
                <a:ext cx="11412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308560" y="2236680"/>
              <a:ext cx="1440" cy="631800"/>
            </a:xfrm>
            <a:prstGeom prst="line">
              <a:avLst/>
            </a:prstGeom>
            <a:ln w="73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7600" y="1773360"/>
              <a:ext cx="1668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ortes a sere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efetuados 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245280" y="2131920"/>
              <a:ext cx="774720" cy="730440"/>
              <a:chOff x="6245280" y="2131920"/>
              <a:chExt cx="774720" cy="730440"/>
            </a:xfrm>
          </p:grpSpPr>
          <p:sp>
            <p:nvSpPr>
              <p:cNvPr id="163" name=""/>
              <p:cNvSpPr/>
              <p:nvPr/>
            </p:nvSpPr>
            <p:spPr>
              <a:xfrm>
                <a:off x="6245280" y="2131920"/>
                <a:ext cx="774720" cy="730440"/>
              </a:xfrm>
              <a:prstGeom prst="rect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21960" y="2361600"/>
                <a:ext cx="1137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2120" y="236160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58560" y="236160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45880" y="236160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79520" y="262584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21960" y="2627640"/>
                <a:ext cx="11376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32120" y="2627640"/>
                <a:ext cx="11520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58560" y="262764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45880" y="262764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74120" y="2361600"/>
                <a:ext cx="11628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38520" y="220824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1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8520" y="250272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2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897520" y="2436840"/>
              <a:ext cx="264960" cy="20160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97" y="0"/>
                  </a:moveTo>
                  <a:lnTo>
                    <a:pt x="97" y="39"/>
                  </a:lnTo>
                  <a:lnTo>
                    <a:pt x="0" y="39"/>
                  </a:lnTo>
                  <a:lnTo>
                    <a:pt x="0" y="117"/>
                  </a:lnTo>
                  <a:lnTo>
                    <a:pt x="97" y="117"/>
                  </a:lnTo>
                  <a:lnTo>
                    <a:pt x="97" y="155"/>
                  </a:lnTo>
                  <a:lnTo>
                    <a:pt x="193" y="78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19600" y="1809720"/>
              <a:ext cx="2442960" cy="11476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2680" y="2004840"/>
              <a:ext cx="1347840" cy="941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7170480" y="5800680"/>
              <a:ext cx="46224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108440" y="6407280"/>
            <a:ext cx="3016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http://rico_linden.tripod.com/G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611-F22B-4F92-A15A-F6846933D3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04480" y="1706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sboço do Algoritm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Iníci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ação aleatória de uma população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romosso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Adaptaçã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rificar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objetiv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ada cromossomo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Populaçã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-se uma nova população pela repetição a segu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Seleçã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lecione um par de cromossomos da população de acordo com a adaptação de cada um (os mais bem adaptados  tem maior chance de serem escolhid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oduza dois descendentes (filhos) realizando cruzamento com os cromossomos dos pais. O ponto para a realização do cruzamento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 ser aleató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Mutação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uma certa probabilidade, o descendente  sofre mutação em cada posição no cromossom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Aceitação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loque os descendentes em uma nova população, juntamente com a melhor solução da geração vel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D42-7011-4E67-B667-FFC0B278A1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sboço do Algoritm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Troca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ubstitua a população velha pela n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Teste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 a condição de finalização é satisfeita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 retorne a melhor solução da população at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Adapt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Laço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olte ao pass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ABC-10CC-4C9E-A502-DFE1848EE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 como na natureza, a informação deve ser codificada nos cromossomos (ou genom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produção, que no caso dos GA, é equivalente à reprodução sexuada, se encarregará de fazer com que a população evol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utação cria diversidade, mudando aleatoriamente gens dentro de indivídu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produção e a mutação são aplicadas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divídu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lecionados dentro da pop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971-23D5-44BF-A28C-2605ACBDAD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34560" y="170640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estõ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criar cromossomos e qual tipo de codificação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primeira pergunta que deve ser feita ao resolver um problema com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dificação dependerá fortemente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scolher os pais para a realizaçã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eração de uma população a partir de duas soluções pode causar a perda da melhor solução. O que faz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810720"/>
            <a:ext cx="77151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6FA-61A3-4D1A-8C90-767923213B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34560" y="170640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“Cromossom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pedaço indivisível desta representaçã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presentação cromossomial é completamente arbitr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interessante apenas que algumas regras gerais sejam segu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representação deve ser a mais simples possí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houver soluções proibidas ao problema, então elas não devem ter uma represen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o problema impuser condições de algum tipo, estas devem estar implícitas na represen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971280" y="810720"/>
            <a:ext cx="77151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5D9-3FD1-46C4-BC65-42315756C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14T10:11:23Z</dcterms:modified>
  <cp:revision>58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