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DC1-235E-4F47-A7E4-68B1AC34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9F0-FB29-48D1-B800-1CDB15DB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A57-A7B1-4CAF-B6F2-54443190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7BB-8506-4A6B-8131-ABD28113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312CF-B45B-479C-B163-9FCE91295D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AA92A-1762-4026-A828-B597CB82B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39F8F-BC3E-4119-A894-4284DAD102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84C67-85FE-4610-8643-ADFA2E2282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A37B5-C0F9-4F88-9C48-2EBD6B049A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83903-7290-42F9-9C33-7CF3815332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1D0FA-3234-439A-90C6-69ED1BD66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1E4-95D3-479E-8ADF-2CFFBBF9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D0D01-A794-47D7-BA64-1AE73B0553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3C7BB-2E61-4A2C-A8EE-5B4BB96C61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5ED83-4F1A-4711-9057-D8CFFC8C17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46F6-7530-4F0A-8C6A-4E2579C9C3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5EEED-A32F-4118-B243-9D09BD387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706-BBE6-4A66-8181-6BC9D24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AC3-3A5B-4621-A203-ADC01CF8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019-77B2-47B9-AE24-96A31371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60E-2994-4D51-B82E-5B4343A1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4C1-F067-4A32-BA98-0AE5717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290-348C-4A2C-89CA-5E55F985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79A-A458-40DF-8901-557E2099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050A-F699-4C7D-9CA2-D467707696F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3541-0221-47E1-8F6C-89A543DECDC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sin.unisantos.br/lvcon/experimento?id=6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sin.unisantos.br/lvcon/experimento?id=8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484000" y="2179440"/>
            <a:ext cx="6480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(Parte V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1557360"/>
            <a:ext cx="792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em Feix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ém o controle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do ao invés de somente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eça co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dos gerados aleato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cada passo gera todos os sucessores d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lgum sucessor for o objetivo, ter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não escolhe 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elhores sucessores e repete a 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iferente da busca com reinício aleatório porque 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dos compartilham informações entre 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dos podem rapidamente ficar concentrados em uma pequena região do espaço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scolher ao acas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ucessores melhores do que seus p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C40-6ACF-4F98-86FB-43711FEB58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ões – Algoritmos de Busca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937-0A06-4AA2-AB4B-BB791D0277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1700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ll-Climb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nominado Subida da Monta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um método de busca (local) que utiliza um procedimento de melhora iterativ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terative improveme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tratégia é aplicada a um único pont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olução candidata) no espaço de busca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00F-98B8-4108-88D1-DEA6754575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1628640"/>
            <a:ext cx="756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ll-Climb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ll Climb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Padr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Descri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icialize (aleatoriamente) o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região factível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da iteração um novo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é selecionado aplicando-se uma pequena perturbação no ponto atual, ou seja, selecionando-se um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que esteja na vizinhança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e novo ponto apresenta um melhor valor para a função de avaliação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novo ponto torna-se o ponto a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étodo é concluído quando nenhuma melhoria significativa é alcançada, um número fixo de iterações foi efetuado, ou um objetivo foi ating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40360" y="436572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398-A720-4031-B7EB-E39DCA5C19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1700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ll-Climb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ll-Climb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It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ll-Climb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stocástico (Probabilístico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im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olução para o Problema do Caixeiro Viajante (PC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lsin.unisantos.br/lvcon/experimento?id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88E-1F75-4BBA-B70D-DF7F63836C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ulated Annealing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Têmpera Simu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nominado Recozimento Simulad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“temperatura” fixa T, a probabilidade de ocupação de um estado pior que o atual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decrescendo suficientemente lent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mpre alcança o melhor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valores maiores de T, soluções ruins são permit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próximo de zero, a probabilidade de se escolher soluções ruins dim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determina qual é a variação entre a solução corrente e a próxima 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84720" y="3213000"/>
                <a:ext cx="6494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Δ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CC0-46B9-4BF3-97AA-B6F1710582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ulated Annealing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Têmpera Simu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uma o problema genérico de minimizar uma fun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icialize (aleatoriamente) um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região factível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da iteração um novo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é selecionado aplicando-se uma pequena perturbação ao ponto atual, ou seja, selecionando-se um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que esteja na vizinhança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e a energia de cada uma destas configurações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), e verifique a variação na energia do sistema:           Δ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)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B06-0C52-4065-AE2F-7774038539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484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ulated Annealing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Têmpera Simu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≤ 0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torna-se o ponto atual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←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); senão, a probabilidade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ser aceito como o ponto atual é dada por um caso particular da distribuição de Boltzmann-Gibbs, ou seja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Δ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exp(-Δ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étodo termina quando nenhuma melhoria significativa é alcançada, um número fixo de iterações foi efetuado, ou a temperatur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tingiu seu valor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arâmetr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iniciado com um valor elevado e é lentamente reduzido durante o processo de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lmente implementa-se um decréscimo geométrico par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eqüência de temperaturas e o número de rearranjos dos parâmetros até a chegada a um estado de equilíbrio a cada temperatura é denominad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qü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recoziment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nnealing Schedu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5E1-8630-4E43-9D4D-32C3E6BBF1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ulated Annealing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Têmpera Simu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im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olução para o Problema do Caixeiro Viajante (PC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lsin.unisantos.br/lvcon/experimento?id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7D2-E425-41FF-892A-CAD2DFB1C7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14T02:20:13Z</dcterms:modified>
  <cp:revision>58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