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7FD-2356-4580-9CBD-103FB39F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B32-6CEE-4CA2-A315-1EA4DFE9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C6B-D08A-4D90-905E-F8448BA2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11F-FDB7-4760-BFAF-18704074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5C83B-CF18-4756-B571-C59083053F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FA0A6-2B9D-4A68-81DD-4BB66CF47B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1D031-0F81-4E11-8B64-70411C5E28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D3DAD-798C-4FC2-92A9-A685FCDD24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59B76-C2A7-4BBF-A87B-27DEE19F9C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51500-8F6E-4B42-8F3B-8254F497E5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6ACD0-98DE-41C7-88D9-3B06B87A3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016-79C6-4552-89D5-5303C34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A8A6C-D788-4BEA-BC30-E265819698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8E38-DBCB-455F-A46C-1B69DA924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8FB40-6E34-46F4-ABB7-94A6407307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CCAB-E8C3-4408-8BEB-DFFD30885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F1DE5-4E2B-47FE-9644-3A25BE209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8D1-C4CC-43EF-B569-159021B4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21E-4F7E-45DD-8138-6B88F3D5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6E0-CDDA-4553-845D-6FD70EF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A1A-BDDD-4002-897E-7F18125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B6D-51C1-457E-BC5F-89B4EC5C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48A-5EB3-4297-86C7-4D8CA52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EC9-B1FE-4DFB-A732-49492F6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AAB-CB09-406F-933C-7201C939A17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8EA-2307-477E-9413-EB3024AE0B8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3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557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Têmpera Simu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algoritmo é semelhante à Subida da Encosta, porém oferece meios para se escapar de máximo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: “temperatura” - abaixa com o tempo de execução (com o tempo, fica igual ao Subida da Encos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no início, movimentos “ruins” ocorrem com maior freqüência. Apesar de aumentar o tempo de busca, essa estratégia consegue escapar melhor dos máximo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6151680"/>
            <a:ext cx="7777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êmpe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Em metalurgia é o processo usado para temperar ou endurecer metais e vidro aquecendo-os a alta temperatura e depois esfriando-os gradua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37A-B934-44D9-B91E-58D71D3850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628640"/>
            <a:ext cx="7704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Têmpera Simu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inicialmente de forma extensiva para resolver problemas de layout de VLSI no começo dos anos 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amplamente aplicada ao escalonamento industrial e a outras tarefas de otimização em grande esc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558-30EE-4527-AE6A-E23D2787C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1628640"/>
            <a:ext cx="7705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em Feix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ça com k estados gerados alea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da passo, são gerados todos os sucessores de todos os k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dos sucessores for o objetivo, o algoritmo pára; caso contrário, escolhe os k melhores sucessores a partir da lista 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NÃO corresponde à execução de k reinícios aleatórios em paralel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andom star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ente k estados são considerados como estados atuais na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C0B-515C-458E-8251-69E4B617B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773360"/>
            <a:ext cx="777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dos sucessores são gerados por meio da combinação de dois estados antecessores (pais), em vez de serem gerados pela modificação de um único es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“sucessores” (descendentes) de um “estado” (organismo) ocupam a próxima geração de acordo com o seu “valor” (adaptação o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1C3-E21A-46D0-985D-9B1DC67589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oritmos genét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AG) são um ramo dos algoritmos evolucion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em ser definidos como uma técnica de busca baseada numa metáfora do processo biológico de evolução nat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algoritmos genéticos são técnicas heurísticas de otimização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ão algoritmos de busca baseados nos mecanismos de seleção natural e genétic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A83-B50B-4C00-AFC0-DD4DCDF619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1557360"/>
            <a:ext cx="7921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trabalhar com uma codificação do conjunto de parâmetros ou com os próprios parâ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am com uma população e não com um único p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m informações de custo ou recomp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m regras de transição estocásticas e não determin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E3E-F0C8-4A5A-A9C0-E161EE1283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o problema são representados como genes em um cromosso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gene pode assumir valores específicos, sendo cada um destes valores chamados de alelo do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romossomo representa um indivíduo, sendo composto por uma configuração de al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osição de um gene num cromossomo corresponde a um locus gê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563-D5E7-499F-96A1-18A154F80E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226200" cy="3394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95640" y="1916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256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191628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558972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D6D-90DD-47D8-B436-570B8DE1F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439" t="0" r="7764" b="0"/>
          <a:stretch/>
        </p:blipFill>
        <p:spPr>
          <a:xfrm>
            <a:off x="2050920" y="2276640"/>
            <a:ext cx="5689800" cy="4060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D79-9DB0-4CC5-AE79-B7997706D9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484280"/>
            <a:ext cx="784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cion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icia com um conjunto de k estados gerados aleatoriamen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m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pul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cada estado (o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vídu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é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do como uma cadeia sobre um alfabeto fini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divíduos são avaliados por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itnes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funçã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valiação em A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divíduos selecionados geram novos indivíduos por meio de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uzament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u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ete avaliação/seleção/cruzamento-mutação até que u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víduo seja avaliado como adequado para s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D30-E2E0-47F5-9793-0EFA264FF3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s de Busca Local e Problemas de Otim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152-5B90-4FD0-9627-564F8A1C11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34960" y="1628640"/>
            <a:ext cx="7313400" cy="4896000"/>
            <a:chOff x="1434960" y="1628640"/>
            <a:chExt cx="7313400" cy="4896000"/>
          </a:xfrm>
        </p:grpSpPr>
        <p:sp>
          <p:nvSpPr>
            <p:cNvPr id="169" name=""/>
            <p:cNvSpPr/>
            <p:nvPr/>
          </p:nvSpPr>
          <p:spPr>
            <a:xfrm>
              <a:off x="2491920" y="2842920"/>
              <a:ext cx="18723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ção:  escolhe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íduos que participar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processo reprodutó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4960" y="3474720"/>
              <a:ext cx="2571480" cy="889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3490560"/>
              <a:ext cx="2374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licamos a funçã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a cada um dos indivíduos desta ger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28760" y="2396160"/>
              <a:ext cx="834840" cy="2156040"/>
              <a:chOff x="2228760" y="2396160"/>
              <a:chExt cx="834840" cy="21560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28760" y="2396160"/>
                <a:ext cx="834840" cy="215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809" swAng="36694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809" swAng="3669489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36040" y="23983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227" h="194">
                    <a:moveTo>
                      <a:pt x="227" y="0"/>
                    </a:moveTo>
                    <a:lnTo>
                      <a:pt x="0" y="85"/>
                    </a:lnTo>
                    <a:lnTo>
                      <a:pt x="82" y="19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735080" y="2841480"/>
              <a:ext cx="2791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genéticos: Aplica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de recombinação e mut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s indivíduos escolhidos para “pai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968640" y="2298600"/>
              <a:ext cx="934560" cy="174600"/>
              <a:chOff x="3968640" y="2298600"/>
              <a:chExt cx="934560" cy="174600"/>
            </a:xfrm>
          </p:grpSpPr>
          <p:sp>
            <p:nvSpPr>
              <p:cNvPr id="177" name=""/>
              <p:cNvSpPr/>
              <p:nvPr/>
            </p:nvSpPr>
            <p:spPr>
              <a:xfrm>
                <a:off x="3968640" y="2385360"/>
                <a:ext cx="70020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91280" y="2298600"/>
                <a:ext cx="511920" cy="174600"/>
              </a:xfrm>
              <a:custGeom>
                <a:avLst/>
                <a:gdLst/>
                <a:ahLst/>
                <a:rect l="l" t="t" r="r" b="b"/>
                <a:pathLst>
                  <a:path w="373" h="135">
                    <a:moveTo>
                      <a:pt x="373" y="69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373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767040" y="4036680"/>
              <a:ext cx="2458800" cy="1630440"/>
            </a:xfrm>
            <a:custGeom>
              <a:avLst/>
              <a:gdLst/>
              <a:ahLst/>
              <a:rect l="l" t="t" r="r" b="b"/>
              <a:pathLst>
                <a:path w="1590" h="1050">
                  <a:moveTo>
                    <a:pt x="795" y="0"/>
                  </a:moveTo>
                  <a:lnTo>
                    <a:pt x="0" y="525"/>
                  </a:lnTo>
                  <a:lnTo>
                    <a:pt x="795" y="1050"/>
                  </a:lnTo>
                  <a:lnTo>
                    <a:pt x="1590" y="525"/>
                  </a:lnTo>
                  <a:lnTo>
                    <a:pt x="795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2760" y="4519440"/>
              <a:ext cx="15735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isfizemos o critéri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parada ? (por nº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ões ou por qu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dade das soluçõe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666160" y="3598560"/>
              <a:ext cx="2149920" cy="1247400"/>
              <a:chOff x="2666160" y="3598560"/>
              <a:chExt cx="2149920" cy="1247400"/>
            </a:xfrm>
          </p:grpSpPr>
          <p:sp>
            <p:nvSpPr>
              <p:cNvPr id="182" name=""/>
              <p:cNvSpPr/>
              <p:nvPr/>
            </p:nvSpPr>
            <p:spPr>
              <a:xfrm>
                <a:off x="2666160" y="3598560"/>
                <a:ext cx="2149920" cy="124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12" y="21600"/>
                    </a:moveTo>
                    <a:arcTo wR="10800" hR="10800" stAng="5396252" swAng="4051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12" y="21600"/>
                    </a:moveTo>
                    <a:arcTo wR="10800" hR="10800" stAng="5396252" swAng="4051165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68320" y="4225680"/>
                <a:ext cx="203760" cy="371880"/>
              </a:xfrm>
              <a:custGeom>
                <a:avLst/>
                <a:gdLst/>
                <a:ahLst/>
                <a:rect l="l" t="t" r="r" b="b"/>
                <a:pathLst>
                  <a:path w="173" h="322">
                    <a:moveTo>
                      <a:pt x="0" y="0"/>
                    </a:moveTo>
                    <a:lnTo>
                      <a:pt x="76" y="322"/>
                    </a:lnTo>
                    <a:lnTo>
                      <a:pt x="173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195360" y="45352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6720" y="634176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889160" y="5675040"/>
              <a:ext cx="227160" cy="541440"/>
              <a:chOff x="4889160" y="5675040"/>
              <a:chExt cx="227160" cy="541440"/>
            </a:xfrm>
          </p:grpSpPr>
          <p:sp>
            <p:nvSpPr>
              <p:cNvPr id="187" name=""/>
              <p:cNvSpPr/>
              <p:nvPr/>
            </p:nvSpPr>
            <p:spPr>
              <a:xfrm>
                <a:off x="5006880" y="5675040"/>
                <a:ext cx="1080" cy="332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89160" y="5770440"/>
                <a:ext cx="227160" cy="446040"/>
              </a:xfrm>
              <a:custGeom>
                <a:avLst/>
                <a:gdLst/>
                <a:ahLst/>
                <a:rect l="l" t="t" r="r" b="b"/>
                <a:pathLst>
                  <a:path w="166" h="393">
                    <a:moveTo>
                      <a:pt x="85" y="393"/>
                    </a:moveTo>
                    <a:lnTo>
                      <a:pt x="166" y="0"/>
                    </a:lnTo>
                    <a:lnTo>
                      <a:pt x="0" y="0"/>
                    </a:lnTo>
                    <a:lnTo>
                      <a:pt x="85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5184000" y="58244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54320" y="3474720"/>
              <a:ext cx="2837160" cy="8510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51240" y="3538440"/>
              <a:ext cx="26971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ódulo de população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imos a nova população a part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 geração existente e dos fil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034400" y="2395440"/>
              <a:ext cx="713520" cy="2154600"/>
              <a:chOff x="7034400" y="2395440"/>
              <a:chExt cx="713520" cy="2154600"/>
            </a:xfrm>
          </p:grpSpPr>
          <p:sp>
            <p:nvSpPr>
              <p:cNvPr id="193" name=""/>
              <p:cNvSpPr/>
              <p:nvPr/>
            </p:nvSpPr>
            <p:spPr>
              <a:xfrm>
                <a:off x="7034400" y="2395440"/>
                <a:ext cx="642960" cy="21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8" y="0"/>
                    </a:moveTo>
                    <a:arcTo wR="10800" hR="10800" stAng="-5429243" swAng="4283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8" y="0"/>
                    </a:moveTo>
                    <a:arcTo wR="10800" hR="10800" stAng="-5429243" swAng="4283664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60720" y="3112200"/>
                <a:ext cx="187200" cy="362160"/>
              </a:xfrm>
              <a:custGeom>
                <a:avLst/>
                <a:gdLst/>
                <a:ahLst/>
                <a:rect l="l" t="t" r="r" b="b"/>
                <a:pathLst>
                  <a:path w="136" h="244">
                    <a:moveTo>
                      <a:pt x="82" y="244"/>
                    </a:moveTo>
                    <a:lnTo>
                      <a:pt x="136" y="0"/>
                    </a:lnTo>
                    <a:lnTo>
                      <a:pt x="0" y="9"/>
                    </a:lnTo>
                    <a:lnTo>
                      <a:pt x="82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33760" y="4311360"/>
              <a:ext cx="963720" cy="612360"/>
              <a:chOff x="6233760" y="4311360"/>
              <a:chExt cx="963720" cy="61236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7960" y="4311360"/>
                <a:ext cx="749520" cy="578880"/>
              </a:xfrm>
              <a:custGeom>
                <a:avLst/>
                <a:gdLst/>
                <a:ahLst/>
                <a:rect l="l" t="t" r="r" b="b"/>
                <a:pathLst>
                  <a:path w="626" h="568">
                    <a:moveTo>
                      <a:pt x="0" y="568"/>
                    </a:moveTo>
                    <a:lnTo>
                      <a:pt x="46" y="557"/>
                    </a:lnTo>
                    <a:lnTo>
                      <a:pt x="93" y="537"/>
                    </a:lnTo>
                    <a:lnTo>
                      <a:pt x="142" y="515"/>
                    </a:lnTo>
                    <a:lnTo>
                      <a:pt x="192" y="484"/>
                    </a:lnTo>
                    <a:lnTo>
                      <a:pt x="243" y="448"/>
                    </a:lnTo>
                    <a:lnTo>
                      <a:pt x="295" y="412"/>
                    </a:lnTo>
                    <a:lnTo>
                      <a:pt x="339" y="368"/>
                    </a:lnTo>
                    <a:lnTo>
                      <a:pt x="391" y="320"/>
                    </a:lnTo>
                    <a:lnTo>
                      <a:pt x="438" y="267"/>
                    </a:lnTo>
                    <a:lnTo>
                      <a:pt x="485" y="210"/>
                    </a:lnTo>
                    <a:lnTo>
                      <a:pt x="533" y="152"/>
                    </a:lnTo>
                    <a:lnTo>
                      <a:pt x="574" y="89"/>
                    </a:lnTo>
                    <a:lnTo>
                      <a:pt x="613" y="25"/>
                    </a:lnTo>
                    <a:lnTo>
                      <a:pt x="6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33760" y="4785120"/>
                <a:ext cx="296640" cy="138600"/>
              </a:xfrm>
              <a:custGeom>
                <a:avLst/>
                <a:gdLst/>
                <a:ahLst/>
                <a:rect l="l" t="t" r="r" b="b"/>
                <a:pathLst>
                  <a:path w="248" h="136">
                    <a:moveTo>
                      <a:pt x="0" y="72"/>
                    </a:moveTo>
                    <a:lnTo>
                      <a:pt x="248" y="136"/>
                    </a:lnTo>
                    <a:lnTo>
                      <a:pt x="243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233040" y="5033880"/>
              <a:ext cx="10720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hos ger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vivem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ão copi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 seus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441920" y="4313160"/>
              <a:ext cx="185760" cy="1325160"/>
              <a:chOff x="7441920" y="4313160"/>
              <a:chExt cx="185760" cy="1325160"/>
            </a:xfrm>
          </p:grpSpPr>
          <p:sp>
            <p:nvSpPr>
              <p:cNvPr id="200" name=""/>
              <p:cNvSpPr/>
              <p:nvPr/>
            </p:nvSpPr>
            <p:spPr>
              <a:xfrm>
                <a:off x="7534800" y="4313160"/>
                <a:ext cx="1440" cy="11876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41920" y="5336280"/>
                <a:ext cx="185760" cy="302040"/>
              </a:xfrm>
              <a:custGeom>
                <a:avLst/>
                <a:gdLst/>
                <a:ahLst/>
                <a:rect l="l" t="t" r="r" b="b"/>
                <a:pathLst>
                  <a:path w="136" h="233">
                    <a:moveTo>
                      <a:pt x="68" y="23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68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563600" y="4784400"/>
              <a:ext cx="109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 a antig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ão de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898000" y="1943640"/>
              <a:ext cx="800280" cy="751320"/>
              <a:chOff x="2898000" y="1943640"/>
              <a:chExt cx="800280" cy="751320"/>
            </a:xfrm>
          </p:grpSpPr>
          <p:sp>
            <p:nvSpPr>
              <p:cNvPr id="204" name=""/>
              <p:cNvSpPr/>
              <p:nvPr/>
            </p:nvSpPr>
            <p:spPr>
              <a:xfrm>
                <a:off x="2901240" y="1943640"/>
                <a:ext cx="794160" cy="75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94" y="56"/>
                    </a:moveTo>
                    <a:arcTo wR="10800" hR="10800" stAng="-5051033" swAng="296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94" y="56"/>
                    </a:moveTo>
                    <a:arcTo wR="10800" hR="10800" stAng="-5051033" swAng="296465"/>
                  </a:path>
                </a:pathLst>
              </a:custGeom>
              <a:solidFill>
                <a:srgbClr val="ff00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9440" y="1944360"/>
                <a:ext cx="79776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6" y="190"/>
                    </a:moveTo>
                    <a:arcTo wR="10800" hR="10800" stAng="-4754568" swAng="3190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6" y="190"/>
                    </a:moveTo>
                    <a:arcTo wR="10800" hR="10800" stAng="-4754568" swAng="3190165"/>
                  </a:path>
                </a:pathLst>
              </a:custGeom>
              <a:solidFill>
                <a:srgbClr val="00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98000" y="1944360"/>
                <a:ext cx="800280" cy="7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1" y="6053"/>
                    </a:moveTo>
                    <a:arcTo wR="10800" hR="10800" stAng="-1564403" swAng="5523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1" y="6053"/>
                    </a:moveTo>
                    <a:arcTo wR="10800" hR="10800" stAng="-1564403" swAng="5523770"/>
                  </a:path>
                </a:pathLst>
              </a:custGeom>
              <a:solidFill>
                <a:srgbClr val="0000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98360" y="1944360"/>
                <a:ext cx="79884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95" y="20665"/>
                    </a:moveTo>
                    <a:arcTo wR="10800" hR="10800" stAng="3959367" swAng="12589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95" y="20665"/>
                    </a:moveTo>
                    <a:arcTo wR="10800" hR="10800" stAng="3959367" swAng="12589600"/>
                  </a:path>
                </a:pathLst>
              </a:custGeom>
              <a:solidFill>
                <a:srgbClr val="ff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187600" y="1998360"/>
              <a:ext cx="777960" cy="733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263920" y="2204640"/>
              <a:ext cx="566640" cy="109800"/>
              <a:chOff x="5263920" y="2204640"/>
              <a:chExt cx="566640" cy="109800"/>
            </a:xfrm>
          </p:grpSpPr>
          <p:sp>
            <p:nvSpPr>
              <p:cNvPr id="210" name=""/>
              <p:cNvSpPr/>
              <p:nvPr/>
            </p:nvSpPr>
            <p:spPr>
              <a:xfrm>
                <a:off x="5263920" y="2204640"/>
                <a:ext cx="1155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76600" y="220464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01960" y="2204640"/>
                <a:ext cx="11664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90720" y="220464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16440" y="2204640"/>
                <a:ext cx="1141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5263920" y="2495160"/>
              <a:ext cx="566640" cy="111240"/>
              <a:chOff x="5263920" y="2495160"/>
              <a:chExt cx="566640" cy="111240"/>
            </a:xfrm>
          </p:grpSpPr>
          <p:sp>
            <p:nvSpPr>
              <p:cNvPr id="216" name=""/>
              <p:cNvSpPr/>
              <p:nvPr/>
            </p:nvSpPr>
            <p:spPr>
              <a:xfrm>
                <a:off x="5263920" y="2495160"/>
                <a:ext cx="11556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76600" y="249516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01960" y="249516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90720" y="249516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16440" y="2495160"/>
                <a:ext cx="11412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484600" y="2091960"/>
              <a:ext cx="1440" cy="631800"/>
            </a:xfrm>
            <a:prstGeom prst="line">
              <a:avLst/>
            </a:prstGeom>
            <a:ln w="73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3640" y="1628640"/>
              <a:ext cx="1668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ortes a ser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fetuados 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6421320" y="1987200"/>
              <a:ext cx="774720" cy="730440"/>
              <a:chOff x="6421320" y="1987200"/>
              <a:chExt cx="774720" cy="730440"/>
            </a:xfrm>
          </p:grpSpPr>
          <p:sp>
            <p:nvSpPr>
              <p:cNvPr id="224" name=""/>
              <p:cNvSpPr/>
              <p:nvPr/>
            </p:nvSpPr>
            <p:spPr>
              <a:xfrm>
                <a:off x="6421320" y="1987200"/>
                <a:ext cx="774720" cy="730440"/>
              </a:xfrm>
              <a:prstGeom prst="rect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98000" y="2216880"/>
                <a:ext cx="1137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608160" y="221688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34600" y="221688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21920" y="221688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55560" y="248112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98000" y="2482920"/>
                <a:ext cx="11376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08160" y="2482920"/>
                <a:ext cx="11520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34600" y="248292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21920" y="248292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216880"/>
                <a:ext cx="11628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4560" y="206352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1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14560" y="235800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2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073560" y="2292120"/>
              <a:ext cx="264960" cy="20160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97" y="0"/>
                  </a:moveTo>
                  <a:lnTo>
                    <a:pt x="97" y="39"/>
                  </a:lnTo>
                  <a:lnTo>
                    <a:pt x="0" y="39"/>
                  </a:lnTo>
                  <a:lnTo>
                    <a:pt x="0" y="117"/>
                  </a:lnTo>
                  <a:lnTo>
                    <a:pt x="97" y="117"/>
                  </a:lnTo>
                  <a:lnTo>
                    <a:pt x="97" y="155"/>
                  </a:lnTo>
                  <a:lnTo>
                    <a:pt x="193" y="78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95640" y="1665000"/>
              <a:ext cx="2442960" cy="11476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8720" y="1860120"/>
              <a:ext cx="1347840" cy="941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7346520" y="5655960"/>
              <a:ext cx="46224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1284840" y="6262560"/>
            <a:ext cx="3016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http://rico_linden.tripod.com/G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752-2850-4BAB-9A70-0E326F08C6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estõ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criar cromossomos e qual tipo de codificação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primeira pergunta que deve ser feita ao resolver um problema com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dificação dependerá fortemente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scolher os pais para a realizaçã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eração de uma população a partir de duas soluções pode causar a perda da melhor solução. O que faz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654-BF07-4751-9C30-2C4AAC6016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l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incípio básico do funcionamento dos AG é que um critério de seleção vai fazer com que, depois de muitas gerações, o conjunto inicial de indivíduos gere indivíduos mais ap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699-6F00-46F6-AD31-BACE220ED5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49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l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função objetivo como avaliação de aptid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ptidão pode ser vista como uma nota que mede o quão boa é a solução codificada por um indiví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ada, normalmente, no valor da função-objetivo, específica para cada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n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stragem Universal Estoc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58B-9F63-4BF1-BDCD-08464F8098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 - R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dão usada para definir fa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leatório para selecionar cromoss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repetido até gerar 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ídu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92360" y="4110120"/>
            <a:ext cx="4751640" cy="23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A94-EBA7-4941-A038-D78ECC5D11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 - Torn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lha aleatória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í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função de aptidão para escolher o mel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repetido até gerar 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ídu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CEF-2BF8-4C66-819B-5FAB2BA571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 - Amostr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a roleta 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ulhas igualmente espaç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ta é girada uma únic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FE1-2154-49D8-98BF-C79A703DD6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mbinação (cruz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dois ou mais indivíduos (n:1):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) =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neira com que é feito depende da representação dos indivídu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n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Comp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rescenta indivíduos à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4DD-349B-40FC-B4D8-B0B5A7432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combinação (exempl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2708280"/>
            <a:ext cx="858960" cy="267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6320" y="2766960"/>
            <a:ext cx="1287360" cy="267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9080" y="38149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3800" y="381492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19040" y="3000240"/>
            <a:ext cx="2213280" cy="2089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897360" y="3000240"/>
            <a:ext cx="2151000" cy="2095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534000" y="3057480"/>
            <a:ext cx="2186280" cy="20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B47-CE9C-4B38-BA8B-18CA9B5338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e na relação de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neira com que é feito depende da representação dos indivídu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n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Comp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feta o tamanh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F99-8AD6-4CE7-9DB6-B6980F18DC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estud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nteresse consistia em, a partir de um estado inicial, buscar sistematicamente uma seqüência de ações que levem ao estado-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 = caminho ao estado-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vários problemas, a própria descrição de estado contém toda informação relevante para a solução e o caminho ao estado-objetivo não interes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: problema das 8 rainhas, projeto de circuitos integrados, escalonamento, problemas de roteamento, de otimização de redes de telecomunicação, etc.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roblemas de otim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A47-9358-4B60-9D24-89BA05645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utação (exempl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403280" y="2637000"/>
            <a:ext cx="7049880" cy="3330360"/>
            <a:chOff x="1403280" y="2637000"/>
            <a:chExt cx="7049880" cy="333036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1403280" y="2637000"/>
              <a:ext cx="3228480" cy="33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5090040" y="2637000"/>
              <a:ext cx="3363120" cy="33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3946320" y="4109400"/>
              <a:ext cx="4384800" cy="1781280"/>
              <a:chOff x="3946320" y="4109400"/>
              <a:chExt cx="4384800" cy="1781280"/>
            </a:xfrm>
          </p:grpSpPr>
          <p:sp>
            <p:nvSpPr>
              <p:cNvPr id="274" name=""/>
              <p:cNvSpPr/>
              <p:nvPr/>
            </p:nvSpPr>
            <p:spPr>
              <a:xfrm>
                <a:off x="4645440" y="4109400"/>
                <a:ext cx="4442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46320" y="4845600"/>
                <a:ext cx="699120" cy="67536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00" y="5215320"/>
                <a:ext cx="699120" cy="67536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291-EBB4-41EE-8DEA-51E43A6A89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zamento de pais para gerar dois fil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o Ú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s Po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7AF-34B4-48EE-8192-95C269B686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 – Pon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3744720" cy="292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3500" t="0" r="6532" b="15098"/>
          <a:stretch/>
        </p:blipFill>
        <p:spPr>
          <a:xfrm>
            <a:off x="5110200" y="1484280"/>
            <a:ext cx="403380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8B2-C4FD-463A-ABE6-83A8877240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 – Dois P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5688000" cy="27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467-05B3-4C96-BCB5-260CC162CE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 – Multip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6408720" cy="30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5A8-9BF5-4A77-8E9F-048152E99A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nça aleatória de 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tivamente inferior a de cruz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2808360" cy="12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DC0-196F-42AE-8246-8F0C51BAF9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 Codificação Biná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mais comum devido a sua simpl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bits – 0 o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A = 1 0 1 1 0 0 1 0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B = 1 1 1 1 1 1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a moch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lista de coisas com preços e tamanhos. É fornecido o valor da capacidade da mochila. Escolha as coisas de forma a maximizar o valor daquilo que cabe dentro da mochila, sem ultrapassar sua capa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bit é usado para dizer se a coisa correspondente está ou não na moch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FA9-6231-4AFC-BBD2-6145E7F721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 Codificação por per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usado em problemas de orde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números que representa uma posição numa 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 5  3  2  6  4  7  9  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B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 5  6  7  2  3  1  4  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o caixeiro via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dadas cidades e as distâncias entre elas. O caixeiro viajante tem que visitar todas elas, sem viajar mais do que o necessário. A solução do problema consiste em encontrar a seqüência de cidades em que as viagens devem ser feitas de forma que a distância percorrida seja a mínima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s cromossomos descrevem a ordem em que o caixeiro irá visitar as 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DAB-3AD8-4A3D-8616-07BCE6458F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715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 Codificação p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em problemas nos quais valores mais complicados são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seqüência de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A: 1.2324 5.3243 0.4556 2.3293 2.45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B: ABDJEIFJDHDIERJFDLDFLFEG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C: (back), (back), (right), (forward), (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ada uma estrutura, encontrar pesos para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rede neural com arquitetura definida. Encontre os pesos entre os neurônios da rede de forma a obter a resposta desejada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es reais num cromossomo representam pesos em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7CB-C2C9-459A-90CB-ECEDF9553F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a maneira utilizada pelos AG para determinar a qualidade de um indivíduo como solução do problema  em quest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nota dada ao indivíduo na resolução do probl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a a generalidade dos AG, a função de avaliação, em muitos casos, é a única ligação verdadeira do programa com o problem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37D-746B-4D75-8746-AF6793EB63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Local (ou de melhoria iter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 em um único estado e move-se para a vizinhança deste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começar com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 inicia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onfiguração completa, solução aceitável), e melhorá-lo itera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a pouquíssima memór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eqüentemente, pode encontrar soluções razoáveis em grandes ou infinitos espaços (contínuos) de estados para os quais os algoritmos sistemáticos são inadequ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E6E-C3AA-40CA-870E-E06765520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7280" y="184464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âmetr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anh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cruz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o de g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ual de renovação da pop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EDB-3490-4936-85D1-B6ED603F6E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87280" y="184464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âmetr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ério de pa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g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ência da função de aptidão na pop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melhoria da aptidão do melhor indivíduo após um número de g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B37-511D-4858-B010-8B52741BEF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87280" y="184464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e um AG para encontrar o ponto máximo da fu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jeito às seguintes restr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00720" y="2319480"/>
            <a:ext cx="1584000" cy="717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948360" y="2997360"/>
            <a:ext cx="1511280" cy="866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987640" y="3808440"/>
            <a:ext cx="3168720" cy="30495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B54-2328-44D7-AEF9-54CCC960F6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42920" y="170028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mossomos binários com 5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= 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1 = 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tid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problema a aptidão pode ser a própria função 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Aptidão(00011) = f(3)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D1A-68DF-410C-8448-7789E1D828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5373720"/>
            <a:ext cx="6769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pulação inicial é aleatória (mas quando possível, o conhecimento da aplicação pode ser utilizado para definir população inic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76360" y="1916280"/>
            <a:ext cx="6337440" cy="2706480"/>
            <a:chOff x="1476360" y="1916280"/>
            <a:chExt cx="6337440" cy="27064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rcRect l="0" t="2574" r="0" b="0"/>
            <a:stretch/>
          </p:blipFill>
          <p:spPr>
            <a:xfrm>
              <a:off x="1476360" y="1916280"/>
              <a:ext cx="6337440" cy="27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979640" y="3860640"/>
              <a:ext cx="273528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robabilidade de sele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roporcional à aptid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CF3-E5F4-459B-8E8F-67223C17EE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80000" cy="3263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797-45BD-4305-BD15-1D62ADF0BD1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7129440" cy="33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3F4-1258-46DD-98BB-727EF6C4C27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616720" cy="27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3C8-9AE6-4B6A-8E5A-E872CAAF7ED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1600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lemento que tenha maior aptidão do que outro tem também maior probabilidade de ser sele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da impede que seja selecionado o pior, perdendo-se assim talvez o melhor elemento da população, que poderia levar a uma convergência mais ráp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tentar minimizar este possível problema, elitismo pode ser adicionado à sel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centual de indivíduos com melhor aptidão é mantido na nova g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033-D501-49AA-9F8F-B22A135A4EF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0" r="7620" b="0"/>
          <a:stretch/>
        </p:blipFill>
        <p:spPr>
          <a:xfrm>
            <a:off x="1476360" y="2205000"/>
            <a:ext cx="6985080" cy="31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EB0-9732-48B4-B121-88510C19BB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2920" y="1989000"/>
            <a:ext cx="7932960" cy="4369680"/>
            <a:chOff x="1042920" y="1989000"/>
            <a:chExt cx="7932960" cy="4369680"/>
          </a:xfrm>
        </p:grpSpPr>
        <p:grpSp>
          <p:nvGrpSpPr>
            <p:cNvPr id="111" name=""/>
            <p:cNvGrpSpPr/>
            <p:nvPr/>
          </p:nvGrpSpPr>
          <p:grpSpPr>
            <a:xfrm>
              <a:off x="1042920" y="1989000"/>
              <a:ext cx="7932960" cy="4329360"/>
              <a:chOff x="1042920" y="1989000"/>
              <a:chExt cx="7932960" cy="432936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6600" y="2421000"/>
                <a:ext cx="7313400" cy="35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532720" y="5950080"/>
                <a:ext cx="44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42920" y="2276640"/>
                <a:ext cx="59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f(x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64000" y="1989000"/>
                <a:ext cx="277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Máximo glob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44880" y="3338640"/>
                <a:ext cx="107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Planíci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87840" y="3459240"/>
                <a:ext cx="1576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Máximo 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7200" y="3789360"/>
                <a:ext cx="159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Máximo local (plan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49600" y="3700440"/>
                <a:ext cx="189000" cy="301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784680" y="2435400"/>
                <a:ext cx="504720" cy="422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802120" y="3821040"/>
                <a:ext cx="252360" cy="181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125840" y="4481640"/>
                <a:ext cx="505080" cy="301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859280" y="4746600"/>
              <a:ext cx="216000" cy="1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075280" y="4508640"/>
              <a:ext cx="36036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2360" y="602136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estado corr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03640" y="49417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18C-67CC-48A3-BC58-8F2A44CB9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42920" y="1773360"/>
            <a:ext cx="7921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pectos Pr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plementação prática de um AG requer atenção para várias quest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scolha da Função de Avaliação/Aptid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Problemas de conv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Escolha da Técnica de Sel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Lacuna entre geraçõ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neration g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B32-4E66-4FFA-BB18-048336BF9F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71640" y="1773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 são técnicas probabilísticas, e não técnicas determinís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ndo um AG com a mesma população inicial e o mesmo conjunto de parâmetros é possível encontrar soluções diferentes a cada vez que se executa o progra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A06-8AC8-413A-BD7A-DEEC3FC67F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2560" y="2349360"/>
            <a:ext cx="7715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combinação eleva a qualidade da busca, pois oferece uma maior diversidade para a população de indivíd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D9C-F835-433D-92D5-C6DC297B22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não são métodos de "hill climbing", logo  não ficarão estagnados simplesmente pelo fato de terem encontrado um máximo lo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s se parecem com a evolução natural, que só porque encontrou um indivíduo que é instantaneamente o melhor de um certo grupo não deixa de “procurar” outros indivíduos ainda melh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evolução natural isto também decorre proveniente de circunstâncias que mudam de um momento para ou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3DD-9691-4876-9FBF-067502A2B97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A93-1998-4629-9212-B1C7D44F5F7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557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Busc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 (ou Busca Local Gul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ó faz modificações que melhoram o estado a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êmpera Simu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fazer modificações que pioram o estado no momento, para possivelmente melhorá-lo no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Busca em feix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 k estados em vez de um ú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s Genéticos (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busca subida pela encosta, estocástica, na qual uma grande população de estados é mantida e novos estados são gerados por mutação e/ou cruz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194-A264-4432-BE50-8515526CC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55736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goritmo procura o pico onde nenhum vizinho tem valor mais al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7493040" cy="302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61040" y="5416560"/>
            <a:ext cx="215640" cy="21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48320" y="5056200"/>
            <a:ext cx="358560" cy="28728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9040" y="4768920"/>
            <a:ext cx="215640" cy="21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975-D4BA-48D2-80A8-7A427E5A17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557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amina antecipadamente valores de estados além dos vizinhos imediatos do estado cor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ntém uma árvore de bus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uarda apenas o estado atual e sua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simplesmente um ciclo que move o estado (solução) na direção crescente da função de avaliação (muda o estado para o melhor vizin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o tentar alcançar o cume do Monte Everest em meio a um nevoeiro denso durante uma crise de amné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A2F-D57A-4381-BC2D-FF5B7B754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773360"/>
            <a:ext cx="8172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 tipos de problemas que podem ser acarre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Máximo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Planícies (platô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Encostas e picos (“coste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7129440" cy="15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756-1C9E-4010-A34D-97F02D6020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10-23T09:54:46Z</dcterms:modified>
  <cp:revision>56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