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A76-1486-4877-9F20-1B5AEC2F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A7F-E6B8-4F63-856B-378EE41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680-C586-4398-A0C7-E2156CA4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F5F-95A2-4513-8486-A2C25B3B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DAE3-EB57-4053-BBE5-F6D36CD97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6217-5105-4BB0-A5C0-FC32DC051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5A88-F545-4D32-B945-720F9E6B4C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82E1E-EA48-4CC9-9A1B-96FD5B773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9A53-76EF-4CF0-867E-C684D50AFF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81B5D-9D86-4D14-8431-E17096B71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3EC55-367F-469A-8FA9-E64B2B91F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F0F-3D35-4744-9D1C-01D6A0E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E51B-3903-4040-83D1-CEC932F41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8F38-DD25-43FD-9C26-68FC14E50D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E2D2-F2CC-42D3-83BE-89DA4C24F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4739-AC6D-4F84-8BD3-0B4CDEF531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A9A1-936D-4330-BE44-0CA7B56F2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983-521B-4BBE-86F2-FCC87770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F47-B3F8-4EB8-90BF-480F323A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B28-E51F-493F-B9B6-553EB87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3A5-C224-4BA4-8BB9-B4BEA00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918-47B0-4A13-9BDC-768016B1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44C-653F-4EBE-9625-42BE11B3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918-97F3-4F3E-99BF-734C0DD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B5C-6225-4657-9593-0B59EED67A2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2EE-941A-4EF0-8C7C-07B87A897BD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sempre melhor utilizar uma função heurística com valores mais altos, desde que ela sej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que o tempo para computá-la não seja muito gran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 qu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nterior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in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sso pode ser traduzido na for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heurística 2 é melhor que a heurística 1, pois terá um menor fator de ramificação. Desde que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superestimem o cust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76360" y="4052880"/>
                <a:ext cx="5041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omina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314-1069-40DA-A24E-4D11C6A391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existam muitas funções heurísticas para o mesmo problema, e nenhuma delas domine as outras, usa-se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eurística compost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…,h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412-ECE1-4A88-A267-C2DC92FFE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 de estratégias genéricas para definir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Relaxar o problema (versão simplificad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Usar informação estatís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) Identificar os atributos relevantes do problema e usar aprendiz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3F2-0162-4337-89DC-97D1DC99D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gos simples, como o jogo-dos-8, são veículos ideais para explorar o projeto e o comportamento de algoritmos de busca heurística por várias raz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2708280"/>
            <a:ext cx="7921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paços de busca são grandes o suficiente para requererem poda heurís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ioria dos jogos é suficientemente complexa para sugerir uma rica variedade de avaliações heurísticas para comparação e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jogos geralmente não envolvem questões representacionais comple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todos os nós do espaço de estados têm uma representação comum, pode-se aplicar uma heurística única para todo o espaç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3C8-DFE4-4046-86AA-4F26F0CF8E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921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mais realistas complicam bastante a implementação e a análise da busca heurística, requerendo heurísticas múltip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ntendimento ganho de jogos simples pode ser generalizado para problemas como aqueles encontrados em sistemas especialistas, planejamento, controle inteligente e aprendizado. Porém, uma heurística simples não pode ser aplicada a todos os estados nestes domín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B6B-6219-4C1F-AADA-62D27DACF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 Heur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escolher uma boa função heurístic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002-4614-41F4-8A7D-E97E4221D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77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o escolher uma boa função heurística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pende de cada problema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 se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mis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superestimar o custo real d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jogo dos 8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número pode mover-se de A para B se A é adjacente a B e B está v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sca exaus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média em 22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tor de ramificação médio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ados poss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9!/2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ando os estados repe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48360" y="5013360"/>
          <a:ext cx="1368720" cy="1366920"/>
        </p:xfrm>
        <a:graphic>
          <a:graphicData uri="http://schemas.openxmlformats.org/drawingml/2006/table">
            <a:tbl>
              <a:tblPr/>
              <a:tblGrid>
                <a:gridCol w="456480"/>
                <a:gridCol w="455040"/>
                <a:gridCol w="45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F9B-4DE3-4CB1-B9CB-C09ED9B32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903480"/>
            <a:ext cx="82436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mas heurísticas possíve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lementos em posições er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soma das distâncias de cada elemento à posição final - objetiv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ity block di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nhattan dist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6609" r="0" b="1828"/>
          <a:stretch/>
        </p:blipFill>
        <p:spPr>
          <a:xfrm>
            <a:off x="1692360" y="1557360"/>
            <a:ext cx="4895640" cy="230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4869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=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77320" y="6165720"/>
            <a:ext cx="408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pt-BR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= 3+1+2+2+2+3+3+2=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1628640"/>
            <a:ext cx="21607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Distância de Manhattan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: distância pombalina, distância de quarteirões ou distância de táxi. Recebeu o nome pois define a menor distância possível que um carro é capaz de percorrer numa malha urbana reticulada ortogonal, como se encontram em zonas como Manhattan ou a Baixa Pomba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133-DD00-4C6B-B59E-FAA12D770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paço de estados gerado é menor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acha mais rapidamente a sol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5545080" cy="23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334-5874-42E7-BEA8-5070A36BB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28083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 de estados gerado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ara cada estado está indicado entre parênteses o valor da função heuríst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42920" y="4076640"/>
            <a:ext cx="2231640" cy="1482840"/>
            <a:chOff x="1042920" y="4076640"/>
            <a:chExt cx="2231640" cy="1482840"/>
          </a:xfrm>
        </p:grpSpPr>
        <p:sp>
          <p:nvSpPr>
            <p:cNvPr id="120" name=""/>
            <p:cNvSpPr/>
            <p:nvPr/>
          </p:nvSpPr>
          <p:spPr>
            <a:xfrm>
              <a:off x="1042920" y="408312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In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0920" y="4076640"/>
              <a:ext cx="122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560" y="479592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39640" y="479592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780000" y="0"/>
            <a:ext cx="5364000" cy="6858000"/>
            <a:chOff x="3780000" y="0"/>
            <a:chExt cx="5364000" cy="6858000"/>
          </a:xfrm>
        </p:grpSpPr>
        <p:sp>
          <p:nvSpPr>
            <p:cNvPr id="125" name=""/>
            <p:cNvSpPr/>
            <p:nvPr/>
          </p:nvSpPr>
          <p:spPr>
            <a:xfrm>
              <a:off x="4859280" y="0"/>
              <a:ext cx="42847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16720" y="144360"/>
              <a:ext cx="1079640" cy="667080"/>
              <a:chOff x="6516720" y="144360"/>
              <a:chExt cx="1079640" cy="667080"/>
            </a:xfrm>
          </p:grpSpPr>
          <p:sp>
            <p:nvSpPr>
              <p:cNvPr id="127" name=""/>
              <p:cNvSpPr/>
              <p:nvPr/>
            </p:nvSpPr>
            <p:spPr>
              <a:xfrm>
                <a:off x="6516720" y="14436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  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91640" y="30168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956720" y="1427040"/>
              <a:ext cx="1078920" cy="667080"/>
              <a:chOff x="7956720" y="1427040"/>
              <a:chExt cx="1078920" cy="667080"/>
            </a:xfrm>
          </p:grpSpPr>
          <p:sp>
            <p:nvSpPr>
              <p:cNvPr id="130" name=""/>
              <p:cNvSpPr/>
              <p:nvPr/>
            </p:nvSpPr>
            <p:spPr>
              <a:xfrm>
                <a:off x="7956720" y="142704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531280" y="158436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516720" y="1427040"/>
              <a:ext cx="1079640" cy="667080"/>
              <a:chOff x="6516720" y="1427040"/>
              <a:chExt cx="1079640" cy="66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6516720" y="142704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  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91640" y="158436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003640" y="1427040"/>
              <a:ext cx="1079640" cy="667080"/>
              <a:chOff x="5003640" y="1427040"/>
              <a:chExt cx="1079640" cy="667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003640" y="142704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6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78560" y="158436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5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5364000" y="86508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4000" y="86508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04000" y="865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56720" y="2722680"/>
              <a:ext cx="1078920" cy="667080"/>
              <a:chOff x="7956720" y="2722680"/>
              <a:chExt cx="1078920" cy="667080"/>
            </a:xfrm>
          </p:grpSpPr>
          <p:sp>
            <p:nvSpPr>
              <p:cNvPr id="142" name=""/>
              <p:cNvSpPr/>
              <p:nvPr/>
            </p:nvSpPr>
            <p:spPr>
              <a:xfrm>
                <a:off x="7956720" y="272268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31280" y="288000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16720" y="2722680"/>
              <a:ext cx="1079640" cy="667080"/>
              <a:chOff x="6516720" y="2722680"/>
              <a:chExt cx="1079640" cy="667080"/>
            </a:xfrm>
          </p:grpSpPr>
          <p:sp>
            <p:nvSpPr>
              <p:cNvPr id="145" name=""/>
              <p:cNvSpPr/>
              <p:nvPr/>
            </p:nvSpPr>
            <p:spPr>
              <a:xfrm>
                <a:off x="6516720" y="2722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  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91640" y="288000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03640" y="2722680"/>
              <a:ext cx="1079640" cy="667080"/>
              <a:chOff x="5003640" y="2722680"/>
              <a:chExt cx="1079640" cy="667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003640" y="2722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78560" y="288000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5364000" y="216072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04000" y="2160720"/>
              <a:ext cx="1440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160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076720" y="4019400"/>
              <a:ext cx="1079640" cy="667080"/>
              <a:chOff x="5076720" y="4019400"/>
              <a:chExt cx="1079640" cy="667080"/>
            </a:xfrm>
          </p:grpSpPr>
          <p:sp>
            <p:nvSpPr>
              <p:cNvPr id="154" name=""/>
              <p:cNvSpPr/>
              <p:nvPr/>
            </p:nvSpPr>
            <p:spPr>
              <a:xfrm>
                <a:off x="5076720" y="401940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51640" y="417672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80000" y="4019400"/>
              <a:ext cx="1078920" cy="667080"/>
              <a:chOff x="3780000" y="4019400"/>
              <a:chExt cx="1078920" cy="66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80000" y="401940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8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1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54560" y="417672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4140000" y="3457440"/>
              <a:ext cx="12236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64000" y="34574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813800" y="3946680"/>
              <a:ext cx="1078920" cy="667080"/>
              <a:chOff x="7813800" y="3946680"/>
              <a:chExt cx="1078920" cy="667080"/>
            </a:xfrm>
          </p:grpSpPr>
          <p:sp>
            <p:nvSpPr>
              <p:cNvPr id="162" name=""/>
              <p:cNvSpPr/>
              <p:nvPr/>
            </p:nvSpPr>
            <p:spPr>
              <a:xfrm>
                <a:off x="7813800" y="394668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8360" y="410364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16720" y="3946680"/>
              <a:ext cx="1079640" cy="667080"/>
              <a:chOff x="6516720" y="3946680"/>
              <a:chExt cx="1079640" cy="667080"/>
            </a:xfrm>
          </p:grpSpPr>
          <p:sp>
            <p:nvSpPr>
              <p:cNvPr id="165" name=""/>
              <p:cNvSpPr/>
              <p:nvPr/>
            </p:nvSpPr>
            <p:spPr>
              <a:xfrm>
                <a:off x="6516720" y="394668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91640" y="410364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2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875640" y="3457440"/>
              <a:ext cx="12254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75640" y="34574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516720" y="4956120"/>
              <a:ext cx="1079640" cy="667080"/>
              <a:chOff x="6516720" y="4956120"/>
              <a:chExt cx="1079640" cy="667080"/>
            </a:xfrm>
          </p:grpSpPr>
          <p:sp>
            <p:nvSpPr>
              <p:cNvPr id="170" name=""/>
              <p:cNvSpPr/>
              <p:nvPr/>
            </p:nvSpPr>
            <p:spPr>
              <a:xfrm>
                <a:off x="6516720" y="4956120"/>
                <a:ext cx="64800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091640" y="5113440"/>
                <a:ext cx="5047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867280" y="5964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15280" y="6121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093080" y="5964120"/>
              <a:ext cx="1078920" cy="667080"/>
              <a:chOff x="7093080" y="5964120"/>
              <a:chExt cx="1078920" cy="667080"/>
            </a:xfrm>
          </p:grpSpPr>
          <p:sp>
            <p:nvSpPr>
              <p:cNvPr id="175" name=""/>
              <p:cNvSpPr/>
              <p:nvPr/>
            </p:nvSpPr>
            <p:spPr>
              <a:xfrm>
                <a:off x="7093080" y="5964120"/>
                <a:ext cx="647640" cy="6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1 2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7 8 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Verdana"/>
                  </a:rPr>
                  <a:t>6 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67640" y="6121440"/>
                <a:ext cx="50436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Verdana"/>
                  </a:rPr>
                  <a:t>(2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6300720" y="5675400"/>
              <a:ext cx="5032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4000" y="567540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04000" y="460836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5905440"/>
              <a:ext cx="649440" cy="763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71640" y="6168960"/>
            <a:ext cx="4105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ste exemplo não são considerados os nós que aparecem por mais de uma vez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40A-B97C-4784-9ABC-5D6D76D071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6000" y="1844280"/>
            <a:ext cx="251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aço de estados gerado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t-BR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32000" y="3573360"/>
            <a:ext cx="2231640" cy="1482840"/>
            <a:chOff x="1332000" y="3573360"/>
            <a:chExt cx="2231640" cy="1482840"/>
          </a:xfrm>
        </p:grpSpPr>
        <p:sp>
          <p:nvSpPr>
            <p:cNvPr id="185" name=""/>
            <p:cNvSpPr/>
            <p:nvPr/>
          </p:nvSpPr>
          <p:spPr>
            <a:xfrm>
              <a:off x="1332000" y="3579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In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40000" y="3573360"/>
              <a:ext cx="122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stado Obje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7640" y="429264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8720" y="4292640"/>
              <a:ext cx="72036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8   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00720" y="0"/>
            <a:ext cx="4284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57800" y="144360"/>
            <a:ext cx="1079640" cy="667080"/>
            <a:chOff x="6157800" y="144360"/>
            <a:chExt cx="1079640" cy="667080"/>
          </a:xfrm>
        </p:grpSpPr>
        <p:sp>
          <p:nvSpPr>
            <p:cNvPr id="191" name=""/>
            <p:cNvSpPr/>
            <p:nvPr/>
          </p:nvSpPr>
          <p:spPr>
            <a:xfrm>
              <a:off x="6157800" y="14436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  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2720" y="30168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597800" y="1427040"/>
            <a:ext cx="1079640" cy="667080"/>
            <a:chOff x="7597800" y="1427040"/>
            <a:chExt cx="1079640" cy="667080"/>
          </a:xfrm>
        </p:grpSpPr>
        <p:sp>
          <p:nvSpPr>
            <p:cNvPr id="194" name=""/>
            <p:cNvSpPr/>
            <p:nvPr/>
          </p:nvSpPr>
          <p:spPr>
            <a:xfrm>
              <a:off x="7597800" y="142704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72720" y="158436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57800" y="1427040"/>
            <a:ext cx="1079640" cy="667080"/>
            <a:chOff x="6157800" y="1427040"/>
            <a:chExt cx="1079640" cy="667080"/>
          </a:xfrm>
        </p:grpSpPr>
        <p:sp>
          <p:nvSpPr>
            <p:cNvPr id="197" name=""/>
            <p:cNvSpPr/>
            <p:nvPr/>
          </p:nvSpPr>
          <p:spPr>
            <a:xfrm>
              <a:off x="6157800" y="142704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  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2720" y="158436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5080" y="1427040"/>
            <a:ext cx="1078920" cy="667080"/>
            <a:chOff x="4645080" y="1427040"/>
            <a:chExt cx="1078920" cy="667080"/>
          </a:xfrm>
        </p:grpSpPr>
        <p:sp>
          <p:nvSpPr>
            <p:cNvPr id="200" name=""/>
            <p:cNvSpPr/>
            <p:nvPr/>
          </p:nvSpPr>
          <p:spPr>
            <a:xfrm>
              <a:off x="4645080" y="1427040"/>
              <a:ext cx="64764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6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9640" y="1584360"/>
              <a:ext cx="504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5005080" y="865080"/>
            <a:ext cx="143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5080" y="86508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5080" y="865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97800" y="2722680"/>
            <a:ext cx="1079640" cy="667080"/>
            <a:chOff x="7597800" y="2722680"/>
            <a:chExt cx="1079640" cy="667080"/>
          </a:xfrm>
        </p:grpSpPr>
        <p:sp>
          <p:nvSpPr>
            <p:cNvPr id="206" name=""/>
            <p:cNvSpPr/>
            <p:nvPr/>
          </p:nvSpPr>
          <p:spPr>
            <a:xfrm>
              <a:off x="7597800" y="2722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72720" y="288000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57800" y="2722680"/>
            <a:ext cx="1079640" cy="667080"/>
            <a:chOff x="6157800" y="2722680"/>
            <a:chExt cx="1079640" cy="667080"/>
          </a:xfrm>
        </p:grpSpPr>
        <p:sp>
          <p:nvSpPr>
            <p:cNvPr id="209" name=""/>
            <p:cNvSpPr/>
            <p:nvPr/>
          </p:nvSpPr>
          <p:spPr>
            <a:xfrm>
              <a:off x="6157800" y="2722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2720" y="288000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645080" y="2722680"/>
            <a:ext cx="1078920" cy="667080"/>
            <a:chOff x="4645080" y="2722680"/>
            <a:chExt cx="1078920" cy="667080"/>
          </a:xfrm>
        </p:grpSpPr>
        <p:sp>
          <p:nvSpPr>
            <p:cNvPr id="212" name=""/>
            <p:cNvSpPr/>
            <p:nvPr/>
          </p:nvSpPr>
          <p:spPr>
            <a:xfrm>
              <a:off x="4645080" y="2722680"/>
              <a:ext cx="64764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8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9640" y="2880000"/>
              <a:ext cx="504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H="1">
            <a:off x="5005080" y="2160720"/>
            <a:ext cx="143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216072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5080" y="2160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454880" y="3946680"/>
            <a:ext cx="1079640" cy="667080"/>
            <a:chOff x="7454880" y="3946680"/>
            <a:chExt cx="1079640" cy="667080"/>
          </a:xfrm>
        </p:grpSpPr>
        <p:sp>
          <p:nvSpPr>
            <p:cNvPr id="218" name=""/>
            <p:cNvSpPr/>
            <p:nvPr/>
          </p:nvSpPr>
          <p:spPr>
            <a:xfrm>
              <a:off x="7454880" y="3946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9800" y="41036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57800" y="3946680"/>
            <a:ext cx="1079640" cy="667080"/>
            <a:chOff x="6157800" y="3946680"/>
            <a:chExt cx="1079640" cy="667080"/>
          </a:xfrm>
        </p:grpSpPr>
        <p:sp>
          <p:nvSpPr>
            <p:cNvPr id="221" name=""/>
            <p:cNvSpPr/>
            <p:nvPr/>
          </p:nvSpPr>
          <p:spPr>
            <a:xfrm>
              <a:off x="6157800" y="394668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41036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516720" y="3457440"/>
            <a:ext cx="1225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3457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157800" y="4956120"/>
            <a:ext cx="1079640" cy="667080"/>
            <a:chOff x="6157800" y="4956120"/>
            <a:chExt cx="1079640" cy="667080"/>
          </a:xfrm>
        </p:grpSpPr>
        <p:sp>
          <p:nvSpPr>
            <p:cNvPr id="226" name=""/>
            <p:cNvSpPr/>
            <p:nvPr/>
          </p:nvSpPr>
          <p:spPr>
            <a:xfrm>
              <a:off x="6157800" y="4956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32720" y="5113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508720" y="5964120"/>
            <a:ext cx="647640" cy="6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8  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7 6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6121440"/>
            <a:ext cx="504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Verdana"/>
              </a:rPr>
              <a:t>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734160" y="5964120"/>
            <a:ext cx="1079640" cy="667080"/>
            <a:chOff x="6734160" y="5964120"/>
            <a:chExt cx="1079640" cy="667080"/>
          </a:xfrm>
        </p:grpSpPr>
        <p:sp>
          <p:nvSpPr>
            <p:cNvPr id="231" name=""/>
            <p:cNvSpPr/>
            <p:nvPr/>
          </p:nvSpPr>
          <p:spPr>
            <a:xfrm>
              <a:off x="6734160" y="5964120"/>
              <a:ext cx="64800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1 2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7 8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pt-BR" sz="1200" spc="-1" strike="noStrike">
                  <a:solidFill>
                    <a:srgbClr val="000000"/>
                  </a:solidFill>
                  <a:latin typeface="Verdana"/>
                </a:rPr>
                <a:t>6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09080" y="6121440"/>
              <a:ext cx="504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5941800" y="5675400"/>
            <a:ext cx="50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080" y="56754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5080" y="4608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5905440"/>
            <a:ext cx="649080" cy="76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010-5321-469E-AB89-D550DA63F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feito da exatidão da heurística sobre o desempe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função heurístic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da através do fator de expansão efetiv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de ramificação efetiva)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ator de expansão de uma árvore uniforme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+1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ós e nível de profundida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+1 = 1 + b* + (b*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+ ... + (b*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 = total de nós gerados pelo A* para um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 = profundidade da solu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e-se empiricamente a qualidade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rtir do conjunto de valores experimentai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boa função heurística terá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o próximo de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788-7BB8-456A-9578-146718FED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1280" y="1527120"/>
            <a:ext cx="8064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paração entre os custos da busca e entre os fatores de expansão (ramificação) efetivo para os algoritmos BUSCA-POR-APROFUNDAMENTO-ITERATIVO e A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A média dos dados é calculada sobre 100 instâncias de quebra-cabeça de 8 peças para diversos comprimentos de sol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12000" cy="3708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42920" y="6021360"/>
            <a:ext cx="79218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boa função heurística 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*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ito próximo d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melhor que 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para qualquer nó, 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n)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659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623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0CB-E1D3-4207-8C4F-E23450AC56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03T17:24:46Z</dcterms:modified>
  <cp:revision>4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