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249-3811-460B-9664-CD581023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0E1-249F-4B54-937A-6EA97B55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380-91B3-4E7D-8F0B-0247477C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0C5-7B90-4CCA-A5FD-2BCA7EAC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E44FC-60AB-42DD-A05A-235EA3FE27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24A73-68F4-4FC8-A39B-08F84D09C0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3C8F5-F26B-4E84-8648-EC26AC98D3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1B930-2BF6-4AB2-8E9B-946124F256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F278A-DF74-4EBF-BF08-BCE2EEA5E5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C8293-78CB-4C00-9F6C-C5E0091F11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65D0D-75F2-4C0C-81E8-F80D99D9C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97D-7D46-451A-B889-9D07602C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7B085-D590-40DA-8BA2-92B0CA3611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F14C9-335A-4EAD-B0C7-39CF9821CF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C6EE4-42FF-41BD-BC3F-BB439CA74F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68C9A-CAE6-4373-AB77-F8A879F11C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22D66-8107-41A7-BD21-36B5FDDAA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068-BAEF-43FF-B9ED-D57825CD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046-8CBD-4EA2-BB21-C4612813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056-40B0-4C64-99D2-0B14008E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B68-BD40-4743-BDD7-89B5776E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064-BC5B-4CA2-ABBB-5093A6A0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3D2-7617-4D58-A42E-BB1B2F9E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1BF-8760-4F7E-89C3-9F4C10D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3ADA-5167-44C0-8FF7-A5B668BB1F6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5FC1-27F6-4A8B-B8B4-D7CDE265528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III - 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5905440" cy="5024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2521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) Busca gul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D8D-2DE1-4DEB-B20A-6EEBA49562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6443640" cy="52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2521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) Busca A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5BA-FE95-4B35-A5D2-66EBE1F519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se pode observ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olução obtida pelo A* é de melhor qual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vendedor teria que percorrer 1300 Km, ao invés dos 1450 Km da solução encontrada pela busca gulo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resultado justifica-se porque o A* considera na sua função de custo (f) não só o valor heurístico (h) mas também o custo do caminho até então percorrido (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E38-64B8-4CC6-BA35-EA5515FAC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serva-se também que o número de nós expandidos pela busca gulosa foi bastante inferior, ou seja, este tipo de busca foi mais eficiente em termos espaciais e tempor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porque a busca gulosa apenas se preocupou em caminhar em direção a uma solução, não considerando o esforço já realizado (g) para garantir um solução ótima - comportamento que evitou vários retrocessos e a conseqüente expansão de mais n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EE0-E711-4B7A-AED1-9FBC04BE11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201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s - Bus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E8C-F6E5-4E0F-910E-C7CBD8DC37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777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1: Qual o tipo de busca apresentado na fig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7705800" cy="172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692-7F8D-453B-8997-182B011D42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8101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2: Qual o tipo de busca apresentado na fig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2001960"/>
            <a:ext cx="5543640" cy="46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3E7-6CCC-4A13-A717-1325A616B6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1822320"/>
            <a:ext cx="5903640" cy="5035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777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3: Qual o tipo de busca apresentado na fig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5CD-78E7-4D0C-A789-F0AC4C7F34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77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4: Qual o tipo de busca apresentado na fig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2058840"/>
            <a:ext cx="612144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446-A27F-4713-A491-9E8985A585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66960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5: Qual o tipo de busca mais eficiente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Largura ou Busca e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undidade? Justifique a sua respo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5C3-D550-472F-9993-A504A568E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360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vendedor quer visitar as seguintes localidades do mapa, representadas por letras do alfabeto, sem repetir a visita e sem voltar ao local de ori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248360" cy="41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617-53B7-4AD0-A3B5-23BFE7A3D4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este problema utilizando o “algoritmo do melhor primeiro”, começando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tilize a seguinte heuríst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número de quilômetros a percorrer é igual ao comprimento médio dos caminhos (200km), vezes o número de localidades que faltam percorrer. Em caso de empate entre dois nós, escolha aquele que esteja alfabeticamente primei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) Usar busca gul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) Usar busca A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) Compare esses dois métodos de busca, tendo em vista, os resultados ob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227-5530-4C5C-86B8-968715A236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7-03T17:00:12Z</dcterms:modified>
  <cp:revision>46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