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3656-1C57-4540-9CB6-FC42DD10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5A48-FB43-4ED0-A675-F8CBC1BA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BE3B-CF29-49E3-806F-6E9DA61A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5A75-690B-4C89-8FB8-3E15F295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B25D7-B8B0-4057-9DE1-14EF1D6842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921A2-4E92-4AD3-85A0-34AF39656B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446E3-E3E2-4AC4-A724-B2955F88F3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05DD6-728A-46B2-81A8-8C2CF49FCE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2607A-36E6-49C7-8B23-AA305B5B60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EB3C7-36AF-4F6C-B5F1-371EE3E35D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9A1B0-52CD-4D69-BB9C-E6FCE4FE70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C817-59B4-4C17-9915-94E191C7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9CDB0-747B-451D-86A8-8DF2230E83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6AC0D-E601-4979-9CD4-1FEC105DB4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34846-BD31-416F-9237-1B34D519B7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E3113-5156-42CD-9658-006817B3D3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CA0B3-37F7-4A27-BF4B-D20614073E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0765-C07A-47C8-860F-3833EB25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F5BE-E7FF-4C3D-8F7B-FBC1EB9D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C0F5-209C-43D2-8C79-175D5410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E2FA-E326-4AC2-A8FE-9B4714BF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5E38-0536-4FC0-8B5C-B60E91BA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208D-3D05-4803-A04F-BF4008FC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8EDB-E3EB-4A2C-9D03-436D8590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EBB1-50A0-417C-AA76-57B55A233170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94A8-39A8-4613-B06E-F85D70868494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solução de Problemas    (Parte 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71280" y="1557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stratégias de Busca Heur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nhecimento específic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 problema na busca da solu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is eficientes do que a busca não inform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oritmo geral: Busca pela Melhor Escolha - BME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est-first search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leciona para expansão o nó que tiver o menor custo estimado até a meta (objetivo), segundo um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unção de avaliação f(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ipicament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(n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usa um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unção heurística h(n) =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sto estimado do caminho mais econômico do nó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é um nó objetivo (Restrição inicial: s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um nó objetivo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=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25C4-6962-4ADA-AF73-8730070C29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564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forma de uso da informação heurística sobre um problema consiste em computar estimativas numéricas para os nós no espaço de esta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estimativa indica o quanto um nó é promissor com relação ao alcance de um nó-objetiv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idéia é continuar a busca sempre a partir do nó mais promissor no conjunto de candidat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ograma de busca do melhor caminho (escolha) é baseado neste princíp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41F5-B0B8-4895-85CE-F31437F2C4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usca do melhor caminh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pode ser derivada de um refinamento da busca em larg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usca em largu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sempre escolhe para expansão os menores caminhos-candidatos (isto é, os nós extremos menos profundos da busc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usca do melhor caminh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refina este princípio calculando uma estimativa heurística para cada candidato e escolhe para expansão o melhor candidato de acordo com esta estim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ECD0-C989-45E4-AB04-9B4C826E09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Greedy best-first sear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usc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gulosa pela melhor escol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nta expandir o nó mais próximo à meta, na suposição de que isso provavelmente levará a uma solução ráp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 nós para expandir com base unicamente na função heurística: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encontrar a melhor rota (rota mais curta) de uma cidade a outra, num ma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= distância em linha reta entre as cidades e a cidade-m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579F-AB0B-4F01-AE06-5C46BD1912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280" y="1483920"/>
            <a:ext cx="78483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ocalização de rotas na Romênia, usando a heurística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tância em linha ret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DL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jetiv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Bucharest (Bucares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3640" y="6477120"/>
            <a:ext cx="62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m mapa rodoviário simplificado de parte da Romên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042920" y="2679840"/>
            <a:ext cx="7705800" cy="3773520"/>
            <a:chOff x="1042920" y="2679840"/>
            <a:chExt cx="7705800" cy="3773520"/>
          </a:xfrm>
        </p:grpSpPr>
        <p:grpSp>
          <p:nvGrpSpPr>
            <p:cNvPr id="142" name=""/>
            <p:cNvGrpSpPr/>
            <p:nvPr/>
          </p:nvGrpSpPr>
          <p:grpSpPr>
            <a:xfrm>
              <a:off x="1042920" y="2679840"/>
              <a:ext cx="7705800" cy="3773520"/>
              <a:chOff x="1042920" y="2679840"/>
              <a:chExt cx="7705800" cy="3773520"/>
            </a:xfrm>
          </p:grpSpPr>
          <p:pic>
            <p:nvPicPr>
              <p:cNvPr id="1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2679840"/>
                <a:ext cx="7417080" cy="377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4788000" y="5445000"/>
                <a:ext cx="358560" cy="3603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920" y="3429000"/>
                <a:ext cx="432000" cy="287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317080" y="3860640"/>
                <a:ext cx="43164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17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8388360" y="5229360"/>
              <a:ext cx="21600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17080" y="52164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A900-002D-4F58-947E-1DA074C806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br>
              <a:rPr sz="3600"/>
            </a:b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Busca pela melhor escolha - Busca Gulos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biLevel thresh="50000"/>
            <a:lum contrast="100000"/>
          </a:blip>
          <a:stretch/>
        </p:blipFill>
        <p:spPr>
          <a:xfrm>
            <a:off x="179280" y="1733400"/>
            <a:ext cx="8794800" cy="4924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223040" y="1638360"/>
            <a:ext cx="18226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Distância em linha reta para Buchares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62640" y="2122560"/>
            <a:ext cx="171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8480" y="3076560"/>
            <a:ext cx="144720" cy="144360"/>
          </a:xfrm>
          <a:prstGeom prst="rect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28480" y="2457360"/>
            <a:ext cx="1689120" cy="2049120"/>
            <a:chOff x="528480" y="2457360"/>
            <a:chExt cx="1689120" cy="2049120"/>
          </a:xfrm>
        </p:grpSpPr>
        <p:sp>
          <p:nvSpPr>
            <p:cNvPr id="155" name=""/>
            <p:cNvSpPr/>
            <p:nvPr/>
          </p:nvSpPr>
          <p:spPr>
            <a:xfrm>
              <a:off x="725040" y="2457360"/>
              <a:ext cx="181440" cy="180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35800" y="3589560"/>
              <a:ext cx="181800" cy="180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8480" y="4326480"/>
              <a:ext cx="181800" cy="180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86440" y="2649600"/>
              <a:ext cx="160920" cy="44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601200" y="3241440"/>
              <a:ext cx="9360" cy="1104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4840" y="3156840"/>
              <a:ext cx="1380600" cy="482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570560" y="5603760"/>
            <a:ext cx="144360" cy="144720"/>
          </a:xfrm>
          <a:prstGeom prst="rect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250040" y="5554800"/>
            <a:ext cx="1806480" cy="1186920"/>
            <a:chOff x="7250040" y="5554800"/>
            <a:chExt cx="1806480" cy="1186920"/>
          </a:xfrm>
        </p:grpSpPr>
        <p:sp>
          <p:nvSpPr>
            <p:cNvPr id="163" name=""/>
            <p:cNvSpPr/>
            <p:nvPr/>
          </p:nvSpPr>
          <p:spPr>
            <a:xfrm>
              <a:off x="7256520" y="6489360"/>
              <a:ext cx="1800000" cy="252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50040" y="5554800"/>
              <a:ext cx="1800360" cy="252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51840" y="5802120"/>
              <a:ext cx="1800000" cy="252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>
            <a:off x="2327040" y="3313080"/>
            <a:ext cx="384120" cy="238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69080" y="3322800"/>
            <a:ext cx="444600" cy="85680"/>
          </a:xfrm>
          <a:prstGeom prst="line">
            <a:avLst/>
          </a:prstGeom>
          <a:ln w="572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250040" y="5554800"/>
            <a:ext cx="1806480" cy="1186920"/>
            <a:chOff x="7250040" y="5554800"/>
            <a:chExt cx="1806480" cy="1186920"/>
          </a:xfrm>
        </p:grpSpPr>
        <p:sp>
          <p:nvSpPr>
            <p:cNvPr id="169" name=""/>
            <p:cNvSpPr/>
            <p:nvPr/>
          </p:nvSpPr>
          <p:spPr>
            <a:xfrm>
              <a:off x="7256520" y="6489360"/>
              <a:ext cx="1800000" cy="2523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50040" y="5554800"/>
              <a:ext cx="1800360" cy="252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51840" y="5802120"/>
              <a:ext cx="1800000" cy="252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01640" y="3160800"/>
            <a:ext cx="1282680" cy="4572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73320" y="3709800"/>
            <a:ext cx="1328760" cy="787320"/>
            <a:chOff x="2173320" y="3709800"/>
            <a:chExt cx="1328760" cy="787320"/>
          </a:xfrm>
        </p:grpSpPr>
        <p:sp>
          <p:nvSpPr>
            <p:cNvPr id="174" name=""/>
            <p:cNvSpPr/>
            <p:nvPr/>
          </p:nvSpPr>
          <p:spPr>
            <a:xfrm>
              <a:off x="2370240" y="4324320"/>
              <a:ext cx="157320" cy="172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2173320" y="3789000"/>
              <a:ext cx="247680" cy="53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5120" y="3720960"/>
              <a:ext cx="156960" cy="172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2220840" y="3709800"/>
              <a:ext cx="1068120" cy="45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7245360" y="3241800"/>
            <a:ext cx="1800000" cy="2322000"/>
            <a:chOff x="7245360" y="3241800"/>
            <a:chExt cx="1800000" cy="2322000"/>
          </a:xfrm>
        </p:grpSpPr>
        <p:sp>
          <p:nvSpPr>
            <p:cNvPr id="179" name=""/>
            <p:cNvSpPr/>
            <p:nvPr/>
          </p:nvSpPr>
          <p:spPr>
            <a:xfrm>
              <a:off x="7245360" y="3241800"/>
              <a:ext cx="1800000" cy="2577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45360" y="5306040"/>
              <a:ext cx="1800000" cy="2577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6788160" y="5570640"/>
            <a:ext cx="444600" cy="85680"/>
          </a:xfrm>
          <a:prstGeom prst="line">
            <a:avLst/>
          </a:prstGeom>
          <a:ln w="572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246800" y="3241800"/>
            <a:ext cx="1800000" cy="2331720"/>
            <a:chOff x="7246800" y="3241800"/>
            <a:chExt cx="1800000" cy="2331720"/>
          </a:xfrm>
        </p:grpSpPr>
        <p:sp>
          <p:nvSpPr>
            <p:cNvPr id="183" name=""/>
            <p:cNvSpPr/>
            <p:nvPr/>
          </p:nvSpPr>
          <p:spPr>
            <a:xfrm>
              <a:off x="7246800" y="3241800"/>
              <a:ext cx="1800000" cy="25884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246800" y="5314680"/>
              <a:ext cx="1800000" cy="25884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3632040" y="3618000"/>
            <a:ext cx="26064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44600" y="3710160"/>
            <a:ext cx="1060560" cy="601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92360" y="3900600"/>
            <a:ext cx="1117800" cy="16891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1080" y="2116080"/>
            <a:ext cx="5086080" cy="3882960"/>
          </a:xfrm>
          <a:custGeom>
            <a:avLst/>
            <a:gdLst/>
            <a:ahLst/>
            <a:rect l="l" t="t" r="r" b="b"/>
            <a:pathLst>
              <a:path w="3204" h="2446">
                <a:moveTo>
                  <a:pt x="331" y="1583"/>
                </a:moveTo>
                <a:cubicBezTo>
                  <a:pt x="181" y="1588"/>
                  <a:pt x="164" y="1623"/>
                  <a:pt x="120" y="1449"/>
                </a:cubicBezTo>
                <a:cubicBezTo>
                  <a:pt x="76" y="1275"/>
                  <a:pt x="21" y="764"/>
                  <a:pt x="64" y="538"/>
                </a:cubicBezTo>
                <a:cubicBezTo>
                  <a:pt x="107" y="312"/>
                  <a:pt x="0" y="0"/>
                  <a:pt x="376" y="94"/>
                </a:cubicBezTo>
                <a:cubicBezTo>
                  <a:pt x="752" y="188"/>
                  <a:pt x="1885" y="722"/>
                  <a:pt x="2320" y="1105"/>
                </a:cubicBezTo>
                <a:cubicBezTo>
                  <a:pt x="2755" y="1488"/>
                  <a:pt x="3204" y="2342"/>
                  <a:pt x="2987" y="2394"/>
                </a:cubicBezTo>
                <a:cubicBezTo>
                  <a:pt x="2770" y="2446"/>
                  <a:pt x="1463" y="1549"/>
                  <a:pt x="1020" y="1416"/>
                </a:cubicBezTo>
                <a:cubicBezTo>
                  <a:pt x="577" y="1283"/>
                  <a:pt x="481" y="1578"/>
                  <a:pt x="331" y="1583"/>
                </a:cubicBezTo>
                <a:close/>
              </a:path>
            </a:pathLst>
          </a:custGeom>
          <a:noFill/>
          <a:ln w="284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6381720"/>
            <a:ext cx="86364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9280" y="1413000"/>
            <a:ext cx="863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6ACE-0FC4-4346-92AC-0B5428AA3E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500"/>
                            </p:stCondLst>
                            <p:childTnLst>
                              <p:par>
                                <p:cTn id="1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500"/>
                            </p:stCondLst>
                            <p:childTnLst>
                              <p:par>
                                <p:cTn id="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6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0" r="29983" b="89819"/>
          <a:stretch/>
        </p:blipFill>
        <p:spPr>
          <a:xfrm>
            <a:off x="1547640" y="2276640"/>
            <a:ext cx="6050160" cy="790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258920" y="6021360"/>
            <a:ext cx="7489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ases de uma busca gulosa pela melhor escolha para Bucareste, usando-se a heurística de distância em linha reta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DLR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. Os nós são identificados por seus valores de 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 – Passo a Passo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D4F1-5D9E-4C1C-8151-88FCD7951C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rcRect l="0" t="10188" r="2704" b="69465"/>
          <a:stretch/>
        </p:blipFill>
        <p:spPr>
          <a:xfrm>
            <a:off x="971640" y="2205000"/>
            <a:ext cx="7850160" cy="1474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258920" y="6237360"/>
            <a:ext cx="7489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ases de uma busca gulosa pela melhor escolha para Bucareste, usando-se a heurística de distância em linha reta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DLR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. Os nós são identificados por seus valores de 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 – Passo a Passo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DEB4-2C08-49AF-9D1F-F2FF0A89F8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rcRect l="0" t="30543" r="3223" b="39522"/>
          <a:stretch/>
        </p:blipFill>
        <p:spPr>
          <a:xfrm>
            <a:off x="1042920" y="2276640"/>
            <a:ext cx="7921800" cy="2199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258920" y="6237360"/>
            <a:ext cx="7489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ases de uma busca gulosa pela melhor escolha para Bucareste, usando-se a heurística de distância em linha reta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DLR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. Os nós são identificados por seus valores de 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 – Passo a Passo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AFCB-6FE1-4F88-8A5F-71762D6829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rcRect l="0" t="60485" r="3223" b="0"/>
          <a:stretch/>
        </p:blipFill>
        <p:spPr>
          <a:xfrm>
            <a:off x="971640" y="2133720"/>
            <a:ext cx="8028000" cy="2943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258920" y="6237360"/>
            <a:ext cx="7489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ases de uma busca gulosa pela melhor escolha para Bucareste, usando-se a heurística de distância em linha reta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DLR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. Os nós são identificados por seus valores de 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 – Passo a Passo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7481-D68D-4398-BE3A-D18CA003C3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844640"/>
            <a:ext cx="7128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usca Heurí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D80C-2338-47CC-B396-00DAA1EDE7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258920" y="6237360"/>
            <a:ext cx="7489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ases de uma busca gulosa pela melhor escolha para Bucareste, usando-se a heurística de distância em linha reta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DLR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. Os nós são identificados por seus valores de 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476360" y="152280"/>
            <a:ext cx="6696000" cy="601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BE25-38F1-46E9-8348-FC727CEA92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5640" y="155700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ão é comp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de entrar em ciclos e não encontrar a solução se não detectar estados repeti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de se perder em um caminho infinito e nunca retroceder para tentar outras op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ão é ót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exemplo encontrou caminho (Arad, Sibiu, Fagaras, Bucharest) que é 32km maior que (Arad, Sibiu, Rimnicu Vilcea, Pitesti, Buchar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endendo do problema e da qualidade da heurística a complexidade pode ter uma redução substan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115A-CFFC-4FD3-A327-46C5F2DF96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71640" y="1634760"/>
            <a:ext cx="8028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ME mais “famoso”: Busca A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bjetivo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izar o custo total estimado da solu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unção de avaliação:   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distância (custo) do nó inicial ao nó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distância (custo)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stimad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 nó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m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stim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custo da melhor solução que passa por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* expande o nó de menor valor d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 fronteira do espaço de es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C285-73AB-4F26-B5D0-B0104D6147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71280" y="1628280"/>
            <a:ext cx="7777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encontrado pelo processo de busca,  tem-se a seguinte situ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caminho d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já deve ter sido encontrado e o seu custo pode ser calculado como a soma dos custos dos arcos no caminho, e pode servir como uma estimativa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o custo mínimo d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mais problemático porque o espaço entr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inda não foi explorado, e portant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meramente um palpite baseado no conhecimento geral do algoritmo sobre o problema partic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existe um método universal para construção d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pois depende do domínio do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F01F-1D8E-4332-8E20-558B214EF8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71280" y="1483920"/>
            <a:ext cx="78483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ocalização de rotas na Romênia, usando a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usca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jetiv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Bucharest (Bucares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042920" y="2679840"/>
            <a:ext cx="7705800" cy="4134600"/>
            <a:chOff x="1042920" y="2679840"/>
            <a:chExt cx="7705800" cy="4134600"/>
          </a:xfrm>
        </p:grpSpPr>
        <p:sp>
          <p:nvSpPr>
            <p:cNvPr id="214" name=""/>
            <p:cNvSpPr/>
            <p:nvPr/>
          </p:nvSpPr>
          <p:spPr>
            <a:xfrm>
              <a:off x="1763640" y="6477120"/>
              <a:ext cx="626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Um mapa rodoviário simplificado de parte da Romênia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1187280" y="2679840"/>
              <a:ext cx="7417080" cy="37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4788000" y="5445000"/>
              <a:ext cx="35856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42920" y="3429000"/>
              <a:ext cx="432000" cy="287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17080" y="3860640"/>
              <a:ext cx="43164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17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88360" y="5229360"/>
              <a:ext cx="21600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17080" y="52164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EA19-9326-4BBE-AB0D-C872D72336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71280" y="124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br>
              <a:rPr sz="3600"/>
            </a:b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Busca pela melhor escolha - Algoritmo A*</a:t>
            </a: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65240" y="1557360"/>
            <a:ext cx="8866080" cy="5019480"/>
            <a:chOff x="165240" y="1557360"/>
            <a:chExt cx="8866080" cy="5019480"/>
          </a:xfrm>
        </p:grpSpPr>
        <p:pic>
          <p:nvPicPr>
            <p:cNvPr id="223" name="" descr=""/>
            <p:cNvPicPr/>
            <p:nvPr/>
          </p:nvPicPr>
          <p:blipFill>
            <a:blip r:embed="rId1">
              <a:biLevel thresh="50000"/>
              <a:lum contrast="100000"/>
            </a:blip>
            <a:stretch/>
          </p:blipFill>
          <p:spPr>
            <a:xfrm>
              <a:off x="165240" y="1652400"/>
              <a:ext cx="8794800" cy="49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7209000" y="1557360"/>
              <a:ext cx="182232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Distância em linha reta para Bucharest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48600" y="2041560"/>
              <a:ext cx="170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14440" y="2995560"/>
            <a:ext cx="144360" cy="144360"/>
          </a:xfrm>
          <a:prstGeom prst="rect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56160" y="5522760"/>
            <a:ext cx="144360" cy="144720"/>
          </a:xfrm>
          <a:prstGeom prst="rect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14440" y="2376360"/>
            <a:ext cx="1689120" cy="2049120"/>
            <a:chOff x="514440" y="2376360"/>
            <a:chExt cx="1689120" cy="2049120"/>
          </a:xfrm>
        </p:grpSpPr>
        <p:sp>
          <p:nvSpPr>
            <p:cNvPr id="229" name=""/>
            <p:cNvSpPr/>
            <p:nvPr/>
          </p:nvSpPr>
          <p:spPr>
            <a:xfrm>
              <a:off x="711000" y="2376360"/>
              <a:ext cx="181440" cy="180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21760" y="3508560"/>
              <a:ext cx="181800" cy="180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4440" y="4245480"/>
              <a:ext cx="181800" cy="180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572400" y="2568600"/>
              <a:ext cx="160920" cy="44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87160" y="3160440"/>
              <a:ext cx="9360" cy="1104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800" y="3075840"/>
              <a:ext cx="1380600" cy="482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44360" y="2460600"/>
            <a:ext cx="444600" cy="85680"/>
          </a:xfrm>
          <a:prstGeom prst="line">
            <a:avLst/>
          </a:prstGeom>
          <a:ln w="572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88840" y="2523960"/>
            <a:ext cx="3649680" cy="2970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619280" y="2868480"/>
            <a:ext cx="7416720" cy="3756240"/>
            <a:chOff x="1619280" y="2868480"/>
            <a:chExt cx="7416720" cy="3756240"/>
          </a:xfrm>
        </p:grpSpPr>
        <p:sp>
          <p:nvSpPr>
            <p:cNvPr id="238" name=""/>
            <p:cNvSpPr/>
            <p:nvPr/>
          </p:nvSpPr>
          <p:spPr>
            <a:xfrm>
              <a:off x="7236000" y="6372000"/>
              <a:ext cx="1800000" cy="2527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1619280" y="2868480"/>
              <a:ext cx="6531120" cy="3503520"/>
              <a:chOff x="1619280" y="2868480"/>
              <a:chExt cx="6531120" cy="3503520"/>
            </a:xfrm>
          </p:grpSpPr>
          <p:sp>
            <p:nvSpPr>
              <p:cNvPr id="240" name=""/>
              <p:cNvSpPr/>
              <p:nvPr/>
            </p:nvSpPr>
            <p:spPr>
              <a:xfrm>
                <a:off x="1978200" y="3354480"/>
                <a:ext cx="6172200" cy="3017520"/>
              </a:xfrm>
              <a:custGeom>
                <a:avLst/>
                <a:gdLst/>
                <a:ahLst/>
                <a:rect l="l" t="t" r="r" b="b"/>
                <a:pathLst>
                  <a:path w="3888" h="1901">
                    <a:moveTo>
                      <a:pt x="0" y="0"/>
                    </a:moveTo>
                    <a:cubicBezTo>
                      <a:pt x="1098" y="203"/>
                      <a:pt x="2196" y="407"/>
                      <a:pt x="2844" y="724"/>
                    </a:cubicBezTo>
                    <a:cubicBezTo>
                      <a:pt x="3492" y="1041"/>
                      <a:pt x="3690" y="1471"/>
                      <a:pt x="3888" y="1901"/>
                    </a:cubicBezTo>
                  </a:path>
                </a:pathLst>
              </a:custGeom>
              <a:noFill/>
              <a:ln cap="rnd" w="9360">
                <a:solidFill>
                  <a:srgbClr val="ff0000"/>
                </a:solidFill>
                <a:custDash>
                  <a:ds d="100000" sp="1000"/>
                </a:custDash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19280" y="2868480"/>
                <a:ext cx="7905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0000"/>
                    </a:solidFill>
                    <a:latin typeface="Times New Roman"/>
                  </a:rPr>
                  <a:t>75 + </a:t>
                </a:r>
                <a:r>
                  <a:rPr b="0" i="1" lang="pt-BR" sz="1200" spc="-1" strike="noStrike">
                    <a:solidFill>
                      <a:srgbClr val="ff0000"/>
                    </a:solidFill>
                    <a:latin typeface="Times New Roman"/>
                  </a:rPr>
                  <a:t>37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"/>
          <p:cNvSpPr/>
          <p:nvPr/>
        </p:nvSpPr>
        <p:spPr>
          <a:xfrm>
            <a:off x="1236600" y="2706840"/>
            <a:ext cx="3063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0000"/>
                </a:solidFill>
                <a:latin typeface="Times New Roman"/>
              </a:rPr>
              <a:t>4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549440" y="3615840"/>
            <a:ext cx="426960" cy="266760"/>
          </a:xfrm>
          <a:prstGeom prst="line">
            <a:avLst/>
          </a:prstGeom>
          <a:ln w="572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05000" y="3691080"/>
            <a:ext cx="2338560" cy="1865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279520" y="3676680"/>
            <a:ext cx="6750360" cy="2012760"/>
            <a:chOff x="2279520" y="3676680"/>
            <a:chExt cx="6750360" cy="2012760"/>
          </a:xfrm>
        </p:grpSpPr>
        <p:sp>
          <p:nvSpPr>
            <p:cNvPr id="246" name=""/>
            <p:cNvSpPr/>
            <p:nvPr/>
          </p:nvSpPr>
          <p:spPr>
            <a:xfrm>
              <a:off x="7229520" y="5437080"/>
              <a:ext cx="1800360" cy="252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79520" y="3676680"/>
              <a:ext cx="5877000" cy="1684080"/>
            </a:xfrm>
            <a:custGeom>
              <a:avLst/>
              <a:gdLst/>
              <a:ahLst/>
              <a:rect l="l" t="t" r="r" b="b"/>
              <a:pathLst>
                <a:path w="3888" h="1901">
                  <a:moveTo>
                    <a:pt x="0" y="0"/>
                  </a:moveTo>
                  <a:cubicBezTo>
                    <a:pt x="1098" y="203"/>
                    <a:pt x="2196" y="407"/>
                    <a:pt x="2844" y="724"/>
                  </a:cubicBezTo>
                  <a:cubicBezTo>
                    <a:pt x="3492" y="1041"/>
                    <a:pt x="3690" y="1471"/>
                    <a:pt x="3888" y="1901"/>
                  </a:cubicBezTo>
                </a:path>
              </a:pathLst>
            </a:custGeom>
            <a:noFill/>
            <a:ln cap="rnd" w="9360">
              <a:solidFill>
                <a:srgbClr val="ff0000"/>
              </a:solidFill>
              <a:custDash>
                <a:ds d="100000" sp="1000"/>
              </a:custDash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61000" y="3759120"/>
              <a:ext cx="8474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Times New Roman"/>
                </a:rPr>
                <a:t>140 + </a:t>
              </a:r>
              <a:r>
                <a:rPr b="0" i="1" lang="pt-BR" sz="1200" spc="-1" strike="noStrike">
                  <a:solidFill>
                    <a:srgbClr val="ff0000"/>
                  </a:solidFill>
                  <a:latin typeface="Times New Roman"/>
                </a:rPr>
                <a:t>25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760840" y="4278240"/>
            <a:ext cx="4395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0000"/>
                </a:solidFill>
                <a:latin typeface="Times New Roman"/>
              </a:rPr>
              <a:t>3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0600" y="4024440"/>
            <a:ext cx="444600" cy="85680"/>
          </a:xfrm>
          <a:prstGeom prst="line">
            <a:avLst/>
          </a:prstGeom>
          <a:ln w="572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57080" y="4248000"/>
            <a:ext cx="8273880" cy="1679760"/>
            <a:chOff x="757080" y="4248000"/>
            <a:chExt cx="8273880" cy="1679760"/>
          </a:xfrm>
        </p:grpSpPr>
        <p:sp>
          <p:nvSpPr>
            <p:cNvPr id="252" name=""/>
            <p:cNvSpPr/>
            <p:nvPr/>
          </p:nvSpPr>
          <p:spPr>
            <a:xfrm>
              <a:off x="7230600" y="5675400"/>
              <a:ext cx="1800360" cy="252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7080" y="4343400"/>
              <a:ext cx="7410240" cy="1322280"/>
            </a:xfrm>
            <a:custGeom>
              <a:avLst/>
              <a:gdLst/>
              <a:ahLst/>
              <a:rect l="l" t="t" r="r" b="b"/>
              <a:pathLst>
                <a:path w="3888" h="1901">
                  <a:moveTo>
                    <a:pt x="0" y="0"/>
                  </a:moveTo>
                  <a:cubicBezTo>
                    <a:pt x="1098" y="203"/>
                    <a:pt x="2196" y="407"/>
                    <a:pt x="2844" y="724"/>
                  </a:cubicBezTo>
                  <a:cubicBezTo>
                    <a:pt x="3492" y="1041"/>
                    <a:pt x="3690" y="1471"/>
                    <a:pt x="3888" y="1901"/>
                  </a:cubicBezTo>
                </a:path>
              </a:pathLst>
            </a:custGeom>
            <a:noFill/>
            <a:ln cap="rnd" w="9360">
              <a:solidFill>
                <a:srgbClr val="ff0000"/>
              </a:solidFill>
              <a:custDash>
                <a:ds d="100000" sp="1000"/>
              </a:custDash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07960" y="4248000"/>
              <a:ext cx="8474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Times New Roman"/>
                </a:rPr>
                <a:t>118 + </a:t>
              </a:r>
              <a:r>
                <a:rPr b="0" i="1" lang="pt-BR" sz="1200" spc="-1" strike="noStrike">
                  <a:solidFill>
                    <a:srgbClr val="ff0000"/>
                  </a:solidFill>
                  <a:latin typeface="Times New Roman"/>
                </a:rPr>
                <a:t>3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719280" y="4395960"/>
            <a:ext cx="3822480" cy="1199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55840" y="4497480"/>
            <a:ext cx="4395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0000"/>
                </a:solidFill>
                <a:latin typeface="Times New Roman"/>
              </a:rPr>
              <a:t>4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303280" y="3213000"/>
            <a:ext cx="384120" cy="238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714240" y="2521080"/>
            <a:ext cx="3822480" cy="3074400"/>
            <a:chOff x="714240" y="2521080"/>
            <a:chExt cx="3822480" cy="3074400"/>
          </a:xfrm>
        </p:grpSpPr>
        <p:sp>
          <p:nvSpPr>
            <p:cNvPr id="259" name=""/>
            <p:cNvSpPr/>
            <p:nvPr/>
          </p:nvSpPr>
          <p:spPr>
            <a:xfrm>
              <a:off x="884160" y="2521080"/>
              <a:ext cx="3649320" cy="2972880"/>
            </a:xfrm>
            <a:prstGeom prst="line">
              <a:avLst/>
            </a:prstGeom>
            <a:ln w="28440">
              <a:solidFill>
                <a:srgbClr val="ffcc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31560" y="2713320"/>
              <a:ext cx="30636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4240" y="4394160"/>
              <a:ext cx="3822480" cy="1201320"/>
            </a:xfrm>
            <a:prstGeom prst="line">
              <a:avLst/>
            </a:prstGeom>
            <a:ln w="28440">
              <a:solidFill>
                <a:srgbClr val="ffcc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55560" y="4458240"/>
              <a:ext cx="30636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168280" y="3446640"/>
            <a:ext cx="1319040" cy="978840"/>
            <a:chOff x="2168280" y="3446640"/>
            <a:chExt cx="1319040" cy="978840"/>
          </a:xfrm>
        </p:grpSpPr>
        <p:sp>
          <p:nvSpPr>
            <p:cNvPr id="264" name=""/>
            <p:cNvSpPr/>
            <p:nvPr/>
          </p:nvSpPr>
          <p:spPr>
            <a:xfrm>
              <a:off x="2363760" y="4253040"/>
              <a:ext cx="155520" cy="1724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2168280" y="3718080"/>
              <a:ext cx="245880" cy="53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50080" y="3871080"/>
              <a:ext cx="4086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2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32160" y="3649680"/>
              <a:ext cx="155160" cy="1724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2214720" y="3638880"/>
              <a:ext cx="1060200" cy="46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50040" y="3446640"/>
              <a:ext cx="4086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23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687240" y="3079800"/>
            <a:ext cx="1282680" cy="4572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500280" y="3198960"/>
            <a:ext cx="5530680" cy="563760"/>
            <a:chOff x="3500280" y="3198960"/>
            <a:chExt cx="5530680" cy="563760"/>
          </a:xfrm>
        </p:grpSpPr>
        <p:sp>
          <p:nvSpPr>
            <p:cNvPr id="272" name=""/>
            <p:cNvSpPr/>
            <p:nvPr/>
          </p:nvSpPr>
          <p:spPr>
            <a:xfrm>
              <a:off x="7230600" y="3198960"/>
              <a:ext cx="1800360" cy="252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500280" y="3467160"/>
              <a:ext cx="4667040" cy="267840"/>
            </a:xfrm>
            <a:custGeom>
              <a:avLst/>
              <a:gdLst/>
              <a:ahLst/>
              <a:rect l="l" t="t" r="r" b="b"/>
              <a:pathLst>
                <a:path w="3888" h="1901">
                  <a:moveTo>
                    <a:pt x="0" y="0"/>
                  </a:moveTo>
                  <a:cubicBezTo>
                    <a:pt x="1098" y="203"/>
                    <a:pt x="2196" y="407"/>
                    <a:pt x="2844" y="724"/>
                  </a:cubicBezTo>
                  <a:cubicBezTo>
                    <a:pt x="3492" y="1041"/>
                    <a:pt x="3690" y="1471"/>
                    <a:pt x="3888" y="1901"/>
                  </a:cubicBezTo>
                </a:path>
              </a:pathLst>
            </a:custGeom>
            <a:noFill/>
            <a:ln cap="rnd" w="9360">
              <a:solidFill>
                <a:srgbClr val="ff0000"/>
              </a:solidFill>
              <a:custDash>
                <a:ds d="100000" sp="1000"/>
              </a:custDash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44640" y="3486240"/>
              <a:ext cx="847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Times New Roman"/>
                </a:rPr>
                <a:t>239 + </a:t>
              </a:r>
              <a:r>
                <a:rPr b="0" i="1" lang="pt-BR" sz="1200" spc="-1" strike="noStrike">
                  <a:solidFill>
                    <a:srgbClr val="ff0000"/>
                  </a:solidFill>
                  <a:latin typeface="Times New Roman"/>
                </a:rPr>
                <a:t>17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3213000" y="3108240"/>
            <a:ext cx="96840" cy="419040"/>
          </a:xfrm>
          <a:prstGeom prst="line">
            <a:avLst/>
          </a:prstGeom>
          <a:ln w="572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06760" y="3828960"/>
            <a:ext cx="1130400" cy="16891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62440" y="4070520"/>
            <a:ext cx="36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0000"/>
                </a:solidFill>
                <a:latin typeface="Times New Roman"/>
              </a:rPr>
              <a:t>4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54200" y="4362480"/>
            <a:ext cx="2006640" cy="11556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598840" y="4305240"/>
            <a:ext cx="6432480" cy="1168560"/>
            <a:chOff x="2598840" y="4305240"/>
            <a:chExt cx="6432480" cy="1168560"/>
          </a:xfrm>
        </p:grpSpPr>
        <p:sp>
          <p:nvSpPr>
            <p:cNvPr id="280" name=""/>
            <p:cNvSpPr/>
            <p:nvPr/>
          </p:nvSpPr>
          <p:spPr>
            <a:xfrm>
              <a:off x="7230960" y="5221080"/>
              <a:ext cx="1800360" cy="2527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98840" y="4311720"/>
              <a:ext cx="5559480" cy="833400"/>
            </a:xfrm>
            <a:custGeom>
              <a:avLst/>
              <a:gdLst/>
              <a:ahLst/>
              <a:rect l="l" t="t" r="r" b="b"/>
              <a:pathLst>
                <a:path w="3888" h="1901">
                  <a:moveTo>
                    <a:pt x="0" y="0"/>
                  </a:moveTo>
                  <a:cubicBezTo>
                    <a:pt x="1098" y="203"/>
                    <a:pt x="2196" y="407"/>
                    <a:pt x="2844" y="724"/>
                  </a:cubicBezTo>
                  <a:cubicBezTo>
                    <a:pt x="3492" y="1041"/>
                    <a:pt x="3690" y="1471"/>
                    <a:pt x="3888" y="1901"/>
                  </a:cubicBezTo>
                </a:path>
              </a:pathLst>
            </a:custGeom>
            <a:noFill/>
            <a:ln cap="rnd" w="9360">
              <a:solidFill>
                <a:srgbClr val="ff0000"/>
              </a:solidFill>
              <a:custDash>
                <a:ds d="100000" sp="1000"/>
              </a:custDash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71920" y="4305240"/>
              <a:ext cx="847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Times New Roman"/>
                </a:rPr>
                <a:t>220 + </a:t>
              </a:r>
              <a:r>
                <a:rPr b="0" i="1" lang="pt-BR" sz="1200" spc="-1" strike="noStrike">
                  <a:solidFill>
                    <a:srgbClr val="ff0000"/>
                  </a:solidFill>
                  <a:latin typeface="Times New Roman"/>
                </a:rPr>
                <a:t>19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770200" y="4730760"/>
            <a:ext cx="36828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0000"/>
                </a:solidFill>
                <a:latin typeface="Times New Roman"/>
              </a:rPr>
              <a:t>4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917720" y="4463640"/>
            <a:ext cx="426960" cy="266760"/>
          </a:xfrm>
          <a:prstGeom prst="line">
            <a:avLst/>
          </a:prstGeom>
          <a:ln w="572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35160" y="3676680"/>
            <a:ext cx="279360" cy="5842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2506320" y="3975120"/>
            <a:ext cx="384120" cy="237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558880" y="3832200"/>
            <a:ext cx="2082960" cy="1689120"/>
            <a:chOff x="2558880" y="3832200"/>
            <a:chExt cx="2082960" cy="1689120"/>
          </a:xfrm>
        </p:grpSpPr>
        <p:sp>
          <p:nvSpPr>
            <p:cNvPr id="288" name=""/>
            <p:cNvSpPr/>
            <p:nvPr/>
          </p:nvSpPr>
          <p:spPr>
            <a:xfrm>
              <a:off x="3511440" y="3832200"/>
              <a:ext cx="1130400" cy="1689120"/>
            </a:xfrm>
            <a:prstGeom prst="line">
              <a:avLst/>
            </a:prstGeom>
            <a:ln w="38160">
              <a:solidFill>
                <a:srgbClr val="ffcc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58880" y="4365720"/>
              <a:ext cx="2006640" cy="1155600"/>
            </a:xfrm>
            <a:prstGeom prst="line">
              <a:avLst/>
            </a:prstGeom>
            <a:ln w="38160">
              <a:solidFill>
                <a:srgbClr val="ffcc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49680" y="4759200"/>
              <a:ext cx="36828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92680" y="4086360"/>
              <a:ext cx="36828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203560" y="3689280"/>
            <a:ext cx="2338200" cy="1865520"/>
            <a:chOff x="2203560" y="3689280"/>
            <a:chExt cx="2338200" cy="1865520"/>
          </a:xfrm>
        </p:grpSpPr>
        <p:sp>
          <p:nvSpPr>
            <p:cNvPr id="293" name=""/>
            <p:cNvSpPr/>
            <p:nvPr/>
          </p:nvSpPr>
          <p:spPr>
            <a:xfrm>
              <a:off x="2203560" y="3689280"/>
              <a:ext cx="2338200" cy="1865520"/>
            </a:xfrm>
            <a:prstGeom prst="line">
              <a:avLst/>
            </a:prstGeom>
            <a:ln w="28440">
              <a:solidFill>
                <a:srgbClr val="ffcc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1640" y="4264200"/>
              <a:ext cx="4392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2460600" y="4397040"/>
            <a:ext cx="1195200" cy="1844640"/>
            <a:chOff x="2460600" y="4397040"/>
            <a:chExt cx="1195200" cy="1844640"/>
          </a:xfrm>
        </p:grpSpPr>
        <p:sp>
          <p:nvSpPr>
            <p:cNvPr id="296" name=""/>
            <p:cNvSpPr/>
            <p:nvPr/>
          </p:nvSpPr>
          <p:spPr>
            <a:xfrm>
              <a:off x="2612520" y="6074280"/>
              <a:ext cx="153360" cy="1674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2460600" y="4440240"/>
              <a:ext cx="211680" cy="1583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40960" y="5270400"/>
              <a:ext cx="4003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36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02800" y="4905000"/>
              <a:ext cx="153000" cy="1677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2528280" y="4397040"/>
              <a:ext cx="949680" cy="518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85600" y="4755240"/>
              <a:ext cx="4017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3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429000" y="4390920"/>
            <a:ext cx="96840" cy="419040"/>
          </a:xfrm>
          <a:prstGeom prst="line">
            <a:avLst/>
          </a:prstGeom>
          <a:ln w="572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72000" y="5089680"/>
            <a:ext cx="863640" cy="4572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728880" y="4794120"/>
            <a:ext cx="5302080" cy="460440"/>
            <a:chOff x="3728880" y="4794120"/>
            <a:chExt cx="5302080" cy="460440"/>
          </a:xfrm>
        </p:grpSpPr>
        <p:sp>
          <p:nvSpPr>
            <p:cNvPr id="305" name=""/>
            <p:cNvSpPr/>
            <p:nvPr/>
          </p:nvSpPr>
          <p:spPr>
            <a:xfrm>
              <a:off x="7230600" y="5002200"/>
              <a:ext cx="1800360" cy="252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28880" y="4917960"/>
              <a:ext cx="3473280" cy="112680"/>
            </a:xfrm>
            <a:custGeom>
              <a:avLst/>
              <a:gdLst/>
              <a:ahLst/>
              <a:rect l="l" t="t" r="r" b="b"/>
              <a:pathLst>
                <a:path w="3888" h="1901">
                  <a:moveTo>
                    <a:pt x="0" y="0"/>
                  </a:moveTo>
                  <a:cubicBezTo>
                    <a:pt x="1098" y="203"/>
                    <a:pt x="2196" y="407"/>
                    <a:pt x="2844" y="724"/>
                  </a:cubicBezTo>
                  <a:cubicBezTo>
                    <a:pt x="3492" y="1041"/>
                    <a:pt x="3690" y="1471"/>
                    <a:pt x="3888" y="1901"/>
                  </a:cubicBezTo>
                </a:path>
              </a:pathLst>
            </a:custGeom>
            <a:noFill/>
            <a:ln cap="rnd" w="9360">
              <a:solidFill>
                <a:srgbClr val="ff0000"/>
              </a:solidFill>
              <a:custDash>
                <a:ds d="100000" sp="1000"/>
              </a:custDash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17560" y="4794120"/>
              <a:ext cx="847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Times New Roman"/>
                </a:rPr>
                <a:t>317 + </a:t>
              </a:r>
              <a:r>
                <a:rPr b="0" i="1" lang="pt-BR" sz="1200" spc="-1" strike="noStrike">
                  <a:solidFill>
                    <a:srgbClr val="ff0000"/>
                  </a:solidFill>
                  <a:latin typeface="Times New Roman"/>
                </a:rPr>
                <a:t>9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670200" y="5318280"/>
            <a:ext cx="3812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0000"/>
                </a:solidFill>
                <a:latin typeface="Times New Roman"/>
              </a:rPr>
              <a:t>4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2136600" y="6225840"/>
            <a:ext cx="427320" cy="266760"/>
          </a:xfrm>
          <a:prstGeom prst="line">
            <a:avLst/>
          </a:prstGeom>
          <a:ln w="572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786040" y="5660640"/>
            <a:ext cx="1758960" cy="5238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89280" y="2513160"/>
            <a:ext cx="6242040" cy="3660120"/>
            <a:chOff x="2789280" y="2513160"/>
            <a:chExt cx="6242040" cy="3660120"/>
          </a:xfrm>
        </p:grpSpPr>
        <p:sp>
          <p:nvSpPr>
            <p:cNvPr id="312" name=""/>
            <p:cNvSpPr/>
            <p:nvPr/>
          </p:nvSpPr>
          <p:spPr>
            <a:xfrm>
              <a:off x="7230960" y="2513160"/>
              <a:ext cx="1800360" cy="252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789280" y="2781000"/>
              <a:ext cx="5378400" cy="3391920"/>
            </a:xfrm>
            <a:custGeom>
              <a:avLst/>
              <a:gdLst/>
              <a:ahLst/>
              <a:rect l="l" t="t" r="r" b="b"/>
              <a:pathLst>
                <a:path w="3888" h="1901">
                  <a:moveTo>
                    <a:pt x="0" y="0"/>
                  </a:moveTo>
                  <a:cubicBezTo>
                    <a:pt x="1098" y="203"/>
                    <a:pt x="2196" y="407"/>
                    <a:pt x="2844" y="724"/>
                  </a:cubicBezTo>
                  <a:cubicBezTo>
                    <a:pt x="3492" y="1041"/>
                    <a:pt x="3690" y="1471"/>
                    <a:pt x="3888" y="1901"/>
                  </a:cubicBezTo>
                </a:path>
              </a:pathLst>
            </a:custGeom>
            <a:noFill/>
            <a:ln cap="rnd" w="9360">
              <a:solidFill>
                <a:srgbClr val="ff0000"/>
              </a:solidFill>
              <a:custDash>
                <a:ds d="100000" sp="1000"/>
              </a:custDash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87880" y="5861160"/>
              <a:ext cx="8474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Times New Roman"/>
                </a:rPr>
                <a:t>336 + </a:t>
              </a:r>
              <a:r>
                <a:rPr b="0" i="1" lang="pt-BR" sz="1200" spc="-1" strike="noStrike">
                  <a:solidFill>
                    <a:srgbClr val="ff0000"/>
                  </a:solidFill>
                  <a:latin typeface="Times New Roman"/>
                </a:rPr>
                <a:t>1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537000" y="5756400"/>
            <a:ext cx="38088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0000"/>
                </a:solidFill>
                <a:latin typeface="Times New Roman"/>
              </a:rPr>
              <a:t>4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620880" y="4641840"/>
            <a:ext cx="384120" cy="237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776680" y="5089680"/>
            <a:ext cx="1758960" cy="1094760"/>
            <a:chOff x="2776680" y="5089680"/>
            <a:chExt cx="1758960" cy="1094760"/>
          </a:xfrm>
        </p:grpSpPr>
        <p:sp>
          <p:nvSpPr>
            <p:cNvPr id="318" name=""/>
            <p:cNvSpPr/>
            <p:nvPr/>
          </p:nvSpPr>
          <p:spPr>
            <a:xfrm>
              <a:off x="3672000" y="5089680"/>
              <a:ext cx="863640" cy="457200"/>
            </a:xfrm>
            <a:prstGeom prst="line">
              <a:avLst/>
            </a:prstGeom>
            <a:ln w="38160">
              <a:solidFill>
                <a:srgbClr val="ffcc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70560" y="5318280"/>
              <a:ext cx="38088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2776680" y="5660640"/>
              <a:ext cx="1758960" cy="523800"/>
            </a:xfrm>
            <a:prstGeom prst="line">
              <a:avLst/>
            </a:prstGeom>
            <a:ln w="38160">
              <a:solidFill>
                <a:srgbClr val="ffcc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37000" y="5756400"/>
              <a:ext cx="38124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544840" y="4410000"/>
            <a:ext cx="936720" cy="52704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786040" y="4973760"/>
            <a:ext cx="1834920" cy="1135080"/>
            <a:chOff x="2786040" y="4973760"/>
            <a:chExt cx="1834920" cy="1135080"/>
          </a:xfrm>
        </p:grpSpPr>
        <p:sp>
          <p:nvSpPr>
            <p:cNvPr id="324" name=""/>
            <p:cNvSpPr/>
            <p:nvPr/>
          </p:nvSpPr>
          <p:spPr>
            <a:xfrm flipV="1">
              <a:off x="2786040" y="5069160"/>
              <a:ext cx="731880" cy="103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94280" y="5613840"/>
              <a:ext cx="3999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4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3671640" y="5064480"/>
              <a:ext cx="949320" cy="519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76840" y="4973760"/>
              <a:ext cx="3254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41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 flipH="1">
            <a:off x="4678200" y="5289480"/>
            <a:ext cx="384480" cy="238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659040" y="5057640"/>
            <a:ext cx="879480" cy="4986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4320" y="2101680"/>
            <a:ext cx="4919400" cy="4486320"/>
          </a:xfrm>
          <a:custGeom>
            <a:avLst/>
            <a:gdLst/>
            <a:ahLst/>
            <a:rect l="l" t="t" r="r" b="b"/>
            <a:pathLst>
              <a:path w="3099" h="2826">
                <a:moveTo>
                  <a:pt x="198" y="1596"/>
                </a:moveTo>
                <a:cubicBezTo>
                  <a:pt x="18" y="1424"/>
                  <a:pt x="0" y="798"/>
                  <a:pt x="42" y="541"/>
                </a:cubicBezTo>
                <a:cubicBezTo>
                  <a:pt x="84" y="284"/>
                  <a:pt x="234" y="0"/>
                  <a:pt x="453" y="52"/>
                </a:cubicBezTo>
                <a:cubicBezTo>
                  <a:pt x="672" y="104"/>
                  <a:pt x="1056" y="706"/>
                  <a:pt x="1354" y="852"/>
                </a:cubicBezTo>
                <a:cubicBezTo>
                  <a:pt x="1652" y="998"/>
                  <a:pt x="1975" y="680"/>
                  <a:pt x="2243" y="930"/>
                </a:cubicBezTo>
                <a:cubicBezTo>
                  <a:pt x="2511" y="1180"/>
                  <a:pt x="3099" y="2058"/>
                  <a:pt x="2965" y="2352"/>
                </a:cubicBezTo>
                <a:cubicBezTo>
                  <a:pt x="2831" y="2646"/>
                  <a:pt x="1749" y="2826"/>
                  <a:pt x="1442" y="2696"/>
                </a:cubicBezTo>
                <a:cubicBezTo>
                  <a:pt x="1135" y="2566"/>
                  <a:pt x="1327" y="1756"/>
                  <a:pt x="1120" y="1574"/>
                </a:cubicBezTo>
                <a:cubicBezTo>
                  <a:pt x="913" y="1392"/>
                  <a:pt x="378" y="1768"/>
                  <a:pt x="198" y="1596"/>
                </a:cubicBezTo>
                <a:close/>
              </a:path>
            </a:pathLst>
          </a:custGeom>
          <a:noFill/>
          <a:ln w="284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9280" y="6381720"/>
            <a:ext cx="86364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79280" y="1413000"/>
            <a:ext cx="86364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E2C5-79D6-448A-85C2-A0EC2B358A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000"/>
                            </p:stCondLst>
                            <p:childTnLst>
                              <p:par>
                                <p:cTn id="7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8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7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9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 – Passo a Passo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1776" t="0" r="3088" b="94248"/>
          <a:stretch/>
        </p:blipFill>
        <p:spPr>
          <a:xfrm rot="60000">
            <a:off x="1009800" y="1892160"/>
            <a:ext cx="8134200" cy="74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E301-17D1-435B-94DE-42F41B125F0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 – Passo a Passo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1776" t="5763" r="3088" b="83640"/>
          <a:stretch/>
        </p:blipFill>
        <p:spPr>
          <a:xfrm rot="60000">
            <a:off x="1009800" y="1985760"/>
            <a:ext cx="813420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B02A-6EA7-4BF0-B925-044DECFC720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 – Passo a Passo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1776" t="16880" r="3088" b="67576"/>
          <a:stretch/>
        </p:blipFill>
        <p:spPr>
          <a:xfrm rot="60000">
            <a:off x="1009440" y="1993680"/>
            <a:ext cx="8134200" cy="201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9339-1595-4F09-9FEE-0047166CFC1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 – Passo a Passo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rcRect l="2779" t="32944" r="1853" b="46739"/>
          <a:stretch/>
        </p:blipFill>
        <p:spPr>
          <a:xfrm rot="60000">
            <a:off x="1042560" y="2084400"/>
            <a:ext cx="7740720" cy="249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4128-548C-48A5-B0F9-A4DAF6439EF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eurístic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Informação específica do domínio que pode ser usada para guiar o processo de bus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muitos casos uma heurística envolve a aplicação de uma função que avalia um nó particular e prediz a qualidade dos seus nós sucess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função heurística de avaliação no jogo-da-velha poderia ser o número de linhas, colunas e diagonais ainda disponíveis, quanto maior este número maior a chance de vitó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9566-3949-4751-AEBD-95E9F20308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 – Passo a Passo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rcRect l="2779" t="53863" r="1853" b="24683"/>
          <a:stretch/>
        </p:blipFill>
        <p:spPr>
          <a:xfrm rot="60000">
            <a:off x="971640" y="2016000"/>
            <a:ext cx="7740720" cy="263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C3FA-FE7A-4F3D-BBD3-DA994C7FD8A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 – Passo a Pass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rcRect l="6755" t="75328" r="849" b="612"/>
          <a:stretch/>
        </p:blipFill>
        <p:spPr>
          <a:xfrm rot="60000">
            <a:off x="969840" y="1977840"/>
            <a:ext cx="8066160" cy="317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BDC3-1D7E-4B39-A3A3-3E08354E2FF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 rot="60000">
            <a:off x="3848040" y="187200"/>
            <a:ext cx="4405320" cy="6669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187280" y="2060640"/>
            <a:ext cx="2376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tágios em uma busca A* por Bucareste. Os nós estão rotulados      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Os valores de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são distâncias em linha reta para Bucares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BB47-DE49-414D-8A64-09278F17081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4560" y="1773000"/>
            <a:ext cx="7705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Desempenho do A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análise do caráter ótimo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pt-BR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direta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for usada com BUSCA-EM-ÁRVORE: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pt-BR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erá ótima se h(n) for um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eurística admissíve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eqüência mais importante d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sistênc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também chamad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notonic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é: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pt-BR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usando BUSCA-EM-GRAFO é ótima se h(n) é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onsiste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9D4E-FA52-4106-B65E-73F767D282C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71280" y="155700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Desempenho do A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* é completa e ótima s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 for admissível ou consis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admissíve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nunca superestima o custo de atingir a m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consistente (ou monotônic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’ é sucessor de n, gerado pela ação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,a,n’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é o custo de sair de n e atingir n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e h é consistente, os valores de 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ao longo de qualquer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aminho são não-decresc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2556000" y="4292640"/>
                <a:ext cx="5184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c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,a,n’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’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n, n’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8F2D-2A51-4B40-8897-2F12B1CCEE0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71280" y="155700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Desempenho do A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* é otimamente eficiente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nhum outro algoritmo ótimo garante expandir menos nós que A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elizmente há, na maioria das vezes, crescimento exponencial do número de nós com o comprimento da solução (complexidade tempor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maior problema é a complexidade espacial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* armazena todos os nós gera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im, A* não é aplicável em muitos problemas de grande escala. Usa-se variantes que encontram soluçõe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bótim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F7E7-FFE1-44F7-8EA2-F27B6CBF131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m Memória Limitad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DA* (Iterative Deepening A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gual ao aprofundamento iterativo, porém seu limite é dado pela função de avaliação (f) , e não pela profundidade (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cessita de menos memória do que A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MA* (Simplified Memory-Bounded A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número de nós guardados em memória é fixado previ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1B23-FA95-41A3-BA27-582D260022C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olução de problema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sando técnicas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usca heuríst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ficuldades em definir e usar 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unção de avali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consideram conhecimento genérico do mundo (ou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“senso comum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ão de avaliação: compromisso (conflito) 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po gasto na seleção de um nó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ução do espaço de bus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char o melhor nó a ser expandido a cada passo pode ser tão difícil quanto o problema da busca em g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C820-67D3-4288-8FCD-EBD2EB7471B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280" y="155700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Os problemas de IA empregam heurísticas, basicamente, em duas situaçõ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  Um problema pode não ter uma solução exata por causa das ambigüidades inerentes na sua formulação ou pela disponibilidade dos d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Diagnóstico médico, Sistemas de vis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 problema pode ter uma solução exata, mas o custo computacional para encontrá-la pode ser proibi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Jogo de xadre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46C9-57C9-4D78-B6F9-07CB8D1FC2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5640" y="1699920"/>
            <a:ext cx="7559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heurísticas podem falh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a heurística é apenas uma conjectura informada sobre o próximo passo a ser tomado na solução de um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heurística é baseada na experiência e na intui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a heurística pode levar um algoritmo de busca a uma solução subótima ou, inclusive, levá-lo a não conseguir encontrar uma solu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5877000"/>
            <a:ext cx="77770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orge Polya define heurística como “o estudo dos métodos e das regras de descoberta e invenção” (Polya, 1945) – relacionada com o termo grego original, o verbo eurisco (“Eu descubro”). Quando Arquimedes emergiu de seu famoso banho segurando a coroa de ouro, ele gritou “Eureka!” (“Eu descobri!”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3E20-781C-4C62-9776-42372B2C8E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9930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 – Exemplo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58920" y="1847880"/>
            <a:ext cx="5616720" cy="50101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77708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rção do espaço de estados para o jogo-da-vel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2421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91280" y="3716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93080" y="4941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64360" y="5734080"/>
            <a:ext cx="36036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67640" y="335772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de caminhos =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9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0CE8-1B72-40BF-9AB9-E6E7CBFC73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9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 – Exemplo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280" y="1483920"/>
            <a:ext cx="77770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 primeiros três níveis do espaço de estados do jogo-da-velha reduzidos por simet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195640" y="2349360"/>
            <a:ext cx="6264000" cy="4349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042920" y="2349360"/>
            <a:ext cx="280836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3 movimentos iniciais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ara o ca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ara o centro de um l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ara o centro da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D228-4D0D-47A6-A7A6-578A277AA5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116000" y="1773000"/>
            <a:ext cx="7416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heurística do “maior número de vitórias” aplicada aos primeiros filhos do jogo-da-velh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2997360"/>
            <a:ext cx="6697800" cy="19270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971280" y="333360"/>
            <a:ext cx="79930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 – Exemplo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95A9-60AD-4C24-8C44-CA82880116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27280" y="1844640"/>
            <a:ext cx="4427640" cy="4942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42560" y="1557360"/>
            <a:ext cx="7777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paço de estados reduzido heuristicamente para o jogo-da-velh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971280" y="333360"/>
            <a:ext cx="79930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 – Exempl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D2AE-BB06-4EC4-BEE0-00711B5D6D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5-29T09:35:49Z</dcterms:modified>
  <cp:revision>463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