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65A-6AAB-4318-BBA9-FCD35FD5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8C9-22E7-4F58-BF55-47882920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8FB-931D-48BD-9C91-1423A063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E10-D387-4603-9C9F-94D70C7B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5FFE9-D436-40B5-969D-E81B87C697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9E835-7B17-468C-94EC-EF9950E3FE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3E66D-6EEF-471D-B9BD-333D9D929F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F5414-ECCF-412D-A689-382EE8C4AB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CFD5A-E2B2-43D6-92A1-9797E8BD1C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4D708-7154-4AAD-9669-46F1D13B77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8A329-6DCA-4D28-A82B-25B8765D82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64C-A4FC-4399-9B48-48488AF6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19B34-59D0-4EA7-B596-1436544C9B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42183-40BE-445E-871C-243349D226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ADBD2-716B-4550-A2FA-1BE6BCC3CE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8A585-3BF8-4366-8412-D450019EE8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0A1F7-6646-4969-AECE-095810316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A42-C43B-4F66-AAAB-B4271CC5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4FE-29DC-405E-BA11-F53C3308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101-FFCC-4990-8D4B-64C3441D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C39-4332-44CA-98FB-88BDE59C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50A-9342-4849-82B9-2EBF0F21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AE1-EC07-40CD-AD18-690C5732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91A-E3AC-47FF-B4A9-881593BB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852E-A5A0-4916-85AD-27E842102049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FFE9-E291-4974-ABC0-9DB4F8D4296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s.unm.edu/~luger/ai-final/" TargetMode="External"/><Relationship Id="rId2" Type="http://schemas.openxmlformats.org/officeDocument/2006/relationships/hyperlink" Target="http://www.cs.unm.edu/~luger/ai-final/" TargetMode="External"/><Relationship Id="rId3" Type="http://schemas.openxmlformats.org/officeDocument/2006/relationships/hyperlink" Target="http://www.cs.unm.edu/~luger/ai-final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Profundidade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z uma busca sistemática em cada filho de um nó até encontrar a m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 caminho para se chegar ao nó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usando busca em profundidade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inho = { B, F, C, E, J, K, D, G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84360" y="3357720"/>
            <a:ext cx="4403880" cy="3184200"/>
            <a:chOff x="2484360" y="3357720"/>
            <a:chExt cx="4403880" cy="3184200"/>
          </a:xfrm>
        </p:grpSpPr>
        <p:graphicFrame>
          <p:nvGraphicFramePr>
            <p:cNvPr id="123" name=""/>
            <p:cNvGraphicFramePr/>
            <p:nvPr/>
          </p:nvGraphicFramePr>
          <p:xfrm>
            <a:off x="2484360" y="3357720"/>
            <a:ext cx="4403880" cy="318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4360" y="3357720"/>
                      <a:ext cx="4403880" cy="31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3546360" y="371016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64000" y="371016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00360" y="4581360"/>
              <a:ext cx="183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64000" y="4508640"/>
              <a:ext cx="1839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95640" y="5300640"/>
              <a:ext cx="2890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0000" y="450864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72360" y="4508640"/>
              <a:ext cx="1839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27640" y="5516640"/>
              <a:ext cx="18432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56000" y="4724280"/>
              <a:ext cx="1843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56000" y="3933720"/>
              <a:ext cx="1843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76720" y="5516640"/>
              <a:ext cx="18396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108-C042-4991-ACA9-0113E4E16F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Profundidade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rante uma solução, mas a busca pode ser muito demo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uitas ramificações diferentes podem ter que ser consideradas até o nível mais profundo antes de uma solução ser at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C09-DF20-4E19-A97C-740F2DF38A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1773360"/>
            <a:ext cx="7345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dem de expansão dos nó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 Nó ra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Todos os nós de profundidad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Todos os nós de profundidade 2, et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ADC-5085-4292-A541-3C84972816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57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ós em cada nível da árvore são completamente examinados antes de se mover para o próximo ní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busca em largura sempre encontrará o menor caminho entre o estado inicial e o estado-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enor caminho é o caminho com o menor número de passos (não confundir com o caminho de menor cus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ECE-162B-41F0-A4D8-0E55A8F20F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z uma busca sistemática examinando primeiro os módulos próximos à rai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aminho para encontrar o nó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usando a Busca em Largura: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inho = { B, F, D, A, C, E, G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84360" y="3357720"/>
            <a:ext cx="4403880" cy="3184200"/>
            <a:chOff x="2484360" y="3357720"/>
            <a:chExt cx="4403880" cy="3184200"/>
          </a:xfrm>
        </p:grpSpPr>
        <p:graphicFrame>
          <p:nvGraphicFramePr>
            <p:cNvPr id="146" name=""/>
            <p:cNvGraphicFramePr/>
            <p:nvPr/>
          </p:nvGraphicFramePr>
          <p:xfrm>
            <a:off x="2484360" y="3357720"/>
            <a:ext cx="4403880" cy="318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4360" y="3357720"/>
                      <a:ext cx="4403880" cy="31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546360" y="371016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64000" y="371016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00360" y="4581360"/>
              <a:ext cx="183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000" y="4508640"/>
              <a:ext cx="1839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95640" y="5300640"/>
              <a:ext cx="2890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80000" y="450864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72360" y="4508640"/>
              <a:ext cx="1839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27640" y="5516640"/>
              <a:ext cx="18432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56000" y="4724280"/>
              <a:ext cx="1843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56000" y="3933720"/>
              <a:ext cx="1843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720" y="5516640"/>
              <a:ext cx="18396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5E9-44C0-4D38-810E-FA02C6D3CD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térios importantes na análise de um algoritmo de bus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mpletez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 algoritmo oferece a garantia de encontrar uma solução quando ela existi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timiz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estratégia encontra a solução ótima (tem o menor custo de caminho entre todas as soluçõe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mplexidade de temp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Quanto tempo ele leva para encontrar uma solu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mplexidade de espaç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Quanto de memória é necessário para executar a bus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EEF-F55D-4640-9683-DAD117DAF6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692360" y="1700280"/>
          <a:ext cx="6095880" cy="2879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é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ca em Larg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ca em Profundid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tim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b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+1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b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ç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b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+1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b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042920" y="4941720"/>
            <a:ext cx="7850160" cy="16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- fator de ramificação;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profundidade da solução mais "rasa";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profundidade máxima da árvore de busca;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l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limite de profund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notações sobrescritas: 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completa se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é finito; 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completa se o custo do passo é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≥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positivo; 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- ótima se os custos dos passos são todos idênticos; 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d</a:t>
            </a:r>
            <a:r>
              <a:rPr b="0" lang="pt-BR" sz="20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se ambos os sentidos utilizam busca em extens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E44-6192-4676-B03D-85D916BC01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plosão combinator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ando o número de alternativas a serem exploradas é tão grande que o problema de complexidade torna-se crí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e cada nó no espaço de estados te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cessores, então o número de caminhos de compriment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partir do nó inicial 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assumindo que não há cicl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número de caminhos candidatos à solução é exponencial com relação ao seu compr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estratégias de busca em profundidade e em largura não fazem nada para combater esta complexidade: todos os caminhos candidatos são tratados como igualmente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CE0-7C35-48F3-984B-123543E69F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850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buscas em profundidade e em largura não precisam ser realizadas em uma ordem específic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se tratando de memória utilizada, na busca em profundidade é preciso armazenar todos os filhos não visitados de cada nó entre nó atual e nó ini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busca em largura, antes de examinar nó a uma profundida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é necessário examinar e armazenar todos os nodos a uma profundida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1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3A7-60A0-4EC6-B152-21ADE92A74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profundidade utiliza menos memór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ao tempo, a busca em profundidade é geralmente mais ráp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s de busca cega não examinam a árvore de forma ótima, o que poderia minimizar o tempo gasto para resolver o probl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34A-98D3-48FA-9A01-7BF2B63510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989000"/>
            <a:ext cx="7128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Busca de Solu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2C1-C66A-400D-94DB-57BD14E954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63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buscas em largura e profundidade não fazem uso de nenhum conhecimento para encontrar sua solução, fazendo uma busca exaustiva dentro do seu espaço. Para contornar este problema, pode-se usar 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étodos heuríst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4F1-93F7-45DE-9A37-743AA0C5BC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monstr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8099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Luger, G. F.,  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Artificial Intelligence: Structures and Strategies for Complex Problem Solving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, 5 Ed.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Largura (= 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readth-first searc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 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F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Profundidade (=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pth-first searc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 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F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D8A-5784-4CF7-AB56-5ED436E470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700280"/>
            <a:ext cx="7488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em todo o espaço de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de uma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Árvor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e bus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xplícita – gerada pelo estado inicial e pela função suces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de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raf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e bus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substituindo a árvore de busca) – o mesmo estado pode ser alcançado a partir de vários camin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AB3-0C58-4867-A8C2-C8C3C3C266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paço de Estados do Problem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56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roblema pode ser visto como uma tripla: 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estados ini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conjunto de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estados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solução para o problema é uma seqüência finita de operações que permite sair de um elemento e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chegar a um elemento e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9CA-DE3F-49BD-AEFB-922B78C296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paço de Estados do Problem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85076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sistema de resolução de problemas compor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njunto de estruturas de dados organizada em um graf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njunto de operadores caracterizados por suas condições de aplicação e sua 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estrutura de controle implementando a estratégia de re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D8C-0516-4AC0-9063-538E14AB41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tratégias de Bus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36720" y="1557360"/>
            <a:ext cx="8028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bordagens de busca básicas num espaço de es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Ceg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Sem informação/Não inform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tem informação sobre qual sucessor é mais promissor para atingir a m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Heurístic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Busca Com Informação/Inform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ui informação (estimativa) de qual sucessor é mais promissor para atingir a m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busca cega com algum guia ou orientaçã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das as estratégias de busca se distinguem pela ordem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 que os nós são expa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8C6-1DD5-45CA-AF69-4A68D15B0B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tratégias de Busca Ceg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1916280"/>
            <a:ext cx="6912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cc"/>
                </a:solidFill>
                <a:uFillTx/>
                <a:latin typeface="Arial"/>
              </a:rPr>
              <a:t>Busca em Larg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de Custo 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cc"/>
                </a:solidFill>
                <a:uFillTx/>
                <a:latin typeface="Arial"/>
              </a:rPr>
              <a:t>Busca em Profund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Profundidade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Profundidade com Aprofundamento It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Bidire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ndo Estados Repe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com Conhecimento Incompl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0AB-F721-4068-BA0A-E7EC04DDCC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Profundidade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844640"/>
            <a:ext cx="7705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dem de expansão dos nó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 Nó ra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Primeiro nó de profundidad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Primeiro nó de profundidade 2, et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D93-783A-4E7E-91F3-DA232BB213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Profundidade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74995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ça na raiz e avança para baixo em níveis cada vez mais profun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operador é aplicado a um nó para gerar o próximo nó mais profundo na seqüê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cesso continua até que uma solução é encontrada ou um retrocesso é forçado ao atingir-se um nó terminal que não é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217-6DB4-46F5-A8FC-B418E8C9A3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6-26T16:41:06Z</dcterms:modified>
  <cp:revision>411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