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DD7-83D0-4B7C-81B7-3D05B656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494-6592-42CC-98A6-C4CE5E16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EEE-88BA-4658-B204-01265D6D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774-5B19-46EE-B134-10D5EAEA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D8BB6-4361-4712-8485-A0B41694C3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C3A4A-5653-4E30-A4E3-F13EFAA4E7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0032A-64A5-471E-8EF4-02D29348B5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810B1-AF34-461B-A6BD-9747CDBF07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4F97A-4AFC-4F90-AFA0-BCBB1C8564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269FF-04AF-4EA2-95CF-1C44C1703B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0EEA2-D327-4822-A01E-BDCB392B9D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A14-FD14-4BD0-ACE9-FA4D7B63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FF1E1-565E-449F-9900-0AE41CB1FB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29020-3ED2-4FCC-8185-B8B7FBFB7C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DEFA1-88BA-457E-A1B9-DF8229BA7E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34EC7-C2DB-46FD-9436-7D2683755A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99176-9C09-4865-A020-0A3AF8A238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265-A4F8-4871-BB15-AF84603E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77F-AACB-4144-A383-0DD165BB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4D0-09E3-4B37-880A-837435B7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13A-8EA8-49DA-852E-3EBB2193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AF5-E34C-4AE0-BC92-4B0B061E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A03-14F6-4168-B71F-6A457A7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069-C2D2-4833-9274-D65EF0D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1A81-5A68-47BC-A3AA-B64200EF107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97B1-CD79-429C-A405-91FE1E7A718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632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1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ndo do aspirador de pó com apena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2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568800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6CA-404E-406F-98EA-22FB761990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4360" y="169992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Mundo do Aspirador de Pó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gente está em uma entre duas posições, cada uma das quais pode conter sujeira ou n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á 2 x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8 estados do mundo possí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estado pode ser designado como estado in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 os estados válidos que resultam da tentativa de executar as três açõe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quer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re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spir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C48-B65F-4B0D-B80B-236DF5540F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7040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paço de estados para o mundo do aspirador de p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875640" cy="334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87280" y="6237360"/>
            <a:ext cx="7488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s arcos denotam ações: E = Esquerda, D = Direita, A = Aspi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04D-38A8-4680-80C3-D8BA721CE8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Mundo do Aspirador de Pó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todos os quadrados estão lim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asso custa 1, e assim o custo do caminho é o número de passos do camin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miniproblema tem posições discretas, sujeira discreta, limpeza confiável e nunca é desorganizado depois de li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 co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ões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2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D5F-2E3F-46B3-B775-1EBD0B5F34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77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2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instância típica do quebra-cabeça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8 peç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5977080" cy="30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8D6-55C1-4339-8972-D2EF4EF309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Quebra-cabeça de 8 Peças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descrição de estado especifica a posição de cada uma das oito peças e do espaço vazio em um dos nove quad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estado pode ser designado como estado in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 os estados válidos que resultam da tentativa de executar as três ações (o espaço vazio se desloca para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quer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re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cim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baix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23C-17E2-4E3B-9C4B-0C1DC713BE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Quebra-cabeça de 8 peças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o estado corresponde à configuração de objetivo mostrada na figura (São possíveis outras configurações de objet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asso custa 1, e assim o custo do caminho é o número de passos do camin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502-A67F-4F30-BCD3-E616AFDC66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Quebra-cabeça de 8 Peças - Formul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strações incluí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ções são reduzidas a seus estados iniciais e finais, ignorando-se as posições intermediárias por onde o bloco está desliz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am abstraídas ações como sacudir o tabuleiro quando as peças ficam presas ou extrair as peças com uma faca e colocá-las de volta no tabul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9B6-E214-49DD-B6FC-2288AA76B2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Quebra-cabeça de 8 Peças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tence à família de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ebra-cabeças de blocos desliza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usados com freqüência como problemas de teste para novos algoritmos de busca em 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úmero de estados acess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bra-cabeça de 8 peças: 9!/2 = 181.4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bra-cabeça de 15 peças (tabuleiro de 4 x 4): aproximadamente 1,3 trilhão (instâncias aleatórias podem ser resolvidas de forma ótima em algun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los melhores algoritmos de bus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bra-cabeça de 24 peças (tabuleiro 5 x 5): cerca de 10 estados (difíceis de resolver de forma ótima com as máquinas e os algoritmos atu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690-E1EB-48C3-A3B8-EC1C01DE88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8172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3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das 8 Ra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posicionar 8 rainhas em um tabuleiro de xadrez de tal forma que nenhuma rainha ataque qualquer outra (uma rainha ataca qualquer peça situada na mesma linha, coluna ou diag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19640" y="3357720"/>
            <a:ext cx="2881080" cy="292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08000" y="6308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a quase solução para o problema das 8 rain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781-073D-41D2-BA44-890C8DDCAA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solução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989000"/>
            <a:ext cx="7128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paço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052-218E-47A1-9DC2-D7AB0C356E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177768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as 8 Rainhas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ulação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ulação de estados compl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426-3FBB-45A3-8129-15ED25A437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634760"/>
            <a:ext cx="80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as 8 Rainhas – Formulação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disposição de 0 a 8 rainhas no tabuleiro é um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nhuma rainha no tabul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locar uma rainha em qualquer quadrado vaz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rainhas estão no tabuleiro e nenhuma é ata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qüências possíveis de investigaçã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4 x 63 x ... x 57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≈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08A-366D-4A58-B03B-49F8AC342A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1490400"/>
            <a:ext cx="80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as 8 Rainhas – Formulação Incremental Melho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ibir a colocação de uma rainha em qualquer quadrado que já estiver sob ata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estados são disposições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ainhas (0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≤ 8), uma por coluna n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colunas mais à esquerda, sem que nenhuma rainha ataque ou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icione uma rainha a qualquer quadrado na coluna vazia mais à esquerda de tal modo que ela não seja atacada por qualquer outra rain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aço de estados: 2.0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45D-0C96-4591-AC13-D5C2951ED3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e Roteamento: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a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teamento em redes de compu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ejamento de operações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e planejamento de viagens aé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0B2-B7D9-4A4B-B540-E048E66648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e Viagens Aéreas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um é representado por uma posição (p.ex.: um aeroporto) e pela hora a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especificado pel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torna os estados resultantes de tomar qualquer vôo programado que parte depois da hora atual somada ao tempo de trânsito no aeroporto, desde o aeroporto atual até ou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mos no destino após algum tempo especific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FAE-5D2F-4F09-8BFD-E9E8533F5E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634760"/>
            <a:ext cx="80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e Viagens Aéreas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e do custo monetário, do tempo de espera, do tempo de vôo, dos procedimentos alfandegários, da hora do di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sistema realmente bom deve incluir planos de contingência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eservas substitutas em vôos altern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1E2-A404-4CF2-A5FF-5F965B3005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1280" y="1706400"/>
            <a:ext cx="806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s de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our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eitamente relacionados aos problemas de rote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erenç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ada estado deve incluir não apenas a posição atual, mas também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junto de cidades que o agente visit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A3C-CC3B-488E-8E46-3D64B4C403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280" y="170640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Caixeiro-Viajante (PCV)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ou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 que cada cidade deve ser visitada exatamente uma v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ncontrar o percurso mais cu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aplic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lanejamento do movimento de máquinas automáticas para perfuração de placas de circuitos e de máquinas industriais em fábr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C1A-3D45-4A89-806B-4F0EA10518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7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e Layout de VLSI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ge o posicionamento de milhões de componentes e conexões em um chip para minimizar a área, os retardos de circuitos e as capacitâncias de fuga e maximizar o rendimento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são usu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yout de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teamento de ca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147-0F07-4023-A605-F8C45ECB16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5640" y="170640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a Navegação de Robôs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neralização do problema de rote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 robô pode se mover em um espaço contínuo com (em princípio) um conjunto infinito de ações e estados poss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bô com movimento circular sobre uma superfície plana: espaço bidimen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bô com braços e pernas ou rodas – espaço de busca com várias dimens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444-4252-44BA-9DFD-7FBE46C9A0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solução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989000"/>
            <a:ext cx="7128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dica-se ao estudo e elaboração de algoritmos, capazes de resolver, por exemplo, problemas considerados intratáveis do ponto de vista da computação conven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480-6BB4-4400-B650-E4974B5830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a Seqüência Automática de Montagem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ncontrar uma ordem na qual devem ser montadas as peças de algum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 problema de montagem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 de proteín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ncontrar uma seqüência de aminoácidos que serão incorporados em uma proteína tridimensional com as propriedades adequadas para curar alguma doe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70A-C873-4FE6-8BA1-0BD64A2C9C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e Pesquisas na Internet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rocurar respostas para perguntas, informações inter-relacionadas ou oportunidades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674-D2FB-429C-ACC5-D30E3197FF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solução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63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óximos pass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 busca de 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814-8E11-422E-9661-E3A3427DB5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solução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4200" y="169992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eiros problemas por computador: prova automática de teoremas e jo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acidade de cálculo e memória dos computadores: insuficientes perante o enorme número de caminhos de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jogo de xad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dos objetivos de 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esolver problemas que o homem não sabe resolver facilmente ou num tempo razoável, desde que sejam completamente form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689-81E3-427F-B785-EF139A087E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bra-cabeças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aixeiro Viaj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álculo Integral 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ilhamento de blocos: a partir de uma configuração de blocos iniciais, qual a seqüência de movimentos para se chegar a uma configuraçã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Oito Ra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Torres de Hanó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2DE-BC14-4F58-A122-27488D7C86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ormulação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56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6E0-52F5-4C6C-A259-F945F4D1E5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blemas e soluções bem defini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4904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atro componentes para definir um problem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 que o agente come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Uma descrição d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ssíveis que estão disponíveis para o ag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ulação mais comum: uso de u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 inicial e função sucessor: definem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paço de est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inh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 espaço de estados – seqüência de estados conectados por uma seqüência de 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determina se um dado estado é um estado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. Funçã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tribui um custo numérico a cada cami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EC4-D2E9-48D9-BA57-A4535AA674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ni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do para ilustrar ou exercitar diversos métodos de resolução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ter uma descrição concisa e exata – pode ser utilizado com facilidade por diferentes sistemas de busca, com a finalidade de comparar o desempenho de algorit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 do mund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dem a não apresentar uma única descrição consensual, mas é possível fornecer uma idéia geral de suas formul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05A-C58C-4FBA-A8F1-A96834F88D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: Mini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ndo do Aspirador de P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o Quebra-cabeça de 8 Pe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as 8 Rain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: Problemas do mund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Rote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Viagens Aé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o Caixeiro Viaj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Layout de V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Navegação de Robô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a Seqüência Automática de Mont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Pesquisas n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BB1-D3FB-48A2-8638-0352CE8ADE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08-15T17:54:44Z</dcterms:modified>
  <cp:revision>347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