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3B6-8583-4BCF-901A-2FA82142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BCF-8ADC-465C-A53E-5D024A5D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7B9-45CD-4BB5-89FC-6BCABC60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EC7-A776-49DF-A6BB-9F892831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07EDB-6C08-41F2-8C30-73005F8E0D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F00E8-4AF6-484D-BEE7-1E3E9408EA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45EB1-CDBC-484B-ADA2-37A410806C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CDE4A-0432-44B4-9BCE-83C26EE265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BFC86-2F7F-44EE-90A3-7CC2BF74B7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B74E8-4AE4-499D-BF68-EC1869B8F7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B2841-4B45-4928-9166-BF16740B70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49A-13E6-45C2-A98E-4AFB25C0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DA593-8D5C-468C-949A-186F47679A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401CE-8F76-4484-861A-AE4AB9BD0C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E8FF6-B77F-4FFB-ADBC-483C5B237F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37C53-1C21-4F68-A83F-AC26E5797F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07F16-5A3A-4027-9BA9-583BC2A175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C24-54BF-491F-86DA-34A1A470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942-D9D8-4F75-A159-B16C70DA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F20-9D7C-4C4B-A96F-2A6510DD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DC1-004B-4986-9512-A82A9BE4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B80-B776-4412-AE1B-A7111E00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989-C9FA-4717-A53F-D367AD99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484-2792-40F9-8581-4DF87761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42F4-9C95-4EB8-BE05-CA9DCF88EA75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237000"/>
            <a:ext cx="576360" cy="620640"/>
            <a:chOff x="34920" y="6237000"/>
            <a:chExt cx="576360" cy="620640"/>
          </a:xfrm>
        </p:grpSpPr>
        <p:sp>
          <p:nvSpPr>
            <p:cNvPr id="8" name=""/>
            <p:cNvSpPr/>
            <p:nvPr/>
          </p:nvSpPr>
          <p:spPr>
            <a:xfrm>
              <a:off x="34920" y="6733800"/>
              <a:ext cx="57636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67480" y="643392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1560" y="6236640"/>
              <a:ext cx="31356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69640" y="644328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63000" y="6246360"/>
              <a:ext cx="3153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2060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7654-865F-4A34-A873-B903EB35D3D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6308280"/>
            <a:ext cx="576000" cy="476640"/>
            <a:chOff x="324000" y="6308280"/>
            <a:chExt cx="576000" cy="476640"/>
          </a:xfrm>
        </p:grpSpPr>
        <p:sp>
          <p:nvSpPr>
            <p:cNvPr id="56" name=""/>
            <p:cNvSpPr/>
            <p:nvPr/>
          </p:nvSpPr>
          <p:spPr>
            <a:xfrm>
              <a:off x="324000" y="66898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560" y="64594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351000" y="63079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8360" y="64666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352440" y="63154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rot="16200000">
            <a:off x="-2583360" y="3996360"/>
            <a:ext cx="538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Fonte: José Francisco Salm Junior (Diretor de Engenharia de Sistemas Instituto Stel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a Ag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Adicional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28320" y="620640"/>
            <a:ext cx="78073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Reativo Simp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0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cionará somente se a decisão correta puder ser tomada com base apenas na percepção a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biente completamente observ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 de alguns probl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lvez somente uma imagem não é suficiente para determinar se o carro da frente esta dando sinal de mudança de direção, alerta ou fre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C41-E651-408A-8B10-DCD59553D77B}" type="slidenum">
              <a:t>10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3454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Reativo Baseado em Model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16000" y="2205000"/>
            <a:ext cx="7703640" cy="3327120"/>
            <a:chOff x="1116000" y="2205000"/>
            <a:chExt cx="7703640" cy="3327120"/>
          </a:xfrm>
        </p:grpSpPr>
        <p:sp>
          <p:nvSpPr>
            <p:cNvPr id="137" name=""/>
            <p:cNvSpPr/>
            <p:nvPr/>
          </p:nvSpPr>
          <p:spPr>
            <a:xfrm>
              <a:off x="1979640" y="2347200"/>
              <a:ext cx="6840000" cy="318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727280" y="5286960"/>
              <a:ext cx="67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37000" y="2655000"/>
              <a:ext cx="66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25040" y="2522160"/>
              <a:ext cx="10749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ns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16000" y="2347200"/>
              <a:ext cx="606600" cy="3122640"/>
            </a:xfrm>
            <a:custGeom>
              <a:avLst/>
              <a:gdLst>
                <a:gd name="textAreaLeft" fmla="*/ 21960 w 606600"/>
                <a:gd name="textAreaRight" fmla="*/ 584640 w 606600"/>
                <a:gd name="textAreaTop" fmla="*/ 21960 h 3122640"/>
                <a:gd name="textAreaBottom" fmla="*/ 3100680 h 3122640"/>
              </a:gdLst>
              <a:ahLst/>
              <a:rect l="textAreaLeft" t="textAreaTop" r="textAreaRight" b="textAreaBottom"/>
              <a:pathLst>
                <a:path w="21600" h="111139">
                  <a:moveTo>
                    <a:pt x="2699" y="0"/>
                  </a:moveTo>
                  <a:arcTo wR="2699" hR="2699" stAng="16200000" swAng="-5400000"/>
                  <a:lnTo>
                    <a:pt x="0" y="108440"/>
                  </a:lnTo>
                  <a:arcTo wR="2699" hR="2699" stAng="10800000" swAng="-5400000"/>
                  <a:lnTo>
                    <a:pt x="18901" y="111139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34000" y="2205000"/>
              <a:ext cx="870840" cy="31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g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94480" y="3122640"/>
              <a:ext cx="24526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al é a aparência atual 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und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94560" y="2848320"/>
              <a:ext cx="0" cy="32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751640" y="2905920"/>
              <a:ext cx="71460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4320" y="4419000"/>
              <a:ext cx="1806840" cy="53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Regr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ondição-ação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32120" y="2732400"/>
              <a:ext cx="31950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cccc66"/>
                  </a:solidFill>
                  <a:latin typeface="Arial"/>
                </a:rPr>
                <a:t>estado</a:t>
              </a:r>
              <a:r>
                <a:rPr b="0" i="1" lang="pt-BR" sz="1600" spc="-1" strike="noStrike">
                  <a:solidFill>
                    <a:srgbClr val="cccc66"/>
                  </a:solidFill>
                  <a:latin typeface="Arial"/>
                </a:rPr>
                <a:t>: como o mundo era a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20240" y="3164400"/>
              <a:ext cx="2116080" cy="31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mo o mundo evolu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461120" y="4660560"/>
              <a:ext cx="20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4808520" y="3344400"/>
              <a:ext cx="74520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751640" y="3281760"/>
              <a:ext cx="74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63840" y="5151240"/>
              <a:ext cx="11527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tu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98080" y="4523400"/>
              <a:ext cx="23965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e ação devo executar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gora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698040" y="3905640"/>
              <a:ext cx="14680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 m b i e n t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85560" y="4848480"/>
              <a:ext cx="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85560" y="3407040"/>
              <a:ext cx="0" cy="112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38960" y="3634560"/>
              <a:ext cx="2489400" cy="31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mpacto de minhas açõ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455-2DEA-4D7D-8393-0CF3D093B23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06560" y="1773360"/>
            <a:ext cx="7813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 controla a parte do mundo que ele não pode ver agora (agente manté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intern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depende do histórico de percepçõ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gente taxista vai trocar de pista e pode não ver momentaneamente alguns carros à sua vo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3454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Reativo Baseado em Model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0B5-DF5E-40ED-B638-6FE5B3AC6F4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813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gente deve manter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intern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dependa do histórico de percepções e reflita os aspectos não observados no estado a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is tipos de conhecimento são necessários para atualizar o estado interno do agente (modelo do mund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o ambiente evolui independente do a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carro que está ultrapassando, em geral estará mais perto do que estava um instante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as ações do próprio agente afetam o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o agente virar o volante à direita, o carro irá virar p/ a dire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3454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Reativo Baseado em Model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42A-9BE6-40EF-8DDF-FFE7DF8B2D0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55520" y="2204640"/>
            <a:ext cx="7477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-195480">
              <a:spcAft>
                <a:spcPts val="60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agente que utiliza o modelo de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Aft>
                <a:spcPts val="60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vantage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pouca aut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tem objetivo, não encadeia regr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Aft>
                <a:spcPts val="60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determinístico e pequ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3454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Reativo Baseado em Model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27E-5496-45B6-94AF-7A94F861E4B8}" type="slidenum">
              <a:t>14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14360" y="5538960"/>
            <a:ext cx="18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71640" y="2276640"/>
            <a:ext cx="7954560" cy="2934720"/>
            <a:chOff x="971640" y="2276640"/>
            <a:chExt cx="7954560" cy="2934720"/>
          </a:xfrm>
        </p:grpSpPr>
        <p:sp>
          <p:nvSpPr>
            <p:cNvPr id="166" name=""/>
            <p:cNvSpPr/>
            <p:nvPr/>
          </p:nvSpPr>
          <p:spPr>
            <a:xfrm>
              <a:off x="1858320" y="2404080"/>
              <a:ext cx="7067880" cy="280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603440" y="5020200"/>
              <a:ext cx="7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12800" y="2595240"/>
              <a:ext cx="69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27480" y="2461320"/>
              <a:ext cx="10749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ns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71640" y="2404080"/>
              <a:ext cx="626400" cy="2807280"/>
            </a:xfrm>
            <a:custGeom>
              <a:avLst/>
              <a:gdLst>
                <a:gd name="textAreaLeft" fmla="*/ 22680 w 626400"/>
                <a:gd name="textAreaRight" fmla="*/ 603720 w 626400"/>
                <a:gd name="textAreaTop" fmla="*/ 22680 h 2807280"/>
                <a:gd name="textAreaBottom" fmla="*/ 2784600 h 2807280"/>
              </a:gdLst>
              <a:ahLst/>
              <a:rect l="textAreaLeft" t="textAreaTop" r="textAreaRight" b="textAreaBottom"/>
              <a:pathLst>
                <a:path w="21600" h="96760">
                  <a:moveTo>
                    <a:pt x="2699" y="0"/>
                  </a:moveTo>
                  <a:arcTo wR="2699" hR="2699" stAng="16200000" swAng="-5400000"/>
                  <a:lnTo>
                    <a:pt x="0" y="94061"/>
                  </a:lnTo>
                  <a:arcTo wR="2699" hR="2699" stAng="10800000" swAng="-5400000"/>
                  <a:lnTo>
                    <a:pt x="18901" y="9676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66040" y="2276640"/>
              <a:ext cx="870840" cy="31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g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81800" y="3071520"/>
              <a:ext cx="25092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al a aparência atual do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und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14640" y="2728440"/>
              <a:ext cx="0" cy="33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725720" y="2850840"/>
              <a:ext cx="737640" cy="31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76120" y="4380840"/>
              <a:ext cx="1107000" cy="31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Objetiv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52280" y="3115440"/>
              <a:ext cx="2116080" cy="31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mo o mundo evolu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407120" y="4509720"/>
              <a:ext cx="208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4784400" y="3297240"/>
              <a:ext cx="76968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726080" y="3233520"/>
              <a:ext cx="76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8800" y="4892400"/>
              <a:ext cx="11527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tu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86840" y="4318200"/>
              <a:ext cx="23965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e ação devo executar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gora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200000">
              <a:off x="622800" y="3870000"/>
              <a:ext cx="14680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 m b i e n t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05280" y="4637520"/>
              <a:ext cx="0" cy="31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5280" y="3360960"/>
              <a:ext cx="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39320" y="3718800"/>
              <a:ext cx="2489400" cy="31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mpacto de minhas açõ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87560" y="3680280"/>
              <a:ext cx="274536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al será a aparência se for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xecutada a ação A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853520" y="3871800"/>
              <a:ext cx="7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05280" y="3999240"/>
              <a:ext cx="0" cy="31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87200" y="2610000"/>
              <a:ext cx="31950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cccc66"/>
                  </a:solidFill>
                  <a:latin typeface="Arial"/>
                </a:rPr>
                <a:t>estado</a:t>
              </a:r>
              <a:r>
                <a:rPr b="0" i="1" lang="pt-BR" sz="1600" spc="-1" strike="noStrike">
                  <a:solidFill>
                    <a:srgbClr val="cccc66"/>
                  </a:solidFill>
                  <a:latin typeface="Arial"/>
                </a:rPr>
                <a:t>: como o mundo era a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5640" y="17280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Objetiv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653-05B8-4F7F-8E4D-C2F325DE7AA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06560" y="1773360"/>
            <a:ext cx="7813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 combina seu objetivo com as informações sobre os resultados de ações possíveis a fim de escolher ações que alcancem os seu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Táxi em um entroncamento de estradas: virar à esquerda, à direita ou ir em fr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cessidade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ej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áreas da IA dedicadas a encontrar seqüências de ações que alcançam os objetivos do a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Objetiv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CA9-235E-4569-9F2D-242BC34D047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79640" y="1557000"/>
            <a:ext cx="7813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gente precisa de algum tipo de informação sobre o seu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s descrevem situações desejáveis. Ex: estar no 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binando informações sob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objetivo do a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resultados de suas 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gente pode escolher ações que alcancem o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eleção da ação baseada em objetivo pod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reta: quando o resultado de uma única ação atinge o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complexa: quando será necessário longas seqüências de ações para atingir o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Objetiv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80F-C2A7-4D96-8FD7-A703CF11D3E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79640" y="1557000"/>
            <a:ext cx="7813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encontrar seqüências de ações que alcançam o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oritmos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usc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tomada de decisão envolve a consideração do futuro -&gt; distinta das regras de condição-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que acontecerá se eu fizer isso ou aquil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quanto isso me ajudará a atingir o objetiv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entes reativos: reação -&gt; frear quando carro da frente f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entes baseado em objetivo: raciocínio -&gt; carro da frente freia -&gt; carro da frente diminui velocidade -&gt; objetivo: não atingir outros carros -&gt; ação para atingir objetivo: f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Objetiv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E85-25C1-4CBC-80BF-03F11133A73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14360" y="5538960"/>
            <a:ext cx="18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Objetiv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5640" y="2133360"/>
            <a:ext cx="7489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ntagens e desvantagen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mplic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eficiente”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 porém mai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lexív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utôn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trata objetivos confli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mbientes: determiníst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74C-BCFD-4C66-BF6C-253FF089913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1844640"/>
            <a:ext cx="6264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ização dos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91D-01D1-4B81-BB27-AB8B3C7E77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53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Utilida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71640" y="2349360"/>
            <a:ext cx="7964280" cy="2697480"/>
            <a:chOff x="971640" y="2349360"/>
            <a:chExt cx="7964280" cy="2697480"/>
          </a:xfrm>
        </p:grpSpPr>
        <p:sp>
          <p:nvSpPr>
            <p:cNvPr id="202" name=""/>
            <p:cNvSpPr/>
            <p:nvPr/>
          </p:nvSpPr>
          <p:spPr>
            <a:xfrm>
              <a:off x="973080" y="3549600"/>
              <a:ext cx="1073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mb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74840" y="2487600"/>
              <a:ext cx="6661080" cy="254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836360" y="4857840"/>
              <a:ext cx="107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16200" y="2722680"/>
              <a:ext cx="12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33720" y="2600280"/>
              <a:ext cx="10749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ns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66040" y="4735440"/>
              <a:ext cx="11527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tu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71640" y="2487600"/>
              <a:ext cx="1065240" cy="2541600"/>
            </a:xfrm>
            <a:custGeom>
              <a:avLst/>
              <a:gdLst>
                <a:gd name="textAreaLeft" fmla="*/ 38880 w 1065240"/>
                <a:gd name="textAreaRight" fmla="*/ 1026360 w 1065240"/>
                <a:gd name="textAreaTop" fmla="*/ 38880 h 2541600"/>
                <a:gd name="textAreaBottom" fmla="*/ 2502720 h 2541600"/>
              </a:gdLst>
              <a:ahLst/>
              <a:rect l="textAreaLeft" t="textAreaTop" r="textAreaRight" b="textAreaBottom"/>
              <a:pathLst>
                <a:path w="21600" h="51526">
                  <a:moveTo>
                    <a:pt x="2699" y="0"/>
                  </a:moveTo>
                  <a:arcTo wR="2699" hR="2699" stAng="16200000" swAng="-5400000"/>
                  <a:lnTo>
                    <a:pt x="0" y="48827"/>
                  </a:lnTo>
                  <a:arcTo wR="2699" hR="2699" stAng="10800000" swAng="-5400000"/>
                  <a:lnTo>
                    <a:pt x="18901" y="5152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78800" y="2349360"/>
              <a:ext cx="870840" cy="31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g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81400" y="3063960"/>
              <a:ext cx="25092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al a aparência atual do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und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8640" y="4383000"/>
              <a:ext cx="30837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e ação devo executar agora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17920" y="284328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17920" y="459432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184360" y="2838600"/>
              <a:ext cx="38916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70480" y="4603680"/>
              <a:ext cx="2108160" cy="31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Função de Utilid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02520" y="3656160"/>
              <a:ext cx="2013840" cy="53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al é o impacto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inhas açõ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8920" y="3135240"/>
              <a:ext cx="2116080" cy="31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mo o mundo evolu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5200560" y="4198680"/>
              <a:ext cx="102096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5330880" y="3646440"/>
              <a:ext cx="89064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5136840" y="3184560"/>
              <a:ext cx="8888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00280" y="3300480"/>
              <a:ext cx="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37560" y="4035600"/>
              <a:ext cx="2724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ste novo mundo é melho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17920" y="418932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39000" y="3489480"/>
              <a:ext cx="274536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al será a aparência se for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xecutada a ação A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314680" y="3300480"/>
              <a:ext cx="71100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00280" y="3909960"/>
              <a:ext cx="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32560" y="2678040"/>
              <a:ext cx="31950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cccc66"/>
                  </a:solidFill>
                  <a:latin typeface="Arial"/>
                </a:rPr>
                <a:t>estado</a:t>
              </a:r>
              <a:r>
                <a:rPr b="0" i="1" lang="pt-BR" sz="1600" spc="-1" strike="noStrike">
                  <a:solidFill>
                    <a:srgbClr val="cccc66"/>
                  </a:solidFill>
                  <a:latin typeface="Arial"/>
                </a:rPr>
                <a:t>: como o mundo era a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5119200" y="3243240"/>
              <a:ext cx="116532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35C-F8F1-4534-B487-32BDBEA8C1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7704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muitas seqüências de ações que levam o agente ao seu objetivo. Algumas mais rápidas, mais seguras, mais econômic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baseados em utilidade utilizam uma medida de desempenho (função de utilidade) que permite uma comparação entre diferentes estados do mundo, permitindo selecionar a seqüência de 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53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Utilida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2BF-4B1B-4E62-8698-ABD7B6BBF5B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42560" y="1628280"/>
            <a:ext cx="7704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m estado do mundo é mais desejável que outro, então ele terá maio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tilida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o 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tilida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função que mapeia um estado para um número real que representa o grau de satisfação com este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ificação completa da função de utilidade – decisões racionais em dois tipos de ca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existem objetivos conflitantes (velocidade x segurança) a função de utilidade especifica o compromisso apropri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existem vários objetivos que se deseja alcançar e nenhum deles pode ser atingido com certeza – ponderar a importância d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532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Utilida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AA6-B101-4906-A6D5-9895DF44CD2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653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Baseado em Utilida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6000" y="2276640"/>
            <a:ext cx="7128000" cy="14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 restr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vantagem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ão  tem adapt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C8E-4F04-4863-8749-76DB05F91F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072200" cy="6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com 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116000" y="1844640"/>
            <a:ext cx="7416360" cy="3979440"/>
            <a:chOff x="1116000" y="1844640"/>
            <a:chExt cx="7416360" cy="3979440"/>
          </a:xfrm>
        </p:grpSpPr>
        <p:sp>
          <p:nvSpPr>
            <p:cNvPr id="237" name=""/>
            <p:cNvSpPr/>
            <p:nvPr/>
          </p:nvSpPr>
          <p:spPr>
            <a:xfrm>
              <a:off x="1919160" y="2085120"/>
              <a:ext cx="6613200" cy="373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1492560" y="5385960"/>
              <a:ext cx="10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73840" y="2520360"/>
              <a:ext cx="11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56080" y="2364120"/>
              <a:ext cx="10749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ns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0560" y="5229720"/>
              <a:ext cx="11527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tu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3440" y="1844640"/>
              <a:ext cx="870840" cy="31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g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08600" y="4212000"/>
              <a:ext cx="7560" cy="10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80440" y="2741040"/>
              <a:ext cx="0" cy="8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03280" y="5032440"/>
              <a:ext cx="1321920" cy="53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Gerador de </a:t>
              </a:r>
              <a:br>
                <a:rPr sz="1600"/>
              </a:b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problem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70400" y="2384280"/>
              <a:ext cx="793080" cy="31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rít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50000" y="3560760"/>
              <a:ext cx="1547640" cy="53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lemento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prendizag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3116520" y="4212000"/>
              <a:ext cx="2743200" cy="80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160880" y="4065120"/>
              <a:ext cx="163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160880" y="3623760"/>
              <a:ext cx="163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69200" y="2580120"/>
              <a:ext cx="238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25080" y="2886840"/>
              <a:ext cx="1044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vali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77920" y="4212000"/>
              <a:ext cx="0" cy="80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9720" y="4284360"/>
              <a:ext cx="1471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objetivos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prendizag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55160" y="3560760"/>
              <a:ext cx="2275920" cy="53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lemento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esempenho (agent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79840" y="3328200"/>
              <a:ext cx="738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ro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91560" y="3769200"/>
              <a:ext cx="1450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heci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08600" y="2667240"/>
              <a:ext cx="0" cy="88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16000" y="2085120"/>
              <a:ext cx="642240" cy="3738960"/>
            </a:xfrm>
            <a:custGeom>
              <a:avLst/>
              <a:gdLst>
                <a:gd name="textAreaLeft" fmla="*/ 23400 w 642240"/>
                <a:gd name="textAreaRight" fmla="*/ 618840 w 642240"/>
                <a:gd name="textAreaTop" fmla="*/ 23400 h 3738960"/>
                <a:gd name="textAreaBottom" fmla="*/ 3715560 h 3738960"/>
              </a:gdLst>
              <a:ahLst/>
              <a:rect l="textAreaLeft" t="textAreaTop" r="textAreaRight" b="textAreaBottom"/>
              <a:pathLst>
                <a:path w="21600" h="125691">
                  <a:moveTo>
                    <a:pt x="2699" y="0"/>
                  </a:moveTo>
                  <a:arcTo wR="2699" hR="2699" stAng="16200000" swAng="-5400000"/>
                  <a:lnTo>
                    <a:pt x="0" y="122992"/>
                  </a:lnTo>
                  <a:arcTo wR="2699" hR="2699" stAng="10800000" swAng="-5400000"/>
                  <a:lnTo>
                    <a:pt x="18901" y="12569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200000">
              <a:off x="708120" y="3866760"/>
              <a:ext cx="14680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 m b i e n t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83480" y="2990880"/>
              <a:ext cx="23724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16800" y="2255400"/>
              <a:ext cx="46872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83480" y="4610880"/>
              <a:ext cx="23724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654-110C-4B56-806B-A81957BFC94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042560" y="1916280"/>
            <a:ext cx="7597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elemento de aprendizado utiliza realimentação sobre como um agente está funcionando e determina de que maneira o elemento de desempenho deve ser modificado para funcionar melhor no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072200" cy="6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com 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887-BD33-4032-A237-67705C1CB50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597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agentes sem aprendizagem tudo o que o agente sabe foi colocado nele pelo proje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uring propõe construir máquinas com aprendizagem e depois ensiná-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ndizagem também permite ao agente atuar em ambientes totalmente desconhecidos e se tornar mais competente do que o seu conhecimento inicial poderia permi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072200" cy="6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com 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B75-C4BF-4A63-91B0-EBE395FD3F2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072200" cy="6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com 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5640" y="2205000"/>
            <a:ext cx="7404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 restr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ntagem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 adaptabilidade (apren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18D-573F-4A00-ABF8-FED43F54CE08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4256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priedades de um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essível (completamente observável) x inacessível (parcialmente observáv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ático x dinâ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ístico x não-determin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creto x contí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pisódico x não-episódico (seqüen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73F-388E-429E-9445-7A7D1E4071D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5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mbientes: propriedades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7560" y="1731600"/>
            <a:ext cx="7497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essív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quando o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ens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 agente conseguem perceber o estado completo d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terminíst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 próximo estado do ambiente pode ser completamente determinado pelo estado atual e as ações selecionadas pelo a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pisód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experiência do agente é dividida e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pisódi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Cada episódio consiste em o agente perceber e então agir. Cada episódio não depende das ações que ocorreram em episódios prév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040-9769-44BC-BA54-C7F5630249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mbientes: propriedad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71516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át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 ambiente não muda enquanto o agente está escolhendo a ação a  realiza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i-dinâm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 ambiente não muda enquanto o agente delibera, mas o "score" do agente m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cre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quando existe um número distinto e claramente definido de percepções e ações em cada turno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ínu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ercepções e ações mudam em um espectro contínuo de val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FE1-0C3E-475B-B994-964429460B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Estrutu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1640" y="1844280"/>
            <a:ext cx="67071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reativo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reativos baseados em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baseados em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baseados na ut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com aprendizag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DBB-8E7A-47EF-8760-A8A5B5F220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78073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Reativo Simp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71640" y="2637000"/>
            <a:ext cx="7777080" cy="2449440"/>
            <a:chOff x="971640" y="2637000"/>
            <a:chExt cx="7777080" cy="2449440"/>
          </a:xfrm>
        </p:grpSpPr>
        <p:sp>
          <p:nvSpPr>
            <p:cNvPr id="113" name=""/>
            <p:cNvSpPr/>
            <p:nvPr/>
          </p:nvSpPr>
          <p:spPr>
            <a:xfrm>
              <a:off x="7442280" y="2647800"/>
              <a:ext cx="11192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Agen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78120" y="2637000"/>
              <a:ext cx="5970600" cy="244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830600" y="4738320"/>
              <a:ext cx="14126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30600" y="2921040"/>
              <a:ext cx="148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95800" y="2754360"/>
              <a:ext cx="1303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sens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32000" y="4575240"/>
              <a:ext cx="140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atua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71640" y="2637000"/>
              <a:ext cx="1152360" cy="2387520"/>
            </a:xfrm>
            <a:custGeom>
              <a:avLst/>
              <a:gdLst>
                <a:gd name="textAreaLeft" fmla="*/ 42120 w 1152360"/>
                <a:gd name="textAreaRight" fmla="*/ 1110240 w 1152360"/>
                <a:gd name="textAreaTop" fmla="*/ 42120 h 2387520"/>
                <a:gd name="textAreaBottom" fmla="*/ 2345400 h 2387520"/>
              </a:gdLst>
              <a:ahLst/>
              <a:rect l="textAreaLeft" t="textAreaTop" r="textAreaRight" b="textAreaBottom"/>
              <a:pathLst>
                <a:path w="21600" h="44745">
                  <a:moveTo>
                    <a:pt x="2699" y="0"/>
                  </a:moveTo>
                  <a:arcTo wR="2699" hR="2699" stAng="16200000" swAng="-5400000"/>
                  <a:lnTo>
                    <a:pt x="0" y="42046"/>
                  </a:lnTo>
                  <a:arcTo wR="2699" hR="2699" stAng="10800000" swAng="-5400000"/>
                  <a:lnTo>
                    <a:pt x="18901" y="4474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91080" y="3338640"/>
              <a:ext cx="409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Qual a aparência atual do mundo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23400" y="3994200"/>
              <a:ext cx="3825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Que ação devo executar agora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81440" y="3067200"/>
              <a:ext cx="0" cy="36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86400" y="3651120"/>
              <a:ext cx="0" cy="36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86400" y="4305240"/>
              <a:ext cx="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32000" y="3933720"/>
              <a:ext cx="20142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egr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ndição-ação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04000" y="3960720"/>
              <a:ext cx="1873440" cy="5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620280" y="3606840"/>
              <a:ext cx="1792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a m b i e n t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515280" y="422100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B30-15CA-4DC3-90A6-8F30DAB6B24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06560" y="1773360"/>
            <a:ext cx="7813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mais si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leciona ações com base na percepção atual, ignorando o restante do histórico de percep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gente aspirador de pó, porque sua decisão se baseia apenas na posição atual e no fato de essa posição conter ou não sujei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86920" y="549000"/>
            <a:ext cx="78073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Reativo Simp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91D-F5BE-4C77-B984-2FE993058E7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28320" y="620640"/>
            <a:ext cx="78073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 Reativo Simp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770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ntagens e desvant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gras condição-ação: representação inteligível, modular e efici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velocidade &gt; 60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t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ul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pode armazenar uma seqüência de percepções, pouca auton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mb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flexo imprescindível em ambientes dinâmic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essível, episódico, peque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FE9-C58A-43F5-BE7A-21B889D37CED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Alberto Lima</cp:lastModifiedBy>
  <dcterms:modified xsi:type="dcterms:W3CDTF">2007-08-26T14:50:37Z</dcterms:modified>
  <cp:revision>70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