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2664-E3FC-41CB-8613-8B1540FD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022-E488-43AE-A8FA-E32F1656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75A0-4F2A-4FCE-A048-55D59136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2F2A-9591-42DF-9F37-7D8C32D01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471A97-00D8-4A77-996F-717BC35DDBE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EE5407-540E-468E-B925-9F9A73B8FA7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52C619-5F86-400D-AC09-AE873EA05A6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734BE-9EDF-4A4E-B615-853C85E0E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2068B-072B-4376-B957-04778A6D72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5A207-E50E-4FE6-9B72-BC0C0F54403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97264-9C7B-4BAD-B4E6-F427393ED8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BB3D-AD4E-49CE-BC0F-EEACABE8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5D867E-1A7D-466B-9BC7-7E69A19098F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9A0D0-44EB-4329-B53A-EFD5C4E445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0C6A23-A94E-4209-939F-07A80AFDA9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2108DD-B05A-4DA9-A8F6-741FBAF333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78612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3946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756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78612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3946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5FDAF-B649-4E33-94F9-437DBAD0A0A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99F-AC7E-4195-9787-E14635C04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3743-5ADF-4A30-A4E1-5B9E7F03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BF5C-4D17-4FD2-A134-FCD2F96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87280" y="277920"/>
            <a:ext cx="771552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DC70-F4D6-49B7-9FC5-C212C7B9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8E64-21C2-4FEB-9808-B96C5A4B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310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F69B-8A6F-4389-9FFC-976021657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756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310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7756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9963B-7140-4570-A003-6CEFE0F7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1116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27792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7756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22741-8332-48D3-B8E7-1EE69644B1F4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34920" y="6237000"/>
            <a:ext cx="576360" cy="620640"/>
            <a:chOff x="34920" y="6237000"/>
            <a:chExt cx="576360" cy="620640"/>
          </a:xfrm>
        </p:grpSpPr>
        <p:sp>
          <p:nvSpPr>
            <p:cNvPr id="8" name=""/>
            <p:cNvSpPr/>
            <p:nvPr/>
          </p:nvSpPr>
          <p:spPr>
            <a:xfrm>
              <a:off x="34920" y="6733800"/>
              <a:ext cx="57636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67480" y="643392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61560" y="6236640"/>
              <a:ext cx="313560" cy="272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69640" y="6443280"/>
              <a:ext cx="31464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63000" y="6246360"/>
              <a:ext cx="3153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rcRect l="-1375" t="0" r="0" b="0"/>
          <a:stretch/>
        </p:blipFill>
        <p:spPr>
          <a:xfrm>
            <a:off x="0" y="0"/>
            <a:ext cx="206064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EEFF-986C-4657-94E8-4292DAD02F3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24000" y="6308280"/>
            <a:ext cx="576000" cy="476640"/>
            <a:chOff x="324000" y="6308280"/>
            <a:chExt cx="576000" cy="476640"/>
          </a:xfrm>
        </p:grpSpPr>
        <p:sp>
          <p:nvSpPr>
            <p:cNvPr id="56" name=""/>
            <p:cNvSpPr/>
            <p:nvPr/>
          </p:nvSpPr>
          <p:spPr>
            <a:xfrm>
              <a:off x="324000" y="6689880"/>
              <a:ext cx="57600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56560" y="645948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351000" y="630792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8360" y="6466680"/>
              <a:ext cx="31428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352440" y="631548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 rot="16200000">
            <a:off x="-2583360" y="3996360"/>
            <a:ext cx="53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Fonte: José Francisco Salm Junior (Diretor de Engenharia de Sistemas Instituto Ste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Introdução a Agent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Adicional 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921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 x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o estado é totalmente determinado pelo estado atual e pela ação executada pelo ag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aspirador de pó (determ.), robô taxista (esto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F7C-9A97-48CB-91E9-06D75BFE693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 x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pisódio seguinte depende das ações executadas nos episódios ant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Jogar um dado (ep.), dar o próximo passo (seq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21E4-0989-4AD2-BF88-D1A1E1FDE8D9}" type="slidenum">
              <a:t>1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rcícios - A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FBC3-0CCD-4771-A4B0-EF094B1E411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Mundo do aspirador de pó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824720" cy="2470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8C6D-9C80-40CC-A651-F1682A58CFB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006560" y="1773360"/>
            <a:ext cx="78134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Mundo do aspirador de pó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distribuição da sujeira e a posição inicial do agente não são conhec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çõe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rda, Direita, Aspirar e N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qüência de percepçõe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gente percebe sucessivamente a sua posição e se esta posição contém suj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edida de desempenh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 ponto para cada quadrado limpo em cada período de tempo até 1.000 períodos de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AD8-452F-4781-9127-56A540A5DE3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o Mundo do aspirador de pó, identifique o tipo de ag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ão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ENTE-ASPIRADOR-DE-PÓ-TIPO1([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i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es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])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do = suj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pir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ão 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=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enão s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ão = B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ão retorn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4778-AF87-4E37-8912-24B29F4071AB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amente observável (c.o.) x parcialmente observáve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nsores do agente permitem acesso ao estado completo do amb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futebol de robôs com visão global (?) x visão local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138C-0D7D-48C7-A0BF-8059A42610B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terminístico x estocá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óximo estado é totalmente determinado pelo estado atual e pela ação executada pelo ag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aspirador de pó (?), robô taxista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729D-0AF0-4BC1-940B-6061E4FAFB3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Identifique os tipos de ambiente para os problemas a segu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pisódico x seqü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pisódio seguinte depende das ações executadas nos episódios anterior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Jogar um dado (?), dar o próximo passo 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88D-701F-481A-A124-7AB961C5F91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640" y="1773360"/>
            <a:ext cx="763416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letamente observável (c.o.) x parcialmente observáve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sensores do agente permitem acesso ao estado completo do ambient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: futebol de robôs com visão global (c.o.) x visão local (p.o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155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Verdana"/>
              </a:rPr>
              <a:t>Agente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8985-F959-46F6-A47C-76CC386F2A5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5-12T11:55:13Z</dcterms:modified>
  <cp:revision>691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