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C22-9C2F-46B0-BFB3-62C3CBCE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31B-A2B1-4AE6-B2D0-F5B90F59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4B2-9F2E-4202-A330-5D391DFD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6C2-FB34-4AF2-94C5-947DAD67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6869-95C9-4937-BF34-7ADA33BE5B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BB88-A237-4741-9174-A055CA250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E9FAD-23FF-4864-AF36-CBFD5CAB8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0AD8F-DC40-4765-A3AF-E0CEAF2617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C2D4-1294-4DFB-BD6D-96A08CDA3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9ED1-BC50-4C91-85BF-70AEBD4675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2AE90-8FC1-4FD4-862C-942DF58425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A30-6FE7-4E6B-ACD9-1AB0A2FC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CEEA-CA9D-4432-9DC2-D983941608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A74E-DDDC-4F6F-9A98-500C009F51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D2E3D-997D-4D33-AB58-A3E799FBC7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4E5D2-B69D-4DDF-AC32-137C317E6C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512BA-732C-4226-86D5-16B9601B1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2D1-40E0-4CCD-AFB9-D4BE73F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D2C-7C56-4D47-B6BC-EF0C09D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E52-540F-4EDC-83A6-0D55E28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C97-E0A7-4B2C-932A-362489B2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7AF-140F-4CE1-A7F7-51AFA59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DE3-3ACF-426C-ADC4-6E63258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DA8-5461-4323-9692-242C070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84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6D14-B20F-4601-9ED1-B452D6EFD8F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B792-C2B1-4E19-A30E-7E257F15982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4007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crição de Projeto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emestre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ffffff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ffffff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a palavra secre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Domin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Batalha Na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o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009-4CE3-46AB-8D85-7AA3D71D8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iagnóstico de glomerulopatias primári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de log de sistemas operacionais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Genéticos Paralelos (Mochila Biná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ificador de Expressões 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2EF-55BF-4C63-A41D-89E95F6839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170028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Reconhecimento de Palavras Isoladas (Dígitos) Dependente do Lo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e Agentes Móveis para busca otimizada de dad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173-7E50-4A95-AB66-3CFF20028D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989000"/>
            <a:ext cx="7416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go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ocação de Disciplinas a Profess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t para o jogo Qu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Prolog contendo regras para diagnóstico da de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E8F-EC24-4E37-B5A6-A3292EB30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989000"/>
            <a:ext cx="7416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ificial Judge (Indeniza Brasil 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Baseado em Casos Aplicado à Negociação de Ações na Bolsa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F12-7954-4378-96AE-BF46E7C7F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7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erramenta Detectora de Spam Utilizando Rede Bayes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e Técnicas básicas para implementação de um Robocode Ofen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“Carteiro”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Heurísticas para o jogo Resta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Comparador de Passagens Aé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undo do Wumpus, uma abordagem difere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B9B-EC2E-44EE-8C56-1B1C4EFFD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7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owmi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doku Solver - Análise de Heurísticas par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o jogo 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Heurísticas de um Robocode Defen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ador de Árvores de Decisões utilizando o algoritmo I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51F-ADCE-40CF-8FE7-56DBBD3778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Jogador Inteligente de Relan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birinto do Minota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etecção de Substâncias que Provocaram Enven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mart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- Gerador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0A7-4BFD-48FC-B5DD-9B7B8C2F63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o problema do Caixeiro Viajante através de 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em Inteligência Artifi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ugo, o robô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adrez Intelig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-Queens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558-184E-4092-9776-91C121166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Detecção de Falha utilizando o modelo Accrual co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dap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o algoritmo do formigu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uzzy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mart Snak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Jogo da Cobra Autô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Avaliação de Riscos na Adoção de Tecnologi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3AA-1439-4A7C-A07D-38A65EC54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6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nt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para Reconhecimento de Impress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AL - Sistema Especialista para Auxílio na Escolha de Person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689-D527-4AFF-A4C8-6C1DCBF30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imento de Caracteres utilizando uma rede neura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ra Bolsa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Girafas (Algoritmo Gené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AE2-8D6A-47A6-9C83-F5F7CD312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773360"/>
            <a:ext cx="763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s desenvolvidos em semestres anteriores (2005-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neGrade: Um algoritmo genético para escalonamento de aplicações em grade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 de Combate entr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 via Regras para o escalonamento de bombas hidráu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21B-EAED-4EB2-B462-0343BFA64D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8T02:49:33Z</dcterms:modified>
  <cp:revision>9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