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0FF-3CBA-44A0-A276-B76C873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1D4-C897-4293-97BE-F1917CA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332-74AE-472C-A54B-24247B24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2B6-A2F3-4D9E-90F7-7C0E18F1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215BA-AB01-4E31-8816-52C4D9115A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1B4F-9AD6-4A3B-9E90-6673A7B60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8F81D-21B3-4137-BCA2-7E2589565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18BA-803B-464F-9349-0B918A439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393DE-7465-4080-8431-77BB1036C4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4C7F-D113-4E92-A6CC-D0BD51E858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3827-E4BD-4A11-B831-8055CBE36C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FF4-5989-4F2C-9415-C14C918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6B90-8DAD-43D8-9C67-98B8DB7C8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4E183-C30A-40C7-91B2-5F6DA2377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342CE-AB8C-4F02-B341-0B5A9ED4A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9B3A-4676-4B10-9A91-F29FBAB64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88DE-8252-40BB-A6D3-EF143C1B3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D7B-24EA-43B1-8C41-1C3A6F8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A98-6DAA-4DD2-98DF-CE3FA22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8BB-B6D0-45B2-9357-C2143BF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B48-03E1-487A-B622-D535DD11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4D9-BFD0-495C-AEE9-AA5CC65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C4B-6FD2-4D89-9278-005AAD5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F87-FFA1-43EF-8BC9-9F33F23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1CA-E787-4656-AB93-D1B9873E1FC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73C-8754-4ECB-98DC-3C368C8CBF9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dmoz.org/Computers/Artificial_Intelligence/Companies/" TargetMode="External"/><Relationship Id="rId2" Type="http://schemas.openxmlformats.org/officeDocument/2006/relationships/hyperlink" Target="http://www.businessweek.com/bw50/content/mar2003/a3826072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4007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ffffff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s fundamentos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1916280"/>
            <a:ext cx="15717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76320" y="2349360"/>
            <a:ext cx="139968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0520" y="3789360"/>
            <a:ext cx="178380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uroci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4880" y="2349360"/>
            <a:ext cx="130068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loso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3789360"/>
            <a:ext cx="15843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üí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4320" y="5300640"/>
            <a:ext cx="145620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ic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37200" y="3594240"/>
            <a:ext cx="761760" cy="777600"/>
            <a:chOff x="4237200" y="3594240"/>
            <a:chExt cx="761760" cy="777600"/>
          </a:xfrm>
        </p:grpSpPr>
        <p:sp>
          <p:nvSpPr>
            <p:cNvPr id="132" name=""/>
            <p:cNvSpPr/>
            <p:nvPr/>
          </p:nvSpPr>
          <p:spPr>
            <a:xfrm>
              <a:off x="4431240" y="3800160"/>
              <a:ext cx="439560" cy="366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37200" y="3594240"/>
              <a:ext cx="761760" cy="7776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83160" y="2400480"/>
            <a:ext cx="0" cy="1028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005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440" y="4349880"/>
            <a:ext cx="1366920" cy="807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5440" y="5300640"/>
            <a:ext cx="1641960" cy="366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berné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3160" y="4537080"/>
            <a:ext cx="0" cy="94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5589720"/>
            <a:ext cx="2232000" cy="641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genharia de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003640" y="2708280"/>
            <a:ext cx="1297080" cy="93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3933720"/>
            <a:ext cx="1330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2708280"/>
            <a:ext cx="1336680" cy="950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700000" y="4292640"/>
            <a:ext cx="1438200" cy="865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teli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udada há mais de 2000 anos por filóso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aciocínio, memória, aprendizado, vi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giu na década de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uda a inteligência de maneira teórica e experi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urch e Turing estabelecem limites para aquilo que pode ser resolvido por computadores, introduzindo o conceito de computabilidade (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Mas podem as máquinas pensar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osa pergunta feita em 1950 por Alan Turing (Teste de Tu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meiro trabalho (1943) -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cCulloch and Pitts: implementação dos operadores lógicos através de uma rede ne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meiro Evento (19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well and Simon – Logic Theorist (resolvedor de teore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3280" y="3141720"/>
            <a:ext cx="3781440" cy="3141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PS (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General Problem Solve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1960 ) - Newell and 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nguagem LISP (1958) – McCart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icromundos (1963) – Minsky (problemas de domínios limit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mundo dos blocos  (19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nguagem Prolog (1970) - Edinburgh/Marsei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rge o nom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teligência Artifici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pós um workshop entre grandes nomes como: John McCarthy, Arthur Samuel (IBM), Ray Solomonoff e Oliver Selfridge (MI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73408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cena do mundo de blo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6034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eiro experimento feito para tentar realizar o “Teste de Turing” - Eliza 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rograma criado pelo pesquisador Joseph Weizenbaum, do MIT, que simulava uma psicóloga virtual usando trechos das frases dos usuários para compor as respostas e estimulava o “paciente” a se aprofundar cada vez mais nos detalhes dos seus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diálogo com a E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iz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lá, conte-me o seu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uár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u não me relaciono bem com as outras pesso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liz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por que você acha que você não se relaciona bem com as outras pesso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uári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is estou sempre sozi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6165720"/>
            <a:ext cx="6912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xemplo de software de Inteligência Artificial para criação de personagens virtuais: www.inbot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meiros programas  de tradução automática (artigos científicos Russo – Inglês) caíram em des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espírito é forte mas a carne é fr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vodka é boa mas a carne é po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nanciamentos cancelados e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ressurgimento do entusia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0/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Alguns sistemas famo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RLDU (interface em  linguagem natural aplicado ao mundo de bloco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CIN (diagnóstico médic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(interface para geólogos interrogarem sobre as amostras de rochas trazidas pela Appolo na missão lunar - o primeiro usado por pessoas que não os projetistas do siste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ojeto japonês: a quinta geração de computadores (IA, Prolog, PLN) repercussões no financiamento global para a área de 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m projetos mais reais, a IA começa a ser utilizada na indústria, promovendo cortes de despesas e otimização de tare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 - o primeiro "expert system" de sucesso que iniciou suas atividades na Digital Equipment - economia de 40 milhões de dólares por ano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é 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Ess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s de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eep blue vence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de bu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de alta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 específico para xa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A é o elemento fundamental nas mais diversas ferramentas disponíveis na Internet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u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ada em grande escala, posta a prova pelos militares americanos na operação Desert Storm, na guerra do Iraque (Mísseis teleguiados e sensores de visão notu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ndênci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passagem de sistemas experimentais para aplicações reais de grande esc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ção de conhec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nhecimento da f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bó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História da 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indo humanamente (anos 50-70):  Teste de 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“mito do cérebro eletrônic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925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nsando humanamente (anos 50-60): simulação cognitiv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Simon &amp; New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as inspirações (GPS, Sistemas Especialistas,...) mas fraca justificativa para os resultados ob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nsando idealmente (anos 60-70): A escola logicist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McCarth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e formalismos de representaçã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: escassez de recursos computacionais, limitação dos tipos de infer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indo idealmente (anos 80 em diante): Agente inteligent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Newell, Minsky, Russel &amp; Norvi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rangente (atividades), unificador (domínios da IA), excelente framework para projeto e análise de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aradigmas de Raciocíni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ból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metáfora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sistemas de produção, agentes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ionist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áfora cere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redes ne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olucionist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áfora da natur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algoritmos genéticos, vida artifici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ístico/Probab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Redes Bayesianas, sistemas difus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zz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aradigma Simból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est é criminoso ou não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lei americana diz que é proibido vender armas a uma nação hostil. Cuba possui alguns mísseis, e todos eles foram vendidos pelo Capitão West, que é americano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o resolver automaticamente este problema d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lassifica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gundo a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IA (simbólica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é preci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domínio (modelo do probl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á-lo utilizando um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mal de re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r um mecanism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utilizar ess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2643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aradigma Conexionista -Redes Neur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9000"/>
              </a:lnSpc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 “Romântica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inspirada no funcionamento do cérebro, em que os neurônios artificiais, conectados em rede, são capazes de aprender e de gener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finição “Matemática”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de aproximação de funções por regressão não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uma outra abord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m - redes de elemento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9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cínio - aprender diretamente a função entrada-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56739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aradigma 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volutiv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1640" y="4436640"/>
            <a:ext cx="776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OLU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ersidade é gerada por cruzamento e mu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eres mais adaptados ao seus ambientes sobrevivem (seleção na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aracterísticas genéticas de tais seres são herdadas pelas próximas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48200" cy="1795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16000" y="1628640"/>
            <a:ext cx="331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finiçã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étodo probabilista de busca para resolução de problemas (otimização) “inspirado” na teoria da ev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de Aplicaçã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emát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monstração de teoremas, resolução simbólica de equações, geometr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quisa operacion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otimização e busca heurística em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g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xadrez, dama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tradução automática, verificadores ortográficos e sintáticos, interface vocal, reconhecimento da fala, de locuto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tuto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modelagem do aluno, escolha de estratégias pedagógic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cep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visão, tato, audição, olfato, palad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software e hardware): manipulação, navegação, monitoramen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de Aplicação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stemas especialist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ividades que exige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nhecimento especializado e não form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s: diagnóstico, previsão, monitoramento,  análise, planejamento, proje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reas: medicina, finanças, engenharia, química, indústria, arquitetura, arte, computação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genharia de software (sobretudo na 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ção auto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faces adapta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ncos de dados dedutivos e 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eração de dados (data m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istribuíd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A - Limit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8560" y="292392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inda existem muitas limitações nas questões relacionadas à Inteligência Artifi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desenvolver sistemas para realizar tarefas que, no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elhor realizadas por seres humanos que por máquinas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possuem solução algorítmica viável pela computação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zir o comportamento inteligent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entidades inteligente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65720"/>
            <a:ext cx="720072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o ser humano pode, por que não a máquina?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tese de Church-Tu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Órgãos/Empresas de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especializadas em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dmoz.org/Computers/Artificial_Intelligence/Compani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s empresas desenvolvendo e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, HP, Sun, Microsoft, Unisys, Google, Amazon.com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s empresas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businessweek.com/bw50/content/mar2003/a382607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l-Mart, Abbot Labs, US Bancorp, LucasArt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Órgãos governamentais utilizando 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 National Securit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51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luridisciplinaridade da 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225600" y="251460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07120" y="22860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36680" y="18288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Tare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95560" y="18288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Inspi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209680"/>
            <a:ext cx="1447920" cy="415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oso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at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ba. e Esta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Cál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squis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c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oc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Lingü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sic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i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utomaçã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mpu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tradi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1447920" cy="286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Busca heurí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presenta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o 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 Raciocín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autom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lanej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prendizagem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Aquisi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nhec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Multi-A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econheci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de Padr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666880"/>
            <a:ext cx="1600200" cy="364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Jo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stema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Especial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ercepçã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Comput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Process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Integraçã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  S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ocessamento 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Linguagem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Robó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- Manip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2209680"/>
            <a:ext cx="1371600" cy="353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lassifi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Previs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Monito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iagnóstico 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 Interpre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s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Escal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Aloc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Filtr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Simu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80280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062080"/>
            <a:ext cx="7920000" cy="432000"/>
          </a:xfrm>
          <a:prstGeom prst="rect">
            <a:avLst/>
          </a:prstGeom>
          <a:noFill/>
          <a:ln w="3168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221000"/>
            <a:ext cx="7920000" cy="432000"/>
          </a:xfrm>
          <a:prstGeom prst="rect">
            <a:avLst/>
          </a:prstGeom>
          <a:noFill/>
          <a:ln w="3168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1989000"/>
            <a:ext cx="3744720" cy="345600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1989000"/>
            <a:ext cx="3743280" cy="3456000"/>
          </a:xfrm>
          <a:prstGeom prst="rect">
            <a:avLst/>
          </a:prstGeom>
          <a:noFill/>
          <a:ln w="3168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155736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mas definições de IA, organizadas em 4 catego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5589720"/>
            <a:ext cx="65786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9900"/>
                </a:solidFill>
                <a:latin typeface="Arial"/>
              </a:rPr>
              <a:t>Processos de pensamento e raciocí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cc"/>
                </a:solidFill>
                <a:latin typeface="Arial"/>
              </a:rPr>
              <a:t>Compor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Sucesso em termos de fidelidade ao desempenh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9900"/>
                </a:solidFill>
                <a:latin typeface="Arial"/>
              </a:rPr>
              <a:t>Sucesso comparando-o com o conceito ideal de inteligência (racionalid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922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rd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as em torno de sere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ência empírica, envolvendo hipóteses e confirmação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as em torno da raciona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olve uma combinação de Matemática e Engenh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indo de forma hum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o test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cínio automat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ó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de forma hum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stratégia de modelagem cogn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ência cognitiva - reúne modelos computacionais da IA e técnicas experimentais da psicologia para tentar construir teorias precisas e verificáveis a respeito dos processos de funcionamento da mente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racion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as “leis do pensa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tativa de codificação do “pensamento correto” – processos de raciocínios irrefut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u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logism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neceram padrões para estruturas de programas que sempre resultavam em conclusões corretas ao receberem premissas cor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leis do pensamento deveriam governar a operação da 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I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nsando racionalm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abordagem de agente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é simplesmente algo que age (latim 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ge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faz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 racional – age para alcançar o melhor resultado ou, quando há incerteza, o melhor resultado espe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5T10:58:31Z</dcterms:modified>
  <cp:revision>8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