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E7B-7738-4A13-BC3B-FF21E6B2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62F-1206-4E16-800C-43C652ED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E5E-F976-4EC7-96A0-C24F7167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3B5-D2AC-45B1-9458-5F699E9D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A7C0-BC68-47E2-8FE4-76EC8FB8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AA51-67D3-4F51-84A3-079498D5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E415-B5D8-417A-8605-D9EC9BDD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6EC7-DED4-45F5-BED0-DE31798C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A91-A197-4475-9D7E-9BA5E5EC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A7B3-E650-49A6-9D62-FF066F42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2C55-68FF-40AA-B81B-71E3A20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991-45B1-4A8C-8231-0E134637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F50C-8D06-4B80-B25B-EAEB9E2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897D-8378-4E61-B594-FB518AE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CA65-4A53-4EDD-B253-0619ACE4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1615-D36B-42B3-A1D8-8BB69C59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CA20-B3A2-4BF4-A2E2-329648A0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601-4FC1-42B6-828C-D862C40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E03-DE70-45BB-874B-44E4E6CA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83B-8633-463A-B994-D6E18848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B18-734E-4C28-A94C-16641A7E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DC8-F1A7-46E3-BE41-C00572B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A20-3A0E-449A-8D6F-487E2F4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101-3996-4FAC-A3F0-6B6762B3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FE95-E530-4DA6-BB73-0EB85302F57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1604880"/>
            <a:ext cx="5545080" cy="434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91CB-B98D-4228-A0DC-6B2CECF729D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927520"/>
            <a:ext cx="4199040" cy="698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2923920"/>
            <a:ext cx="403236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57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32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APRESENTAÇÃO DA DISCIP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1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11280" y="206064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teligência Artificial I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144960" y="3219840"/>
            <a:ext cx="652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Figura: Capa do Livro Russell, S., Norvig, P. </a:t>
            </a:r>
            <a:r>
              <a:rPr b="1" i="1" lang="pt-BR" sz="900" spc="-1" strike="noStrike">
                <a:solidFill>
                  <a:srgbClr val="000000"/>
                </a:solidFill>
                <a:latin typeface="Verdana"/>
              </a:rPr>
              <a:t>Artificial Intelligence – A Modern Approach</a:t>
            </a: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, Prentice-Ha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 Inteligência Artificial busca entender a mente humana e imitar o seu comportamento [BOOSE, 94], levantando questões tai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ocorre o pens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o homem extrai o conhecimento do mu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a memória, os sentidos e a linguagem ajudam no desenvolvimento da inteligê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surgem as idéi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omo a mente processa informações e tira conclusões decidindo por uma coisa ao invés de out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sas são algumas perguntas que a IA precisa responder para simular o raciocínio humano e implementar aspectos da intelig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41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ligência humana está aliada a sua capacidade de interagir com o meio através de habilidad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gnitiv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entidos)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otativ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ção), ou se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moviment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er sons (fala) e image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express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 esforço, principalmente no campo da robótica, no sentido de implementar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máquinas intelig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, para propici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maior interação com o meio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er padrões de inteligência envolvidos 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sição do conheci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nheci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lano de Ensi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eúdo Progra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todologia, Técnicas de Ens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ursos Did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15640" y="1773360"/>
            <a:ext cx="741348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sciplina busca possibilitar ao aluno: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ntendimento de sistemas computacionais dentro de uma perspectiva da Inteligência Artifici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amiliaridade com as metodologias e técnicas de desenvolvimento de sistemas intelig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26028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23560" y="1984320"/>
            <a:ext cx="7410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ção. Resolução de problemas. Métodos de busca. Conhecimento e raciocínios precisos e imprecisos. Aprendizagem. Comunicação. Ação. Aplic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é-requis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álise e Técnicas de Algorit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digmas de Linguagens de Progra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ópicos em Estatística Exploratóri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en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1 - Introduçã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1 - O que é I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2 - Históric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3 - Características Essenciai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4 - O Teste de Turing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.5 - Domínios de Aplic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2 - Introdução a Pro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1 - Lógica e Programaç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2 - A linguagem Prolog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3 - Sintaxe, Semântica e Operadore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4 - Processamento de List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5 - Controle e Estruturas de Dado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6 - Entrada e Saí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3 - Resolução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1 - Espaço de Estado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2 - Árvores e Grafos de Problem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3 - Métodos de Busc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4 - Grafos E/OU e Redução de Proble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4 - Representação do Conhe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1 - Introduç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2 - Lógica de Predicado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3 - Regras de Produç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4 - Redes Semântic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5 - Tratamento de Incertez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6 - Raciocínio Estatís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5 - A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.1 - Agentes e IA Distribuíd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6 - Aprendiz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.1 - Induç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.2 - Descobert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.3 - Analogia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.4 - Redes Neur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dade 7 - Tópicos Avanç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1 - Visão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3 - Sistemas Especialista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4 - Processamento de Linguagem Natural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5 - Algoritmos Genéticos 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7.6 – Outros tóp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teúdo Programátic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23560" y="2214720"/>
            <a:ext cx="7410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s ex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etodologia, Técnicas de Ensin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20720" y="3213000"/>
            <a:ext cx="633600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18920" y="3284640"/>
            <a:ext cx="6335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que é Inteligência Artificia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98440" y="2290680"/>
            <a:ext cx="71042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 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sh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tínu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valiações individuais e trabalhos em laborató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balhos interativos de pesquisa extra-clas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individuais e em gru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balhos de pesquisa em sala de aul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rão consideradas 3 notas (com pesos iguais) para cálculo da média final na disciplina, a sab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ª - Avali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ª -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ª - Projeto: com plano de trabalho, seminário de apresentação, demonstração, relatório, código fonte, document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 obrigatória para a discipl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verá reposição apenas para os alunos que faltarem às avaliações 1 ou 2. Não haverá substituição de menor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jeto será realizado em grupos de no máximo 4 e no mínimo 3 alunos, sendo atribuídas notas individuais para os projetos (em função do desempenho individual de cada participa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7812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ussell, S., Norvig, P.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rtificial Intelligence – A Modern Approa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rentice-Hall, 2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dição, 200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ussell, S., Norvig, P.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ditora Campus, 2004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uger, G. F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ência Artificial - Estruturas e Estratégias para a Solução de Problemas Complex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4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dição, Bookman, 200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ttencourt, G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encia Artificial – Ferramentas e Teor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ditora de UFSC, 1998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indent="-144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17002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atko, I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ogic Programming for Artificial Intellige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2nd edition, Addison-Wesley, 199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ach, P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mply Logical – Intelligent Reasoning by Examp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John Wiley &amp; Sons, 1994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ich, E., Knight, K.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ência Artif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Makron, 199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hayse, A. et alli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pproche Logique de l`Intelligence Artificiel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Vols. 1, 2, 3 e 4, Dunod, 199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nandes, A. M. da R.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ligência Artificial – Noções Ger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Visual Books, 2003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 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16360" y="2349360"/>
            <a:ext cx="3781440" cy="30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É mesmo possível se obter inteligência num computador, ou uma entidade inteligente requer a riqueza das sensações e experiências que só podem ser encontradas numa existência biológica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1330200" cy="1368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4320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3280" y="2779560"/>
            <a:ext cx="684072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imologicamente 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ligênci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rigem: Lat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ter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nt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ege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colh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lo que permite ao ser humano escolher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isa e outr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bilidade de realizar, de forma efici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eterminada tare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80000" y="3068640"/>
            <a:ext cx="2160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3200" y="17064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tificial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rigem: Lat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rtificia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 não natural, isto é, produzido pelo ho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76360" y="2852640"/>
            <a:ext cx="7056360" cy="1441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2204640"/>
            <a:ext cx="720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tipo de inteligência produzida pelo homem para dotar as máquinas de algum tipo de habilidade que simula a inteligência do hom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044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 de 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O ramo da ciência da computação preocupada com a automação de comportamento inteligente." [LUGER &amp; STUBBLEFIELD, 9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O estudo da computação que torna possível perceber, raciocinar e agir." [WINSTON, 9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IA é a parte da ciência da computação voltada para o desenvolvimento de sistemas de computadores inteligentes, i.e. sistemas que exibem características, as quais nós associamos com a inteligência no comportamento humano - e.g. compreensão da linguagem, aprendizado, raciocínio, resolução de problemas, etc." [FEIGENBAUM, 8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44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 de 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É o campo de estudo que tenta explicar e emular o comportamento inteligente em termos de processos computacionais." [SCHALKOFF, 9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Inteligência artificial é o estudo das idéias que permitem aos computadores serem inteligentes." [WINSTON, 8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Inteligência Artificial é o estudo das faculdades mentais através do uso de modelos computacionais." [CHARNIAK &amp; McDERMOTT, 85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44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 de 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A arte de criar máquinas que executam funções que requerem inteligência quando executadas por pessoas." [KURZWEIL,9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Inteligência artificial é o estudo de como fazer os computadores realizarem coisas que, no momento, as pessoas fazem melhor." [RICH, Elaine &amp; KNIGHT, Kevin, 9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[...] atividade que nós associamos com o pensar humano, atividades tais como: tomada de decisão, resolução de problemas, aprendizado[... ]." [BELLMAN, 7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definições de 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"A inteligência artificial (IA) é simplesmente uma maneira de fazer o computador pensar inteligentemente." [LEVINE, 8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de ser definida como o ramo da Ciência da Computação que se ocupa da automação do comportamento inteligente.” [LUGER, 200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07-11T16:41:32Z</dcterms:modified>
  <cp:revision>2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