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9CE4-1DE5-4EE5-BE0B-B1B3C20C8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8410-7FAA-49A1-A64A-CC725CF9A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AF9A-F33E-49B1-BB43-E77DDA397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5A15-C8FD-41B8-9411-41C4B4EC5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67747C-3318-4EBF-9BA4-9F96044DF46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91C202-56DB-4E2F-94E5-A6C80461C79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7AE8F5-4461-4E50-A971-EEB0C80F747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3C2AE4-0E5D-4F35-91DA-A564974B8BE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EDB73B-622F-4459-8DD5-C349E8A881E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A0B9BC-EB2D-4E83-ADEA-BBF178B40B3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5A1792-F4F3-4960-9877-3128EA4BB7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1959-CCFD-488F-B7DF-8AD2EC2ED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F1CA66-6920-42DE-B07A-8D839722E30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ADAC7B-5866-4C58-8C35-D3152161EDF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628E79-CF12-41DA-8AD7-BB8673509D1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F1F055-A763-40E3-882E-062A0F20A8E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86F0FE-6B10-4204-9E23-D44B2AA050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FB39-370F-4060-8BA0-EB001F79F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F70C-157B-4AF6-AF6F-F77AF822D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EFA2-8DE4-4642-A499-211B61810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479E-EF40-4B79-B0E1-5CF913E8B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551C-1427-49DE-A3D4-F2F3E139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D48C-E40F-4095-B39E-34DAD605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F006-C5BE-4A05-B9D3-D80C86C7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7893F-6FEB-4960-90DB-93387AD24283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108000" y="6165720"/>
            <a:ext cx="720720" cy="620640"/>
            <a:chOff x="108000" y="6165720"/>
            <a:chExt cx="720720" cy="620640"/>
          </a:xfrm>
        </p:grpSpPr>
        <p:sp>
          <p:nvSpPr>
            <p:cNvPr id="8" name=""/>
            <p:cNvSpPr/>
            <p:nvPr/>
          </p:nvSpPr>
          <p:spPr>
            <a:xfrm>
              <a:off x="10800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9888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14256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0140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flipV="1">
              <a:off x="14328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112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023B3-F892-4489-9CC1-E9FB4341195C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900000" y="6237000"/>
            <a:ext cx="720720" cy="620640"/>
            <a:chOff x="900000" y="6237000"/>
            <a:chExt cx="720720" cy="620640"/>
          </a:xfrm>
        </p:grpSpPr>
        <p:sp>
          <p:nvSpPr>
            <p:cNvPr id="56" name=""/>
            <p:cNvSpPr/>
            <p:nvPr/>
          </p:nvSpPr>
          <p:spPr>
            <a:xfrm>
              <a:off x="900000" y="673380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190880" y="643392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934920" y="6236640"/>
              <a:ext cx="392400" cy="272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93400" y="644328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935640" y="624636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987640" y="2179440"/>
            <a:ext cx="568800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Introdução à Prolog (Parte 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8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6200000">
            <a:off x="-3083400" y="3307320"/>
            <a:ext cx="645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Figura: Capa do Livro Hamburger, H., Richards, D. </a:t>
            </a:r>
            <a:r>
              <a:rPr b="1" i="1" lang="pt-BR" sz="800" spc="-1" strike="noStrike">
                <a:solidFill>
                  <a:srgbClr val="000000"/>
                </a:solidFill>
                <a:latin typeface="Verdana"/>
              </a:rPr>
              <a:t>Logic and Language Models for Computer Science</a:t>
            </a: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, Prentice Hal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971280" y="1773360"/>
            <a:ext cx="7715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sidere a relação denominada </a:t>
            </a:r>
            <a:r>
              <a:rPr b="1" i="1" lang="pt-PT" sz="2400" spc="-1" strike="noStrike">
                <a:solidFill>
                  <a:srgbClr val="000000"/>
                </a:solidFill>
                <a:latin typeface="Arial"/>
              </a:rPr>
              <a:t>progenitor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ssocia um indivíduo a um dos seus progenitores.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Defina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, utilizando Prolog, a relação progenitor comple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Responda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, em Prolog, as seguintes questõ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José é o progenitor de Íris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Ana é um dos progenitores de Jorge?”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Luís é progenitor de Maria?”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Quem é progenitor de Íris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Quem são os filhos de José?”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900000" y="277920"/>
            <a:ext cx="8172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log – Exercício 1 ...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C93A-37B0-4B3E-BE75-47B7621546D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rcício 1 ...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7128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Relação progenitor comple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progenitor(maria, jos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progenitor(joao, jos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progenitor(joao, an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progenitor(jose, juli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progenitor(jose, iri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progenitor(iris, jorg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6522-3E20-4398-9440-FFD439D9C2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rcício 1 ...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Questões e respectivas respostas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"José é o progenitor de Íris?"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?-progenitor(jose, iri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"Ana é um dos progenitores de Jorge?"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000000"/>
                </a:solidFill>
                <a:latin typeface="Arial"/>
              </a:rPr>
              <a:t>?-progenitor(ana, jorg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pt-PT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"Luís é progenitor de Maria?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?-progenitor(luis, mari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0F27-493F-406F-A50C-A8472DF3899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rcício 1 ...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Questões e respectivas respostas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Quem é progenitor de Íris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000000"/>
                </a:solidFill>
                <a:latin typeface="Arial"/>
              </a:rPr>
              <a:t>?-progenitor(X, iri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000000"/>
                </a:solidFill>
                <a:latin typeface="Arial"/>
              </a:rPr>
              <a:t>X=j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Quem são os filhos de José?”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?-progenitor(jose, 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X=juli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X=iri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00000" y="6097680"/>
            <a:ext cx="77774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A última resposta obtida - </a:t>
            </a:r>
            <a:r>
              <a:rPr b="0" i="1" lang="pt-PT" sz="1600" spc="-1" strike="noStrike">
                <a:solidFill>
                  <a:srgbClr val="000000"/>
                </a:solidFill>
                <a:latin typeface="Verdana"/>
              </a:rPr>
              <a:t>"não" - </a:t>
            </a:r>
            <a:r>
              <a:rPr b="0" lang="pt-PT" sz="1600" spc="-1" strike="noStrike">
                <a:solidFill>
                  <a:srgbClr val="000000"/>
                </a:solidFill>
                <a:latin typeface="Verdana"/>
              </a:rPr>
              <a:t>significa que todas as soluções válidas já foram fornecidas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CF26-9E9A-42E1-B6E4-498BD5760A8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rcício 1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99308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Questões e respectivas respostas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Uma questão mais geral para o programa seria: "Quem é progenitor de quem?" ou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"Encontre X e Y tal que X é progenitor de Y"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03280" y="400536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Verdana"/>
              </a:rPr>
              <a:t>?-progenitor(X, 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Verdana"/>
              </a:rPr>
              <a:t>X=maria Y=jos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Verdana"/>
              </a:rPr>
              <a:t>X=joao   Y=jos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Verdana"/>
              </a:rPr>
              <a:t>X=joao   Y=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FA0D-E4BB-496A-9390-5CEE626BA2F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rcício 2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jam os axiom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odos os homens são falíve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"Para todo X, se X é um homem então X é falível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ócrates é um hom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teorema que deriva logicamente desses dois axiomas 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ócrates é falí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rcício: Faça a descrição acima em Prolog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68D8-3E4C-480E-B93D-D841E04AE01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rcício 2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71640" y="1483920"/>
            <a:ext cx="6192720" cy="19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olu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928080" indent="0">
              <a:spcBef>
                <a:spcPts val="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alivel(X) :- homem(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omem(socrat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nsu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?-falivel(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X=soc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3130560" y="2852640"/>
          <a:ext cx="5545080" cy="394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0560" y="2852640"/>
                    <a:ext cx="5545080" cy="39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4140360" y="2492280"/>
            <a:ext cx="446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Teste utilizando o WIN-PRO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3C19-2ACD-4604-8FE9-9B4627DFE5F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rcício 3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1042920" y="2708280"/>
            <a:ext cx="352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O que representa a Árvore de Busca ao lado (descrita em Prolog)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00720" y="71280"/>
            <a:ext cx="3972240" cy="6599160"/>
            <a:chOff x="4500720" y="71280"/>
            <a:chExt cx="3972240" cy="6599160"/>
          </a:xfrm>
        </p:grpSpPr>
        <p:sp>
          <p:nvSpPr>
            <p:cNvPr id="160" name=""/>
            <p:cNvSpPr/>
            <p:nvPr/>
          </p:nvSpPr>
          <p:spPr>
            <a:xfrm>
              <a:off x="4500720" y="71280"/>
              <a:ext cx="3960720" cy="659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4503600" y="187200"/>
              <a:ext cx="3969360" cy="6483240"/>
              <a:chOff x="4503600" y="187200"/>
              <a:chExt cx="3969360" cy="6483240"/>
            </a:xfrm>
          </p:grpSpPr>
          <p:sp>
            <p:nvSpPr>
              <p:cNvPr id="162" name=""/>
              <p:cNvSpPr/>
              <p:nvPr/>
            </p:nvSpPr>
            <p:spPr>
              <a:xfrm flipH="1">
                <a:off x="6173640" y="474480"/>
                <a:ext cx="93492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4810320" y="1122120"/>
                <a:ext cx="1363680" cy="64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>
                <a:off x="5457600" y="1122120"/>
                <a:ext cx="716040" cy="64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6102000" y="1122120"/>
                <a:ext cx="71640" cy="64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174000" y="1122120"/>
                <a:ext cx="576000" cy="172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>
                <a:off x="5528880" y="2851200"/>
                <a:ext cx="1220760" cy="71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6318000" y="2851200"/>
                <a:ext cx="431640" cy="71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750000" y="2851200"/>
                <a:ext cx="71640" cy="71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750000" y="2851200"/>
                <a:ext cx="936720" cy="57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682320" y="187200"/>
                <a:ext cx="1003680" cy="291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par(X_par)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252480" y="1050840"/>
                <a:ext cx="610560" cy="291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X(N1)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757560" y="2635200"/>
                <a:ext cx="610560" cy="291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X(N2)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503600" y="1770120"/>
                <a:ext cx="519120" cy="291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x(7).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173560" y="1770120"/>
                <a:ext cx="519120" cy="291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x(5).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821560" y="1770120"/>
                <a:ext cx="519120" cy="291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x(3).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273640" y="3568680"/>
                <a:ext cx="519120" cy="291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x(7).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943600" y="3568680"/>
                <a:ext cx="519120" cy="291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x(5).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591240" y="3568680"/>
                <a:ext cx="519120" cy="291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x(3).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478280" y="3498840"/>
                <a:ext cx="994680" cy="291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=/=(N1,N2)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>
                <a:off x="7041960" y="3787560"/>
                <a:ext cx="576360" cy="86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839280" y="4722840"/>
                <a:ext cx="1492920" cy="291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X_par is (N1+N2)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>
                <a:off x="6394320" y="5010120"/>
                <a:ext cx="431640" cy="64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537880" y="5659200"/>
                <a:ext cx="2768400" cy="291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write(N1), write(N2), write(X_par),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H="1">
                <a:off x="5962680" y="5946840"/>
                <a:ext cx="28728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749200" y="6378480"/>
                <a:ext cx="372600" cy="291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nl.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CE81-A68C-47A1-AC2F-F19725318A4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rcício 3 ...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1042920" y="1700280"/>
            <a:ext cx="7561440" cy="44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Qual a resposta para o seguinte program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x(7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x(5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x(3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ar(Xpar) :- x(N1), x(N2), N1 =\= N2, Xpar is (N1+N2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write(N1) , write(' .... '), write(N2), write(' .... '), write(Xpar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fai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?- par(N).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D39B-4AE6-4186-8A03-57989DDFBAA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rcício 3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"/>
          <p:cNvSpPr/>
          <p:nvPr/>
        </p:nvSpPr>
        <p:spPr>
          <a:xfrm>
            <a:off x="1042920" y="1700280"/>
            <a:ext cx="756144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?- par(N).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7 .... 5 ....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7 .... 3 ....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5 .... 7 ....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5 .... 3 ....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3 .... 7 ....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3 .... 5 ....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132000" y="1916280"/>
          <a:ext cx="576756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1916280"/>
                    <a:ext cx="5767560" cy="45306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3348000" y="148428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Teste utilizando o WIN-PRO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1309-EB86-4E5F-A249-3AA2286DEE1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Introdução à Prolog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1116000" y="1989000"/>
            <a:ext cx="771516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ópi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Linguagem Pro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rcí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AA72-2408-43F9-924F-FB2501D754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 Linguagem Prolog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71640" y="1844640"/>
            <a:ext cx="79214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Programação em lógica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- tem suas raízes no cálculo de predicados, proposto por Frege em 187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Primeira implementação da linguagem Prolog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- Alain Colmerauer e sua equipe, na Universidade de Aix-Marseille em 1972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bjetivo inicia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integrar uma técnica de prova automática de teoremas (Princípio de Resolução de Robinson) numa linguagem de programação para processamento de linguagem natu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B6E5-7FCE-4DEE-BC7F-0E5A224032C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 Linguagem Prolog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42560" y="1915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Uma das principais idéias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- um algoritmo é constituído por dois elementos disjuntos:  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 lógica e o controle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Componente lógico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- corresponde à definição do que deve ser solucion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Componente de controle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- estabelece como a solução pode ser obti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9E37-0F4D-4FE3-BAD3-5D3F86C501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 Linguagem Prolog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187280" y="1778040"/>
          <a:ext cx="7488360" cy="4530600"/>
        </p:xfrm>
        <a:graphic>
          <a:graphicData uri="http://schemas.openxmlformats.org/drawingml/2006/table">
            <a:tbl>
              <a:tblPr/>
              <a:tblGrid>
                <a:gridCol w="3857760"/>
                <a:gridCol w="3630600"/>
              </a:tblGrid>
              <a:tr h="77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000" spc="-1" strike="noStrike">
                          <a:solidFill>
                            <a:srgbClr val="000000"/>
                          </a:solidFill>
                          <a:latin typeface="ErieLight"/>
                          <a:ea typeface="Times New Roman"/>
                        </a:rPr>
                        <a:t>PROGRAMAS CONVENCIONA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000" spc="-1" strike="noStrike">
                          <a:solidFill>
                            <a:srgbClr val="000000"/>
                          </a:solidFill>
                          <a:latin typeface="ErieLight"/>
                          <a:ea typeface="Times New Roman"/>
                        </a:rPr>
                        <a:t>PROGRAMA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000" spc="-1" strike="noStrike">
                          <a:solidFill>
                            <a:srgbClr val="000000"/>
                          </a:solidFill>
                          <a:latin typeface="ErieLight"/>
                          <a:ea typeface="Times New Roman"/>
                        </a:rPr>
                        <a:t>EM LÓG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00"/>
                          </a:solidFill>
                          <a:latin typeface="Erie"/>
                          <a:ea typeface="Times New Roman"/>
                        </a:rPr>
                        <a:t>Processamento Numér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00"/>
                          </a:solidFill>
                          <a:latin typeface="Erie"/>
                          <a:ea typeface="Times New Roman"/>
                        </a:rPr>
                        <a:t>Processamento Simból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00"/>
                          </a:solidFill>
                          <a:latin typeface="Erie"/>
                          <a:ea typeface="Times New Roman"/>
                        </a:rPr>
                        <a:t>Soluções Algorítm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00"/>
                          </a:solidFill>
                          <a:latin typeface="Erie"/>
                          <a:ea typeface="Times New Roman"/>
                        </a:rPr>
                        <a:t>Soluções Heuríst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00"/>
                          </a:solidFill>
                          <a:latin typeface="Erie"/>
                          <a:ea typeface="Times New Roman"/>
                        </a:rPr>
                        <a:t>Estruturas de Controle e Conhecimento Integrad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00"/>
                          </a:solidFill>
                          <a:latin typeface="Erie"/>
                          <a:ea typeface="Times New Roman"/>
                        </a:rPr>
                        <a:t>Estruturas de Controle e Conhecimento Separad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00"/>
                          </a:solidFill>
                          <a:latin typeface="Erie"/>
                          <a:ea typeface="Times New Roman"/>
                        </a:rPr>
                        <a:t>Difícil Modific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00"/>
                          </a:solidFill>
                          <a:latin typeface="Erie"/>
                          <a:ea typeface="Times New Roman"/>
                        </a:rPr>
                        <a:t>Fácil Modific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00"/>
                          </a:solidFill>
                          <a:latin typeface="Erie"/>
                          <a:ea typeface="Times New Roman"/>
                        </a:rPr>
                        <a:t>Somente Respostas Totalmente Corre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00"/>
                          </a:solidFill>
                          <a:latin typeface="Erie"/>
                          <a:ea typeface="Times New Roman"/>
                        </a:rPr>
                        <a:t>Incluem Respostas Parcialmente Corre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00"/>
                          </a:solidFill>
                          <a:latin typeface="Erie"/>
                          <a:ea typeface="Times New Roman"/>
                        </a:rPr>
                        <a:t>Somente a Melhor Solução Possív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00"/>
                          </a:solidFill>
                          <a:latin typeface="Erie"/>
                          <a:ea typeface="Times New Roman"/>
                        </a:rPr>
                        <a:t>Incluem Todas as Soluções Possíve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58A7-0B4A-45F6-B320-388AE022E8D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 Linguagem Prolog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42920" y="1915920"/>
            <a:ext cx="7850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Propriedades dos sistemas de programação em lógica em geral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(em particular a linguagem Prolog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Funcionam simultaneamente como linguagem de programação e de especificaçã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Possuem capacidade dedutiv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Operam de forma não-determinístic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Permitem a representação de relações reversívei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Permitem interpretação declarativa, procedimental e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     operaciona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ão naturalmente recursiv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F7A9-EC8D-4A23-9A4B-E5A21D9F34D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 Linguagem Prolog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2560" y="1989000"/>
            <a:ext cx="77151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Principais aplicação da programação em lógica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istemas Baseados em Conhecimento (SBCs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istemas de Bases de Dados (BDs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istemas Especialistas (SEs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Processamento da Linguagem Natural (PLN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Educação,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Modelagem de Arquiteturas Não-Convenciona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8F3D-3793-41DD-9740-236A3BA73A8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 Linguagem Prolog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42560" y="1989000"/>
            <a:ext cx="77770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stituída basicamente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edicados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mostra as relações entre os objetos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gr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estruturação do conhecimento)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variávei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os objeto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04FC-EE39-41CD-B398-AB5767E8355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277920"/>
            <a:ext cx="8172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log – Exercício 1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971640" y="2735640"/>
            <a:ext cx="208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Considere a árvore genealógica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276720" y="1916280"/>
            <a:ext cx="5616360" cy="4031640"/>
            <a:chOff x="3276720" y="1916280"/>
            <a:chExt cx="5616360" cy="4031640"/>
          </a:xfrm>
        </p:grpSpPr>
        <p:sp>
          <p:nvSpPr>
            <p:cNvPr id="118" name=""/>
            <p:cNvSpPr/>
            <p:nvPr/>
          </p:nvSpPr>
          <p:spPr>
            <a:xfrm>
              <a:off x="3276720" y="1916280"/>
              <a:ext cx="1296720" cy="64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227640" y="1916280"/>
              <a:ext cx="1297080" cy="64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596360" y="3068640"/>
              <a:ext cx="1296720" cy="64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643280" y="3068640"/>
              <a:ext cx="1297080" cy="64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22920" y="4221000"/>
              <a:ext cx="1297080" cy="64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419640" y="4221000"/>
              <a:ext cx="1296720" cy="64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24360" y="5300640"/>
              <a:ext cx="1297080" cy="64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19640" y="206064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Verdana"/>
                </a:rPr>
                <a:t>ma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40720" y="321300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Verdana"/>
                </a:rPr>
                <a:t>a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788000" y="321300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Verdana"/>
                </a:rPr>
                <a:t>jo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372360" y="206064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Verdana"/>
                </a:rPr>
                <a:t>joa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64000" y="436536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Verdana"/>
                </a:rPr>
                <a:t>jul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867280" y="4365360"/>
              <a:ext cx="10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Verdana"/>
                </a:rPr>
                <a:t>ir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867280" y="5445000"/>
              <a:ext cx="10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Verdana"/>
                </a:rPr>
                <a:t>jo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72360" y="48686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948360" y="2565360"/>
              <a:ext cx="129564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5363640" y="2565360"/>
              <a:ext cx="158436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292720" y="3716280"/>
              <a:ext cx="1079640" cy="50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4140000" y="3716280"/>
              <a:ext cx="1152360" cy="50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24360" y="2565360"/>
              <a:ext cx="136836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09F3-F5AD-4CC8-A30B-B70936C7326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USE</cp:lastModifiedBy>
  <dcterms:modified xsi:type="dcterms:W3CDTF">2008-07-03T02:46:51Z</dcterms:modified>
  <cp:revision>156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