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7F2-02A4-4565-BC8C-2708105F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79E-5F9C-4597-9AD6-C6E1D949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AF2-2B7C-4908-86F5-F4F52BE3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937-8DD3-4347-8607-F8206BFE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4D1CA-791E-4127-830F-B18FF8A8DA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EF2D8-2444-490D-A165-22D2369DBA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7C434-4818-490D-8C76-4490891397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75F0E-614C-4536-AB9F-B7A8108B6F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2D421-8712-4702-B8A1-606514CF92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019DE-A91D-46F8-B15A-5C5DA24256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2C361-B796-4272-904B-264E62982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841-02E4-4EB1-96DD-9F130B7B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A6FE8-5154-4F36-A35C-42D00B7E62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E8713-C510-47A0-96AD-4F5E20459A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91D40-8475-48FE-A6BA-AB0F02029D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5351F-EF04-41B3-9E1E-1A6F83F1F4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21932-2E27-45A7-A2B5-06FD65258C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F3D-333F-499C-AAD0-E91A060A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018-5658-442D-8DCF-EEC3E8D5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26B-3614-465F-B506-8537EE61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0AB-349A-4A57-861D-9FE692B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6BC-C491-4804-9927-C43AEA49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2B3-1CA7-4CEA-9893-C384195A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CF6-3A8C-4826-98A2-C01D6C4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41C9-AE8D-4527-8732-4B7E5EDF878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0AE7-674B-46AE-B7E2-D34CCFC0EE2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4360" y="6237000"/>
            <a:ext cx="720720" cy="620640"/>
            <a:chOff x="68436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68436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524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71928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776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2000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5832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7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16000" y="2276640"/>
          <a:ext cx="7570800" cy="3816360"/>
        </p:xfrm>
        <a:graphic>
          <a:graphicData uri="http://schemas.openxmlformats.org/drawingml/2006/table">
            <a:tbl>
              <a:tblPr/>
              <a:tblGrid>
                <a:gridCol w="2016000"/>
                <a:gridCol w="1727280"/>
                <a:gridCol w="382752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a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f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es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X | Y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m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/ [ 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a,b,c,d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X, Y | Z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/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/[c,d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ano, bissexto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X, Y, Z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X, Y | Z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ão uni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/bissex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/[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B8B-492E-4401-8171-02008007B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de uma l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tence(Elemento, L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lemento pertence a Lista se ele é a cabeça da Lista 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lemento pertence à cauda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tence(Elemento, [Elemento | _ 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tence(Elemento, [ _ |Cauda]) 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tence(Elemento, Cau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C9B-B5CD-4A2D-B519-44BE5CCA8A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Último elemento de uma l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timo(Lista, Ele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Lista tem só um elemento, este é o último Ele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último elemento de uma Lista com mais de um elemento é o último elemento da Cauda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ltimo([Elemento], Elem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ltimo([ _ | Cauda], Elemento):- ultimo(Cauda, Elem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490-0624-4FA5-9E10-4BEA2D886C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a dos elementos de uma lista numéric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( Lista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Lista é vazia, a soma dos elementos é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Lista é [Cabeça | Cauda], a soma dos elementos é a soma dos elementos da Cauda mais a Cabeç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a([ ], 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a([Cabeça | Cauda], S):- soma(Cauda, S1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 is  S1 + Cab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85F-EC6F-4C9E-BF28-69A5AA439B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consecutivos em uma list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ecutivos( Elemento1, Elemento2, L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is elementos Elemento1 e Elemento2 são consecutivos se eles são o primeiro e o segundo elementos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se são consecutivos na cauda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cutivos(Elemento1, Elemento2, [Elemento1, Elemento2 | Caud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cutivos(Elemento1, Elemento2, [ _ | Cauda])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cutivos(Elemento1, Elemento2, Cau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49B6-CA45-42E6-9CF8-8BC4C6D4D2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atenaç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L1,L2,L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872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e L2 são duas listas e L3 é a concatenação resul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a,b],[c,d],[a,b,c,d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s que devem ser considerados para a definição de conc/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872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o primeiro argumento é uma lista vazia - o segundo e o terceiro argumentos devem ser a mesm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2872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o primeiro argumento não for uma lista vazia - pode ser denotado por [X|L1]. A concatenação de [X|L1] com L2 é uma terceira lista com a mesma cabeça X da primeira e um corpo L3 que é a concatenação do corpo de L1 com L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12000" y="3141720"/>
            <a:ext cx="1081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Indica a ar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356000" y="3645000"/>
            <a:ext cx="345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9D8-2E4E-435B-88F8-700377049A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atenaç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8920" y="3428640"/>
            <a:ext cx="691200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 ],L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X|L1],L2,[X|L3]) :- conc(L1,L2,L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conc([a,b,c],[1,2,3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=[a,b,c,1,2,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conc([a,[b,c],d],[a,[],b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=[a,[b,c],d,a,[ ]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92360" y="1628640"/>
            <a:ext cx="6324480" cy="1524240"/>
            <a:chOff x="1692360" y="1628640"/>
            <a:chExt cx="6324480" cy="1524240"/>
          </a:xfrm>
        </p:grpSpPr>
        <p:sp>
          <p:nvSpPr>
            <p:cNvPr id="140" name=""/>
            <p:cNvSpPr/>
            <p:nvPr/>
          </p:nvSpPr>
          <p:spPr>
            <a:xfrm>
              <a:off x="1692360" y="1628640"/>
              <a:ext cx="6324480" cy="1524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96920" y="1857240"/>
              <a:ext cx="9144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96920" y="2543040"/>
              <a:ext cx="9144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1320" y="1857240"/>
              <a:ext cx="259092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11320" y="2543040"/>
              <a:ext cx="48006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L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07160" y="1857240"/>
              <a:ext cx="190476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3DF-A1F6-43C4-A1FA-5BFC95C937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atenaç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esar de muito simples o programa conc/3 pode ser usado em inúmeras aplic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compos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?-conc(L1,L2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= [ ]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2 = [a,b,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= [a]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2 = [b,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= [a,b]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2 = [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= [a,b,c]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2 = [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379-C265-487D-9020-5998E94FED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atenaç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agando de uma lista todos os elementos que se seguem a um determinado padr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conc(T,[sab|_],[seq,ter,qua,qui,sex,sab,dom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=[seg,ter,qua,qui,se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EBC-7F16-4593-9077-30101FCF2A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moção de Elementos de uma List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L,L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1 é a mesma lista L com o elemento X remov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novamente 2 casos a estud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X é a cabeça de L, então L1 será seu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X está no corpo de L, então L1 é obtida removendo X desse co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[X|C],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[Y|C],[Y|D]):-remover(X,C,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26C-DFA0-40B2-AB87-6B93C07654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5C3-4EF8-4E2C-9113-C29D0ADE43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remo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05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remover(a,[a,b,a,a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b,a,a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a,b,a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a,b,a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remover(a,L,[b,c,d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a,b,c,d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b,a,c,d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b,c,a,d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=[b,c,d,a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2F1-C1BD-4D1C-A995-FA6BF6B7BF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utros usos de remover/3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04480" y="17776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[X|C],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(X,[Y|C],[Y|D]):-remover(X,C,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erir(X,L,L1):- remover(X,L1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2(X,L) :- remover(X,L,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inserir(a,[b,c],L)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membro2(a,[c,b,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=[a,b,c]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= [b,a,c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= [b,c,a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22D-02D0-4C1A-810F-894B2BE449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vers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a,b,c],[c,b,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a,[b,c],d],[d,[b,c],a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são ingênu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mar o primeiro elemento d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 o re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atenar o inverso do restante à lista formada pelo primeiro el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],[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[X|Y],Z) :- inverter(Y,Y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Y1,[X],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B1E-1735-46F8-952E-AFE38E8887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versã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são eficiente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(X,Y):-aux([],X,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x(L,[ ]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x(L,[X|Y],Z) :- aux([X|L],Y,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663-026B-4E3F-96AB-94C132483C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ub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 é uma sublista de L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1) L pode ser decomposta em duas listas L1 e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2) L2 pode ser decomposta em S e 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lista(S,L) :- conc(L1,L2,L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S,L3,L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sublista(S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2EC-E301-4F39-BE68-56752DA8DE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ub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35640" y="1773360"/>
            <a:ext cx="3168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sublista(S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a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a,b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a,b,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b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b,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c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 = [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2133720"/>
            <a:ext cx="43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 ],L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[X|L1],L2,[X|L3]) :- conc(L1,L2,L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lista(S,L) :- conc(L1,L2,L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(S,L3,L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C76-1272-4E5A-9B77-D7732872A2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s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qüência ordenada de elementos que pode ter qualquer compr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lementos de uma lista podem ser uma variável, uma constante, ou qualquer estrutura do Prolog. Esses elementos são separados por vírg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s de identificação das listas em Prolo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 X | Y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 Cabeça | Cauda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 Topo | Cauda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 Primeiro | Resto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uda pode ser uma lista vaz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693-F973-4852-97B4-294471F83E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3781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16000" y="2781360"/>
          <a:ext cx="7488360" cy="2160360"/>
        </p:xfrm>
        <a:graphic>
          <a:graphicData uri="http://schemas.openxmlformats.org/drawingml/2006/table">
            <a:tbl>
              <a:tblPr/>
              <a:tblGrid>
                <a:gridCol w="3456000"/>
                <a:gridCol w="1224000"/>
                <a:gridCol w="280836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be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as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as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3, 4, 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4, 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 o, gato, morreu, ontem 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o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ato, morreu,onte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FB9-C2E9-4517-983D-21FE0B7F83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truçã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s(X,Y,[X|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-cons(a,b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=[a,b] ou Z=[a|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-cons(a,[]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=[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-cons(a,X,[a,b,c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=[b,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?-cons([a,b,c],[d,e],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 = [[a,b,c],d,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F41-591D-42E2-8A8F-455641342C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b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[b,c],[a,[b,c],d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b,[a,[b,c]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é membro de L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é a cabeça de L,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é membro do corpo de 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lementos de uma 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3141720"/>
            <a:ext cx="108108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als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284720" y="3357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798-2976-4FBE-83D1-4755C3A56E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lementos de uma Lis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[X|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bro(X,[_|C]) :- membro(X,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membro(a,[a,b,c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membro(‘Natal’, [‘Recife’, ‘Natal’, ‘Campina’]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membro(1,[[1,2],3,4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2881440"/>
            <a:ext cx="2305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O uso de _ indica que o conteúdo não é import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916360" y="2491920"/>
            <a:ext cx="3456000" cy="7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03A-EB4B-4227-B3D5-669586C380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Unificação de Listas (“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tching”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 dois termos, diz-se que eles se unificam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idênticos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variáveis em ambos os termos podem ser instanciadas em objetos, de maneira que após a substituição das variáveis por esses objetos, os termos se tornam idên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AE6-F059-4F76-83B7-05C21E9D11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e Lis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Unificaçã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nificação de uma lista [X | Y] com X e Y variáveis, com uma lista do tipo [ a1, a2, a3, ..., an ] resulta 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X/a1,  Y/[ a2, a3, ..., an ]} ,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n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{ X/a1,  Y/[ ]}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n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8E2-CE90-4A31-90F2-EB8A8C70CB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</cp:lastModifiedBy>
  <dcterms:modified xsi:type="dcterms:W3CDTF">2006-08-04T12:23:41Z</dcterms:modified>
  <cp:revision>17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