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26B-8C9D-4D5F-AAFB-4B90558D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999-1D37-4438-9705-9010058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CE5-5984-410C-B3B1-847A86FE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889-7B6A-4BE6-8367-5AE41D2C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22440-47B2-4A8D-8F10-DC7E976F47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962CB-B25D-4CE3-9FCD-BF5B264EC7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DFC38-003B-4C73-BD91-6F334CE1D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89798-DE64-4749-915F-4EA55B273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334EA-E272-443E-9E1A-805BE8ED2F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1FAC-1F7E-46DF-B372-A6544FF100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EDB3-0726-4E93-A6E0-4D6C2D71E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578-B28F-4B55-A55E-7839EC20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77AD5-B775-4036-8768-3FA958E8B3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9DFDA-58DE-4A10-AF7E-C8F7343C0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95AD-BE3C-4DB2-A690-5DEFC1B99C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E0D65-9183-4FE9-9990-845DC812BF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0BEC6-2060-478C-AEE5-7D8FA3B58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051-5248-4493-A5D0-588F0F75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C19-605B-46C6-A882-6459780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279-92BD-44B6-B4F0-C9654D0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A8E-B970-4F2E-A24E-9BD0ED32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E72-B6A8-4758-8A0A-58C3A92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EC4-F010-41B6-9009-F99BCF19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E39-9FD5-4380-A6AC-AA2FC4A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F63-E472-4858-99A4-FC8D7DA2B03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BF5-D43E-4C61-AF5A-1FA18B142DB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1989000"/>
            <a:ext cx="58323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informações Adicionais - Monitor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amento recursivo de listas: verificação de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mbr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defini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cursivamente, primeiro é testado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 primeiro item da l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(X,[X|T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testa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primeiro elemento da lista são idênticos. Se não forem, então verifica-se 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elemento do resto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lista. Isto é defini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(X,[Y|T]) :- membro(X,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D54-6579-4F62-826E-7A53ADBF0E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7792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X|T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Y|T]) :- membro(X,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 – membro(c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ma 1. falha, pois 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≠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2. X=c, Y=a, T=[b,c], membro(c,[b,c]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1. falha, pois c ≠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2. X=c, Y=b, T=[c], membro(c,[c]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hama 1. retorna sucesso, pois c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 (para a segunda chamada de 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 (para a primeira chamada de 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1B4-5C80-4534-87CB-6E12781D4E8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3-13T14:57:42Z</dcterms:modified>
  <cp:revision>21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