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253-AC75-4725-90C7-C4085885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52F-6383-40CB-AA19-A1B26910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B0E-43D7-4959-A10B-26B9ED22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A9D-2F10-4D4D-8156-E0DD5C54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6DAE3-CC26-41E7-A866-45E17DCAD4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422BD-B3C5-46B0-9F0F-29AA4B2510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8E89D-586F-4C31-8036-2123B0C070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9DBEB-C9BE-4750-99BD-E7E3A01B21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B4216-EDB6-4D54-B0B2-F45D48CA3F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DAE5E-B105-48F3-A522-A583BC1A8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C83F2-A9C4-4A7E-B93C-3B405274C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80B-EA1F-45FC-B9F4-6CAEA41D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C868B-BD28-4B96-BEB6-14B2DDF07F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3EA71-4D1C-46C2-87A9-93D4D0795A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4F0E8-3CC3-4D8D-B794-A98215EA85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39219-F699-4A26-8A24-52BBAD0A11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7B054-A5DD-41DE-A172-86EBF41A4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FBC-3EE0-4FA5-BD8F-ADC8623D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464-2AB1-40F6-9946-8E27A4C2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FB2-8DD7-4C11-84C2-D6635B70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98D-E521-4738-B45A-13CCD260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F6F-27D5-456B-BC85-3D8B513B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72F-6CDD-4F2F-A78C-BC9D205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30A-7147-46E6-A625-4676F456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F26-21CA-493F-A297-E4B4EF9CCE3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410A-FA40-487E-BE81-D5E7325FA24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4360" y="6237000"/>
            <a:ext cx="720720" cy="620640"/>
            <a:chOff x="684360" y="6237000"/>
            <a:chExt cx="720720" cy="620640"/>
          </a:xfrm>
        </p:grpSpPr>
        <p:sp>
          <p:nvSpPr>
            <p:cNvPr id="56" name=""/>
            <p:cNvSpPr/>
            <p:nvPr/>
          </p:nvSpPr>
          <p:spPr>
            <a:xfrm>
              <a:off x="684360" y="673380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5240" y="643392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719280" y="623664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77760" y="644328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20000" y="624636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2133360"/>
            <a:ext cx="5832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à Prolog 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595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Negação por Fa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É possível dizer que alguma coisa não é verdadeira em Prolog por meio de um predicado pré-definido especial,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ai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, que sempre falha, forçando o objetivo pai a falh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mulação em Prolog com o uso d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ail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osta(maria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bra(X), !, f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osta(maria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imal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157720"/>
            <a:ext cx="4176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"Maria gosta de todos os animais, menos de cobras".  Como podemos dizer isto em Prolo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96F-4986-45E4-89C0-7923BD47AA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595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Negação por Fal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duas regras podem ser escritas de modo mais compacto como uma única cláusula, por meio do uso do conectivo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osta(maria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bra(X), !, fa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imal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488-D759-4FA9-9873-C41BBC34A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Reservas quanto ao uso do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ua inserção em um programa pode destruir a correspondência entre os significados declarativo e operacion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 bom estilo de programação deve dar preferência ao uso de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uts verde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, que não afetam o significado declarativo do programa, evitando os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uts vermelho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 que o faz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operador unário not define uma forma particular de negação denominada "negação por falha", que não corresponde exatamente à negação da lógica matemática, de modo que o seu uso também requer cuidados espe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609-5191-45CF-B7D1-443BFA2CE3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rodução à Prolo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1989000"/>
            <a:ext cx="71280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693-E57E-4D0C-95A4-AEAF761BD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916280"/>
            <a:ext cx="75596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programador pode controlar a execução de seu programa através da reordenação das cláusulas ou de objetivos no interior dest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utro instrumento para o controle de programas - denominado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 - que se destina a prevenir a execução d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quando este não for desej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gação por falh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 - forma operacional da negação lógic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6EC-8AC6-4301-B005-341917321F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ecanismo para "podar" a árvore de pesquisa, evitando 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quando este for indesej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ermite declarar ramificações da árvore de pesquisa que não devem ser retomadas n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azões para o seu u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programa irá executar mais rapidamente, porque não irá desperdiçar tempo tentando satisfazer objetivos que não irão contribuir para a solução desej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memória também será economizada, uma vez que determinados pontos de 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não necessitam ser armazenados para exame pos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DD8-A7E5-42B9-BDAC-600CB762B3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3800520"/>
            <a:ext cx="6875280" cy="3157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intaticamente o uso do cut em uma cláusula tem a aparência de um objetivo sem nenhum argumento, representado por um ponto de exclamação "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Uma função em degr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001-773C-491C-BE5D-51ED54F4F6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relação entre X e Y para a função apresentada na figura pode ser especificada, para o domínio dos inteiros não negativos, por meio de três reg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X &lt; 3,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ntão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3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 e X &lt; 6,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ntão 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 6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X,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ntão Y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7D0-6748-4849-B7BF-46CB0A1E93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85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olução em Prolog - relação binária f(X, 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(X, 0) :- X &lt;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(X, 2) :- 3 =&lt; X, X &lt;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(X, 4) :- 6 =&lt;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ul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?- f(1, Y), 2 &lt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AFD-6E4D-42A9-BA65-8D7A59A73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595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programa reescrito com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ut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, 0) :- X &lt; 3, 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, 2) :- 3 =&lt; X, X &lt; 6, 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, 4) :- 6 =&lt; X.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introdução de cuts afetou somente a interpretação operacional do programa, sem interferir na sua interpretação decla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 uso do cut pode afetar também o significado declarativo do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B87-1D43-42F4-A8CF-B225A9110E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8595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Operador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” (Exemplo de melhoria da efici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Máximo de dois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1. Solução Tradicional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  2. Solução com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x(X, Y, X) :- X &gt;= Y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x(X, Y, Y) :- X &lt; Y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sas duas regras são mutuamente exclusivas.  Se a primeira for bem sucedida, então a segunda certamente irá falhar e vice-vers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73408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66080" y="3543480"/>
            <a:ext cx="35427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x(X, Y, X) :- X &gt;= Y, 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x(X, Y, 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B1C-60D9-45C6-AA75-1320352895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03-13T15:47:06Z</dcterms:modified>
  <cp:revision>26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