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233-D3EB-4C3F-B20F-357E08F7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703-62E7-489D-81FD-C984F22F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5B7-4AF7-4030-990A-25D58B67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585-5C58-4340-894E-E6CF76FF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D7CF6-F5E8-4BB3-A0BF-7C6B851247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D0800-8BB5-44FB-AF95-B487FE2122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C001D-E3E3-47B0-8495-53CFE77B5E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D1694-92E0-4950-8749-EE52F54877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C7A50-E77F-45BE-B20E-0AECA25044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4D763-1673-4E9F-A11E-D045CD5B58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E2E69-2BDF-4A79-A455-DC265CC394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6B27-91F1-4D79-8FCF-7486E754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44B0E-3288-409F-B462-37D7074838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3B775-AF59-41C6-AEA0-C6B4EE9178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A4484-54EF-4E19-AF58-095D92BABA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6787A-A82A-4110-9CF9-785F5BEB37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01F01-4911-480A-96C5-91DE31F5F5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5EEB-D236-490D-9628-E59EE262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901-F0D1-473A-9B04-9772CB51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D9E-457B-4462-B92C-B806D20D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8D5-B315-4186-AF89-712C9C0C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E40-5F5B-451C-ADAA-B1EFCFCB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F91-8010-48A3-BE7E-AD50059D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1E9-5F0B-44BE-98EE-AFFDAB21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06EC-8708-455E-B305-78E9D8423C7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97EF-0C0A-4D7B-9898-543BD5641EE6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4360" y="6237000"/>
            <a:ext cx="720720" cy="620640"/>
            <a:chOff x="68436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68436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7524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71928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7776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72000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5832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à Prolog (Parte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700280"/>
            <a:ext cx="7920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Inserts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?- insertsort([9,8,7,6,5,4,3,2,1]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 = [1,2,3,4,5,6,7,8,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D74-1D77-495B-90D4-B1E5A41250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1700280"/>
            <a:ext cx="7920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Quicks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ara classificar uma lista não vazia, 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pare algum elemento X de L e divida o restante em duas listas, denominadas Menor e Maior, da seguinte maneira: Todos os elementos de L que são maiores do que X pertencem a Maior e os restantes pertencem a Men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lassifique Menor, obtendo Menor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lassifique Maior, obtendo Maior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lista completa é a concatenação de Menor1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m [X | Maior1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E67-8704-4EE1-8CE6-EC2D2C733C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258920" y="2273400"/>
            <a:ext cx="6985080" cy="4468680"/>
            <a:chOff x="1258920" y="2273400"/>
            <a:chExt cx="6985080" cy="446868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1258920" y="2273400"/>
              <a:ext cx="6985080" cy="44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851280" y="6237360"/>
              <a:ext cx="180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[1, 3, 4, 5, 6, 7, 7, 8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63640" y="5140440"/>
              <a:ext cx="180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[1, 3, 4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1557360"/>
            <a:ext cx="7920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Quicks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B64-DC8A-4B98-A23C-F521A1FAAC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1557360"/>
            <a:ext cx="7920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Quicks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q(X, Y):- X &gt;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icksort([],[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icksort([X | R], Saida) :-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vide(X, R, Menor, Maior),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icksort(Menor, Menor1),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icksort(Maior, Maior1),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c(Menor1, [X | Maior1], Saida).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343-5106-4BBE-8DA0-EF0AD10A49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1628640"/>
            <a:ext cx="7920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Quicks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vide(X, [], [], []).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vide(X, [Y | R], [Y | Menor], Maior) :-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q(X, Y), !, divide(X, R, Menor, Maior).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vide(X, [Y | R], Menor, [Y | Maior]) :-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vide(X, R, Menor, Maior).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c([], L, L).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c([X | L1], L2, [X | L3]) :-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c(L1, L2, L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C81-28E7-42E8-A984-DB8167B82B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1773360"/>
            <a:ext cx="7920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Quicks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?- quicksort([9,8,7,6,5,4,3,2,1]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 = [1,2,3,4,5,6,7,8,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3AF-D2DC-4ABF-9731-3370132FFE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AF6-36ED-4C36-B4A6-946901F711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lassificação (ordenação) – consiste rearranjar objetos em uma ordem espec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ma lista pode ser classificada desde que haja uma relação de ordem entre os elementos que a compõ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ara os propósitos assume-se a relação de ordem representada por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mq(X, 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ignifica que "X é maior que Y", independentemente do que significa "maior que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630-B166-4B5B-A2EF-6CD3605215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1628640"/>
            <a:ext cx="77155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 os itens da lista são números, então a relação mq/2 será  talvez definid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mq(X, Y):- X &gt;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 os itens da lista são átomos, então a relação mq pode corresponder, por exemplo, à ordem do código ASCII correspondente aos caracter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lassifica(Lista, Sai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List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- lista de it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Said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- lista dos itens classificados em ordem crescente, de acordo com a relação mq/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F5A-AA95-459B-B3DB-902C22B07C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1628640"/>
            <a:ext cx="7920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Bubbleso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1)  Encontre dois elementos adjacentes, X e Y, nesta ordem em Lista, tais que mq(X, Y).  Troque as posições de X e Y, obtendo Lista1 e, depois, classifique Lista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2) Se não houver nenhum par de elementos adjacentes, X e Y,  nesta ordem em Lista, então esta já está class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133-38F9-4146-BB13-41BFF06801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1628640"/>
            <a:ext cx="7920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Bubbleso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q(X, Y):- X &gt;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bubblesort([],[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bubblesort(Lista, Saida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roca(Lista, Lista1), !, bubblesort(Lista1, Sai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bubblesort(Saida, Sai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roca([X, Y | Resto], [Y, X | Resto]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q(X, 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roca([Z | Resto], [Z | Resto1]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roca(Resto, Resto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202-AAFA-4948-822A-C18317CA32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1628640"/>
            <a:ext cx="7920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Bubbleso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?- bubblesort([9,8,7,6,5,4,3,2,1]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 = [1,2,3,4,5,6,7,8,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4A8E-D301-4495-9C2E-A2B3831ED5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1700280"/>
            <a:ext cx="7920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Inserts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ara classificar uma lista não vazia, L = [X | R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lassifique o corpo R da lista 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sira a cabeça, X, de L no corpo classificado em uma posição tal que a lista resultante esteja class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resultado é a lista completamente classific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5914-1D2C-4834-8F36-033946EBD5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1700280"/>
            <a:ext cx="7920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 em Listas  - “Insertsor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q(X, Y):- X &gt;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sertsort([],[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sertsort([X | Resto], Saida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sertsort(Resto, Resto1), insere(X, Resto1, Sai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sere(X, [Y | Saida], [Y | Saida1]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q(X, Y), !, insere(X, Saida, Saida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sere(X, Saida, [X | Saida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996-7C08-472F-8F18-1BA5C0750B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5-08-10T23:35:28Z</dcterms:modified>
  <cp:revision>19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