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CA8-64D6-4A9F-9B27-CDF08A6D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9DF6-D40D-4614-983F-3DC154D2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8E0-71AC-44C4-9231-6FB92AE3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DF69-5053-4462-B476-C83B455E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CF18D-4A00-4EA3-A361-8182C50367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88212-3E08-4A32-87B6-E9CD74288D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10CB9-4011-46E5-8CC5-F4B2215979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6AB63-DFFA-4955-BDB7-2D52550F86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8553B-FB0E-4DC1-8F7C-6BB0662585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F43B1-D2E5-400D-876F-E2BAEF00A5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DE3A7-93E7-418A-9766-534D99F4FF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499F-7B1D-42C6-B0A8-325F1C71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27332-898D-43FD-95E5-6779B4ED13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9BEBF-25F4-4337-AD9D-E791DD52D5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273AB-6CD1-4BA0-84A1-95102C5786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051AD-5C96-4C32-BE59-231046D836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FB4C2-702F-41FE-B01E-7E1953A646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6F4-6344-4477-9396-F0BECD4C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324F-BE04-480A-BCBB-0612FFC8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66F3-AD98-4893-BD14-811F3B65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2752-0054-4BC4-9D9A-5438D137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36E-44F4-41BA-9F7C-CFB14EAB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2C06-7DF7-42AF-87E3-E8CF728C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63BE-BD5D-4DF0-A26B-F4737F9E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3ECD-4D4F-43CB-9CED-002330AEAFFB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8000" y="6165720"/>
            <a:ext cx="720720" cy="620640"/>
            <a:chOff x="1080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8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8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25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1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32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67DD-C54C-4687-8F9E-CA7FB9B24A39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00000" y="6237000"/>
            <a:ext cx="720720" cy="620640"/>
            <a:chOff x="900000" y="6237000"/>
            <a:chExt cx="720720" cy="620640"/>
          </a:xfrm>
        </p:grpSpPr>
        <p:sp>
          <p:nvSpPr>
            <p:cNvPr id="56" name=""/>
            <p:cNvSpPr/>
            <p:nvPr/>
          </p:nvSpPr>
          <p:spPr>
            <a:xfrm>
              <a:off x="900000" y="673380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90880" y="643392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934920" y="623664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93400" y="644328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935640" y="624636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987280" y="2179440"/>
            <a:ext cx="576108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trodução à Prolog (Parte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qüência de elementos orde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elemento da lista é separado por uma vírgula e o conjunto é colocado entre colchetes: [a, b, 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aracterística principal dessas listas: é possível separar  a cabeça da lista (1</a:t>
            </a:r>
            <a:r>
              <a:rPr b="0" lang="pt-BR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lemento) da cauda (demais elementos), permitindo escrever: [a | b, 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lista de caracteres é uma lista que tem notação própria: “abc” = [97,98,9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6DB-DF4A-42FE-BD44-C4AD7C5052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7715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struturas de controle do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junção de met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uma cláusula contém uma seqüência de metas, separadas por vírgula, todas elas devem ser satisfeitas para que a cláusula seja satisfe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junção de met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uma cláusula contém uma seqüência de metas, separadas por ponto e vírgula, ao menos uma meta deve ser satisfeita para que a cláusula seja satisfe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t 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g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 or Q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dor 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 and Q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dor 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ECA-6215-46D6-8867-F1FAF6AA65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771516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ritmética e expressões aritm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s norm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+, -, *, ^, cos, exp, ln, log, sin, sqrt, mod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 / 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divisão normal com resultado em ponto flutuante (se necessár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 // 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divisão int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números inteiros quando relacionados numa expressão com números de ponto flutuante são transformados para números de ponto flutu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DE1F-0F59-43A1-BDD5-F3DBBFA1E2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771516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ritmética e expressões aritm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números de ponto flutuante podem ser convertidos para números inteiros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eger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números inteiros podem ser convertidos em números de ponto flutuante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loat 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ibui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is ln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write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FC7-5C12-4EC3-946F-A283385308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771516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ritmética e expressões aritm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valiações para núme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lacionais comuns: &gt;,  &lt;,   &gt; =,  = 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 is E1: se X já tiver um valor, verifica se X(variável) unifica com E1(express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1 =:= E2 : avalia E1 e E2 verificando se o resultado das expressões é ig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1 =\= E2 : avalia E1 e E2 verificando se o resultado das expressões é dife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48EE-C8B2-4906-8E05-148349512A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- Característic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632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mindo, Prolog consiste 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larar alguns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fa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obre objetos e suas rel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algumas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gr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obre objetos e suas rel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zer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sult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obre objetos e suas rel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3A2-9EE1-4679-B408-C9B6F13952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Declarando Fa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osta(maria,joa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nomes de todas as relações e objetos devem começar com minúsc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relação (gosta) vem em primeiro lugar, seguida pelos objetos entre parênteses e separados por vírg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-se colocar um ponto “.” ao final do 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ordem de apresentação dos objetos é arbitrária, mas uma vez escolhida deve ser respeitada para evitar inconsistênci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xemplo acima significa 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ria gosta de joa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1784-1360-4E6F-9C25-9BB9410615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Declarando Fa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32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edicad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nome de uma rel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rgumen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nomes dos objetos dentro dos parênte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r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um predicado - número  de argumentos que poss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tos em Prolog permitem expressar relações arbitrárias entre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ase de d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uma coleção de fatos em Pro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339-6808-4A6D-A597-C02ED28ACF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- Regr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utilizadas quando se deseja afirmar que um fato depende de um grupo de outros fa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regras também são utilizadas para expressar defini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“Um indivíduo X é avô de outro indivíduo Y se existe um indivíduo Z que é filho de X e pai de 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58C-11D3-4B23-B7C4-80BE32D409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- Regr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Prolog uma regra consiste de uma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abeç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um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rp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abeça e o corpo são separados pelo símbolo 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 (dois pontos e hífen), que se pronuncia 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xemplo de regra anterior pode ser expresso em Prolog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vo(X,Y) :- filho(Z,X), pai(Z,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52E-C898-46B5-A9B1-320A6966E4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rodução à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1989000"/>
            <a:ext cx="771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Linguagem Prolog - Conceitos Bás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B7F4-F635-4B31-BBC9-C70DA5F7F7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- Regr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copo de uma variáve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definido como sendo toda a regra (da cabeça até o ponto) na qual a variável se encon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mpre que uma variável X está instanciada, todos os outros Xs dentro do escopo da variável também devem estar instanciados com este mesmo ob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AA2C-1C17-4461-B1BF-67FC6651E0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- Exemplo de Regr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mem(joa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mem(j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mem(pedr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lher(mari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lher(a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lher(paul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lher(joa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lher(ali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is(joao,maria,j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is(paula,alice,pedr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is(ana,maria,j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is(joana,alice,pedr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rma_de(X,Y) :- mulher(X), pais(X,M,P), pais(Y,M,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E62-28F2-4374-9352-5A4552FD91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Fazendo Consult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32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onsulta é semelhante a um fato, exceto que se coloca um símbolo especial “?-” antes d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?- pai(jose,joa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onsulta desencadeia uma busca na base de dados tentando-se casar o fato contido na questão (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bje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com um daqueles contidos na base de dados. Se um fato é encontrado, a resposta é sim “yes”, caso contrário não “n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is fatos casam se seus predicados são os mesmos  e se cada um de seus argumentos correspondentes são os me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2549-17C1-4EFB-830C-5BB8EE69E8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8317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Prolog – Exemplos de Consultas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32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osta(maria,joa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osta(jose,cristi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osta(teresa,j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ul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gosta(joao,mar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gosta(teresa,j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3CB-1AAA-4344-B165-69943A3D2C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8317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Prolog – Exemplos de Consultas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632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2" marL="12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sceu(jose,paraib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sceu(joao,pernambuc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rasileiro(paul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rasileiro(joa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nasceu(jose,paraib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brasileiro(joa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brasileiro(j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Prolog, a resposta negativa é utilizada com o significado de “nada casa com a questão” e não com o significado que a questão é fals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41E7-419E-4A57-B930-28A15E5467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63640" y="277920"/>
            <a:ext cx="8316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Prolog – Consultas </a:t>
            </a:r>
            <a:br>
              <a:rPr sz="34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(Variávei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632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 é filho de Pedro?”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este caso Prolog deve apresentar todas as possibilidades para o significado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mes de variáveis representam objetos a serem determinados por Pr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stanciad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quando assumiram o valor de um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ão Instanciad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caso contr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BC35-73C3-49A7-8E5D-4FEFB72D11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71640" y="1699920"/>
            <a:ext cx="7921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26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osta(paulo,tere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osta(joao,naturez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osta(maria,chocola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osta(maria,naturez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osta(joao,mar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 gosta(joao,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=natu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8012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concluir a consulta, basta pressionar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012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tentar re-satizfazer a questão, pressiona-se “;” (ponto-e-vírgula) seguido por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=naturez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=mar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081080" y="277920"/>
            <a:ext cx="781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Prolog – Consultas </a:t>
            </a:r>
            <a:br>
              <a:rPr sz="34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(Variávei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D049-BF70-432E-9B6A-64E1B6C6C7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Prolog – Consultas</a:t>
            </a:r>
            <a:br>
              <a:rPr sz="34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(Conjunçõe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nsulta “Maria gosta de João e João gosta de Maria?” pode ser expressa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?-gosta(joao,maria), gosta(maria,joa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vírgula “,” é lida como “e”, servindo para separar qualquer número de objetivos difer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os os objetivos precisam ser satisfeitos para que a conjunção de objetivos também se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011-88A7-46D7-92A9-FF86828B56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Prolog – Consultas</a:t>
            </a:r>
            <a:br>
              <a:rPr sz="34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(Conjunções e Variávei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 um objeto tal que João e Maria gostam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?- gosta(maria,X), gosta(joao,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base de dados é pesquisada para o 1</a:t>
            </a:r>
            <a:r>
              <a:rPr b="0" lang="pt-BR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bjetivo. X é instanciada com choco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gora a base de dados é pesquisada para gosta(joao,chocola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não existe tal fato, o último objetivo falha e tenta-se re-satisfazer o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te-se do ponto em que X foi instanciada pela última vez. X é instanciada desta vez com nature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log tenta satisfazer o 2</a:t>
            </a:r>
            <a:r>
              <a:rPr b="0" lang="pt-BR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bjetivo na forma gosta(joao,natureza), o que é possi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e ponto como ambos os objetivos puderam ser satisfeitos,  Prolog responde então com X=nature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5AD-852A-43A4-9DC1-B6DA153276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Prolog – Próximos Passos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71280" y="2060280"/>
            <a:ext cx="7715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cessamento de L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A26D-A58A-466D-920D-DC9AB24BE3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ipos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indent="-3589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3589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vari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4680" indent="-1872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tôm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0492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to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0492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0492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úmero de ponto flutu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0492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74680" indent="-1872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atôm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0492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0492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rut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E1CC-0ED3-4DC6-8A9D-5B1937970B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70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Vari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nome de uma variável pode ser qualquer seqüência de caracteres alfanuméricos que começa com uma letra maiúscula ou com um “underscore’ (_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usar somente o “underscore”(_) no predicado significará que você não quer saber o valor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riáveis anônim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variáveis podem se unificar com um valor definido (um átomo) ou outra variável (só que ficam dependentes uma da outra, uma guarda o endereço da out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74F-C549-4504-B53A-04B89123ED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Áto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constantes textu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m conter letras, números ou símbo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: bola, ‘Bola’, ‘12’, mary’’s, ‘Mary’’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Obs: Se o átomo começar com letra maiúscula ou se for um número deve-se usar aspas simples. Se o átomo tiver apóstrofo usa-se duas aspas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63D3-157F-4EAD-9D7E-EAB26C3EAC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Números intei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os permitidos pelo computador: positivos e neg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es ASCII são também considerados inteiros se colocar aspas simples antes da letra: ‘a = 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13C3-8DDC-4F9B-95C9-7B307F0788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Números de ponto flutu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os permitidos pelo computador: positivos e neg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m ter pelo menos uma casa depois do ponto decimal definida: 5.0 (está correto) e 7. (não está corre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-se definir expoentes da base dez usando a letra E(e): -8.3 e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32B-0E00-458C-A7F9-6837509F48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constantes usadas para manipular texto. A constante deverá estar entre $ ou entre asp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: $Ele foi ao cinema$ ou 'Ele foi ao cinem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371E-D183-454C-BC6F-50287EE04F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log – 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stru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tipos de dados que podem ser usados para agrupar ou expressar uma relação entre os ter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iversario(jose,5,maio,19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sceu(jose,brasíl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igo(maria, este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977-BFCA-420E-B022-3B6DE95FE9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 Macedo Fechine</cp:lastModifiedBy>
  <dcterms:modified xsi:type="dcterms:W3CDTF">2006-08-04T12:25:14Z</dcterms:modified>
  <cp:revision>156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