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E58-3EBC-4CF7-8F3C-6B6D268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8E7-C55C-4618-AA51-2651DE3C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327-C24C-433E-96B6-7A7EFE92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19A-8741-4F9F-8C60-89A938CE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2ADFD-C0FA-4E48-87A2-40502B6549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D627-36EE-4316-8F32-537AC487D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9CF90-9432-4CAE-AFD2-4002E2117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3970-C5AD-4C9D-B6D0-083BBF79B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A8A91-F742-488C-AB9F-91CC60671F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2D209-C555-405E-81B4-A03541037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7FDDE-69CE-4AEC-8416-33191D9DC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58E-269E-4D36-BB89-CACDA69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541CE-B226-44AA-AA17-70E0EE6534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9293-3E20-41B6-90A8-BEFBEBC2C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15E70-4534-4983-8DF3-D4D5AE1525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5BB95-C99A-4371-BEA0-B462C0864F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7B11A-FE59-4FB9-92AE-86D670B32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778-F310-49C5-B47A-E3D3B0E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6EC-C539-441B-B82E-0B130110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E04-1455-4FF4-807E-6721F60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F45-0C48-4296-97CB-DA5588C0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F59-402D-43D0-A14E-75E0B109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4EF-3C9F-41CD-BB02-7E116F6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7ED-AC7A-407D-A9B0-701FB24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7441-4661-4CE5-8643-CFF26D41D8B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55F1-C04C-4927-A3C4-088D0D75622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280" y="2179440"/>
            <a:ext cx="554508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 – 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948-39DA-460D-93AF-58D0C1FAA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rite (Term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 na tela o valor de Termo se ele for uma variável ou uma mensagem entre aspas simples ou entre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$Hoje é quinta-feira$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‘Acabou a festa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rite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d (Term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ê um valor do teclado e coloca em Ter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d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F2C-79A6-4604-8F8C-79C1DF8AB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04480" y="167472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uns 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a para a próxima linha na 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-35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X), nl, write(Y), n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a variável não instan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m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mic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tipo de dado atô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umber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 se X é um 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E86-195D-4251-BEFD-22C690BAF5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um ambiente interativo, o predic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a novos predicados às especif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a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inclui o predicado P no início de todos os pred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sertz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crescenta P no final de todos os predicados denominados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ract(P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move um predicado P da base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242-6D97-4070-9853-0AE0DC618C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1773360"/>
            <a:ext cx="7488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progenitor(raul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asserta(progenitor(raul,flip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progenitor(raul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3120" y="5651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0C7-268C-4979-9D53-9F4A329DBE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e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bre o arquiv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efine a seqüência de entrada corrente como começando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estiver ligada a um arquivo disponível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e(X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lhar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l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bre um arquivo para a seqüência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existir um arquiv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l(X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ria um arquivo com o nome do valor ligado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en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ld(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echam os respectivos arqu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2BF-4C9A-48B5-A945-06FADDF69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utros coman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ing(nome_predicad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presenta todas as cláusulas com este nome de predicado na base de d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permite que o usuário monitore o progresso do interpretador PROLOG. Imprime no arquivo de saída todos os objetivos que PROLOG tenta prov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p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realiza um monitoramento mais sel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y m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faz com que o interpretador imprima na saída todos os usos do predic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b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A95-4163-48D2-AF70-26C9BE9671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10:43Z</dcterms:modified>
  <cp:revision>15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