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494-7FB2-44A2-B487-E8ACBD6E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AF3-56E5-4843-96A7-0DDB9B2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79B-C35A-41FF-9656-CFC21DBE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01C-4D73-426D-BD5D-EAC528AD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53D92-F90E-4C64-88D4-306CEDA541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7251-0875-4DF5-B722-29489246D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88AC7-CACF-4507-A374-ACA3E63675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0E635-E032-4DE3-AA6C-E2E4E4D2D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E23C9-1A5B-4480-AAF1-A0DC6EB0C4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980A-BEDD-4F74-B36C-88F67B9CC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ECFDF-AEA1-4E34-970F-73D68D7E3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78A-7ED9-4122-AEF5-A0DFAEA3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8C39-DDAE-4713-9708-832F827AF2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D9DC6-FE3E-4EBB-9AF0-7B38EF2E26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DDC3-658F-4EEC-B652-59DCFFE302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E9AA-0B08-4D32-84EC-96B995148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CB8A3-9D15-42BD-909D-8B3CF1008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E5F-4A64-451E-8E4B-1D50680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E52-1D39-48DA-A039-95AB4A4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B5A-A3D4-45FB-8FAD-61F8AE7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88D-F655-4E27-A7D2-4FE4C140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9FF-B947-46C8-932E-3C51120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AB3-A3EE-4CF3-B071-48F1FC94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8A0-8DFC-41DD-BCDB-751337B9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D6F-4A29-47CD-9741-A79094670D8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5FD9-559D-4F37-95F0-A11D570995C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Exercício - 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s - A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base na teoria da evolução, que conclusão podemos tirar sobre o seguinte dilema: "O que veio primeiro, o ovo ou a galinha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1042920" y="335772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08" h="21600">
                <a:moveTo>
                  <a:pt x="11960" y="14281"/>
                </a:moveTo>
                <a:lnTo>
                  <a:pt x="11960" y="12323"/>
                </a:lnTo>
                <a:cubicBezTo>
                  <a:pt x="11960" y="11496"/>
                  <a:pt x="12290" y="10800"/>
                  <a:pt x="12891" y="10800"/>
                </a:cubicBezTo>
                <a:cubicBezTo>
                  <a:pt x="14022" y="10800"/>
                  <a:pt x="14919" y="9434"/>
                  <a:pt x="14919" y="7849"/>
                </a:cubicBezTo>
                <a:cubicBezTo>
                  <a:pt x="14919" y="5534"/>
                  <a:pt x="13065" y="3794"/>
                  <a:pt x="10854" y="3794"/>
                </a:cubicBezTo>
                <a:cubicBezTo>
                  <a:pt x="8643" y="3794"/>
                  <a:pt x="6972" y="5534"/>
                  <a:pt x="6972" y="7849"/>
                </a:cubicBezTo>
                <a:lnTo>
                  <a:pt x="8826" y="7849"/>
                </a:lnTo>
                <a:cubicBezTo>
                  <a:pt x="8826" y="6709"/>
                  <a:pt x="9749" y="5821"/>
                  <a:pt x="10854" y="5821"/>
                </a:cubicBezTo>
                <a:cubicBezTo>
                  <a:pt x="11960" y="5821"/>
                  <a:pt x="12891" y="6709"/>
                  <a:pt x="12891" y="7849"/>
                </a:cubicBezTo>
                <a:cubicBezTo>
                  <a:pt x="12891" y="8589"/>
                  <a:pt x="12421" y="9320"/>
                  <a:pt x="11960" y="9320"/>
                </a:cubicBezTo>
                <a:cubicBezTo>
                  <a:pt x="10854" y="9320"/>
                  <a:pt x="9749" y="10800"/>
                  <a:pt x="9749" y="12323"/>
                </a:cubicBezTo>
                <a:lnTo>
                  <a:pt x="9749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3EF-72AE-4119-9288-565E857A7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s - A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base na teoria da evolução, que conclusão podemos tirar sobre o seguinte dilema: "O que veio primeiro, o ovo ou a galinha?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ando-se na teoria da evolução podemos dizer que a galinha teve algum ancestral direto com algumas diferenças em relação à galinha que existe atualmente. A galinha, como todos os outros organismos existentes, passou por um processo de evolução antes de tomar o formato que conhecemos hoje. Assim, podemos concluir que um animal semelhante à galinha foi passando por processos de cruzamento, mutação e reprodução, até que deu origem ao ovo que, por sua vez, deu origem à galinha que existe hoje em dia. Portanto, concluímos que o ovo veio primeiro que a galin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9FC-828E-47E3-A3AB-14416EFB5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44:51Z</dcterms:modified>
  <cp:revision>5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