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A68-57F0-4784-9A82-B9B1F4EA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228-3B2D-4D29-8143-8F4D97F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139-8216-4CDB-9D76-3E5A9FA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8C2-3ED0-4A73-95B8-7B9A07D9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8E52F-780A-423F-BFC6-EAD7B2F265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F2B5-BE15-404B-86B8-1867E2B7C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E7B7-89F0-498B-9F6E-8CA5A80F1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4C5F3-F5A2-4B34-BA55-2B52356233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E0A1-25FA-4873-9E2A-D01C2FFC23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AE35C-E2A6-4B61-B395-B1433121E0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CF1F0-CBBA-4790-9659-3BAEEADAE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FFD-CB35-4249-9CB8-549CA737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023D9-EB4E-4293-AF6D-574869CDCB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5C3D-29C2-45EA-8A75-F3A6F0444D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A835F-E233-4635-A1F9-499ECFC08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FDD0D-91C4-4187-A21E-6971ECE94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97623-BBDE-4573-BFE3-5EA678EAB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588-BED1-4F39-B428-42032C0B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9F0-B958-4AC3-8F33-63844ED5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EC5-CB44-44B1-84F0-B5446F7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EFA-7BC0-4B09-91BF-DE161FE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551-C87F-4A55-9923-0536646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76A-B49D-4411-BAAD-E3AE3E4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02A-4037-486D-8BF9-D1C5A35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BB8-C4D2-4325-8AC5-828E8AD54F9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A052-D1AF-4504-88DE-693A48F776D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Árvore de Decisão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- Exercí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A70-7B79-4035-96C8-B729BEDB2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am recolhidos os dados abaixo (dados de treinamento) de uma linha de montagem com vários sensores. Pretende-se usar aprendizagem por árvores de decisão para identificar quais as peças a rejeitar por serem demasiado frág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19280" y="3933720"/>
          <a:ext cx="6553080" cy="2414520"/>
        </p:xfrm>
        <a:graphic>
          <a:graphicData uri="http://schemas.openxmlformats.org/drawingml/2006/table">
            <a:tbl>
              <a:tblPr/>
              <a:tblGrid>
                <a:gridCol w="1395360"/>
                <a:gridCol w="955800"/>
                <a:gridCol w="1176120"/>
                <a:gridCol w="1847880"/>
                <a:gridCol w="11779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ág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173-9F00-4A84-80E3-2A135D49B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773360"/>
            <a:ext cx="7561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 é a entropia do conjunto de exemplos acima? O que representa essa informaç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24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atributo será selecionado como primeiro atributo a dividir o conjunto? Por qu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97400" indent="-339480">
              <a:spcBef>
                <a:spcPts val="24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e a árvore de decisão correspondente (construída de acordo com o critério de maximização do ganho de informação). Justifique o resultado ob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35D-0557-4698-B3A4-670D9F97C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19280" y="4508640"/>
                <a:ext cx="4751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19280" y="5157720"/>
                <a:ext cx="554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ho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ore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rcRect l="4965" t="56903" r="77316" b="39174"/>
          <a:stretch/>
        </p:blipFill>
        <p:spPr>
          <a:xfrm>
            <a:off x="1619280" y="6093000"/>
            <a:ext cx="338436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763640" y="1844640"/>
          <a:ext cx="6191280" cy="2376360"/>
        </p:xfrm>
        <a:graphic>
          <a:graphicData uri="http://schemas.openxmlformats.org/drawingml/2006/table">
            <a:tbl>
              <a:tblPr/>
              <a:tblGrid>
                <a:gridCol w="1319400"/>
                <a:gridCol w="901440"/>
                <a:gridCol w="1111320"/>
                <a:gridCol w="1746360"/>
                <a:gridCol w="1112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ág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EC9-A964-49B9-86E4-FA66D354F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5T09:57:25Z</dcterms:modified>
  <cp:revision>73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