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4AAB-21F0-4C23-A33F-57A7A5727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364B2-3EF4-4311-B34B-E6B1B4D62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7FED-DA36-4117-B222-FA1F1C4CE3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7448-3670-41B3-9FC2-E469027F0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A7236-6483-4AA0-AE75-FE740689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B86F8-AB7D-46CC-B0DD-336F0F2A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1D19D-D798-41BB-9CAE-66B8CA38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58F72-0B11-4E27-B30F-95844C17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753F2-07AC-44AF-96E0-9F2E5102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38BF7-1A92-40E4-A99D-A9A9F46C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BA0A7-BA26-4E11-8345-8DC0476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948A-D9F8-4D7C-BFB6-B201A0147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72357-4864-4B44-AD89-017B58F5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E5628-5508-4D93-A978-C69F6D0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27FA7-2DF2-4A9B-BD59-AD4FDB2E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D8A91-4D4B-40E1-8E91-F730FA4F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A7972-2E0D-408C-91BE-05E7210A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C1E3-82A2-46F9-AA4A-4D361E9B2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01E54-63E0-492F-A002-21E9E9811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D2089-26E9-40F8-9E0A-9A423490A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02F0-F964-4380-B9A5-57723C21C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8A7D-61A2-4789-8B68-EC11AAAF5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93B33-F5DA-40FF-802B-2F4B2C64E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6EDC-18B5-43AE-B111-937DCBE691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4360" y="6356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AEE3-45F7-4218-B8D4-DE940462B0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03280" y="155736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43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34D2-41CC-499C-9651-A5E5180121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2637000"/>
            <a:ext cx="727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03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Impact"/>
              </a:rPr>
              <a:t>Segurança da Informação</a:t>
            </a:r>
            <a:endParaRPr b="0" lang="en-US" sz="40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19280" y="26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Curso de Especial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6560" y="5734080"/>
            <a:ext cx="1224000" cy="917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2749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EFET-P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506920" y="5877000"/>
            <a:ext cx="792360" cy="763560"/>
            <a:chOff x="5506920" y="5877000"/>
            <a:chExt cx="792360" cy="763560"/>
          </a:xfrm>
        </p:grpSpPr>
        <p:sp>
          <p:nvSpPr>
            <p:cNvPr id="90" name=""/>
            <p:cNvSpPr/>
            <p:nvPr/>
          </p:nvSpPr>
          <p:spPr>
            <a:xfrm>
              <a:off x="5656320" y="5877000"/>
              <a:ext cx="492840" cy="63288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82960" y="6028920"/>
              <a:ext cx="439560" cy="4521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94120" y="6040080"/>
              <a:ext cx="417600" cy="42696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22200" y="6228000"/>
              <a:ext cx="360720" cy="23868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22200" y="6093360"/>
              <a:ext cx="361440" cy="24804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725800" y="5919120"/>
              <a:ext cx="612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5832000" y="5919120"/>
              <a:ext cx="4716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5916960" y="5919120"/>
              <a:ext cx="6300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013800" y="5919120"/>
              <a:ext cx="65880" cy="74520"/>
            </a:xfrm>
            <a:prstGeom prst="rect">
              <a:avLst/>
            </a:prstGeom>
          </p:spPr>
          <p:txBody>
            <a:bodyPr wrap="none" lIns="90000" rIns="90000" tIns="28080" bIns="28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0800" y="6361920"/>
              <a:ext cx="168480" cy="155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5506920" y="6357960"/>
              <a:ext cx="168480" cy="154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52640" y="6454080"/>
              <a:ext cx="122400" cy="6912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30800" y="6459840"/>
              <a:ext cx="120960" cy="687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553720" y="6458760"/>
              <a:ext cx="697320" cy="18180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 rot="1771800">
              <a:off x="5620680" y="6512400"/>
              <a:ext cx="259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 rot="1336200">
              <a:off x="5646240" y="652752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 rot="1336200">
              <a:off x="5678280" y="6539400"/>
              <a:ext cx="28080" cy="37440"/>
            </a:xfrm>
            <a:prstGeom prst="rect">
              <a:avLst/>
            </a:prstGeom>
          </p:spPr>
          <p:txBody>
            <a:bodyPr wrap="none" lIns="90000" rIns="90000" tIns="-9000" bIns="-90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 rot="1068600">
              <a:off x="5707800" y="6549840"/>
              <a:ext cx="288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 rot="898200">
              <a:off x="5735880" y="6557400"/>
              <a:ext cx="288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 rot="526200">
              <a:off x="5775840" y="6566040"/>
              <a:ext cx="3312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 rot="235200">
              <a:off x="5812920" y="6571080"/>
              <a:ext cx="39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5859360" y="6573600"/>
              <a:ext cx="284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5893920" y="6573960"/>
              <a:ext cx="864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5908320" y="657396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 rot="21364200">
              <a:off x="5948640" y="6570000"/>
              <a:ext cx="259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 rot="21095400">
              <a:off x="5974560" y="6567840"/>
              <a:ext cx="2952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 rot="20857800">
              <a:off x="6006600" y="6562080"/>
              <a:ext cx="302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 rot="20720400">
              <a:off x="6049800" y="6553800"/>
              <a:ext cx="25200" cy="36720"/>
            </a:xfrm>
            <a:prstGeom prst="rect">
              <a:avLst/>
            </a:prstGeom>
          </p:spPr>
          <p:txBody>
            <a:bodyPr wrap="none" lIns="90000" rIns="90000" tIns="-9720" bIns="-9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20418000">
              <a:off x="6076800" y="6546960"/>
              <a:ext cx="28800" cy="36000"/>
            </a:xfrm>
            <a:prstGeom prst="rect">
              <a:avLst/>
            </a:prstGeom>
          </p:spPr>
          <p:txBody>
            <a:bodyPr wrap="none" lIns="90000" rIns="90000" tIns="-10440" bIns="-104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 rot="20344200">
              <a:off x="6107760" y="6536880"/>
              <a:ext cx="30600" cy="37080"/>
            </a:xfrm>
            <a:prstGeom prst="rect">
              <a:avLst/>
            </a:prstGeom>
          </p:spPr>
          <p:txBody>
            <a:bodyPr wrap="none" lIns="90000" rIns="90000" tIns="-9360" bIns="-9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 rot="20044200">
              <a:off x="6141600" y="6528240"/>
              <a:ext cx="864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 rot="20054400">
              <a:off x="6153480" y="6517800"/>
              <a:ext cx="25920" cy="36360"/>
            </a:xfrm>
            <a:prstGeom prst="rect">
              <a:avLst/>
            </a:prstGeom>
          </p:spPr>
          <p:txBody>
            <a:bodyPr wrap="none" lIns="90000" rIns="90000" tIns="-10080" bIns="-10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6516720" y="602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UFCG / 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3316320"/>
            <a:ext cx="741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isciplina 4: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Criptografia, protocolos seguros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uas aplic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ercícios</a:t>
            </a: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81400" y="5008680"/>
            <a:ext cx="33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a.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6320" y="1989000"/>
            <a:ext cx="861048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33440" indent="-419040" algn="just">
              <a:spcBef>
                <a:spcPts val="550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uais os serviços que devem ser oferecidos a partir do uso da Criptografia? Explique ilustrando, através de uma situação real, o uso desses serviço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-419040" algn="just">
              <a:spcBef>
                <a:spcPts val="550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racterize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riptografia Simétric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riptografia Assimétric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Para tanto,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 algn="just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eva o funcionamento de um sistema que utiliza cada tipo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33400" indent="-361800" algn="just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ique as principais diferenças entre esses tipos, vantagens, desvantagens e exemplos de algoritmos utilizados em cada u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3344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610920" y="188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Impact"/>
              </a:rPr>
              <a:t>Exercícios</a:t>
            </a:r>
            <a:endParaRPr b="0" lang="en-US" sz="3600" spc="-1" strike="noStrike">
              <a:solidFill>
                <a:srgbClr val="0066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rso de Especialização SI/CEFET/UFC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08EE-519B-4346-848F-24D71885D2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28:21Z</dcterms:created>
  <dc:creator>Paqtc-pb</dc:creator>
  <dc:description/>
  <dc:language>en-US</dc:language>
  <cp:lastModifiedBy>Elmar Melcher</cp:lastModifiedBy>
  <dcterms:modified xsi:type="dcterms:W3CDTF">2005-02-12T01:49:19Z</dcterms:modified>
  <cp:revision>551</cp:revision>
  <dc:subject/>
  <dc:title>Segurança da Informação</dc:title>
</cp:coreProperties>
</file>