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A01E9-AAE7-4815-ADE9-5BC76B571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03BE5-2AB9-4F89-B9EC-FBBB55A20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D6B44-4CFE-4FD7-A166-DA04E8D33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77621-5C56-4CD8-A4D2-D68484961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23A5F-91CB-451D-9A53-B3A71175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F1E8E-72AF-4BFE-99E7-6AF0DEB4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5E286-5F0F-4ADC-A947-20EDB9DE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72D3D-ECFB-4825-BFD9-1575D345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71390-895D-4D39-BB9C-6E84496C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E242D-83CC-463C-BAA4-509E51ED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AD34E-6F45-498B-A030-550F6695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81C1A-6475-49A8-9943-1EF912E39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B15C7-BFA0-48C3-BFEE-E25748FB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7FB97-4E22-4E40-875F-635BA5D8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5B075-DF53-443E-BE48-72ABBBDB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F7CE7-761B-4663-977C-FF247459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C8CDA-9326-4942-9E0B-1EEAB475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18812-E0CC-40F5-BFAE-31C836862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6E1E1-245A-4B58-B42F-AF142EAB2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22CF2-A5E0-4A49-BB54-244730F2E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DA838-205B-4F1B-84B8-9AD7C0795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B62AE-108A-4345-98A9-545EACC72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965E-F78E-4341-B157-DC13A8934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6900E-2A80-40DC-B787-7F55B521B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4360" y="6356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B303-DC10-4BE5-90E7-4E8A504EE3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03280" y="1557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1732-784D-468A-A029-7D4F87B0F4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263700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Impact"/>
              </a:rPr>
              <a:t>Segurança da Informação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2636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Curso de Especializaç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6560" y="573408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49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FET-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506920" y="5877000"/>
            <a:ext cx="792360" cy="763560"/>
            <a:chOff x="5506920" y="5877000"/>
            <a:chExt cx="792360" cy="763560"/>
          </a:xfrm>
        </p:grpSpPr>
        <p:sp>
          <p:nvSpPr>
            <p:cNvPr id="90" name=""/>
            <p:cNvSpPr/>
            <p:nvPr/>
          </p:nvSpPr>
          <p:spPr>
            <a:xfrm>
              <a:off x="5656320" y="5877000"/>
              <a:ext cx="492840" cy="63288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82960" y="6028920"/>
              <a:ext cx="439560" cy="4521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94120" y="6040080"/>
              <a:ext cx="417600" cy="42696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22200" y="6228000"/>
              <a:ext cx="360720" cy="23868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22200" y="6093360"/>
              <a:ext cx="361440" cy="24804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5725800" y="5919120"/>
              <a:ext cx="612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832000" y="5919120"/>
              <a:ext cx="4716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5916960" y="5919120"/>
              <a:ext cx="630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013800" y="5919120"/>
              <a:ext cx="6588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30800" y="6361920"/>
              <a:ext cx="168480" cy="155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506920" y="6357960"/>
              <a:ext cx="168480" cy="154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52640" y="6454080"/>
              <a:ext cx="122400" cy="6912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30800" y="6459840"/>
              <a:ext cx="120960" cy="687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53720" y="6458760"/>
              <a:ext cx="697320" cy="18180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 rot="1771800">
              <a:off x="5620680" y="6512400"/>
              <a:ext cx="259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 rot="1336200">
              <a:off x="5646240" y="652752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 rot="1336200">
              <a:off x="5678280" y="6539400"/>
              <a:ext cx="28080" cy="37440"/>
            </a:xfrm>
            <a:prstGeom prst="rect">
              <a:avLst/>
            </a:prstGeom>
          </p:spPr>
          <p:txBody>
            <a:bodyPr wrap="none" lIns="90000" rIns="90000" tIns="-9000" bIns="-9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 rot="1068600">
              <a:off x="5707800" y="6549840"/>
              <a:ext cx="288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 rot="898200">
              <a:off x="5735880" y="6557400"/>
              <a:ext cx="288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 rot="526200">
              <a:off x="5775840" y="6566040"/>
              <a:ext cx="331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 rot="235200">
              <a:off x="5812920" y="6571080"/>
              <a:ext cx="39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5859360" y="657360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5893920" y="6573960"/>
              <a:ext cx="864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5908320" y="657396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 rot="21364200">
              <a:off x="5948640" y="6570000"/>
              <a:ext cx="259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 rot="21095400">
              <a:off x="5974560" y="6567840"/>
              <a:ext cx="295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 rot="20857800">
              <a:off x="6006600" y="6562080"/>
              <a:ext cx="30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 rot="20720400">
              <a:off x="6049800" y="655380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 rot="20418000">
              <a:off x="6076800" y="6546960"/>
              <a:ext cx="2880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 rot="20344200">
              <a:off x="6107760" y="6536880"/>
              <a:ext cx="306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 rot="20044200">
              <a:off x="6141600" y="6528240"/>
              <a:ext cx="86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 rot="20054400">
              <a:off x="6153480" y="6517800"/>
              <a:ext cx="2592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5167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FCG / 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31632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Disciplina 4: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, protocolos seguros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uas apl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Parte 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81400" y="5008680"/>
            <a:ext cx="330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a.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análise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- Análise do consumo de energi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       elét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lor usual para representação dos b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3 V para o bit 1 (exige mais energia elétric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0 V para o bit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 um algoritmo criptográfico consistir em um loop no qual os bits da chave são processados em ordem, um ataque que substituir o clock principal de n GHz por um clock lento (100 Hz) e prender pinças dentadas nos pinos de energia da CPU e de terra poderá monitorar “com precisão” a energia consumida por cada instrução de máqu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partir desses dados será “fácil” deduzir a cha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1634C-8C55-48A2-A65F-5D485CE985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análise -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nálise de sincronism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struções usuais em algoritmos criptográfi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que testam bits nas chaves de rodad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Se as partes </a:t>
            </a: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else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demorarem períodos de tempo distintos, tornando mais lento o clock e verificando quanto tempo demoram diversas etapas, talvez seja possível deduzir as chaves de rodada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Se todas as chaves de rodadas forem conhecidas, em geral será possível calcular a chave origin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análise da energia e da sinsronização também pode ser empregada simultaneamente. Essas técnicas podem romper qualquer cifra não projetada de forma específica para resistir a el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2E8C7-D366-4985-A33C-E07A6B1BC5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ipos de Ata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taque de texto cifrado (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yphertext-only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o criptoanalista tem a sua disposição uma grande quantidade de mensagens cifradas, mas desconhece as originais e as chaves utilizadas. Sua tarefa é recuperar as mensagens normais (deduzir as chaves utilizada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taque de texto conhecido (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known-plaintext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o criptoanalista tem a sua disposição uma grande quantidade de mensagens criptografadas e também as mensagens originais equivalentes. Sua tarefa é deduzir as chaves utilizadas (ou um método para recuperar mensagens cifradas com a mesma chave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A2133-2F54-4C15-B9FA-57F399BF7F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4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ipos de Ata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taque adaptativo do texto escolhido (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adaptative-choosen-plaintext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no método anterior, o criptoanalista poderia ser capaz de fornecer somente uma grande quantidade de mensagens de uma só vez; agora ele pode fornecer um pequeno conjunto, analisar os resultados, fornecer outro conjunto e assim por diante. Sua tarefa é deduzir as chaves utilizadas. Alguns métodos de criptogragia como o RSA são muito vulneráveis a este ataqu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4B32F-2241-40D1-8C85-AFB9F8AA44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05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ipos de Ata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taque do texto cifrado escolhido (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hoosen-cyphertext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o criptoanalista não só tem uma grande quantidade de mensagens e seus equivalentes criptografados, mas pode produzir uma mensagem criptografada específica para ser decifrada e obter o resultado produzido. É utilizado quando se tem uma "caixa-preta" que faz descriptografia automática. Sua tarefa é deduzir chaves utilizada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36D7C-0D3A-4FBC-AFCA-63B71ABDE3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ipos de Ata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taque de chave escolhida (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hoosen-key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o criptoanalista pode testar o sistema com chaves diferentes ou pode convencer diversos usuários legítimos do sistema a utilizarem determinadas chaves. Neste último caso, a finalidade imediata seria de decifrar as mensagens criptografadas com essas chav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F25FB-3BEF-40BA-BF77-B0551A4556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Ataques mais comu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lgoritmos de criptografia simétr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taque de busca de chave (força bru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nálise de criptograf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taque do texto conhec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taque ao texto escolh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taques baseados no sist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lgoritmos de criptografia assimétr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taques de fator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taques algorítm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2AF22-4F7B-4955-A095-AA4F8CF934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65360"/>
            <a:ext cx="8137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utros tipos de ata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Homem Intermediário (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Man-in-the-middle</a:t>
            </a: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618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lguém personifica outra pessoa para roubar informações confidenciais. O ataque normalmente segue o padrã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lice envia uma mensagem para Bob anexando sua chave públic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Eva intercepta a mensagem de Alice e remove sua chave públic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Eva anexa a chave pública dela à mensagem de Alice, subtituindo a chave de Alice, e a envia para Bob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Bob escreve uma mensagem confidencial para Alice usando a chave pública para a codificaçã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Eva intercepta a mensagem, decodifica-a e a lê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Depois, Eva usa a chave pública para decodificar a mensagem e enviá-la para Ali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lice recebe a mensagem modificada, sem saber da interceptaçã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D9766-1C11-4F5D-85FF-E2015376EE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559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utros tipos de ata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Homem Intermediário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se ataque pode ser usado para se capturar transações entre duas partes por um período estendi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certificados digitais podem ajudar a reduzir o risco de ataques “Homem Intermediário”, permitindo que o usuário verifique a identidade por meio de um terceiro de confianç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E2236-91E2-411C-9A12-A34E4CC420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utros tipos de ata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angueira de Borracha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nvolve a extração involuntária da chave secreta de uma pessoa ou obje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atacante pode coagir o possuidor da chave através de chantagem, força física e outros me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obtenção da chave roubando o host ou roteador também é considerado um “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taque de mangueira de borrach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taque relacionado: Ataque de Chave de Compra. O atacante suborna alguém para lhe oferecer a cha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ses ataques focalizam as vulnerabilidades das pessoas ou a segurança física, e não a criptograf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5D85E-4F08-471A-B7CC-493C54F98E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Impact"/>
              </a:rPr>
              <a:t>Tópic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6920" y="2133720"/>
            <a:ext cx="590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formações Adiciona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iptoanálise (Conceitos Básic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ipos de Ataq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ulnerabilidade dos Siste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617520" y="5014440"/>
            <a:ext cx="1747800" cy="1091160"/>
            <a:chOff x="6617520" y="5014440"/>
            <a:chExt cx="1747800" cy="1091160"/>
          </a:xfrm>
        </p:grpSpPr>
        <p:grpSp>
          <p:nvGrpSpPr>
            <p:cNvPr id="128" name=""/>
            <p:cNvGrpSpPr/>
            <p:nvPr/>
          </p:nvGrpSpPr>
          <p:grpSpPr>
            <a:xfrm>
              <a:off x="6617520" y="5014440"/>
              <a:ext cx="632520" cy="635760"/>
              <a:chOff x="6617520" y="5014440"/>
              <a:chExt cx="632520" cy="635760"/>
            </a:xfrm>
          </p:grpSpPr>
          <p:sp>
            <p:nvSpPr>
              <p:cNvPr id="129" name=""/>
              <p:cNvSpPr/>
              <p:nvPr/>
            </p:nvSpPr>
            <p:spPr>
              <a:xfrm rot="2786400">
                <a:off x="6685920" y="5131080"/>
                <a:ext cx="495000" cy="402120"/>
              </a:xfrm>
              <a:custGeom>
                <a:avLst/>
                <a:gdLst/>
                <a:ahLst/>
                <a:rect l="l" t="t" r="r" b="b"/>
                <a:pathLst>
                  <a:path w="1589" h="1168">
                    <a:moveTo>
                      <a:pt x="1589" y="212"/>
                    </a:moveTo>
                    <a:lnTo>
                      <a:pt x="1505" y="150"/>
                    </a:lnTo>
                    <a:lnTo>
                      <a:pt x="1446" y="119"/>
                    </a:lnTo>
                    <a:lnTo>
                      <a:pt x="1408" y="102"/>
                    </a:lnTo>
                    <a:lnTo>
                      <a:pt x="1363" y="85"/>
                    </a:lnTo>
                    <a:lnTo>
                      <a:pt x="1322" y="67"/>
                    </a:lnTo>
                    <a:lnTo>
                      <a:pt x="1271" y="49"/>
                    </a:lnTo>
                    <a:lnTo>
                      <a:pt x="1215" y="36"/>
                    </a:lnTo>
                    <a:lnTo>
                      <a:pt x="1150" y="22"/>
                    </a:lnTo>
                    <a:lnTo>
                      <a:pt x="1087" y="11"/>
                    </a:lnTo>
                    <a:lnTo>
                      <a:pt x="1045" y="4"/>
                    </a:lnTo>
                    <a:lnTo>
                      <a:pt x="992" y="0"/>
                    </a:lnTo>
                    <a:lnTo>
                      <a:pt x="947" y="2"/>
                    </a:lnTo>
                    <a:lnTo>
                      <a:pt x="883" y="2"/>
                    </a:lnTo>
                    <a:lnTo>
                      <a:pt x="815" y="4"/>
                    </a:lnTo>
                    <a:lnTo>
                      <a:pt x="761" y="8"/>
                    </a:lnTo>
                    <a:lnTo>
                      <a:pt x="701" y="15"/>
                    </a:lnTo>
                    <a:lnTo>
                      <a:pt x="630" y="26"/>
                    </a:lnTo>
                    <a:lnTo>
                      <a:pt x="562" y="44"/>
                    </a:lnTo>
                    <a:lnTo>
                      <a:pt x="493" y="63"/>
                    </a:lnTo>
                    <a:lnTo>
                      <a:pt x="412" y="93"/>
                    </a:lnTo>
                    <a:lnTo>
                      <a:pt x="336" y="127"/>
                    </a:lnTo>
                    <a:lnTo>
                      <a:pt x="263" y="166"/>
                    </a:lnTo>
                    <a:lnTo>
                      <a:pt x="203" y="211"/>
                    </a:lnTo>
                    <a:lnTo>
                      <a:pt x="146" y="264"/>
                    </a:lnTo>
                    <a:lnTo>
                      <a:pt x="102" y="310"/>
                    </a:lnTo>
                    <a:lnTo>
                      <a:pt x="68" y="355"/>
                    </a:lnTo>
                    <a:lnTo>
                      <a:pt x="41" y="405"/>
                    </a:lnTo>
                    <a:lnTo>
                      <a:pt x="26" y="439"/>
                    </a:lnTo>
                    <a:lnTo>
                      <a:pt x="17" y="472"/>
                    </a:lnTo>
                    <a:lnTo>
                      <a:pt x="6" y="519"/>
                    </a:lnTo>
                    <a:lnTo>
                      <a:pt x="0" y="560"/>
                    </a:lnTo>
                    <a:lnTo>
                      <a:pt x="0" y="598"/>
                    </a:lnTo>
                    <a:lnTo>
                      <a:pt x="3" y="628"/>
                    </a:lnTo>
                    <a:lnTo>
                      <a:pt x="6" y="665"/>
                    </a:lnTo>
                    <a:lnTo>
                      <a:pt x="9" y="704"/>
                    </a:lnTo>
                    <a:lnTo>
                      <a:pt x="18" y="738"/>
                    </a:lnTo>
                    <a:lnTo>
                      <a:pt x="22" y="761"/>
                    </a:lnTo>
                    <a:lnTo>
                      <a:pt x="29" y="784"/>
                    </a:lnTo>
                    <a:lnTo>
                      <a:pt x="43" y="818"/>
                    </a:lnTo>
                    <a:lnTo>
                      <a:pt x="64" y="856"/>
                    </a:lnTo>
                    <a:lnTo>
                      <a:pt x="105" y="918"/>
                    </a:lnTo>
                    <a:lnTo>
                      <a:pt x="139" y="960"/>
                    </a:lnTo>
                    <a:lnTo>
                      <a:pt x="238" y="1054"/>
                    </a:lnTo>
                    <a:lnTo>
                      <a:pt x="377" y="1168"/>
                    </a:lnTo>
                    <a:lnTo>
                      <a:pt x="635" y="1037"/>
                    </a:lnTo>
                    <a:lnTo>
                      <a:pt x="357" y="836"/>
                    </a:lnTo>
                    <a:lnTo>
                      <a:pt x="336" y="812"/>
                    </a:lnTo>
                    <a:lnTo>
                      <a:pt x="323" y="794"/>
                    </a:lnTo>
                    <a:lnTo>
                      <a:pt x="304" y="768"/>
                    </a:lnTo>
                    <a:lnTo>
                      <a:pt x="287" y="741"/>
                    </a:lnTo>
                    <a:lnTo>
                      <a:pt x="275" y="708"/>
                    </a:lnTo>
                    <a:lnTo>
                      <a:pt x="268" y="678"/>
                    </a:lnTo>
                    <a:lnTo>
                      <a:pt x="261" y="642"/>
                    </a:lnTo>
                    <a:lnTo>
                      <a:pt x="261" y="609"/>
                    </a:lnTo>
                    <a:lnTo>
                      <a:pt x="268" y="560"/>
                    </a:lnTo>
                    <a:lnTo>
                      <a:pt x="275" y="524"/>
                    </a:lnTo>
                    <a:lnTo>
                      <a:pt x="286" y="498"/>
                    </a:lnTo>
                    <a:lnTo>
                      <a:pt x="302" y="464"/>
                    </a:lnTo>
                    <a:lnTo>
                      <a:pt x="327" y="428"/>
                    </a:lnTo>
                    <a:lnTo>
                      <a:pt x="363" y="388"/>
                    </a:lnTo>
                    <a:lnTo>
                      <a:pt x="412" y="351"/>
                    </a:lnTo>
                    <a:lnTo>
                      <a:pt x="482" y="316"/>
                    </a:lnTo>
                    <a:lnTo>
                      <a:pt x="532" y="297"/>
                    </a:lnTo>
                    <a:lnTo>
                      <a:pt x="587" y="276"/>
                    </a:lnTo>
                    <a:lnTo>
                      <a:pt x="635" y="264"/>
                    </a:lnTo>
                    <a:lnTo>
                      <a:pt x="667" y="259"/>
                    </a:lnTo>
                    <a:lnTo>
                      <a:pt x="706" y="248"/>
                    </a:lnTo>
                    <a:lnTo>
                      <a:pt x="740" y="241"/>
                    </a:lnTo>
                    <a:lnTo>
                      <a:pt x="795" y="237"/>
                    </a:lnTo>
                    <a:lnTo>
                      <a:pt x="829" y="235"/>
                    </a:lnTo>
                    <a:lnTo>
                      <a:pt x="869" y="229"/>
                    </a:lnTo>
                    <a:lnTo>
                      <a:pt x="910" y="231"/>
                    </a:lnTo>
                    <a:lnTo>
                      <a:pt x="939" y="231"/>
                    </a:lnTo>
                    <a:lnTo>
                      <a:pt x="1009" y="237"/>
                    </a:lnTo>
                    <a:lnTo>
                      <a:pt x="1080" y="245"/>
                    </a:lnTo>
                    <a:lnTo>
                      <a:pt x="1132" y="254"/>
                    </a:lnTo>
                    <a:lnTo>
                      <a:pt x="1166" y="265"/>
                    </a:lnTo>
                    <a:lnTo>
                      <a:pt x="1207" y="278"/>
                    </a:lnTo>
                    <a:lnTo>
                      <a:pt x="1246" y="291"/>
                    </a:lnTo>
                    <a:lnTo>
                      <a:pt x="1273" y="302"/>
                    </a:lnTo>
                    <a:lnTo>
                      <a:pt x="1302" y="314"/>
                    </a:lnTo>
                    <a:lnTo>
                      <a:pt x="1345" y="332"/>
                    </a:lnTo>
                    <a:lnTo>
                      <a:pt x="1589" y="212"/>
                    </a:lnTo>
                    <a:close/>
                  </a:path>
                </a:pathLst>
              </a:custGeom>
              <a:solidFill>
                <a:srgbClr val="60606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2786400">
                <a:off x="6789240" y="5229720"/>
                <a:ext cx="417600" cy="174960"/>
              </a:xfrm>
              <a:custGeom>
                <a:avLst/>
                <a:gdLst/>
                <a:ahLst/>
                <a:rect l="l" t="t" r="r" b="b"/>
                <a:pathLst>
                  <a:path w="1339" h="508">
                    <a:moveTo>
                      <a:pt x="1339" y="54"/>
                    </a:moveTo>
                    <a:lnTo>
                      <a:pt x="1083" y="183"/>
                    </a:lnTo>
                    <a:lnTo>
                      <a:pt x="1024" y="153"/>
                    </a:lnTo>
                    <a:lnTo>
                      <a:pt x="947" y="125"/>
                    </a:lnTo>
                    <a:lnTo>
                      <a:pt x="867" y="104"/>
                    </a:lnTo>
                    <a:lnTo>
                      <a:pt x="769" y="91"/>
                    </a:lnTo>
                    <a:lnTo>
                      <a:pt x="665" y="87"/>
                    </a:lnTo>
                    <a:lnTo>
                      <a:pt x="537" y="91"/>
                    </a:lnTo>
                    <a:lnTo>
                      <a:pt x="453" y="104"/>
                    </a:lnTo>
                    <a:lnTo>
                      <a:pt x="344" y="129"/>
                    </a:lnTo>
                    <a:lnTo>
                      <a:pt x="256" y="163"/>
                    </a:lnTo>
                    <a:lnTo>
                      <a:pt x="191" y="195"/>
                    </a:lnTo>
                    <a:lnTo>
                      <a:pt x="139" y="229"/>
                    </a:lnTo>
                    <a:lnTo>
                      <a:pt x="95" y="274"/>
                    </a:lnTo>
                    <a:lnTo>
                      <a:pt x="59" y="329"/>
                    </a:lnTo>
                    <a:lnTo>
                      <a:pt x="37" y="391"/>
                    </a:lnTo>
                    <a:lnTo>
                      <a:pt x="26" y="450"/>
                    </a:lnTo>
                    <a:lnTo>
                      <a:pt x="22" y="508"/>
                    </a:lnTo>
                    <a:lnTo>
                      <a:pt x="4" y="446"/>
                    </a:lnTo>
                    <a:lnTo>
                      <a:pt x="0" y="395"/>
                    </a:lnTo>
                    <a:lnTo>
                      <a:pt x="11" y="329"/>
                    </a:lnTo>
                    <a:lnTo>
                      <a:pt x="33" y="274"/>
                    </a:lnTo>
                    <a:lnTo>
                      <a:pt x="74" y="212"/>
                    </a:lnTo>
                    <a:lnTo>
                      <a:pt x="121" y="157"/>
                    </a:lnTo>
                    <a:lnTo>
                      <a:pt x="176" y="117"/>
                    </a:lnTo>
                    <a:lnTo>
                      <a:pt x="227" y="87"/>
                    </a:lnTo>
                    <a:lnTo>
                      <a:pt x="293" y="62"/>
                    </a:lnTo>
                    <a:lnTo>
                      <a:pt x="366" y="38"/>
                    </a:lnTo>
                    <a:lnTo>
                      <a:pt x="435" y="24"/>
                    </a:lnTo>
                    <a:lnTo>
                      <a:pt x="516" y="8"/>
                    </a:lnTo>
                    <a:lnTo>
                      <a:pt x="570" y="4"/>
                    </a:lnTo>
                    <a:lnTo>
                      <a:pt x="639" y="0"/>
                    </a:lnTo>
                    <a:lnTo>
                      <a:pt x="721" y="0"/>
                    </a:lnTo>
                    <a:lnTo>
                      <a:pt x="801" y="4"/>
                    </a:lnTo>
                    <a:lnTo>
                      <a:pt x="903" y="20"/>
                    </a:lnTo>
                    <a:lnTo>
                      <a:pt x="984" y="38"/>
                    </a:lnTo>
                    <a:lnTo>
                      <a:pt x="1057" y="58"/>
                    </a:lnTo>
                    <a:lnTo>
                      <a:pt x="1115" y="79"/>
                    </a:lnTo>
                    <a:lnTo>
                      <a:pt x="1126" y="83"/>
                    </a:lnTo>
                    <a:lnTo>
                      <a:pt x="1152" y="54"/>
                    </a:lnTo>
                    <a:lnTo>
                      <a:pt x="1189" y="34"/>
                    </a:lnTo>
                    <a:lnTo>
                      <a:pt x="1226" y="16"/>
                    </a:lnTo>
                    <a:lnTo>
                      <a:pt x="1284" y="16"/>
                    </a:lnTo>
                    <a:lnTo>
                      <a:pt x="1339" y="54"/>
                    </a:lnTo>
                    <a:close/>
                  </a:path>
                </a:pathLst>
              </a:custGeom>
              <a:solidFill>
                <a:srgbClr val="40404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786400">
                <a:off x="6756120" y="5110560"/>
                <a:ext cx="44640" cy="169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1" y="9185"/>
                    </a:moveTo>
                    <a:arcTo wR="10800" hR="10800" stAng="-10283876" swAng="37587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1" y="9185"/>
                    </a:moveTo>
                    <a:arcTo wR="10800" hR="10800" stAng="-10283876" swAng="3758716"/>
                  </a:path>
                </a:pathLst>
              </a:custGeom>
              <a:noFill/>
              <a:ln w="648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766560" y="5268600"/>
              <a:ext cx="976320" cy="837000"/>
              <a:chOff x="6766560" y="5268600"/>
              <a:chExt cx="976320" cy="83700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6766560" y="5268600"/>
                <a:ext cx="976320" cy="837000"/>
                <a:chOff x="6766560" y="5268600"/>
                <a:chExt cx="976320" cy="83700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6766560" y="5268600"/>
                  <a:ext cx="580320" cy="558720"/>
                  <a:chOff x="6766560" y="5268600"/>
                  <a:chExt cx="580320" cy="55872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6810480" y="5299200"/>
                    <a:ext cx="536040" cy="52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8" h="1696">
                        <a:moveTo>
                          <a:pt x="0" y="1696"/>
                        </a:moveTo>
                        <a:lnTo>
                          <a:pt x="0" y="773"/>
                        </a:lnTo>
                        <a:lnTo>
                          <a:pt x="1558" y="0"/>
                        </a:lnTo>
                        <a:lnTo>
                          <a:pt x="1555" y="870"/>
                        </a:lnTo>
                        <a:lnTo>
                          <a:pt x="0" y="1696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6766560" y="5510520"/>
                    <a:ext cx="4392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019">
                        <a:moveTo>
                          <a:pt x="0" y="0"/>
                        </a:moveTo>
                        <a:lnTo>
                          <a:pt x="130" y="96"/>
                        </a:lnTo>
                        <a:lnTo>
                          <a:pt x="130" y="1019"/>
                        </a:lnTo>
                        <a:lnTo>
                          <a:pt x="0" y="9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6766560" y="5268600"/>
                    <a:ext cx="58032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8" h="872">
                        <a:moveTo>
                          <a:pt x="0" y="776"/>
                        </a:moveTo>
                        <a:lnTo>
                          <a:pt x="131" y="872"/>
                        </a:lnTo>
                        <a:lnTo>
                          <a:pt x="1688" y="99"/>
                        </a:lnTo>
                        <a:lnTo>
                          <a:pt x="1563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6823080" y="5305680"/>
                  <a:ext cx="579240" cy="559440"/>
                  <a:chOff x="6823080" y="5305680"/>
                  <a:chExt cx="579240" cy="55944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6868080" y="5337360"/>
                    <a:ext cx="533880" cy="52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5" h="1695">
                        <a:moveTo>
                          <a:pt x="0" y="1695"/>
                        </a:moveTo>
                        <a:lnTo>
                          <a:pt x="0" y="770"/>
                        </a:lnTo>
                        <a:lnTo>
                          <a:pt x="1553" y="0"/>
                        </a:lnTo>
                        <a:lnTo>
                          <a:pt x="1555" y="866"/>
                        </a:lnTo>
                        <a:lnTo>
                          <a:pt x="0" y="1695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823080" y="5547600"/>
                    <a:ext cx="4500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1020">
                        <a:moveTo>
                          <a:pt x="1" y="0"/>
                        </a:moveTo>
                        <a:lnTo>
                          <a:pt x="131" y="95"/>
                        </a:lnTo>
                        <a:lnTo>
                          <a:pt x="131" y="1020"/>
                        </a:lnTo>
                        <a:lnTo>
                          <a:pt x="0" y="922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823080" y="5305680"/>
                    <a:ext cx="57924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5" h="872">
                        <a:moveTo>
                          <a:pt x="0" y="776"/>
                        </a:moveTo>
                        <a:lnTo>
                          <a:pt x="132" y="872"/>
                        </a:lnTo>
                        <a:lnTo>
                          <a:pt x="1685" y="102"/>
                        </a:lnTo>
                        <a:lnTo>
                          <a:pt x="1554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877800" y="5345280"/>
                  <a:ext cx="580320" cy="559440"/>
                  <a:chOff x="6877800" y="5345280"/>
                  <a:chExt cx="580320" cy="55944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6921720" y="5376960"/>
                    <a:ext cx="536040" cy="52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60" h="1696">
                        <a:moveTo>
                          <a:pt x="0" y="1696"/>
                        </a:moveTo>
                        <a:lnTo>
                          <a:pt x="0" y="773"/>
                        </a:lnTo>
                        <a:lnTo>
                          <a:pt x="1560" y="0"/>
                        </a:lnTo>
                        <a:lnTo>
                          <a:pt x="1558" y="869"/>
                        </a:lnTo>
                        <a:lnTo>
                          <a:pt x="0" y="1696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6877800" y="5587200"/>
                    <a:ext cx="4392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021">
                        <a:moveTo>
                          <a:pt x="0" y="0"/>
                        </a:moveTo>
                        <a:lnTo>
                          <a:pt x="129" y="98"/>
                        </a:lnTo>
                        <a:lnTo>
                          <a:pt x="129" y="1021"/>
                        </a:lnTo>
                        <a:lnTo>
                          <a:pt x="0" y="9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6877800" y="5345280"/>
                    <a:ext cx="58032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9" h="874">
                        <a:moveTo>
                          <a:pt x="0" y="776"/>
                        </a:moveTo>
                        <a:lnTo>
                          <a:pt x="131" y="874"/>
                        </a:lnTo>
                        <a:lnTo>
                          <a:pt x="1689" y="101"/>
                        </a:lnTo>
                        <a:lnTo>
                          <a:pt x="1564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6934320" y="5385240"/>
                  <a:ext cx="579600" cy="559440"/>
                  <a:chOff x="6934320" y="5385240"/>
                  <a:chExt cx="579600" cy="55944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6979680" y="5418000"/>
                    <a:ext cx="534240" cy="52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53" h="1692">
                        <a:moveTo>
                          <a:pt x="0" y="1692"/>
                        </a:moveTo>
                        <a:lnTo>
                          <a:pt x="0" y="769"/>
                        </a:lnTo>
                        <a:lnTo>
                          <a:pt x="1553" y="0"/>
                        </a:lnTo>
                        <a:lnTo>
                          <a:pt x="1547" y="864"/>
                        </a:lnTo>
                        <a:lnTo>
                          <a:pt x="0" y="1692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6934320" y="5626800"/>
                    <a:ext cx="4536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1020">
                        <a:moveTo>
                          <a:pt x="0" y="0"/>
                        </a:moveTo>
                        <a:lnTo>
                          <a:pt x="132" y="97"/>
                        </a:lnTo>
                        <a:lnTo>
                          <a:pt x="132" y="1020"/>
                        </a:lnTo>
                        <a:lnTo>
                          <a:pt x="1" y="9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6934320" y="5385240"/>
                    <a:ext cx="57960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4" h="874">
                        <a:moveTo>
                          <a:pt x="0" y="777"/>
                        </a:moveTo>
                        <a:lnTo>
                          <a:pt x="132" y="874"/>
                        </a:lnTo>
                        <a:lnTo>
                          <a:pt x="1684" y="105"/>
                        </a:lnTo>
                        <a:lnTo>
                          <a:pt x="1555" y="0"/>
                        </a:lnTo>
                        <a:lnTo>
                          <a:pt x="0" y="777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6991920" y="5427360"/>
                  <a:ext cx="579600" cy="559440"/>
                  <a:chOff x="6991920" y="5427360"/>
                  <a:chExt cx="579600" cy="5594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7036200" y="5457960"/>
                    <a:ext cx="534960" cy="52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59" h="1697">
                        <a:moveTo>
                          <a:pt x="0" y="1697"/>
                        </a:moveTo>
                        <a:lnTo>
                          <a:pt x="0" y="773"/>
                        </a:lnTo>
                        <a:lnTo>
                          <a:pt x="1559" y="0"/>
                        </a:lnTo>
                        <a:lnTo>
                          <a:pt x="1556" y="871"/>
                        </a:lnTo>
                        <a:lnTo>
                          <a:pt x="0" y="1697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6991920" y="5669280"/>
                    <a:ext cx="44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020">
                        <a:moveTo>
                          <a:pt x="0" y="0"/>
                        </a:moveTo>
                        <a:lnTo>
                          <a:pt x="129" y="96"/>
                        </a:lnTo>
                        <a:lnTo>
                          <a:pt x="129" y="1020"/>
                        </a:lnTo>
                        <a:lnTo>
                          <a:pt x="0" y="92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6991920" y="5427360"/>
                    <a:ext cx="57960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8" h="872">
                        <a:moveTo>
                          <a:pt x="0" y="776"/>
                        </a:moveTo>
                        <a:lnTo>
                          <a:pt x="129" y="872"/>
                        </a:lnTo>
                        <a:lnTo>
                          <a:pt x="1688" y="99"/>
                        </a:lnTo>
                        <a:lnTo>
                          <a:pt x="1563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048800" y="5467320"/>
                  <a:ext cx="578160" cy="559440"/>
                  <a:chOff x="7048800" y="5467320"/>
                  <a:chExt cx="578160" cy="55944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7092720" y="5499000"/>
                    <a:ext cx="533880" cy="52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5" h="1693">
                        <a:moveTo>
                          <a:pt x="0" y="1693"/>
                        </a:moveTo>
                        <a:lnTo>
                          <a:pt x="0" y="771"/>
                        </a:lnTo>
                        <a:lnTo>
                          <a:pt x="1555" y="0"/>
                        </a:lnTo>
                        <a:lnTo>
                          <a:pt x="1549" y="864"/>
                        </a:lnTo>
                        <a:lnTo>
                          <a:pt x="0" y="1693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7048800" y="5708880"/>
                    <a:ext cx="4392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019">
                        <a:moveTo>
                          <a:pt x="1" y="0"/>
                        </a:moveTo>
                        <a:lnTo>
                          <a:pt x="130" y="97"/>
                        </a:lnTo>
                        <a:lnTo>
                          <a:pt x="130" y="1019"/>
                        </a:lnTo>
                        <a:lnTo>
                          <a:pt x="0" y="92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048800" y="5467320"/>
                    <a:ext cx="57816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5" h="874">
                        <a:moveTo>
                          <a:pt x="0" y="776"/>
                        </a:moveTo>
                        <a:lnTo>
                          <a:pt x="130" y="874"/>
                        </a:lnTo>
                        <a:lnTo>
                          <a:pt x="1685" y="103"/>
                        </a:lnTo>
                        <a:lnTo>
                          <a:pt x="1554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7107480" y="5506920"/>
                  <a:ext cx="580320" cy="558720"/>
                  <a:chOff x="7107480" y="5506920"/>
                  <a:chExt cx="580320" cy="55872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7151760" y="5537520"/>
                    <a:ext cx="534600" cy="52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7" h="1696">
                        <a:moveTo>
                          <a:pt x="0" y="1696"/>
                        </a:moveTo>
                        <a:lnTo>
                          <a:pt x="0" y="774"/>
                        </a:lnTo>
                        <a:lnTo>
                          <a:pt x="1557" y="0"/>
                        </a:lnTo>
                        <a:lnTo>
                          <a:pt x="1555" y="870"/>
                        </a:lnTo>
                        <a:lnTo>
                          <a:pt x="0" y="1696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107480" y="5748840"/>
                    <a:ext cx="4428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019">
                        <a:moveTo>
                          <a:pt x="0" y="0"/>
                        </a:moveTo>
                        <a:lnTo>
                          <a:pt x="129" y="97"/>
                        </a:lnTo>
                        <a:lnTo>
                          <a:pt x="129" y="1019"/>
                        </a:lnTo>
                        <a:lnTo>
                          <a:pt x="0" y="9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7107480" y="5506920"/>
                    <a:ext cx="58032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0" h="876">
                        <a:moveTo>
                          <a:pt x="0" y="780"/>
                        </a:moveTo>
                        <a:lnTo>
                          <a:pt x="130" y="876"/>
                        </a:lnTo>
                        <a:lnTo>
                          <a:pt x="1690" y="100"/>
                        </a:lnTo>
                        <a:lnTo>
                          <a:pt x="1565" y="0"/>
                        </a:lnTo>
                        <a:lnTo>
                          <a:pt x="0" y="780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7163280" y="5546880"/>
                  <a:ext cx="579600" cy="558720"/>
                  <a:chOff x="7163280" y="5546880"/>
                  <a:chExt cx="579600" cy="55872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7208640" y="5578560"/>
                    <a:ext cx="534240" cy="52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54" h="1693">
                        <a:moveTo>
                          <a:pt x="0" y="1693"/>
                        </a:moveTo>
                        <a:lnTo>
                          <a:pt x="0" y="771"/>
                        </a:lnTo>
                        <a:lnTo>
                          <a:pt x="1554" y="0"/>
                        </a:lnTo>
                        <a:lnTo>
                          <a:pt x="1550" y="864"/>
                        </a:lnTo>
                        <a:lnTo>
                          <a:pt x="0" y="1693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7163280" y="5788800"/>
                    <a:ext cx="4536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017">
                        <a:moveTo>
                          <a:pt x="2" y="0"/>
                        </a:moveTo>
                        <a:lnTo>
                          <a:pt x="130" y="95"/>
                        </a:lnTo>
                        <a:lnTo>
                          <a:pt x="130" y="1017"/>
                        </a:lnTo>
                        <a:lnTo>
                          <a:pt x="0" y="92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163280" y="5546880"/>
                    <a:ext cx="57960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4" h="873">
                        <a:moveTo>
                          <a:pt x="0" y="776"/>
                        </a:moveTo>
                        <a:lnTo>
                          <a:pt x="130" y="873"/>
                        </a:lnTo>
                        <a:lnTo>
                          <a:pt x="1684" y="102"/>
                        </a:lnTo>
                        <a:lnTo>
                          <a:pt x="1555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6" name=""/>
              <p:cNvGrpSpPr/>
              <p:nvPr/>
            </p:nvGrpSpPr>
            <p:grpSpPr>
              <a:xfrm>
                <a:off x="7406640" y="5730840"/>
                <a:ext cx="172800" cy="215640"/>
                <a:chOff x="7406640" y="5730840"/>
                <a:chExt cx="172800" cy="215640"/>
              </a:xfrm>
            </p:grpSpPr>
            <p:grpSp>
              <p:nvGrpSpPr>
                <p:cNvPr id="167" name=""/>
                <p:cNvGrpSpPr/>
                <p:nvPr/>
              </p:nvGrpSpPr>
              <p:grpSpPr>
                <a:xfrm>
                  <a:off x="7406640" y="5730840"/>
                  <a:ext cx="172800" cy="215640"/>
                  <a:chOff x="7406640" y="5730840"/>
                  <a:chExt cx="172800" cy="2156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7406640" y="5730840"/>
                    <a:ext cx="165960" cy="209160"/>
                  </a:xfrm>
                  <a:prstGeom prst="ellipse">
                    <a:avLst/>
                  </a:prstGeom>
                  <a:solidFill>
                    <a:srgbClr val="000000">
                      <a:alpha val="50000"/>
                    </a:srgbClr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412400" y="5737320"/>
                    <a:ext cx="167040" cy="209160"/>
                  </a:xfrm>
                  <a:prstGeom prst="ellipse">
                    <a:avLst/>
                  </a:pr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"/>
                <p:cNvSpPr/>
                <p:nvPr/>
              </p:nvSpPr>
              <p:spPr>
                <a:xfrm>
                  <a:off x="7480440" y="5779080"/>
                  <a:ext cx="22680" cy="116640"/>
                </a:xfrm>
                <a:custGeom>
                  <a:avLst/>
                  <a:gdLst/>
                  <a:ahLst/>
                  <a:rect l="l" t="t" r="r" b="b"/>
                  <a:pathLst>
                    <a:path w="65" h="375">
                      <a:moveTo>
                        <a:pt x="0" y="24"/>
                      </a:moveTo>
                      <a:lnTo>
                        <a:pt x="65" y="0"/>
                      </a:lnTo>
                      <a:lnTo>
                        <a:pt x="65" y="350"/>
                      </a:lnTo>
                      <a:lnTo>
                        <a:pt x="0" y="375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404040">
                    <a:alpha val="50000"/>
                  </a:srgbClr>
                </a:solidFill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1" name=""/>
            <p:cNvGrpSpPr/>
            <p:nvPr/>
          </p:nvGrpSpPr>
          <p:grpSpPr>
            <a:xfrm>
              <a:off x="7491600" y="5728320"/>
              <a:ext cx="873720" cy="306720"/>
              <a:chOff x="7491600" y="5728320"/>
              <a:chExt cx="873720" cy="306720"/>
            </a:xfrm>
          </p:grpSpPr>
          <p:sp>
            <p:nvSpPr>
              <p:cNvPr id="172" name=""/>
              <p:cNvSpPr/>
              <p:nvPr/>
            </p:nvSpPr>
            <p:spPr>
              <a:xfrm>
                <a:off x="7655400" y="5845680"/>
                <a:ext cx="101880" cy="34200"/>
              </a:xfrm>
              <a:custGeom>
                <a:avLst/>
                <a:gdLst/>
                <a:ahLst/>
                <a:rect l="l" t="t" r="r" b="b"/>
                <a:pathLst>
                  <a:path w="298" h="110">
                    <a:moveTo>
                      <a:pt x="0" y="110"/>
                    </a:moveTo>
                    <a:lnTo>
                      <a:pt x="15" y="76"/>
                    </a:lnTo>
                    <a:lnTo>
                      <a:pt x="42" y="45"/>
                    </a:lnTo>
                    <a:lnTo>
                      <a:pt x="80" y="20"/>
                    </a:lnTo>
                    <a:lnTo>
                      <a:pt x="115" y="6"/>
                    </a:lnTo>
                    <a:lnTo>
                      <a:pt x="160" y="0"/>
                    </a:lnTo>
                    <a:lnTo>
                      <a:pt x="202" y="2"/>
                    </a:lnTo>
                    <a:lnTo>
                      <a:pt x="247" y="16"/>
                    </a:lnTo>
                    <a:lnTo>
                      <a:pt x="272" y="28"/>
                    </a:lnTo>
                    <a:lnTo>
                      <a:pt x="298" y="47"/>
                    </a:lnTo>
                  </a:path>
                </a:pathLst>
              </a:custGeom>
              <a:noFill/>
              <a:ln w="237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7491600" y="5739480"/>
                <a:ext cx="222480" cy="295560"/>
                <a:chOff x="7491600" y="5739480"/>
                <a:chExt cx="222480" cy="29556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7491600" y="5785920"/>
                  <a:ext cx="192600" cy="210600"/>
                  <a:chOff x="7491600" y="5785920"/>
                  <a:chExt cx="192600" cy="21060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7491600" y="5790240"/>
                    <a:ext cx="17820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662">
                        <a:moveTo>
                          <a:pt x="0" y="0"/>
                        </a:moveTo>
                        <a:lnTo>
                          <a:pt x="0" y="309"/>
                        </a:lnTo>
                        <a:lnTo>
                          <a:pt x="520" y="662"/>
                        </a:lnTo>
                        <a:lnTo>
                          <a:pt x="520" y="3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7491600" y="5785920"/>
                    <a:ext cx="19260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561" h="376">
                        <a:moveTo>
                          <a:pt x="0" y="18"/>
                        </a:moveTo>
                        <a:lnTo>
                          <a:pt x="519" y="376"/>
                        </a:lnTo>
                        <a:lnTo>
                          <a:pt x="561" y="359"/>
                        </a:lnTo>
                        <a:lnTo>
                          <a:pt x="40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ffff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668720" y="5896800"/>
                    <a:ext cx="1440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19">
                        <a:moveTo>
                          <a:pt x="0" y="18"/>
                        </a:moveTo>
                        <a:lnTo>
                          <a:pt x="43" y="0"/>
                        </a:lnTo>
                        <a:lnTo>
                          <a:pt x="43" y="305"/>
                        </a:lnTo>
                        <a:lnTo>
                          <a:pt x="0" y="319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606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7532640" y="5739480"/>
                  <a:ext cx="181440" cy="295560"/>
                  <a:chOff x="7532640" y="5739480"/>
                  <a:chExt cx="181440" cy="2955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7545960" y="5739480"/>
                    <a:ext cx="168120" cy="290520"/>
                  </a:xfrm>
                  <a:prstGeom prst="ellipse">
                    <a:avLst/>
                  </a:prstGeom>
                  <a:solidFill>
                    <a:srgbClr val="ffff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7532640" y="5745600"/>
                    <a:ext cx="167040" cy="289440"/>
                  </a:xfrm>
                  <a:prstGeom prst="ellipse">
                    <a:avLst/>
                  </a:prstGeom>
                  <a:solidFill>
                    <a:srgbClr val="a0a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7628400" y="5876640"/>
                    <a:ext cx="44280" cy="62280"/>
                  </a:xfrm>
                  <a:prstGeom prst="ellipse">
                    <a:avLst/>
                  </a:prstGeom>
                  <a:solidFill>
                    <a:srgbClr val="e0e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7639920" y="5880240"/>
                    <a:ext cx="32760" cy="49320"/>
                  </a:xfrm>
                  <a:prstGeom prst="ellipse">
                    <a:avLst/>
                  </a:prstGeom>
                  <a:solidFill>
                    <a:srgbClr val="60606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7723440" y="5728320"/>
                <a:ext cx="641880" cy="304920"/>
                <a:chOff x="7723440" y="5728320"/>
                <a:chExt cx="641880" cy="30492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7723440" y="5728320"/>
                  <a:ext cx="241920" cy="304920"/>
                  <a:chOff x="7723440" y="5728320"/>
                  <a:chExt cx="241920" cy="30492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7723440" y="5746680"/>
                    <a:ext cx="241920" cy="286560"/>
                  </a:xfrm>
                  <a:prstGeom prst="ellipse">
                    <a:avLst/>
                  </a:prstGeom>
                  <a:solidFill>
                    <a:srgbClr val="606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7723440" y="5728320"/>
                    <a:ext cx="241920" cy="286560"/>
                  </a:xfrm>
                  <a:prstGeom prst="ellipse">
                    <a:avLst/>
                  </a:prstGeom>
                  <a:solidFill>
                    <a:srgbClr val="ffff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7733520" y="5740920"/>
                    <a:ext cx="221400" cy="271800"/>
                  </a:xfrm>
                  <a:prstGeom prst="ellipse">
                    <a:avLst/>
                  </a:prstGeom>
                  <a:solidFill>
                    <a:srgbClr val="a0a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7743960" y="5839200"/>
                    <a:ext cx="57600" cy="78480"/>
                    <a:chOff x="7743960" y="5839200"/>
                    <a:chExt cx="57600" cy="7848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743960" y="5839200"/>
                      <a:ext cx="57600" cy="78480"/>
                    </a:xfrm>
                    <a:prstGeom prst="ellipse">
                      <a:avLst/>
                    </a:prstGeom>
                    <a:solidFill>
                      <a:srgbClr val="ffff00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7749720" y="5856120"/>
                      <a:ext cx="45000" cy="61560"/>
                    </a:xfrm>
                    <a:prstGeom prst="ellipse">
                      <a:avLst/>
                    </a:prstGeom>
                    <a:solidFill>
                      <a:srgbClr val="606060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945920" y="5822280"/>
                  <a:ext cx="419400" cy="116280"/>
                  <a:chOff x="7945920" y="5822280"/>
                  <a:chExt cx="419400" cy="11628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7945920" y="5838840"/>
                    <a:ext cx="4194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20" h="322">
                        <a:moveTo>
                          <a:pt x="0" y="0"/>
                        </a:moveTo>
                        <a:lnTo>
                          <a:pt x="1220" y="107"/>
                        </a:lnTo>
                        <a:lnTo>
                          <a:pt x="1220" y="162"/>
                        </a:lnTo>
                        <a:lnTo>
                          <a:pt x="1140" y="322"/>
                        </a:lnTo>
                        <a:lnTo>
                          <a:pt x="977" y="322"/>
                        </a:lnTo>
                        <a:lnTo>
                          <a:pt x="977" y="243"/>
                        </a:lnTo>
                        <a:lnTo>
                          <a:pt x="895" y="243"/>
                        </a:lnTo>
                        <a:lnTo>
                          <a:pt x="895" y="322"/>
                        </a:lnTo>
                        <a:lnTo>
                          <a:pt x="815" y="322"/>
                        </a:lnTo>
                        <a:lnTo>
                          <a:pt x="815" y="243"/>
                        </a:lnTo>
                        <a:lnTo>
                          <a:pt x="652" y="243"/>
                        </a:lnTo>
                        <a:lnTo>
                          <a:pt x="652" y="322"/>
                        </a:lnTo>
                        <a:lnTo>
                          <a:pt x="570" y="322"/>
                        </a:lnTo>
                        <a:lnTo>
                          <a:pt x="488" y="243"/>
                        </a:lnTo>
                        <a:lnTo>
                          <a:pt x="407" y="322"/>
                        </a:lnTo>
                        <a:lnTo>
                          <a:pt x="325" y="243"/>
                        </a:lnTo>
                        <a:lnTo>
                          <a:pt x="325" y="322"/>
                        </a:lnTo>
                        <a:lnTo>
                          <a:pt x="244" y="322"/>
                        </a:lnTo>
                        <a:lnTo>
                          <a:pt x="244" y="243"/>
                        </a:lnTo>
                        <a:lnTo>
                          <a:pt x="163" y="243"/>
                        </a:lnTo>
                        <a:lnTo>
                          <a:pt x="80" y="322"/>
                        </a:lnTo>
                        <a:lnTo>
                          <a:pt x="0" y="32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7945920" y="5822280"/>
                    <a:ext cx="4194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20" h="321">
                        <a:moveTo>
                          <a:pt x="0" y="0"/>
                        </a:moveTo>
                        <a:lnTo>
                          <a:pt x="1140" y="0"/>
                        </a:lnTo>
                        <a:lnTo>
                          <a:pt x="1220" y="159"/>
                        </a:lnTo>
                        <a:lnTo>
                          <a:pt x="1140" y="321"/>
                        </a:lnTo>
                        <a:lnTo>
                          <a:pt x="977" y="321"/>
                        </a:lnTo>
                        <a:lnTo>
                          <a:pt x="977" y="241"/>
                        </a:lnTo>
                        <a:lnTo>
                          <a:pt x="895" y="241"/>
                        </a:lnTo>
                        <a:lnTo>
                          <a:pt x="895" y="321"/>
                        </a:lnTo>
                        <a:lnTo>
                          <a:pt x="815" y="321"/>
                        </a:lnTo>
                        <a:lnTo>
                          <a:pt x="815" y="241"/>
                        </a:lnTo>
                        <a:lnTo>
                          <a:pt x="652" y="241"/>
                        </a:lnTo>
                        <a:lnTo>
                          <a:pt x="652" y="321"/>
                        </a:lnTo>
                        <a:lnTo>
                          <a:pt x="570" y="321"/>
                        </a:lnTo>
                        <a:lnTo>
                          <a:pt x="488" y="241"/>
                        </a:lnTo>
                        <a:lnTo>
                          <a:pt x="407" y="321"/>
                        </a:lnTo>
                        <a:lnTo>
                          <a:pt x="325" y="241"/>
                        </a:lnTo>
                        <a:lnTo>
                          <a:pt x="325" y="321"/>
                        </a:lnTo>
                        <a:lnTo>
                          <a:pt x="244" y="321"/>
                        </a:lnTo>
                        <a:lnTo>
                          <a:pt x="244" y="241"/>
                        </a:lnTo>
                        <a:lnTo>
                          <a:pt x="163" y="241"/>
                        </a:lnTo>
                        <a:lnTo>
                          <a:pt x="80" y="321"/>
                        </a:lnTo>
                        <a:lnTo>
                          <a:pt x="0" y="3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7981920" y="5847480"/>
                    <a:ext cx="3830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7" h="82">
                        <a:moveTo>
                          <a:pt x="0" y="0"/>
                        </a:moveTo>
                        <a:lnTo>
                          <a:pt x="1079" y="0"/>
                        </a:lnTo>
                        <a:lnTo>
                          <a:pt x="1117" y="82"/>
                        </a:lnTo>
                        <a:lnTo>
                          <a:pt x="0" y="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988040" y="5889600"/>
                    <a:ext cx="361440" cy="4320"/>
                  </a:xfrm>
                  <a:prstGeom prst="rect">
                    <a:avLst/>
                  </a:prstGeom>
                  <a:solidFill>
                    <a:srgbClr val="808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975800" y="5826600"/>
                    <a:ext cx="361440" cy="4320"/>
                  </a:xfrm>
                  <a:prstGeom prst="rect">
                    <a:avLst/>
                  </a:prstGeom>
                  <a:solidFill>
                    <a:srgbClr val="808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" name=""/>
              <p:cNvSpPr/>
              <p:nvPr/>
            </p:nvSpPr>
            <p:spPr>
              <a:xfrm>
                <a:off x="7656120" y="5865480"/>
                <a:ext cx="114480" cy="55800"/>
              </a:xfrm>
              <a:custGeom>
                <a:avLst/>
                <a:gdLst/>
                <a:ahLst/>
                <a:rect l="l" t="t" r="r" b="b"/>
                <a:pathLst>
                  <a:path w="333" h="182">
                    <a:moveTo>
                      <a:pt x="0" y="65"/>
                    </a:moveTo>
                    <a:lnTo>
                      <a:pt x="8" y="103"/>
                    </a:lnTo>
                    <a:lnTo>
                      <a:pt x="36" y="140"/>
                    </a:lnTo>
                    <a:lnTo>
                      <a:pt x="76" y="165"/>
                    </a:lnTo>
                    <a:lnTo>
                      <a:pt x="134" y="182"/>
                    </a:lnTo>
                    <a:lnTo>
                      <a:pt x="193" y="182"/>
                    </a:lnTo>
                    <a:lnTo>
                      <a:pt x="250" y="169"/>
                    </a:lnTo>
                    <a:lnTo>
                      <a:pt x="295" y="140"/>
                    </a:lnTo>
                    <a:lnTo>
                      <a:pt x="323" y="99"/>
                    </a:lnTo>
                    <a:lnTo>
                      <a:pt x="333" y="56"/>
                    </a:lnTo>
                    <a:lnTo>
                      <a:pt x="326" y="26"/>
                    </a:lnTo>
                    <a:lnTo>
                      <a:pt x="311" y="0"/>
                    </a:lnTo>
                  </a:path>
                </a:pathLst>
              </a:custGeom>
              <a:noFill/>
              <a:ln w="237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9CA11-825B-4406-80C2-6D099961C3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71280" y="1925280"/>
            <a:ext cx="784836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écnicas para Quebra de Senh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1. Ataque por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riptoanáli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Verdana"/>
              </a:rPr>
              <a:t>domínio dos algoritmos de criptografia conhecidos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Verdana"/>
              </a:rPr>
              <a:t>hardware dinamizado para efetuar cálculos matemáticos robust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2. Ataque por Dicionári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Verdana"/>
              </a:rPr>
              <a:t>usuários menos atentos as questões de segurança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Verdana"/>
              </a:rPr>
              <a:t>fragilidade das senha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3. Ataque por Força Bru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Verdana"/>
              </a:rPr>
              <a:t>combinação de caracter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Verdana"/>
              </a:rPr>
              <a:t>ferramentas disponívei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9D24F-2602-4397-AE31-E3654C9F4A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taques - Redes de Computadore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em redes de computadores – Formas de ata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orma Ativ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lterando conteúdo que significa alterar Integridade ou Identidade (Autenticaçã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.: Inserção de Vírus em um e-m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orma Passiv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isbilhotando o conteúdo e se aproveitando da inform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.: Acesso a documentos corporativos, acesso ao número de um cartão de crédi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AD4EE-0CBB-4A83-848B-265CEBF138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Vulnerabilidade dos sist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eração das chaves – números aleató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amanho da cha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Qualidade do algoritm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F0321-89AE-4110-B1AD-858165593D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20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Vulnerabilidade dos sist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eração das chaves – números aleató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NG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Random Number Generato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 – gerador de números aleatór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Intel produz um RNG que utiliza o sistema de ruído térmico para sua entrada variável e imprevisív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utras empresas (nCipher, Chrysalis e Rainbow) incorporam RNG em seus aceleradores criptográfic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89CA6-4D16-4E00-A545-F3A91E6D38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775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Vulnerabilidade dos sist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eração das chaves – números pseudo-aleató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NG (Pseudo-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Random Number Generato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 – gerador de números pseudo-aleatór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specto importante para PRNG: permite alterar a saída utilizand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ement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istint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emplos de semente: hora do dia em milissegundos, intervalo entre interrupções de dispositivo (exemplo, o mouse), toques de tecla do usuári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utro tipo de semente: palavra ou frase de senha (não é aleatória e reduz a segurança do sistem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93E0A-67A7-4DBA-A876-C43E2CCA44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632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Vulnerabilidade dos sist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eração das chaves – números pseudo-aleató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s invasores podem conhecer um PRNG específico e o método de coleta de semente utiliz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e os invasores puderem “advinhar” a semente, eles podem alimentar o PRNG com a semente e criar uma mesma chav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sto aconteceu com a Netscape (“Semente da Netscape”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Nestcape corrigiu o problema na versão 2.0 adicionando mais semente. Cada plataforma (Windows, Mac e UNIX) tem fontes diferentes de sem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Entre as diversas plataformas dependentes de sementes, a Netscape agora utiliza a posição do cursor ou do mouse, o 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tatus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da memória, o último pressionamento de tecla, o volume de áudio, etc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07308-0850-4D85-B7A9-55412C849E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559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Vulnerabilidade dos sist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amanho da cha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anto maior a chave, mais tempo será necessário para se tentar uma combinação possív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Ataque de força brut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– consiste em tentar todas as possíveis chaves até que a correta seja identific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8D2F4-301E-4687-BB5C-C7DDE49E62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7" name=""/>
          <p:cNvSpPr/>
          <p:nvPr/>
        </p:nvSpPr>
        <p:spPr>
          <a:xfrm>
            <a:off x="1116000" y="1773360"/>
            <a:ext cx="734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 cenário pior do que a pior das situações: quanto tempo uma ataque de força-bruta levaria quanto aos vários tamanhos de chav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7380360" cy="33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19DB5-4A9C-470D-94D4-5616618FC9F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775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Vulnerabilidade dos sist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Qualidade do algoritm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lguns algoritmos são mais seguros do que outros e, com o passar do tempo, alguns são comprometi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que há de mais moderno nem sempre é o melhor quando se usam criptossistemas, pois os sistemas mais novos podem ter falhas ainda não descobert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C5CF4-FC44-41EB-A5BA-C32B4F3445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taques - Redes de Computadore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3137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em redes de computado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omo se proteger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ocurar antecipar-se aos proble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odar programa que busca por senhas fáceis na própria base de seus usuá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cientizar os usuários da importância de se ter senhas não trivia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nstalar programas para fazer a monitoração da re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nstalar programas para fazer a monitoração dos servi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A0FE1-6811-4089-AA00-7537E5598D2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58560" y="206064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3a9a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anál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3a9a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iência que estuda mecanismos para “quebrar” os textos cifr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3a9a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través de diversas técnicas e ferramentas propõe ataques a um sistema criptográf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3a9a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ipos Bás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3a9a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ptoanálise Diferen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3a9a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ptoanálise Line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D0E4E-F4F1-4D31-8A35-E4247F3044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28360" y="1881360"/>
            <a:ext cx="7775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 capacidade de um sistema de criptografia proteger as informações depende dos seguintes fat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rau de segredo da cha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ficuldade em adivinhar a cha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ficuldade em inverter o algoritmo de criptografia sem conhecer a cha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istência de portas dos fundo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cifragem da mensagem completa a partir de uma parte conheci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ertas propriedades conhecidas do tex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69EAA-98F9-4F3B-8DE5-AAB26065B0C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15640" y="19162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3a9a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 sistema é dito seguro se ele é teoricamente inquebrável, ou seja, não interessa qual a quantidade de texto normal ou decifrado a disposição, nunca se tem informação suficiente para deduzir as chaves utilizadas ou decifrar um texto qualquer cifrad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3a9a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étodo nesta categori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a Cifra de Vernam ou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One-time pa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“cifra de uso único”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m essência dois elementos que desejam se comunicar possuem cópias idênticas de uma sequência randômica de valores, que são utilizados como chav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método entretanto, exige que cada chave seja usada uma única vez e que o comprimento da sequência (chave) seja maior, ou no mínimo igual ao comprimento da mensagem a ser criptografad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544440" y="5446440"/>
            <a:ext cx="1747800" cy="1090800"/>
            <a:chOff x="6544440" y="5446440"/>
            <a:chExt cx="1747800" cy="1090800"/>
          </a:xfrm>
        </p:grpSpPr>
        <p:grpSp>
          <p:nvGrpSpPr>
            <p:cNvPr id="258" name=""/>
            <p:cNvGrpSpPr/>
            <p:nvPr/>
          </p:nvGrpSpPr>
          <p:grpSpPr>
            <a:xfrm>
              <a:off x="6544440" y="5446440"/>
              <a:ext cx="632160" cy="635400"/>
              <a:chOff x="6544440" y="5446440"/>
              <a:chExt cx="632160" cy="635400"/>
            </a:xfrm>
          </p:grpSpPr>
          <p:sp>
            <p:nvSpPr>
              <p:cNvPr id="259" name=""/>
              <p:cNvSpPr/>
              <p:nvPr/>
            </p:nvSpPr>
            <p:spPr>
              <a:xfrm rot="2786400">
                <a:off x="6612840" y="5563080"/>
                <a:ext cx="494640" cy="402120"/>
              </a:xfrm>
              <a:custGeom>
                <a:avLst/>
                <a:gdLst/>
                <a:ahLst/>
                <a:rect l="l" t="t" r="r" b="b"/>
                <a:pathLst>
                  <a:path w="1589" h="1168">
                    <a:moveTo>
                      <a:pt x="1589" y="212"/>
                    </a:moveTo>
                    <a:lnTo>
                      <a:pt x="1505" y="150"/>
                    </a:lnTo>
                    <a:lnTo>
                      <a:pt x="1446" y="119"/>
                    </a:lnTo>
                    <a:lnTo>
                      <a:pt x="1408" y="102"/>
                    </a:lnTo>
                    <a:lnTo>
                      <a:pt x="1363" y="85"/>
                    </a:lnTo>
                    <a:lnTo>
                      <a:pt x="1322" y="67"/>
                    </a:lnTo>
                    <a:lnTo>
                      <a:pt x="1271" y="49"/>
                    </a:lnTo>
                    <a:lnTo>
                      <a:pt x="1215" y="36"/>
                    </a:lnTo>
                    <a:lnTo>
                      <a:pt x="1150" y="22"/>
                    </a:lnTo>
                    <a:lnTo>
                      <a:pt x="1087" y="11"/>
                    </a:lnTo>
                    <a:lnTo>
                      <a:pt x="1045" y="4"/>
                    </a:lnTo>
                    <a:lnTo>
                      <a:pt x="992" y="0"/>
                    </a:lnTo>
                    <a:lnTo>
                      <a:pt x="947" y="2"/>
                    </a:lnTo>
                    <a:lnTo>
                      <a:pt x="883" y="2"/>
                    </a:lnTo>
                    <a:lnTo>
                      <a:pt x="815" y="4"/>
                    </a:lnTo>
                    <a:lnTo>
                      <a:pt x="761" y="8"/>
                    </a:lnTo>
                    <a:lnTo>
                      <a:pt x="701" y="15"/>
                    </a:lnTo>
                    <a:lnTo>
                      <a:pt x="630" y="26"/>
                    </a:lnTo>
                    <a:lnTo>
                      <a:pt x="562" y="44"/>
                    </a:lnTo>
                    <a:lnTo>
                      <a:pt x="493" y="63"/>
                    </a:lnTo>
                    <a:lnTo>
                      <a:pt x="412" y="93"/>
                    </a:lnTo>
                    <a:lnTo>
                      <a:pt x="336" y="127"/>
                    </a:lnTo>
                    <a:lnTo>
                      <a:pt x="263" y="166"/>
                    </a:lnTo>
                    <a:lnTo>
                      <a:pt x="203" y="211"/>
                    </a:lnTo>
                    <a:lnTo>
                      <a:pt x="146" y="264"/>
                    </a:lnTo>
                    <a:lnTo>
                      <a:pt x="102" y="310"/>
                    </a:lnTo>
                    <a:lnTo>
                      <a:pt x="68" y="355"/>
                    </a:lnTo>
                    <a:lnTo>
                      <a:pt x="41" y="405"/>
                    </a:lnTo>
                    <a:lnTo>
                      <a:pt x="26" y="439"/>
                    </a:lnTo>
                    <a:lnTo>
                      <a:pt x="17" y="472"/>
                    </a:lnTo>
                    <a:lnTo>
                      <a:pt x="6" y="519"/>
                    </a:lnTo>
                    <a:lnTo>
                      <a:pt x="0" y="560"/>
                    </a:lnTo>
                    <a:lnTo>
                      <a:pt x="0" y="598"/>
                    </a:lnTo>
                    <a:lnTo>
                      <a:pt x="3" y="628"/>
                    </a:lnTo>
                    <a:lnTo>
                      <a:pt x="6" y="665"/>
                    </a:lnTo>
                    <a:lnTo>
                      <a:pt x="9" y="704"/>
                    </a:lnTo>
                    <a:lnTo>
                      <a:pt x="18" y="738"/>
                    </a:lnTo>
                    <a:lnTo>
                      <a:pt x="22" y="761"/>
                    </a:lnTo>
                    <a:lnTo>
                      <a:pt x="29" y="784"/>
                    </a:lnTo>
                    <a:lnTo>
                      <a:pt x="43" y="818"/>
                    </a:lnTo>
                    <a:lnTo>
                      <a:pt x="64" y="856"/>
                    </a:lnTo>
                    <a:lnTo>
                      <a:pt x="105" y="918"/>
                    </a:lnTo>
                    <a:lnTo>
                      <a:pt x="139" y="960"/>
                    </a:lnTo>
                    <a:lnTo>
                      <a:pt x="238" y="1054"/>
                    </a:lnTo>
                    <a:lnTo>
                      <a:pt x="377" y="1168"/>
                    </a:lnTo>
                    <a:lnTo>
                      <a:pt x="635" y="1037"/>
                    </a:lnTo>
                    <a:lnTo>
                      <a:pt x="357" y="836"/>
                    </a:lnTo>
                    <a:lnTo>
                      <a:pt x="336" y="812"/>
                    </a:lnTo>
                    <a:lnTo>
                      <a:pt x="323" y="794"/>
                    </a:lnTo>
                    <a:lnTo>
                      <a:pt x="304" y="768"/>
                    </a:lnTo>
                    <a:lnTo>
                      <a:pt x="287" y="741"/>
                    </a:lnTo>
                    <a:lnTo>
                      <a:pt x="275" y="708"/>
                    </a:lnTo>
                    <a:lnTo>
                      <a:pt x="268" y="678"/>
                    </a:lnTo>
                    <a:lnTo>
                      <a:pt x="261" y="642"/>
                    </a:lnTo>
                    <a:lnTo>
                      <a:pt x="261" y="609"/>
                    </a:lnTo>
                    <a:lnTo>
                      <a:pt x="268" y="560"/>
                    </a:lnTo>
                    <a:lnTo>
                      <a:pt x="275" y="524"/>
                    </a:lnTo>
                    <a:lnTo>
                      <a:pt x="286" y="498"/>
                    </a:lnTo>
                    <a:lnTo>
                      <a:pt x="302" y="464"/>
                    </a:lnTo>
                    <a:lnTo>
                      <a:pt x="327" y="428"/>
                    </a:lnTo>
                    <a:lnTo>
                      <a:pt x="363" y="388"/>
                    </a:lnTo>
                    <a:lnTo>
                      <a:pt x="412" y="351"/>
                    </a:lnTo>
                    <a:lnTo>
                      <a:pt x="482" y="316"/>
                    </a:lnTo>
                    <a:lnTo>
                      <a:pt x="532" y="297"/>
                    </a:lnTo>
                    <a:lnTo>
                      <a:pt x="587" y="276"/>
                    </a:lnTo>
                    <a:lnTo>
                      <a:pt x="635" y="264"/>
                    </a:lnTo>
                    <a:lnTo>
                      <a:pt x="667" y="259"/>
                    </a:lnTo>
                    <a:lnTo>
                      <a:pt x="706" y="248"/>
                    </a:lnTo>
                    <a:lnTo>
                      <a:pt x="740" y="241"/>
                    </a:lnTo>
                    <a:lnTo>
                      <a:pt x="795" y="237"/>
                    </a:lnTo>
                    <a:lnTo>
                      <a:pt x="829" y="235"/>
                    </a:lnTo>
                    <a:lnTo>
                      <a:pt x="869" y="229"/>
                    </a:lnTo>
                    <a:lnTo>
                      <a:pt x="910" y="231"/>
                    </a:lnTo>
                    <a:lnTo>
                      <a:pt x="939" y="231"/>
                    </a:lnTo>
                    <a:lnTo>
                      <a:pt x="1009" y="237"/>
                    </a:lnTo>
                    <a:lnTo>
                      <a:pt x="1080" y="245"/>
                    </a:lnTo>
                    <a:lnTo>
                      <a:pt x="1132" y="254"/>
                    </a:lnTo>
                    <a:lnTo>
                      <a:pt x="1166" y="265"/>
                    </a:lnTo>
                    <a:lnTo>
                      <a:pt x="1207" y="278"/>
                    </a:lnTo>
                    <a:lnTo>
                      <a:pt x="1246" y="291"/>
                    </a:lnTo>
                    <a:lnTo>
                      <a:pt x="1273" y="302"/>
                    </a:lnTo>
                    <a:lnTo>
                      <a:pt x="1302" y="314"/>
                    </a:lnTo>
                    <a:lnTo>
                      <a:pt x="1345" y="332"/>
                    </a:lnTo>
                    <a:lnTo>
                      <a:pt x="1589" y="212"/>
                    </a:lnTo>
                    <a:close/>
                  </a:path>
                </a:pathLst>
              </a:custGeom>
              <a:solidFill>
                <a:srgbClr val="60606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786400">
                <a:off x="6716160" y="5661720"/>
                <a:ext cx="417240" cy="174960"/>
              </a:xfrm>
              <a:custGeom>
                <a:avLst/>
                <a:gdLst/>
                <a:ahLst/>
                <a:rect l="l" t="t" r="r" b="b"/>
                <a:pathLst>
                  <a:path w="1339" h="508">
                    <a:moveTo>
                      <a:pt x="1339" y="54"/>
                    </a:moveTo>
                    <a:lnTo>
                      <a:pt x="1083" y="183"/>
                    </a:lnTo>
                    <a:lnTo>
                      <a:pt x="1024" y="153"/>
                    </a:lnTo>
                    <a:lnTo>
                      <a:pt x="947" y="125"/>
                    </a:lnTo>
                    <a:lnTo>
                      <a:pt x="867" y="104"/>
                    </a:lnTo>
                    <a:lnTo>
                      <a:pt x="769" y="91"/>
                    </a:lnTo>
                    <a:lnTo>
                      <a:pt x="665" y="87"/>
                    </a:lnTo>
                    <a:lnTo>
                      <a:pt x="537" y="91"/>
                    </a:lnTo>
                    <a:lnTo>
                      <a:pt x="453" y="104"/>
                    </a:lnTo>
                    <a:lnTo>
                      <a:pt x="344" y="129"/>
                    </a:lnTo>
                    <a:lnTo>
                      <a:pt x="256" y="163"/>
                    </a:lnTo>
                    <a:lnTo>
                      <a:pt x="191" y="195"/>
                    </a:lnTo>
                    <a:lnTo>
                      <a:pt x="139" y="229"/>
                    </a:lnTo>
                    <a:lnTo>
                      <a:pt x="95" y="274"/>
                    </a:lnTo>
                    <a:lnTo>
                      <a:pt x="59" y="329"/>
                    </a:lnTo>
                    <a:lnTo>
                      <a:pt x="37" y="391"/>
                    </a:lnTo>
                    <a:lnTo>
                      <a:pt x="26" y="450"/>
                    </a:lnTo>
                    <a:lnTo>
                      <a:pt x="22" y="508"/>
                    </a:lnTo>
                    <a:lnTo>
                      <a:pt x="4" y="446"/>
                    </a:lnTo>
                    <a:lnTo>
                      <a:pt x="0" y="395"/>
                    </a:lnTo>
                    <a:lnTo>
                      <a:pt x="11" y="329"/>
                    </a:lnTo>
                    <a:lnTo>
                      <a:pt x="33" y="274"/>
                    </a:lnTo>
                    <a:lnTo>
                      <a:pt x="74" y="212"/>
                    </a:lnTo>
                    <a:lnTo>
                      <a:pt x="121" y="157"/>
                    </a:lnTo>
                    <a:lnTo>
                      <a:pt x="176" y="117"/>
                    </a:lnTo>
                    <a:lnTo>
                      <a:pt x="227" y="87"/>
                    </a:lnTo>
                    <a:lnTo>
                      <a:pt x="293" y="62"/>
                    </a:lnTo>
                    <a:lnTo>
                      <a:pt x="366" y="38"/>
                    </a:lnTo>
                    <a:lnTo>
                      <a:pt x="435" y="24"/>
                    </a:lnTo>
                    <a:lnTo>
                      <a:pt x="516" y="8"/>
                    </a:lnTo>
                    <a:lnTo>
                      <a:pt x="570" y="4"/>
                    </a:lnTo>
                    <a:lnTo>
                      <a:pt x="639" y="0"/>
                    </a:lnTo>
                    <a:lnTo>
                      <a:pt x="721" y="0"/>
                    </a:lnTo>
                    <a:lnTo>
                      <a:pt x="801" y="4"/>
                    </a:lnTo>
                    <a:lnTo>
                      <a:pt x="903" y="20"/>
                    </a:lnTo>
                    <a:lnTo>
                      <a:pt x="984" y="38"/>
                    </a:lnTo>
                    <a:lnTo>
                      <a:pt x="1057" y="58"/>
                    </a:lnTo>
                    <a:lnTo>
                      <a:pt x="1115" y="79"/>
                    </a:lnTo>
                    <a:lnTo>
                      <a:pt x="1126" y="83"/>
                    </a:lnTo>
                    <a:lnTo>
                      <a:pt x="1152" y="54"/>
                    </a:lnTo>
                    <a:lnTo>
                      <a:pt x="1189" y="34"/>
                    </a:lnTo>
                    <a:lnTo>
                      <a:pt x="1226" y="16"/>
                    </a:lnTo>
                    <a:lnTo>
                      <a:pt x="1284" y="16"/>
                    </a:lnTo>
                    <a:lnTo>
                      <a:pt x="1339" y="54"/>
                    </a:lnTo>
                    <a:close/>
                  </a:path>
                </a:pathLst>
              </a:custGeom>
              <a:solidFill>
                <a:srgbClr val="40404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786400">
                <a:off x="6683040" y="5542560"/>
                <a:ext cx="44640" cy="169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1" y="9185"/>
                    </a:moveTo>
                    <a:arcTo wR="10800" hR="10800" stAng="-10283876" swAng="37587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1" y="9185"/>
                    </a:moveTo>
                    <a:arcTo wR="10800" hR="10800" stAng="-10283876" swAng="3758716"/>
                  </a:path>
                </a:pathLst>
              </a:custGeom>
              <a:noFill/>
              <a:ln w="648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693480" y="5700600"/>
              <a:ext cx="976320" cy="836640"/>
              <a:chOff x="6693480" y="5700600"/>
              <a:chExt cx="976320" cy="83664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6693480" y="5700600"/>
                <a:ext cx="976320" cy="836640"/>
                <a:chOff x="6693480" y="5700600"/>
                <a:chExt cx="976320" cy="83664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6693480" y="5700600"/>
                  <a:ext cx="580320" cy="558000"/>
                  <a:chOff x="6693480" y="5700600"/>
                  <a:chExt cx="580320" cy="55800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6737400" y="5731200"/>
                    <a:ext cx="536040" cy="52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58" h="1696">
                        <a:moveTo>
                          <a:pt x="0" y="1696"/>
                        </a:moveTo>
                        <a:lnTo>
                          <a:pt x="0" y="773"/>
                        </a:lnTo>
                        <a:lnTo>
                          <a:pt x="1558" y="0"/>
                        </a:lnTo>
                        <a:lnTo>
                          <a:pt x="1555" y="870"/>
                        </a:lnTo>
                        <a:lnTo>
                          <a:pt x="0" y="1696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693480" y="5942160"/>
                    <a:ext cx="4392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019">
                        <a:moveTo>
                          <a:pt x="0" y="0"/>
                        </a:moveTo>
                        <a:lnTo>
                          <a:pt x="130" y="96"/>
                        </a:lnTo>
                        <a:lnTo>
                          <a:pt x="130" y="1019"/>
                        </a:lnTo>
                        <a:lnTo>
                          <a:pt x="0" y="9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693480" y="5700600"/>
                    <a:ext cx="58032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8" h="872">
                        <a:moveTo>
                          <a:pt x="0" y="776"/>
                        </a:moveTo>
                        <a:lnTo>
                          <a:pt x="131" y="872"/>
                        </a:lnTo>
                        <a:lnTo>
                          <a:pt x="1688" y="99"/>
                        </a:lnTo>
                        <a:lnTo>
                          <a:pt x="1563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6750000" y="5737680"/>
                  <a:ext cx="579240" cy="559440"/>
                  <a:chOff x="6750000" y="5737680"/>
                  <a:chExt cx="579240" cy="5594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6795000" y="5769360"/>
                    <a:ext cx="533880" cy="52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5" h="1695">
                        <a:moveTo>
                          <a:pt x="0" y="1695"/>
                        </a:moveTo>
                        <a:lnTo>
                          <a:pt x="0" y="770"/>
                        </a:lnTo>
                        <a:lnTo>
                          <a:pt x="1553" y="0"/>
                        </a:lnTo>
                        <a:lnTo>
                          <a:pt x="1555" y="866"/>
                        </a:lnTo>
                        <a:lnTo>
                          <a:pt x="0" y="1695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750000" y="5979600"/>
                    <a:ext cx="4500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1020">
                        <a:moveTo>
                          <a:pt x="1" y="0"/>
                        </a:moveTo>
                        <a:lnTo>
                          <a:pt x="131" y="95"/>
                        </a:lnTo>
                        <a:lnTo>
                          <a:pt x="131" y="1020"/>
                        </a:lnTo>
                        <a:lnTo>
                          <a:pt x="0" y="922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6750000" y="5737680"/>
                    <a:ext cx="57924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5" h="872">
                        <a:moveTo>
                          <a:pt x="0" y="776"/>
                        </a:moveTo>
                        <a:lnTo>
                          <a:pt x="132" y="872"/>
                        </a:lnTo>
                        <a:lnTo>
                          <a:pt x="1685" y="102"/>
                        </a:lnTo>
                        <a:lnTo>
                          <a:pt x="1554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6804720" y="5776920"/>
                  <a:ext cx="580320" cy="559080"/>
                  <a:chOff x="6804720" y="5776920"/>
                  <a:chExt cx="580320" cy="55908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6848640" y="5808600"/>
                    <a:ext cx="536040" cy="52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0" h="1696">
                        <a:moveTo>
                          <a:pt x="0" y="1696"/>
                        </a:moveTo>
                        <a:lnTo>
                          <a:pt x="0" y="773"/>
                        </a:lnTo>
                        <a:lnTo>
                          <a:pt x="1560" y="0"/>
                        </a:lnTo>
                        <a:lnTo>
                          <a:pt x="1558" y="869"/>
                        </a:lnTo>
                        <a:lnTo>
                          <a:pt x="0" y="1696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6804720" y="6018480"/>
                    <a:ext cx="4392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021">
                        <a:moveTo>
                          <a:pt x="0" y="0"/>
                        </a:moveTo>
                        <a:lnTo>
                          <a:pt x="129" y="98"/>
                        </a:lnTo>
                        <a:lnTo>
                          <a:pt x="129" y="1021"/>
                        </a:lnTo>
                        <a:lnTo>
                          <a:pt x="0" y="9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6804720" y="5776920"/>
                    <a:ext cx="58032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9" h="874">
                        <a:moveTo>
                          <a:pt x="0" y="776"/>
                        </a:moveTo>
                        <a:lnTo>
                          <a:pt x="131" y="874"/>
                        </a:lnTo>
                        <a:lnTo>
                          <a:pt x="1689" y="101"/>
                        </a:lnTo>
                        <a:lnTo>
                          <a:pt x="1564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6861240" y="5817240"/>
                  <a:ext cx="579600" cy="559440"/>
                  <a:chOff x="6861240" y="5817240"/>
                  <a:chExt cx="579600" cy="559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6906600" y="5850000"/>
                    <a:ext cx="534240" cy="52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53" h="1692">
                        <a:moveTo>
                          <a:pt x="0" y="1692"/>
                        </a:moveTo>
                        <a:lnTo>
                          <a:pt x="0" y="769"/>
                        </a:lnTo>
                        <a:lnTo>
                          <a:pt x="1553" y="0"/>
                        </a:lnTo>
                        <a:lnTo>
                          <a:pt x="1547" y="864"/>
                        </a:lnTo>
                        <a:lnTo>
                          <a:pt x="0" y="1692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861240" y="6058800"/>
                    <a:ext cx="4536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1020">
                        <a:moveTo>
                          <a:pt x="0" y="0"/>
                        </a:moveTo>
                        <a:lnTo>
                          <a:pt x="132" y="97"/>
                        </a:lnTo>
                        <a:lnTo>
                          <a:pt x="132" y="1020"/>
                        </a:lnTo>
                        <a:lnTo>
                          <a:pt x="1" y="9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861240" y="5817240"/>
                    <a:ext cx="57960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4" h="874">
                        <a:moveTo>
                          <a:pt x="0" y="777"/>
                        </a:moveTo>
                        <a:lnTo>
                          <a:pt x="132" y="874"/>
                        </a:lnTo>
                        <a:lnTo>
                          <a:pt x="1684" y="105"/>
                        </a:lnTo>
                        <a:lnTo>
                          <a:pt x="1555" y="0"/>
                        </a:lnTo>
                        <a:lnTo>
                          <a:pt x="0" y="777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6918840" y="5859360"/>
                  <a:ext cx="579600" cy="559080"/>
                  <a:chOff x="6918840" y="5859360"/>
                  <a:chExt cx="579600" cy="55908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6963120" y="5889960"/>
                    <a:ext cx="5349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59" h="1697">
                        <a:moveTo>
                          <a:pt x="0" y="1697"/>
                        </a:moveTo>
                        <a:lnTo>
                          <a:pt x="0" y="773"/>
                        </a:lnTo>
                        <a:lnTo>
                          <a:pt x="1559" y="0"/>
                        </a:lnTo>
                        <a:lnTo>
                          <a:pt x="1556" y="871"/>
                        </a:lnTo>
                        <a:lnTo>
                          <a:pt x="0" y="1697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6918840" y="6100920"/>
                    <a:ext cx="44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020">
                        <a:moveTo>
                          <a:pt x="0" y="0"/>
                        </a:moveTo>
                        <a:lnTo>
                          <a:pt x="129" y="96"/>
                        </a:lnTo>
                        <a:lnTo>
                          <a:pt x="129" y="1020"/>
                        </a:lnTo>
                        <a:lnTo>
                          <a:pt x="0" y="92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918840" y="5859360"/>
                    <a:ext cx="57960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8" h="872">
                        <a:moveTo>
                          <a:pt x="0" y="776"/>
                        </a:moveTo>
                        <a:lnTo>
                          <a:pt x="129" y="872"/>
                        </a:lnTo>
                        <a:lnTo>
                          <a:pt x="1688" y="99"/>
                        </a:lnTo>
                        <a:lnTo>
                          <a:pt x="1563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6975720" y="5899320"/>
                  <a:ext cx="578160" cy="559440"/>
                  <a:chOff x="6975720" y="5899320"/>
                  <a:chExt cx="578160" cy="55944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7019640" y="5931000"/>
                    <a:ext cx="533880" cy="52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5" h="1693">
                        <a:moveTo>
                          <a:pt x="0" y="1693"/>
                        </a:moveTo>
                        <a:lnTo>
                          <a:pt x="0" y="771"/>
                        </a:lnTo>
                        <a:lnTo>
                          <a:pt x="1555" y="0"/>
                        </a:lnTo>
                        <a:lnTo>
                          <a:pt x="1549" y="864"/>
                        </a:lnTo>
                        <a:lnTo>
                          <a:pt x="0" y="1693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6975720" y="6140880"/>
                    <a:ext cx="4392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019">
                        <a:moveTo>
                          <a:pt x="1" y="0"/>
                        </a:moveTo>
                        <a:lnTo>
                          <a:pt x="130" y="97"/>
                        </a:lnTo>
                        <a:lnTo>
                          <a:pt x="130" y="1019"/>
                        </a:lnTo>
                        <a:lnTo>
                          <a:pt x="0" y="92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6975720" y="5899320"/>
                    <a:ext cx="57816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5" h="874">
                        <a:moveTo>
                          <a:pt x="0" y="776"/>
                        </a:moveTo>
                        <a:lnTo>
                          <a:pt x="130" y="874"/>
                        </a:lnTo>
                        <a:lnTo>
                          <a:pt x="1685" y="103"/>
                        </a:lnTo>
                        <a:lnTo>
                          <a:pt x="1554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7034400" y="5938560"/>
                  <a:ext cx="580320" cy="558360"/>
                  <a:chOff x="7034400" y="5938560"/>
                  <a:chExt cx="580320" cy="5583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7078680" y="5969160"/>
                    <a:ext cx="534600" cy="52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7" h="1696">
                        <a:moveTo>
                          <a:pt x="0" y="1696"/>
                        </a:moveTo>
                        <a:lnTo>
                          <a:pt x="0" y="774"/>
                        </a:lnTo>
                        <a:lnTo>
                          <a:pt x="1557" y="0"/>
                        </a:lnTo>
                        <a:lnTo>
                          <a:pt x="1555" y="870"/>
                        </a:lnTo>
                        <a:lnTo>
                          <a:pt x="0" y="1696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7034400" y="6180120"/>
                    <a:ext cx="4428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019">
                        <a:moveTo>
                          <a:pt x="0" y="0"/>
                        </a:moveTo>
                        <a:lnTo>
                          <a:pt x="129" y="97"/>
                        </a:lnTo>
                        <a:lnTo>
                          <a:pt x="129" y="1019"/>
                        </a:lnTo>
                        <a:lnTo>
                          <a:pt x="0" y="9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7034400" y="5938560"/>
                    <a:ext cx="58032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0" h="876">
                        <a:moveTo>
                          <a:pt x="0" y="780"/>
                        </a:moveTo>
                        <a:lnTo>
                          <a:pt x="130" y="876"/>
                        </a:lnTo>
                        <a:lnTo>
                          <a:pt x="1690" y="100"/>
                        </a:lnTo>
                        <a:lnTo>
                          <a:pt x="1565" y="0"/>
                        </a:lnTo>
                        <a:lnTo>
                          <a:pt x="0" y="780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7090200" y="5978880"/>
                  <a:ext cx="579600" cy="558360"/>
                  <a:chOff x="7090200" y="5978880"/>
                  <a:chExt cx="579600" cy="55836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7135560" y="6010560"/>
                    <a:ext cx="534240" cy="52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54" h="1693">
                        <a:moveTo>
                          <a:pt x="0" y="1693"/>
                        </a:moveTo>
                        <a:lnTo>
                          <a:pt x="0" y="771"/>
                        </a:lnTo>
                        <a:lnTo>
                          <a:pt x="1554" y="0"/>
                        </a:lnTo>
                        <a:lnTo>
                          <a:pt x="1550" y="864"/>
                        </a:lnTo>
                        <a:lnTo>
                          <a:pt x="0" y="1693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7090200" y="6220440"/>
                    <a:ext cx="4536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017">
                        <a:moveTo>
                          <a:pt x="2" y="0"/>
                        </a:moveTo>
                        <a:lnTo>
                          <a:pt x="130" y="95"/>
                        </a:lnTo>
                        <a:lnTo>
                          <a:pt x="130" y="1017"/>
                        </a:lnTo>
                        <a:lnTo>
                          <a:pt x="0" y="92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7090200" y="5978880"/>
                    <a:ext cx="57960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4" h="873">
                        <a:moveTo>
                          <a:pt x="0" y="776"/>
                        </a:moveTo>
                        <a:lnTo>
                          <a:pt x="130" y="873"/>
                        </a:lnTo>
                        <a:lnTo>
                          <a:pt x="1684" y="102"/>
                        </a:lnTo>
                        <a:lnTo>
                          <a:pt x="1555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6" name=""/>
              <p:cNvGrpSpPr/>
              <p:nvPr/>
            </p:nvGrpSpPr>
            <p:grpSpPr>
              <a:xfrm>
                <a:off x="7333560" y="6162840"/>
                <a:ext cx="172800" cy="215640"/>
                <a:chOff x="7333560" y="6162840"/>
                <a:chExt cx="172800" cy="21564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7333560" y="6162840"/>
                  <a:ext cx="172800" cy="215640"/>
                  <a:chOff x="7333560" y="6162840"/>
                  <a:chExt cx="172800" cy="2156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7333560" y="6162840"/>
                    <a:ext cx="165960" cy="209160"/>
                  </a:xfrm>
                  <a:prstGeom prst="ellipse">
                    <a:avLst/>
                  </a:prstGeom>
                  <a:solidFill>
                    <a:srgbClr val="000000">
                      <a:alpha val="50000"/>
                    </a:srgbClr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7339320" y="6169320"/>
                    <a:ext cx="167040" cy="209160"/>
                  </a:xfrm>
                  <a:prstGeom prst="ellipse">
                    <a:avLst/>
                  </a:pr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7407360" y="6211080"/>
                  <a:ext cx="22680" cy="116640"/>
                </a:xfrm>
                <a:custGeom>
                  <a:avLst/>
                  <a:gdLst/>
                  <a:ahLst/>
                  <a:rect l="l" t="t" r="r" b="b"/>
                  <a:pathLst>
                    <a:path w="65" h="375">
                      <a:moveTo>
                        <a:pt x="0" y="24"/>
                      </a:moveTo>
                      <a:lnTo>
                        <a:pt x="65" y="0"/>
                      </a:lnTo>
                      <a:lnTo>
                        <a:pt x="65" y="350"/>
                      </a:lnTo>
                      <a:lnTo>
                        <a:pt x="0" y="375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404040">
                    <a:alpha val="50000"/>
                  </a:srgbClr>
                </a:solidFill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"/>
            <p:cNvGrpSpPr/>
            <p:nvPr/>
          </p:nvGrpSpPr>
          <p:grpSpPr>
            <a:xfrm>
              <a:off x="7418520" y="6159960"/>
              <a:ext cx="873720" cy="306360"/>
              <a:chOff x="7418520" y="6159960"/>
              <a:chExt cx="873720" cy="306360"/>
            </a:xfrm>
          </p:grpSpPr>
          <p:sp>
            <p:nvSpPr>
              <p:cNvPr id="302" name=""/>
              <p:cNvSpPr/>
              <p:nvPr/>
            </p:nvSpPr>
            <p:spPr>
              <a:xfrm>
                <a:off x="7582320" y="6277320"/>
                <a:ext cx="101880" cy="34200"/>
              </a:xfrm>
              <a:custGeom>
                <a:avLst/>
                <a:gdLst/>
                <a:ahLst/>
                <a:rect l="l" t="t" r="r" b="b"/>
                <a:pathLst>
                  <a:path w="298" h="110">
                    <a:moveTo>
                      <a:pt x="0" y="110"/>
                    </a:moveTo>
                    <a:lnTo>
                      <a:pt x="15" y="76"/>
                    </a:lnTo>
                    <a:lnTo>
                      <a:pt x="42" y="45"/>
                    </a:lnTo>
                    <a:lnTo>
                      <a:pt x="80" y="20"/>
                    </a:lnTo>
                    <a:lnTo>
                      <a:pt x="115" y="6"/>
                    </a:lnTo>
                    <a:lnTo>
                      <a:pt x="160" y="0"/>
                    </a:lnTo>
                    <a:lnTo>
                      <a:pt x="202" y="2"/>
                    </a:lnTo>
                    <a:lnTo>
                      <a:pt x="247" y="16"/>
                    </a:lnTo>
                    <a:lnTo>
                      <a:pt x="272" y="28"/>
                    </a:lnTo>
                    <a:lnTo>
                      <a:pt x="298" y="47"/>
                    </a:lnTo>
                  </a:path>
                </a:pathLst>
              </a:custGeom>
              <a:noFill/>
              <a:ln w="237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7418520" y="6171120"/>
                <a:ext cx="222480" cy="295200"/>
                <a:chOff x="7418520" y="6171120"/>
                <a:chExt cx="222480" cy="295200"/>
              </a:xfrm>
            </p:grpSpPr>
            <p:grpSp>
              <p:nvGrpSpPr>
                <p:cNvPr id="304" name=""/>
                <p:cNvGrpSpPr/>
                <p:nvPr/>
              </p:nvGrpSpPr>
              <p:grpSpPr>
                <a:xfrm>
                  <a:off x="7418520" y="6217560"/>
                  <a:ext cx="192600" cy="210600"/>
                  <a:chOff x="7418520" y="6217560"/>
                  <a:chExt cx="192600" cy="21060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7418520" y="6221880"/>
                    <a:ext cx="17820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662">
                        <a:moveTo>
                          <a:pt x="0" y="0"/>
                        </a:moveTo>
                        <a:lnTo>
                          <a:pt x="0" y="309"/>
                        </a:lnTo>
                        <a:lnTo>
                          <a:pt x="520" y="662"/>
                        </a:lnTo>
                        <a:lnTo>
                          <a:pt x="520" y="3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418520" y="6217560"/>
                    <a:ext cx="19260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561" h="376">
                        <a:moveTo>
                          <a:pt x="0" y="18"/>
                        </a:moveTo>
                        <a:lnTo>
                          <a:pt x="519" y="376"/>
                        </a:lnTo>
                        <a:lnTo>
                          <a:pt x="561" y="359"/>
                        </a:lnTo>
                        <a:lnTo>
                          <a:pt x="40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ffff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7595640" y="6328440"/>
                    <a:ext cx="1440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19">
                        <a:moveTo>
                          <a:pt x="0" y="18"/>
                        </a:moveTo>
                        <a:lnTo>
                          <a:pt x="43" y="0"/>
                        </a:lnTo>
                        <a:lnTo>
                          <a:pt x="43" y="305"/>
                        </a:lnTo>
                        <a:lnTo>
                          <a:pt x="0" y="319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606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7459560" y="6171120"/>
                  <a:ext cx="181440" cy="295200"/>
                  <a:chOff x="7459560" y="6171120"/>
                  <a:chExt cx="181440" cy="2952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7472880" y="6171120"/>
                    <a:ext cx="168120" cy="290160"/>
                  </a:xfrm>
                  <a:prstGeom prst="ellipse">
                    <a:avLst/>
                  </a:prstGeom>
                  <a:solidFill>
                    <a:srgbClr val="ffff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7459560" y="6177240"/>
                    <a:ext cx="167040" cy="289080"/>
                  </a:xfrm>
                  <a:prstGeom prst="ellipse">
                    <a:avLst/>
                  </a:prstGeom>
                  <a:solidFill>
                    <a:srgbClr val="a0a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555320" y="6308280"/>
                    <a:ext cx="44280" cy="62280"/>
                  </a:xfrm>
                  <a:prstGeom prst="ellipse">
                    <a:avLst/>
                  </a:prstGeom>
                  <a:solidFill>
                    <a:srgbClr val="e0e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7566840" y="6311880"/>
                    <a:ext cx="32760" cy="49320"/>
                  </a:xfrm>
                  <a:prstGeom prst="ellipse">
                    <a:avLst/>
                  </a:prstGeom>
                  <a:solidFill>
                    <a:srgbClr val="60606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3" name=""/>
              <p:cNvGrpSpPr/>
              <p:nvPr/>
            </p:nvGrpSpPr>
            <p:grpSpPr>
              <a:xfrm>
                <a:off x="7650360" y="6159960"/>
                <a:ext cx="641880" cy="304560"/>
                <a:chOff x="7650360" y="6159960"/>
                <a:chExt cx="641880" cy="3045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7650360" y="6159960"/>
                  <a:ext cx="241920" cy="304560"/>
                  <a:chOff x="7650360" y="6159960"/>
                  <a:chExt cx="241920" cy="30456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7650360" y="6178320"/>
                    <a:ext cx="241920" cy="286200"/>
                  </a:xfrm>
                  <a:prstGeom prst="ellipse">
                    <a:avLst/>
                  </a:prstGeom>
                  <a:solidFill>
                    <a:srgbClr val="606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650360" y="6159960"/>
                    <a:ext cx="241920" cy="286200"/>
                  </a:xfrm>
                  <a:prstGeom prst="ellipse">
                    <a:avLst/>
                  </a:prstGeom>
                  <a:solidFill>
                    <a:srgbClr val="ffff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7660440" y="6172560"/>
                    <a:ext cx="221400" cy="271440"/>
                  </a:xfrm>
                  <a:prstGeom prst="ellipse">
                    <a:avLst/>
                  </a:prstGeom>
                  <a:solidFill>
                    <a:srgbClr val="a0a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7670880" y="6270480"/>
                    <a:ext cx="57600" cy="78480"/>
                    <a:chOff x="7670880" y="6270480"/>
                    <a:chExt cx="57600" cy="7848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7670880" y="6270480"/>
                      <a:ext cx="57600" cy="78480"/>
                    </a:xfrm>
                    <a:prstGeom prst="ellipse">
                      <a:avLst/>
                    </a:prstGeom>
                    <a:solidFill>
                      <a:srgbClr val="ffff00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7676640" y="6287400"/>
                      <a:ext cx="45000" cy="61560"/>
                    </a:xfrm>
                    <a:prstGeom prst="ellipse">
                      <a:avLst/>
                    </a:prstGeom>
                    <a:solidFill>
                      <a:srgbClr val="606060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7872840" y="6253920"/>
                  <a:ext cx="419400" cy="116280"/>
                  <a:chOff x="7872840" y="6253920"/>
                  <a:chExt cx="419400" cy="11628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7872840" y="6270480"/>
                    <a:ext cx="4194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20" h="322">
                        <a:moveTo>
                          <a:pt x="0" y="0"/>
                        </a:moveTo>
                        <a:lnTo>
                          <a:pt x="1220" y="107"/>
                        </a:lnTo>
                        <a:lnTo>
                          <a:pt x="1220" y="162"/>
                        </a:lnTo>
                        <a:lnTo>
                          <a:pt x="1140" y="322"/>
                        </a:lnTo>
                        <a:lnTo>
                          <a:pt x="977" y="322"/>
                        </a:lnTo>
                        <a:lnTo>
                          <a:pt x="977" y="243"/>
                        </a:lnTo>
                        <a:lnTo>
                          <a:pt x="895" y="243"/>
                        </a:lnTo>
                        <a:lnTo>
                          <a:pt x="895" y="322"/>
                        </a:lnTo>
                        <a:lnTo>
                          <a:pt x="815" y="322"/>
                        </a:lnTo>
                        <a:lnTo>
                          <a:pt x="815" y="243"/>
                        </a:lnTo>
                        <a:lnTo>
                          <a:pt x="652" y="243"/>
                        </a:lnTo>
                        <a:lnTo>
                          <a:pt x="652" y="322"/>
                        </a:lnTo>
                        <a:lnTo>
                          <a:pt x="570" y="322"/>
                        </a:lnTo>
                        <a:lnTo>
                          <a:pt x="488" y="243"/>
                        </a:lnTo>
                        <a:lnTo>
                          <a:pt x="407" y="322"/>
                        </a:lnTo>
                        <a:lnTo>
                          <a:pt x="325" y="243"/>
                        </a:lnTo>
                        <a:lnTo>
                          <a:pt x="325" y="322"/>
                        </a:lnTo>
                        <a:lnTo>
                          <a:pt x="244" y="322"/>
                        </a:lnTo>
                        <a:lnTo>
                          <a:pt x="244" y="243"/>
                        </a:lnTo>
                        <a:lnTo>
                          <a:pt x="163" y="243"/>
                        </a:lnTo>
                        <a:lnTo>
                          <a:pt x="80" y="322"/>
                        </a:lnTo>
                        <a:lnTo>
                          <a:pt x="0" y="32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7872840" y="6253920"/>
                    <a:ext cx="4194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20" h="321">
                        <a:moveTo>
                          <a:pt x="0" y="0"/>
                        </a:moveTo>
                        <a:lnTo>
                          <a:pt x="1140" y="0"/>
                        </a:lnTo>
                        <a:lnTo>
                          <a:pt x="1220" y="159"/>
                        </a:lnTo>
                        <a:lnTo>
                          <a:pt x="1140" y="321"/>
                        </a:lnTo>
                        <a:lnTo>
                          <a:pt x="977" y="321"/>
                        </a:lnTo>
                        <a:lnTo>
                          <a:pt x="977" y="241"/>
                        </a:lnTo>
                        <a:lnTo>
                          <a:pt x="895" y="241"/>
                        </a:lnTo>
                        <a:lnTo>
                          <a:pt x="895" y="321"/>
                        </a:lnTo>
                        <a:lnTo>
                          <a:pt x="815" y="321"/>
                        </a:lnTo>
                        <a:lnTo>
                          <a:pt x="815" y="241"/>
                        </a:lnTo>
                        <a:lnTo>
                          <a:pt x="652" y="241"/>
                        </a:lnTo>
                        <a:lnTo>
                          <a:pt x="652" y="321"/>
                        </a:lnTo>
                        <a:lnTo>
                          <a:pt x="570" y="321"/>
                        </a:lnTo>
                        <a:lnTo>
                          <a:pt x="488" y="241"/>
                        </a:lnTo>
                        <a:lnTo>
                          <a:pt x="407" y="321"/>
                        </a:lnTo>
                        <a:lnTo>
                          <a:pt x="325" y="241"/>
                        </a:lnTo>
                        <a:lnTo>
                          <a:pt x="325" y="321"/>
                        </a:lnTo>
                        <a:lnTo>
                          <a:pt x="244" y="321"/>
                        </a:lnTo>
                        <a:lnTo>
                          <a:pt x="244" y="241"/>
                        </a:lnTo>
                        <a:lnTo>
                          <a:pt x="163" y="241"/>
                        </a:lnTo>
                        <a:lnTo>
                          <a:pt x="80" y="321"/>
                        </a:lnTo>
                        <a:lnTo>
                          <a:pt x="0" y="3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7908840" y="6278760"/>
                    <a:ext cx="3830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7" h="82">
                        <a:moveTo>
                          <a:pt x="0" y="0"/>
                        </a:moveTo>
                        <a:lnTo>
                          <a:pt x="1079" y="0"/>
                        </a:lnTo>
                        <a:lnTo>
                          <a:pt x="1117" y="82"/>
                        </a:lnTo>
                        <a:lnTo>
                          <a:pt x="0" y="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7914960" y="6320880"/>
                    <a:ext cx="361440" cy="4320"/>
                  </a:xfrm>
                  <a:prstGeom prst="rect">
                    <a:avLst/>
                  </a:prstGeom>
                  <a:solidFill>
                    <a:srgbClr val="808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7902720" y="6258240"/>
                    <a:ext cx="361440" cy="4320"/>
                  </a:xfrm>
                  <a:prstGeom prst="rect">
                    <a:avLst/>
                  </a:prstGeom>
                  <a:solidFill>
                    <a:srgbClr val="808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7" name=""/>
              <p:cNvSpPr/>
              <p:nvPr/>
            </p:nvSpPr>
            <p:spPr>
              <a:xfrm>
                <a:off x="7583040" y="6296760"/>
                <a:ext cx="114480" cy="55800"/>
              </a:xfrm>
              <a:custGeom>
                <a:avLst/>
                <a:gdLst/>
                <a:ahLst/>
                <a:rect l="l" t="t" r="r" b="b"/>
                <a:pathLst>
                  <a:path w="333" h="182">
                    <a:moveTo>
                      <a:pt x="0" y="65"/>
                    </a:moveTo>
                    <a:lnTo>
                      <a:pt x="8" y="103"/>
                    </a:lnTo>
                    <a:lnTo>
                      <a:pt x="36" y="140"/>
                    </a:lnTo>
                    <a:lnTo>
                      <a:pt x="76" y="165"/>
                    </a:lnTo>
                    <a:lnTo>
                      <a:pt x="134" y="182"/>
                    </a:lnTo>
                    <a:lnTo>
                      <a:pt x="193" y="182"/>
                    </a:lnTo>
                    <a:lnTo>
                      <a:pt x="250" y="169"/>
                    </a:lnTo>
                    <a:lnTo>
                      <a:pt x="295" y="140"/>
                    </a:lnTo>
                    <a:lnTo>
                      <a:pt x="323" y="99"/>
                    </a:lnTo>
                    <a:lnTo>
                      <a:pt x="333" y="56"/>
                    </a:lnTo>
                    <a:lnTo>
                      <a:pt x="326" y="26"/>
                    </a:lnTo>
                    <a:lnTo>
                      <a:pt x="311" y="0"/>
                    </a:lnTo>
                  </a:path>
                </a:pathLst>
              </a:custGeom>
              <a:noFill/>
              <a:ln w="237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2D7FA-96F5-4B6B-AC4F-779C3111F8B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792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análise Diferen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de-se dizer que esta técnica foi "redescoberta" por Shamir e Biham (1990), era conhecida em 1974 pelos pesquisadores que elaboraram o algoritmo do D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motivo pelo qual este conhecimento fora mantido por quase vinte anos em segredo foi (segundo um dos membros da equipe que projetou o DES) de segurança nacional dos Estados Unid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método utilizado por Biham e Shamir baseia-se em ataque por mensagens escolhidas, as quais são tomadas aos pares e cuja diferença entre os respectivos criptogramas é analisada. O método pode ser estendido para ataque de mensagens conhecida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C0AA8-206F-4210-A460-CC0F96C494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92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análise Diferen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ntende-se por "diferença" a operação de "ou exclusivo" entre dois n-gramas. O uso da palavra "diferença" com a significação enunciada aplica-se, em especial, ao estudo de cifradores de bloco como o DES e similar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criptoanálise é realizada sobre pares de criptogramas cifrados com a mesma chave e cujos textos em claro correspondentes possuem um certo valor particular de diferença. O efeito desta diferença é analisado através das n iterações do algoritmo resultando em parâmetros que permitem inferir possíveis valores da chave utilizada no processo de criptografi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FED03-8262-4A9E-940C-2D21CDD876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análise Diferen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de ser usada para atacar qualquer cifra de blo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unciona a partir de um par de blocos de texto simples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laintex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 que diferem apenas por um pequeno número de bits e pela observação cuidadosa do que acontece em cada iteração interna à medida que a codificação prosseg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 muitos casos, alguns padrões de bits são mais comuns que outros, e essa observação leva a um ataque probabilíst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DEE10-4FFE-4FDF-8D52-6068647D14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análise Lin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presentada em 1993 no Eurocrypt's93 por Mitsuru Matsui e formalizada por Eli Biham em 1994. Por ocasião da primeira publicação, seus autores focaram o estudo na criptoanálise do D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técnica de criptoanálise linear é basicamente um ataque de mensagem conhecida. O propósito do método é obter uma expressão linear aproximada de um dado algoritmo criptográfic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uda as relações estatísticas entre os bits de uma mensagem, os bits das cifras correspondentes e da chave utilizada na criptografia. Estas relações são usadas para predizer valores dos bits da chave quando muitas mensagens e os respectivos criptogramas são conhecid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5AD76-5A59-4EEE-95B9-D79C139016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análise Lin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ra alcançar o objetivo, Matsui elaborou um modelo estatístico linear relacionando entradas e saídas das S box do DES, que em seguida é estendido para todo o algoritmo obtendo uma expressão linear não dependente de valores intermediári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vez que todas as operações no DES são lineares, exceto as efetuadas com as S box, o que se deve fazer para obter uma aproximação linear do algoritmo é obter uma tal aproximação para as S box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0876A-839C-4345-8BCE-C690AB94CC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análise Lin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 for calculado o "XOR" de um conjunto de bits de uma mensagem, o "XOR" de um conjunto de bits do criptograma e então calcular o "XOR" do resultado, será obtido um bit o qual é o resultado do "XOR" de um conjunto de bits da chav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ra inferir-se bits da chave são utilizadas mensagens conhecidas e respectivos criptogramas em uma amostragem suficientemente grande. Quanto mais dados são analisados, mais confiável serão as suposições relativas à chave.</a:t>
            </a:r>
            <a:r>
              <a:rPr b="0" lang="pt-BR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1AB21-4664-49BF-ACE8-5022980B8C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0:28:21Z</dcterms:created>
  <dc:creator>Paqtc-pb</dc:creator>
  <dc:description/>
  <dc:language>en-US</dc:language>
  <cp:lastModifiedBy>joseana</cp:lastModifiedBy>
  <dcterms:modified xsi:type="dcterms:W3CDTF">2005-04-02T00:16:26Z</dcterms:modified>
  <cp:revision>876</cp:revision>
  <dc:subject/>
  <dc:title>Segurança da Informação</dc:title>
</cp:coreProperties>
</file>