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7EC2-E492-4809-9554-AC9E38918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4917-21DB-4B91-9644-55EE324EC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5BF4-F161-4FD0-97C1-EDDBEB8F7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D4C8-6776-4797-A3F8-B30D40A35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7245-0149-44B9-A4F7-E9347382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7AF05-0FC8-4AB6-9961-DB15B487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15971-9408-422A-B613-CDAE6488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61914-F6B7-4AD7-9DC9-B018C90A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1F4F7-E912-41B3-9744-B0E5F93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4136B-3C12-40E6-AB25-E3A61BFD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8BF8E-905C-441A-9458-7209E200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2B8F-0003-4365-9D42-347315828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6479E-B1A2-4888-9F74-35CADBC1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C632C-2A7B-4B85-B1A7-92A8C3A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56D56-ED06-41AA-8865-CD3ED354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4234A-4663-4D40-8912-E07349C6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DE905-36A8-4BCC-870F-929E0248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E1A9-5616-444B-B1C6-269BF7B35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F320-0D55-45EC-B512-2E3535B88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A31B-438F-4254-B21B-5C5BE68A8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74F2-5431-4E0A-A6F0-7FB9F2DB7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868D-1B6F-48F6-9208-F71A371DF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CA8A-C121-46EA-9761-ADD1FDA12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8AA4-5D27-4B7E-8DDC-927E7CD84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A45-1E7E-4BC6-83BD-9B77051DAF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26B1-4162-4DDE-BD89-553A456EDD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5640" y="212256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omendação ITU-T, a especificaçã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X.509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fine o relacionamento entre as autoridades de certificaçã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z parte das séries X.500 de recomendações para uma estrutura de diretório global, baseada em nomes distintos para localizaçã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do pelo S/MIME, IPSec, SSL/TLS e 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ado 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m chave pública (RSA) e assinatura digital (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hash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8533-D088-41F7-B0BC-CC56817976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ormato X.5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2128680"/>
            <a:ext cx="7991640" cy="439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C1B6-A18E-40E6-ABD2-CE3BB9D46F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recomendação X.509 do ITU-T descreve dois níveis de autenticaçã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utenticação simpl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- usa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passwor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ara verificação de uma identida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utenticação for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- envolve credenciais consolidadas por técnicas criptográf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O segundo modelo utiliza uma estrutura de serviços controlados por um paradigma central chamado Diretó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retório  - implementado por um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Autoridade Certificador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CA) que emite certificados para que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assinan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Clientes da CA) possam ser verificados por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suári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público em gera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85CB-1466-4C1B-B242-C49C799C21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tidades reconhecidas pelo X.509 para procedimentos de certificaçã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n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utra ent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autoridade de denominação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rmalmente não é visível, mas define qual o plano de nomes utilizado pela CA. A NA pode coexistir em um servidor com uma CA mas as funções são completamente diferentes. Um certificado de uma CA usa um nome como referência, cuja criação é atribuição da N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535E-677D-45C9-9930-E95B2589CC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4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me genérico de qualquer entidade que controla serviços de autenticação e administra certifica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bém conhecida como emitent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su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e pode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úbli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um banco que emite certificados para permitir a seus clientes o acesso a suas contas correntes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omer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um provedor de serviços que comercializa certificados para outras entidades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rivad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uma empresa que emite certificados para seus funcionários exerçam as suas atividades) ou pesso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 costumam ser independentes mesmo quando operam em um mesmo paí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1584-919B-44D5-AF04-9BD9EC0BFF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1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ções técnicas e legais entre CAs, assinantes e usuários - reguladas por um documento chama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claração de Práticas de Certificação (DP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mitido e definido internamente por cada CA para especificar limites da abrangência de sua responsabilida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Cs - não fazem parte do escopo da X.509, embora esta recomendação especifique alguns itens que devem constar nas mes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4ED9-2AE6-4EBB-82FD-9684760E99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835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in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idade que fornece as informações que devem constar em seu próprio certificado, assinado por uma C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acordo com o que está definido na DPC, as informações fornecidas pelo assinante devem ser endossadas pelo emite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lmente o “endosso” é sem recurso - a CA copia os dados fornecidos pelo assinante em seu certificado sem agregar qualquer tipo de confirmação e não existem garantias que as informações são reai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A pode instituir diversos tipos de certificados em que a diferença é caracterizada pelo seu empenho em confirmar as informações que estes contê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D6CD-BEBA-4D35-845E-AC4EF572D9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4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uá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quer entidade que utiliza os certificados emitidos por uma CA para obter informações de um assina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usuários podem utilizar qualquer CA ou qualquer número de CAs dependendo da sua localização e facilidade de acess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usuário é o ponto central de decisão em todos as etapas do processo porque é a entidade que “banca” os ris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EE7B-CB56-4714-972F-9FC1CFAC5A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recomendação X.509 (versão 3) define um certificado com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have pública de um usuário acompanhada de alguma informação adicional, criptografada com a chave privada da autoridade certificadora que o emitiu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recomendação tem várias questões em aberto relacionadas com o conteúdo dos certificados e as suas condições de emissão e revog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2959-CC7B-4B39-A722-33A081BE6C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X.509 especifica que o certificado determina a associação entre o nome (DN) e a chave pública do usuá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Segundo a X.509, “A autenticação pressupõe que cada usuário tenha um nome distinto único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mo os DNs são determinad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São realmente únic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Um mesmo usuário pode ter DNs distintos em CAs diferentes ou um mesmo DN em múltiplas 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7E4D-A35F-4301-B792-7A9133461C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580000" y="3429000"/>
            <a:ext cx="2538360" cy="2657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57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formações Adicio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X.509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2383-0649-4155-975F-FF5813B8E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O X.509 é controverso em relação ao procedimento de validação dos dados incluídos em um certificado (com exceção do procedimento de validação da chave pública que é sugerido, não impost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e acordo com a X.509, “Uma autoridade  certificadora deve confirmar a identidade de um usuário antes de emitir um certificado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9C00-E520-44B5-A632-05A6003ACA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ações  para Aumentar a Privacidade e Segurança com Certificados X.5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ertificados não dispõem de uma aura mágica de segurança só porque são assinados digital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assinatura, o conteúdo, a validade ou toda a cadeia de certificação pode estar comprometida como resultado de uma fraude, de uma falha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u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 ou de uma revogaçã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29E7-9348-479F-9E35-165A38E801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4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cisões sobre Credibilidade Retiradas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lguns fornecedores de servidores utilizam certificados de CAs pré-determinadas e obrigam os usuários a aceitarem uma assinatura vinculada ao software cl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procedimento contraria a premissa de que o usuário deve ser o centro das decisões em todas as etapas do processo porque é quem “banca” os ris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27A3-2E2E-41CC-81AB-C1F7320E03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edibilidade Automá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dimento de decidir pelo usuário as questões relativas à confiabilidade em uma conex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rows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u client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-mai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rmazena certificados no computador junto com certificados que o próprio usuário armazenou e conf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D84F-7E9B-4FCE-957F-12E4194C85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egistro de Certifi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ertificados armazenados sem autorização  ficam órfãos quando a mensagem é excluí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usuário não tem como conectar o certificado com a sua origem, criando um certificado “virgem”, que nunca foi e nunca vai ser utiliz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certificado é armazenado no equipamento do usuário e ativado como credencial de credibilidade por toda a sua vida út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034C-B22E-49F9-99E3-4884D88A8F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feito Dominó de Certificados Expir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período de validade de um certificado de cliente ou servidor não pode exceder o período de validade da CA que o ass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do o certificado de uma CA expira, cria um efeito dominó sobre todos os certificados assinados por e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o certificado da CA está expirado, a sua chave privada pode estar comprometida e qualquer certificado assinado por ela pode ser fals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19E7-758D-4E80-A935-82688F5CB1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ida Útil dos Certific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 os recursos disponíveis atualmente, a vida útil de um certificado deveria ser bem menor que o período de um ano normalmente oferecido pelas 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esforço e custo para comprometer um certificado são absurdos (?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modelo matemático propõe que a vida útil de um certificado deve ser inversamente proporcional à soma dos inversos da vida útil de cada atribu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A8BC-0A44-49F1-A498-C80B9EFBE8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have pública de uma Autoridade Certificadora - é um alvo natural para tentativas de comprometimento (por esta razão as CAs usam chaves extensas e adotam procedimentos regulares de troc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s mais utilizadas - são uma exceção a esta reg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s mais expostas - são as que têm o menor nível de prote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1C30-94E0-4389-8D97-9DB3FC6254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90960" y="2462040"/>
            <a:ext cx="3224160" cy="311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33880" y="3583080"/>
            <a:ext cx="965160" cy="876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59520" y="2887560"/>
            <a:ext cx="315720" cy="569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375000" y="3573360"/>
            <a:ext cx="433440" cy="693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475160" y="4846680"/>
            <a:ext cx="655560" cy="449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5320" y="29624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8880" y="52261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772080" y="3289320"/>
            <a:ext cx="1336320" cy="4874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97280" y="4241880"/>
            <a:ext cx="853920" cy="66996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87800" y="3573360"/>
            <a:ext cx="277920" cy="12178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91080" y="4336920"/>
            <a:ext cx="228600" cy="4543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844520" y="3432240"/>
            <a:ext cx="312840" cy="2617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66400" y="3787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0080" y="31687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re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03280" y="2565360"/>
            <a:ext cx="158904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i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03280" y="5013360"/>
            <a:ext cx="157500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2503440"/>
            <a:ext cx="1515960" cy="6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ir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5024520"/>
            <a:ext cx="151776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mazen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5932440"/>
            <a:ext cx="1334880" cy="52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l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2720" y="1628640"/>
            <a:ext cx="161460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v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196720" y="6199200"/>
            <a:ext cx="16239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209680" y="560340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209680" y="3211200"/>
            <a:ext cx="0" cy="175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196720" y="1892160"/>
            <a:ext cx="16239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211480" y="189504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448240" y="1895400"/>
            <a:ext cx="16257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101000" y="194436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10360" y="3209400"/>
            <a:ext cx="0" cy="175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iclo de Vida de um Certificad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A84A-3EC7-449D-8F48-E4F50E0DA1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90960" y="2462040"/>
            <a:ext cx="3224160" cy="311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133880" y="3583080"/>
            <a:ext cx="965160" cy="876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159520" y="2887560"/>
            <a:ext cx="315720" cy="569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375000" y="3573360"/>
            <a:ext cx="433440" cy="693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475160" y="4846680"/>
            <a:ext cx="655560" cy="449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95320" y="29624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68880" y="52261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72080" y="3289320"/>
            <a:ext cx="1336320" cy="4874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7280" y="4241880"/>
            <a:ext cx="853920" cy="66996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987800" y="3573360"/>
            <a:ext cx="277920" cy="12178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91080" y="4336920"/>
            <a:ext cx="228600" cy="4543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844520" y="3432240"/>
            <a:ext cx="312840" cy="2617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66400" y="3787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0080" y="31687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re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2565360"/>
            <a:ext cx="158904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i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5013360"/>
            <a:ext cx="157500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00720" y="2503440"/>
            <a:ext cx="1515960" cy="6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ir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00720" y="5024520"/>
            <a:ext cx="151776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mazen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5932440"/>
            <a:ext cx="1334880" cy="52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l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1628640"/>
            <a:ext cx="161460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v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196720" y="6199200"/>
            <a:ext cx="16239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560340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209680" y="3211200"/>
            <a:ext cx="0" cy="175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196720" y="1892160"/>
            <a:ext cx="16239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211480" y="189504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48240" y="1895400"/>
            <a:ext cx="16257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101000" y="194436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110360" y="3209400"/>
            <a:ext cx="0" cy="175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iclo de Vida de um Certificad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7DDE-7CD7-4AAD-B037-99942B1DE8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colo criado no MIT no final da década de 198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das formas de autenticação de usuários e serviços disponível a partir do Conectiva Linux 8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envolvido para fornecer autenticação poderosa em aplicações usuário/servidor, em que este funciona como a terceira parte no processo, oferendo autenticação ao usuár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ra denominação para o Servidor Kerber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ey Distribution Cen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KDC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5881680"/>
            <a:ext cx="7848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erberus (Kerberus para os gregos) -  cão com três cabeças que tem por missão proteger a entrada do inferno de Ha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2934-7E11-49D9-8B4A-EF3FEC0EC9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Kerberos - Visão G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769080" cy="444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8405-E9D9-4B7E-8F07-99FCA70356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protocolo fornece uma rede de segurança, regulando o acesso de usuário a serviços de re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 ambiente Kerberos, pelo menos um sistema executa o Servidor Kerberos. Este sistema precisa ser mantido seguro. O Servidor Kerberos, chamado de servidor confiável, fornece serviços de autenticação para provar que o usuário requisitante é genuín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administrador do sistema supõe que outros servidores na rede e todos clientes não são confiáveis. Para o protocolo Kerberos funcionar, todos sistemas que transmitem sobre o protocolo precisam confiar apenas no próprio Servidor Kerbe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A0B0-4992-4638-83B0-027EDCA80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74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ém de fornecer autenticação, o Kerberos pode oferecer outros serviços de segurança, como integridade e confidencialidade dos d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Kerberos usa chave privada de criptografia baseada no DES. Cada cliente e servidor tem uma chave DES privada. O protocolo Kerberos refere-se a estes clientes como principais. A senha do cliente mapeia a chave privada do clie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AB64-FD3C-4591-8AB9-2F7DFEEE34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184464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ngle sign-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 usuário só precisa fornecer a senha uma vez, normalmente no início da sessão. Depois disso a senha não precisa ser informada outra vez se algum serviço for acessado. Por exemplo, a senha não será mais pedida ao acessar a conta de correio eletrônic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nha criptografad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senha nunca trafega em texto claro pela re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utenticação centralizad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ma senha é usada para diversos serviços, todos consultam uma base de dados centralizada. O usuário não precisa memorizar várias senhas e uma política de senhas global pode ser facilmente criad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BE0F-B0F4-4393-968F-9A66FD10FB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dundânc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ervidores de autenticação secundários são previstos no protocol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últiplos domíni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ode ser criada uma estrutura hierarquizada de autenticação, de forma que usuários de um domínio possam se autenticar em outr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nfiguração do cliente facilitad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boa parte da configuração do cliente pode ser colocada no DNS, de modo que, em muitos casos, não é necessário alterar uma linha sequer na estação de trabalho para que ela comece a usar Kerber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adrã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Kerberos V é um padrão documentado e implementações diferentes que obedeçam ao mesmo padrão podem conversar entre s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1BA1-28C8-4DAD-A175-EB5993EDCF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Ticket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são usados para requisição de serviç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 confiá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e chaves criptográficas efe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ege contra Interceptação, Fabricação, Modificação e Interrupção de dados em trâns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rmalmente depende de autenticação por usuário/senh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F8D5-8F53-4017-9E84-F97123827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</cp:lastModifiedBy>
  <dcterms:modified xsi:type="dcterms:W3CDTF">2005-04-02T00:37:05Z</dcterms:modified>
  <cp:revision>924</cp:revision>
  <dc:subject/>
  <dc:title>Segurança da Informação</dc:title>
</cp:coreProperties>
</file>