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DAEDD-BA94-49B0-9A12-35FC155931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48CCA-3E3D-435C-AEA5-27B54636EB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7FF4A-9D7E-40F2-AF80-0991BBAC7F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C3404-FF59-4CD3-A8ED-1AE2C9D018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F723EC-5D4C-48CD-9AD9-F5938079A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44E919-58D0-4ACD-AC43-8E857D125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2C4376-1793-44EC-A0F9-F8CA3A85A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4059D7-8D85-434B-B808-BBB092CF4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18104F-53AD-47CF-9B23-F7589CFB7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FEF302-3CBD-4735-BF45-DDE35F25F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ABB8E5-864A-444A-ACD8-C63DFD46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7E487-BE4F-4E3B-920F-7A0A9148C9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D01B44-694C-4AF4-93CD-1C9FBF8F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6E71CB-EF86-4308-AA94-1BB98C0B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DE447A-6423-4A7C-9A75-3858B878F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63F9AE-BD91-4AE5-ACDE-715EDB5C6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B28455-A27D-4EC4-A7F0-E1E2DAC27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1D83A-7D43-46C1-93AE-5595187338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C35CE-15AC-410B-B644-E8A8BA9C7D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47AF0-B2FE-4D7E-AD40-15F67AA65C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76AA2-76F8-496A-9EDC-1289B64AC8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6F18D-1173-491F-A4B4-9B789F8E09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CD5C4-3527-4F9E-BD2B-839AA1ACD4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29A17-1786-4167-AAE3-21CEE34B37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4360" y="6356520"/>
            <a:ext cx="403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AE661-18B8-437D-8A7C-C8ACE762F2F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03280" y="1557360"/>
            <a:ext cx="727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843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EEE2B-6E4A-4AFF-BC1B-FD0DE3B4694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03280" y="2637000"/>
            <a:ext cx="727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032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66"/>
                </a:solidFill>
                <a:latin typeface="Impact"/>
              </a:rPr>
              <a:t>Segurança da Informação</a:t>
            </a:r>
            <a:endParaRPr b="0" lang="en-US" sz="40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619280" y="263664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Verdana"/>
              </a:rPr>
              <a:t>Curso de Especializaçã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906560" y="5734080"/>
            <a:ext cx="1224000" cy="9176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274920" y="6021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EFET-P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506920" y="5877000"/>
            <a:ext cx="792360" cy="763560"/>
            <a:chOff x="5506920" y="5877000"/>
            <a:chExt cx="792360" cy="763560"/>
          </a:xfrm>
        </p:grpSpPr>
        <p:sp>
          <p:nvSpPr>
            <p:cNvPr id="90" name=""/>
            <p:cNvSpPr/>
            <p:nvPr/>
          </p:nvSpPr>
          <p:spPr>
            <a:xfrm>
              <a:off x="5656320" y="5877000"/>
              <a:ext cx="492840" cy="632880"/>
            </a:xfrm>
            <a:custGeom>
              <a:avLst/>
              <a:gdLst/>
              <a:ahLst/>
              <a:rect l="l" t="t" r="r" b="b"/>
              <a:pathLst>
                <a:path w="2582" h="3502">
                  <a:moveTo>
                    <a:pt x="4" y="0"/>
                  </a:moveTo>
                  <a:cubicBezTo>
                    <a:pt x="482" y="7"/>
                    <a:pt x="2133" y="7"/>
                    <a:pt x="2582" y="7"/>
                  </a:cubicBezTo>
                  <a:cubicBezTo>
                    <a:pt x="2575" y="422"/>
                    <a:pt x="2569" y="868"/>
                    <a:pt x="2568" y="1152"/>
                  </a:cubicBezTo>
                  <a:cubicBezTo>
                    <a:pt x="2567" y="1436"/>
                    <a:pt x="2576" y="1538"/>
                    <a:pt x="2575" y="1714"/>
                  </a:cubicBezTo>
                  <a:cubicBezTo>
                    <a:pt x="2574" y="1890"/>
                    <a:pt x="2570" y="2085"/>
                    <a:pt x="2559" y="2211"/>
                  </a:cubicBezTo>
                  <a:cubicBezTo>
                    <a:pt x="2548" y="2337"/>
                    <a:pt x="2534" y="2399"/>
                    <a:pt x="2511" y="2469"/>
                  </a:cubicBezTo>
                  <a:cubicBezTo>
                    <a:pt x="2488" y="2539"/>
                    <a:pt x="2466" y="2570"/>
                    <a:pt x="2422" y="2629"/>
                  </a:cubicBezTo>
                  <a:cubicBezTo>
                    <a:pt x="2378" y="2688"/>
                    <a:pt x="2314" y="2758"/>
                    <a:pt x="2248" y="2821"/>
                  </a:cubicBezTo>
                  <a:cubicBezTo>
                    <a:pt x="2182" y="2884"/>
                    <a:pt x="2122" y="2937"/>
                    <a:pt x="2026" y="3010"/>
                  </a:cubicBezTo>
                  <a:cubicBezTo>
                    <a:pt x="1930" y="3083"/>
                    <a:pt x="1790" y="3180"/>
                    <a:pt x="1669" y="3262"/>
                  </a:cubicBezTo>
                  <a:cubicBezTo>
                    <a:pt x="1548" y="3344"/>
                    <a:pt x="1534" y="3349"/>
                    <a:pt x="1297" y="3502"/>
                  </a:cubicBezTo>
                  <a:cubicBezTo>
                    <a:pt x="1183" y="3436"/>
                    <a:pt x="1152" y="3416"/>
                    <a:pt x="1023" y="3330"/>
                  </a:cubicBezTo>
                  <a:cubicBezTo>
                    <a:pt x="937" y="3275"/>
                    <a:pt x="863" y="3228"/>
                    <a:pt x="778" y="3172"/>
                  </a:cubicBezTo>
                  <a:cubicBezTo>
                    <a:pt x="693" y="3116"/>
                    <a:pt x="582" y="3045"/>
                    <a:pt x="511" y="2992"/>
                  </a:cubicBezTo>
                  <a:cubicBezTo>
                    <a:pt x="440" y="2939"/>
                    <a:pt x="399" y="2899"/>
                    <a:pt x="352" y="2854"/>
                  </a:cubicBezTo>
                  <a:cubicBezTo>
                    <a:pt x="305" y="2809"/>
                    <a:pt x="272" y="2775"/>
                    <a:pt x="229" y="2719"/>
                  </a:cubicBezTo>
                  <a:cubicBezTo>
                    <a:pt x="186" y="2663"/>
                    <a:pt x="129" y="2584"/>
                    <a:pt x="96" y="2515"/>
                  </a:cubicBezTo>
                  <a:cubicBezTo>
                    <a:pt x="63" y="2446"/>
                    <a:pt x="43" y="2369"/>
                    <a:pt x="28" y="2302"/>
                  </a:cubicBezTo>
                  <a:cubicBezTo>
                    <a:pt x="13" y="2235"/>
                    <a:pt x="8" y="2177"/>
                    <a:pt x="4" y="2113"/>
                  </a:cubicBezTo>
                  <a:cubicBezTo>
                    <a:pt x="0" y="2049"/>
                    <a:pt x="4" y="2270"/>
                    <a:pt x="4" y="1918"/>
                  </a:cubicBezTo>
                  <a:cubicBezTo>
                    <a:pt x="4" y="1566"/>
                    <a:pt x="4" y="400"/>
                    <a:pt x="4" y="0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682960" y="6028920"/>
              <a:ext cx="439560" cy="452160"/>
            </a:xfrm>
            <a:custGeom>
              <a:avLst/>
              <a:gdLst/>
              <a:ahLst/>
              <a:rect l="l" t="t" r="r" b="b"/>
              <a:pathLst>
                <a:path w="2304" h="2501">
                  <a:moveTo>
                    <a:pt x="12" y="0"/>
                  </a:moveTo>
                  <a:cubicBezTo>
                    <a:pt x="436" y="5"/>
                    <a:pt x="1903" y="5"/>
                    <a:pt x="2302" y="5"/>
                  </a:cubicBezTo>
                  <a:cubicBezTo>
                    <a:pt x="2296" y="297"/>
                    <a:pt x="2304" y="599"/>
                    <a:pt x="2303" y="799"/>
                  </a:cubicBezTo>
                  <a:cubicBezTo>
                    <a:pt x="2302" y="1000"/>
                    <a:pt x="2300" y="1093"/>
                    <a:pt x="2294" y="1210"/>
                  </a:cubicBezTo>
                  <a:cubicBezTo>
                    <a:pt x="2288" y="1327"/>
                    <a:pt x="2287" y="1424"/>
                    <a:pt x="2270" y="1503"/>
                  </a:cubicBezTo>
                  <a:cubicBezTo>
                    <a:pt x="2253" y="1582"/>
                    <a:pt x="2230" y="1626"/>
                    <a:pt x="2194" y="1686"/>
                  </a:cubicBezTo>
                  <a:cubicBezTo>
                    <a:pt x="2158" y="1747"/>
                    <a:pt x="2125" y="1795"/>
                    <a:pt x="2054" y="1865"/>
                  </a:cubicBezTo>
                  <a:cubicBezTo>
                    <a:pt x="1983" y="1936"/>
                    <a:pt x="1865" y="2039"/>
                    <a:pt x="1770" y="2111"/>
                  </a:cubicBezTo>
                  <a:cubicBezTo>
                    <a:pt x="1675" y="2184"/>
                    <a:pt x="1589" y="2238"/>
                    <a:pt x="1486" y="2302"/>
                  </a:cubicBezTo>
                  <a:cubicBezTo>
                    <a:pt x="1383" y="2367"/>
                    <a:pt x="1482" y="2314"/>
                    <a:pt x="1150" y="2501"/>
                  </a:cubicBezTo>
                  <a:cubicBezTo>
                    <a:pt x="1049" y="2454"/>
                    <a:pt x="985" y="2408"/>
                    <a:pt x="910" y="2362"/>
                  </a:cubicBezTo>
                  <a:cubicBezTo>
                    <a:pt x="835" y="2316"/>
                    <a:pt x="762" y="2270"/>
                    <a:pt x="699" y="2230"/>
                  </a:cubicBezTo>
                  <a:cubicBezTo>
                    <a:pt x="636" y="2189"/>
                    <a:pt x="582" y="2152"/>
                    <a:pt x="532" y="2115"/>
                  </a:cubicBezTo>
                  <a:cubicBezTo>
                    <a:pt x="482" y="2079"/>
                    <a:pt x="439" y="2044"/>
                    <a:pt x="398" y="2008"/>
                  </a:cubicBezTo>
                  <a:cubicBezTo>
                    <a:pt x="357" y="1972"/>
                    <a:pt x="324" y="1940"/>
                    <a:pt x="286" y="1901"/>
                  </a:cubicBezTo>
                  <a:cubicBezTo>
                    <a:pt x="248" y="1862"/>
                    <a:pt x="206" y="1820"/>
                    <a:pt x="170" y="1774"/>
                  </a:cubicBezTo>
                  <a:cubicBezTo>
                    <a:pt x="134" y="1728"/>
                    <a:pt x="98" y="1676"/>
                    <a:pt x="72" y="1623"/>
                  </a:cubicBezTo>
                  <a:cubicBezTo>
                    <a:pt x="46" y="1570"/>
                    <a:pt x="26" y="1502"/>
                    <a:pt x="14" y="1457"/>
                  </a:cubicBezTo>
                  <a:cubicBezTo>
                    <a:pt x="2" y="1412"/>
                    <a:pt x="4" y="1387"/>
                    <a:pt x="2" y="1349"/>
                  </a:cubicBezTo>
                  <a:cubicBezTo>
                    <a:pt x="0" y="1311"/>
                    <a:pt x="0" y="1452"/>
                    <a:pt x="2" y="1227"/>
                  </a:cubicBezTo>
                  <a:cubicBezTo>
                    <a:pt x="4" y="1002"/>
                    <a:pt x="10" y="256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694120" y="6040080"/>
              <a:ext cx="417600" cy="426960"/>
            </a:xfrm>
            <a:custGeom>
              <a:avLst/>
              <a:gdLst/>
              <a:ahLst/>
              <a:rect l="l" t="t" r="r" b="b"/>
              <a:pathLst>
                <a:path w="2190" h="2364">
                  <a:moveTo>
                    <a:pt x="7" y="0"/>
                  </a:moveTo>
                  <a:cubicBezTo>
                    <a:pt x="411" y="5"/>
                    <a:pt x="1808" y="5"/>
                    <a:pt x="2188" y="5"/>
                  </a:cubicBezTo>
                  <a:cubicBezTo>
                    <a:pt x="2182" y="281"/>
                    <a:pt x="2190" y="566"/>
                    <a:pt x="2189" y="755"/>
                  </a:cubicBezTo>
                  <a:cubicBezTo>
                    <a:pt x="2188" y="945"/>
                    <a:pt x="2186" y="1033"/>
                    <a:pt x="2180" y="1144"/>
                  </a:cubicBezTo>
                  <a:cubicBezTo>
                    <a:pt x="2175" y="1254"/>
                    <a:pt x="2174" y="1346"/>
                    <a:pt x="2158" y="1421"/>
                  </a:cubicBezTo>
                  <a:cubicBezTo>
                    <a:pt x="2141" y="1495"/>
                    <a:pt x="2120" y="1537"/>
                    <a:pt x="2085" y="1594"/>
                  </a:cubicBezTo>
                  <a:cubicBezTo>
                    <a:pt x="2051" y="1651"/>
                    <a:pt x="2020" y="1697"/>
                    <a:pt x="1952" y="1763"/>
                  </a:cubicBezTo>
                  <a:cubicBezTo>
                    <a:pt x="1884" y="1830"/>
                    <a:pt x="1772" y="1927"/>
                    <a:pt x="1681" y="1995"/>
                  </a:cubicBezTo>
                  <a:cubicBezTo>
                    <a:pt x="1591" y="2064"/>
                    <a:pt x="1509" y="2115"/>
                    <a:pt x="1411" y="2176"/>
                  </a:cubicBezTo>
                  <a:cubicBezTo>
                    <a:pt x="1313" y="2237"/>
                    <a:pt x="1407" y="2187"/>
                    <a:pt x="1091" y="2364"/>
                  </a:cubicBezTo>
                  <a:cubicBezTo>
                    <a:pt x="995" y="2320"/>
                    <a:pt x="934" y="2276"/>
                    <a:pt x="862" y="2233"/>
                  </a:cubicBezTo>
                  <a:cubicBezTo>
                    <a:pt x="791" y="2189"/>
                    <a:pt x="722" y="2146"/>
                    <a:pt x="662" y="2108"/>
                  </a:cubicBezTo>
                  <a:cubicBezTo>
                    <a:pt x="602" y="2069"/>
                    <a:pt x="550" y="2034"/>
                    <a:pt x="502" y="1999"/>
                  </a:cubicBezTo>
                  <a:cubicBezTo>
                    <a:pt x="455" y="1965"/>
                    <a:pt x="414" y="1932"/>
                    <a:pt x="375" y="1898"/>
                  </a:cubicBezTo>
                  <a:cubicBezTo>
                    <a:pt x="336" y="1864"/>
                    <a:pt x="304" y="1834"/>
                    <a:pt x="268" y="1797"/>
                  </a:cubicBezTo>
                  <a:cubicBezTo>
                    <a:pt x="232" y="1760"/>
                    <a:pt x="194" y="1726"/>
                    <a:pt x="158" y="1677"/>
                  </a:cubicBezTo>
                  <a:cubicBezTo>
                    <a:pt x="122" y="1628"/>
                    <a:pt x="78" y="1554"/>
                    <a:pt x="54" y="1504"/>
                  </a:cubicBezTo>
                  <a:cubicBezTo>
                    <a:pt x="30" y="1454"/>
                    <a:pt x="21" y="1413"/>
                    <a:pt x="12" y="1374"/>
                  </a:cubicBezTo>
                  <a:cubicBezTo>
                    <a:pt x="3" y="1335"/>
                    <a:pt x="4" y="1305"/>
                    <a:pt x="2" y="1272"/>
                  </a:cubicBezTo>
                  <a:cubicBezTo>
                    <a:pt x="0" y="1239"/>
                    <a:pt x="1" y="1389"/>
                    <a:pt x="2" y="1177"/>
                  </a:cubicBezTo>
                  <a:cubicBezTo>
                    <a:pt x="3" y="965"/>
                    <a:pt x="6" y="245"/>
                    <a:pt x="7" y="0"/>
                  </a:cubicBezTo>
                  <a:close/>
                </a:path>
              </a:pathLst>
            </a:custGeom>
            <a:solidFill>
              <a:srgbClr val="36b4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722200" y="6228000"/>
              <a:ext cx="360720" cy="238680"/>
            </a:xfrm>
            <a:custGeom>
              <a:avLst/>
              <a:gdLst/>
              <a:ahLst/>
              <a:rect l="l" t="t" r="r" b="b"/>
              <a:pathLst>
                <a:path w="1894" h="1325">
                  <a:moveTo>
                    <a:pt x="1082" y="30"/>
                  </a:moveTo>
                  <a:cubicBezTo>
                    <a:pt x="1149" y="59"/>
                    <a:pt x="1239" y="123"/>
                    <a:pt x="1314" y="174"/>
                  </a:cubicBezTo>
                  <a:cubicBezTo>
                    <a:pt x="1389" y="225"/>
                    <a:pt x="1465" y="284"/>
                    <a:pt x="1533" y="336"/>
                  </a:cubicBezTo>
                  <a:cubicBezTo>
                    <a:pt x="1601" y="388"/>
                    <a:pt x="1659" y="440"/>
                    <a:pt x="1719" y="489"/>
                  </a:cubicBezTo>
                  <a:cubicBezTo>
                    <a:pt x="1779" y="538"/>
                    <a:pt x="1796" y="542"/>
                    <a:pt x="1894" y="632"/>
                  </a:cubicBezTo>
                  <a:cubicBezTo>
                    <a:pt x="1828" y="706"/>
                    <a:pt x="1651" y="867"/>
                    <a:pt x="1549" y="951"/>
                  </a:cubicBezTo>
                  <a:cubicBezTo>
                    <a:pt x="1447" y="1035"/>
                    <a:pt x="1379" y="1075"/>
                    <a:pt x="1280" y="1137"/>
                  </a:cubicBezTo>
                  <a:cubicBezTo>
                    <a:pt x="1182" y="1199"/>
                    <a:pt x="1276" y="1148"/>
                    <a:pt x="955" y="1325"/>
                  </a:cubicBezTo>
                  <a:cubicBezTo>
                    <a:pt x="858" y="1281"/>
                    <a:pt x="796" y="1237"/>
                    <a:pt x="722" y="1194"/>
                  </a:cubicBezTo>
                  <a:cubicBezTo>
                    <a:pt x="650" y="1150"/>
                    <a:pt x="578" y="1108"/>
                    <a:pt x="519" y="1069"/>
                  </a:cubicBezTo>
                  <a:cubicBezTo>
                    <a:pt x="460" y="1030"/>
                    <a:pt x="414" y="993"/>
                    <a:pt x="366" y="957"/>
                  </a:cubicBezTo>
                  <a:cubicBezTo>
                    <a:pt x="318" y="921"/>
                    <a:pt x="274" y="887"/>
                    <a:pt x="232" y="852"/>
                  </a:cubicBezTo>
                  <a:cubicBezTo>
                    <a:pt x="190" y="817"/>
                    <a:pt x="155" y="785"/>
                    <a:pt x="116" y="746"/>
                  </a:cubicBezTo>
                  <a:cubicBezTo>
                    <a:pt x="77" y="707"/>
                    <a:pt x="72" y="706"/>
                    <a:pt x="0" y="618"/>
                  </a:cubicBezTo>
                  <a:cubicBezTo>
                    <a:pt x="149" y="489"/>
                    <a:pt x="308" y="365"/>
                    <a:pt x="412" y="282"/>
                  </a:cubicBezTo>
                  <a:cubicBezTo>
                    <a:pt x="516" y="199"/>
                    <a:pt x="567" y="159"/>
                    <a:pt x="625" y="117"/>
                  </a:cubicBezTo>
                  <a:cubicBezTo>
                    <a:pt x="683" y="75"/>
                    <a:pt x="711" y="52"/>
                    <a:pt x="759" y="33"/>
                  </a:cubicBezTo>
                  <a:cubicBezTo>
                    <a:pt x="807" y="14"/>
                    <a:pt x="855" y="0"/>
                    <a:pt x="908" y="0"/>
                  </a:cubicBezTo>
                  <a:cubicBezTo>
                    <a:pt x="962" y="0"/>
                    <a:pt x="1015" y="1"/>
                    <a:pt x="1082" y="30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22200" y="6093360"/>
              <a:ext cx="361440" cy="248040"/>
            </a:xfrm>
            <a:custGeom>
              <a:avLst/>
              <a:gdLst/>
              <a:ahLst/>
              <a:rect l="l" t="t" r="r" b="b"/>
              <a:pathLst>
                <a:path w="1896" h="1374">
                  <a:moveTo>
                    <a:pt x="0" y="1364"/>
                  </a:moveTo>
                  <a:lnTo>
                    <a:pt x="202" y="1200"/>
                  </a:lnTo>
                  <a:lnTo>
                    <a:pt x="430" y="1010"/>
                  </a:lnTo>
                  <a:cubicBezTo>
                    <a:pt x="430" y="1010"/>
                    <a:pt x="604" y="874"/>
                    <a:pt x="604" y="874"/>
                  </a:cubicBezTo>
                  <a:cubicBezTo>
                    <a:pt x="604" y="874"/>
                    <a:pt x="695" y="806"/>
                    <a:pt x="735" y="785"/>
                  </a:cubicBezTo>
                  <a:cubicBezTo>
                    <a:pt x="775" y="764"/>
                    <a:pt x="808" y="754"/>
                    <a:pt x="840" y="748"/>
                  </a:cubicBezTo>
                  <a:cubicBezTo>
                    <a:pt x="872" y="742"/>
                    <a:pt x="892" y="738"/>
                    <a:pt x="930" y="740"/>
                  </a:cubicBezTo>
                  <a:cubicBezTo>
                    <a:pt x="968" y="742"/>
                    <a:pt x="1012" y="748"/>
                    <a:pt x="1054" y="760"/>
                  </a:cubicBezTo>
                  <a:cubicBezTo>
                    <a:pt x="1096" y="772"/>
                    <a:pt x="1138" y="794"/>
                    <a:pt x="1174" y="818"/>
                  </a:cubicBezTo>
                  <a:cubicBezTo>
                    <a:pt x="1210" y="842"/>
                    <a:pt x="1229" y="850"/>
                    <a:pt x="1300" y="904"/>
                  </a:cubicBezTo>
                  <a:cubicBezTo>
                    <a:pt x="1371" y="958"/>
                    <a:pt x="1499" y="1063"/>
                    <a:pt x="1606" y="1146"/>
                  </a:cubicBezTo>
                  <a:lnTo>
                    <a:pt x="1896" y="1374"/>
                  </a:lnTo>
                  <a:lnTo>
                    <a:pt x="1354" y="841"/>
                  </a:lnTo>
                  <a:lnTo>
                    <a:pt x="1352" y="822"/>
                  </a:lnTo>
                  <a:cubicBezTo>
                    <a:pt x="1357" y="818"/>
                    <a:pt x="1373" y="820"/>
                    <a:pt x="1384" y="818"/>
                  </a:cubicBezTo>
                  <a:cubicBezTo>
                    <a:pt x="1393" y="818"/>
                    <a:pt x="1404" y="810"/>
                    <a:pt x="1418" y="810"/>
                  </a:cubicBezTo>
                  <a:cubicBezTo>
                    <a:pt x="1432" y="810"/>
                    <a:pt x="1447" y="808"/>
                    <a:pt x="1464" y="808"/>
                  </a:cubicBezTo>
                  <a:cubicBezTo>
                    <a:pt x="1481" y="808"/>
                    <a:pt x="1508" y="808"/>
                    <a:pt x="1522" y="813"/>
                  </a:cubicBezTo>
                  <a:cubicBezTo>
                    <a:pt x="1536" y="818"/>
                    <a:pt x="1541" y="836"/>
                    <a:pt x="1550" y="841"/>
                  </a:cubicBezTo>
                  <a:cubicBezTo>
                    <a:pt x="1559" y="846"/>
                    <a:pt x="1580" y="848"/>
                    <a:pt x="1594" y="848"/>
                  </a:cubicBezTo>
                  <a:cubicBezTo>
                    <a:pt x="1608" y="848"/>
                    <a:pt x="1654" y="851"/>
                    <a:pt x="1654" y="846"/>
                  </a:cubicBezTo>
                  <a:cubicBezTo>
                    <a:pt x="1658" y="845"/>
                    <a:pt x="1630" y="843"/>
                    <a:pt x="1620" y="840"/>
                  </a:cubicBezTo>
                  <a:cubicBezTo>
                    <a:pt x="1610" y="837"/>
                    <a:pt x="1599" y="835"/>
                    <a:pt x="1592" y="826"/>
                  </a:cubicBezTo>
                  <a:cubicBezTo>
                    <a:pt x="1592" y="826"/>
                    <a:pt x="1588" y="800"/>
                    <a:pt x="1579" y="785"/>
                  </a:cubicBezTo>
                  <a:cubicBezTo>
                    <a:pt x="1570" y="770"/>
                    <a:pt x="1556" y="766"/>
                    <a:pt x="1556" y="766"/>
                  </a:cubicBezTo>
                  <a:cubicBezTo>
                    <a:pt x="1556" y="766"/>
                    <a:pt x="1536" y="759"/>
                    <a:pt x="1522" y="757"/>
                  </a:cubicBezTo>
                  <a:cubicBezTo>
                    <a:pt x="1522" y="757"/>
                    <a:pt x="1485" y="757"/>
                    <a:pt x="1466" y="757"/>
                  </a:cubicBezTo>
                  <a:cubicBezTo>
                    <a:pt x="1447" y="757"/>
                    <a:pt x="1429" y="757"/>
                    <a:pt x="1410" y="757"/>
                  </a:cubicBezTo>
                  <a:cubicBezTo>
                    <a:pt x="1391" y="757"/>
                    <a:pt x="1368" y="762"/>
                    <a:pt x="1354" y="757"/>
                  </a:cubicBezTo>
                  <a:lnTo>
                    <a:pt x="1325" y="729"/>
                  </a:lnTo>
                  <a:lnTo>
                    <a:pt x="1297" y="729"/>
                  </a:lnTo>
                  <a:cubicBezTo>
                    <a:pt x="1302" y="724"/>
                    <a:pt x="1339" y="711"/>
                    <a:pt x="1354" y="702"/>
                  </a:cubicBezTo>
                  <a:cubicBezTo>
                    <a:pt x="1368" y="698"/>
                    <a:pt x="1375" y="681"/>
                    <a:pt x="1384" y="676"/>
                  </a:cubicBezTo>
                  <a:cubicBezTo>
                    <a:pt x="1393" y="671"/>
                    <a:pt x="1412" y="671"/>
                    <a:pt x="1426" y="662"/>
                  </a:cubicBezTo>
                  <a:cubicBezTo>
                    <a:pt x="1440" y="653"/>
                    <a:pt x="1452" y="651"/>
                    <a:pt x="1466" y="646"/>
                  </a:cubicBezTo>
                  <a:cubicBezTo>
                    <a:pt x="1480" y="641"/>
                    <a:pt x="1481" y="639"/>
                    <a:pt x="1490" y="634"/>
                  </a:cubicBezTo>
                  <a:cubicBezTo>
                    <a:pt x="1499" y="629"/>
                    <a:pt x="1508" y="623"/>
                    <a:pt x="1522" y="618"/>
                  </a:cubicBezTo>
                  <a:cubicBezTo>
                    <a:pt x="1536" y="613"/>
                    <a:pt x="1565" y="623"/>
                    <a:pt x="1579" y="618"/>
                  </a:cubicBezTo>
                  <a:cubicBezTo>
                    <a:pt x="1595" y="616"/>
                    <a:pt x="1607" y="609"/>
                    <a:pt x="1620" y="604"/>
                  </a:cubicBezTo>
                  <a:cubicBezTo>
                    <a:pt x="1633" y="599"/>
                    <a:pt x="1681" y="566"/>
                    <a:pt x="1674" y="564"/>
                  </a:cubicBezTo>
                  <a:cubicBezTo>
                    <a:pt x="1675" y="561"/>
                    <a:pt x="1640" y="580"/>
                    <a:pt x="1624" y="584"/>
                  </a:cubicBezTo>
                  <a:cubicBezTo>
                    <a:pt x="1608" y="588"/>
                    <a:pt x="1596" y="591"/>
                    <a:pt x="1579" y="590"/>
                  </a:cubicBezTo>
                  <a:cubicBezTo>
                    <a:pt x="1556" y="590"/>
                    <a:pt x="1541" y="580"/>
                    <a:pt x="1522" y="580"/>
                  </a:cubicBezTo>
                  <a:cubicBezTo>
                    <a:pt x="1503" y="580"/>
                    <a:pt x="1484" y="574"/>
                    <a:pt x="1470" y="574"/>
                  </a:cubicBezTo>
                  <a:cubicBezTo>
                    <a:pt x="1456" y="574"/>
                    <a:pt x="1444" y="578"/>
                    <a:pt x="1430" y="578"/>
                  </a:cubicBezTo>
                  <a:cubicBezTo>
                    <a:pt x="1416" y="578"/>
                    <a:pt x="1396" y="590"/>
                    <a:pt x="1382" y="590"/>
                  </a:cubicBezTo>
                  <a:cubicBezTo>
                    <a:pt x="1368" y="590"/>
                    <a:pt x="1363" y="598"/>
                    <a:pt x="1334" y="598"/>
                  </a:cubicBezTo>
                  <a:cubicBezTo>
                    <a:pt x="1305" y="598"/>
                    <a:pt x="1287" y="614"/>
                    <a:pt x="1286" y="608"/>
                  </a:cubicBezTo>
                  <a:lnTo>
                    <a:pt x="1325" y="562"/>
                  </a:lnTo>
                  <a:lnTo>
                    <a:pt x="1354" y="534"/>
                  </a:lnTo>
                  <a:lnTo>
                    <a:pt x="1402" y="494"/>
                  </a:lnTo>
                  <a:cubicBezTo>
                    <a:pt x="1414" y="481"/>
                    <a:pt x="1416" y="469"/>
                    <a:pt x="1424" y="456"/>
                  </a:cubicBezTo>
                  <a:cubicBezTo>
                    <a:pt x="1432" y="444"/>
                    <a:pt x="1438" y="427"/>
                    <a:pt x="1450" y="416"/>
                  </a:cubicBezTo>
                  <a:cubicBezTo>
                    <a:pt x="1462" y="405"/>
                    <a:pt x="1491" y="392"/>
                    <a:pt x="1510" y="384"/>
                  </a:cubicBezTo>
                  <a:cubicBezTo>
                    <a:pt x="1529" y="376"/>
                    <a:pt x="1582" y="373"/>
                    <a:pt x="1586" y="370"/>
                  </a:cubicBezTo>
                  <a:cubicBezTo>
                    <a:pt x="1590" y="367"/>
                    <a:pt x="1547" y="367"/>
                    <a:pt x="1532" y="366"/>
                  </a:cubicBezTo>
                  <a:cubicBezTo>
                    <a:pt x="1517" y="365"/>
                    <a:pt x="1506" y="363"/>
                    <a:pt x="1494" y="366"/>
                  </a:cubicBezTo>
                  <a:cubicBezTo>
                    <a:pt x="1478" y="368"/>
                    <a:pt x="1472" y="381"/>
                    <a:pt x="1458" y="386"/>
                  </a:cubicBezTo>
                  <a:cubicBezTo>
                    <a:pt x="1444" y="391"/>
                    <a:pt x="1423" y="389"/>
                    <a:pt x="1410" y="394"/>
                  </a:cubicBezTo>
                  <a:cubicBezTo>
                    <a:pt x="1397" y="399"/>
                    <a:pt x="1394" y="408"/>
                    <a:pt x="1382" y="414"/>
                  </a:cubicBezTo>
                  <a:cubicBezTo>
                    <a:pt x="1370" y="420"/>
                    <a:pt x="1350" y="426"/>
                    <a:pt x="1336" y="432"/>
                  </a:cubicBezTo>
                  <a:lnTo>
                    <a:pt x="1298" y="452"/>
                  </a:lnTo>
                  <a:lnTo>
                    <a:pt x="1272" y="468"/>
                  </a:lnTo>
                  <a:lnTo>
                    <a:pt x="1220" y="484"/>
                  </a:lnTo>
                  <a:lnTo>
                    <a:pt x="1238" y="452"/>
                  </a:lnTo>
                  <a:lnTo>
                    <a:pt x="1269" y="422"/>
                  </a:lnTo>
                  <a:lnTo>
                    <a:pt x="1297" y="366"/>
                  </a:lnTo>
                  <a:cubicBezTo>
                    <a:pt x="1302" y="347"/>
                    <a:pt x="1292" y="324"/>
                    <a:pt x="1297" y="310"/>
                  </a:cubicBezTo>
                  <a:cubicBezTo>
                    <a:pt x="1302" y="296"/>
                    <a:pt x="1320" y="296"/>
                    <a:pt x="1325" y="282"/>
                  </a:cubicBezTo>
                  <a:cubicBezTo>
                    <a:pt x="1330" y="268"/>
                    <a:pt x="1316" y="241"/>
                    <a:pt x="1325" y="227"/>
                  </a:cubicBezTo>
                  <a:cubicBezTo>
                    <a:pt x="1334" y="213"/>
                    <a:pt x="1355" y="213"/>
                    <a:pt x="1382" y="199"/>
                  </a:cubicBezTo>
                  <a:lnTo>
                    <a:pt x="1486" y="144"/>
                  </a:lnTo>
                  <a:lnTo>
                    <a:pt x="1394" y="174"/>
                  </a:lnTo>
                  <a:lnTo>
                    <a:pt x="1325" y="199"/>
                  </a:lnTo>
                  <a:lnTo>
                    <a:pt x="1297" y="227"/>
                  </a:lnTo>
                  <a:lnTo>
                    <a:pt x="1269" y="254"/>
                  </a:lnTo>
                  <a:lnTo>
                    <a:pt x="1241" y="282"/>
                  </a:lnTo>
                  <a:lnTo>
                    <a:pt x="1213" y="338"/>
                  </a:lnTo>
                  <a:lnTo>
                    <a:pt x="1194" y="372"/>
                  </a:lnTo>
                  <a:lnTo>
                    <a:pt x="1157" y="394"/>
                  </a:lnTo>
                  <a:lnTo>
                    <a:pt x="1157" y="394"/>
                  </a:lnTo>
                  <a:lnTo>
                    <a:pt x="1136" y="402"/>
                  </a:lnTo>
                  <a:lnTo>
                    <a:pt x="1124" y="338"/>
                  </a:lnTo>
                  <a:lnTo>
                    <a:pt x="1129" y="282"/>
                  </a:lnTo>
                  <a:lnTo>
                    <a:pt x="1157" y="227"/>
                  </a:lnTo>
                  <a:lnTo>
                    <a:pt x="1157" y="171"/>
                  </a:lnTo>
                  <a:cubicBezTo>
                    <a:pt x="1158" y="153"/>
                    <a:pt x="1161" y="130"/>
                    <a:pt x="1166" y="116"/>
                  </a:cubicBezTo>
                  <a:cubicBezTo>
                    <a:pt x="1171" y="102"/>
                    <a:pt x="1182" y="96"/>
                    <a:pt x="1185" y="87"/>
                  </a:cubicBezTo>
                  <a:cubicBezTo>
                    <a:pt x="1188" y="78"/>
                    <a:pt x="1190" y="73"/>
                    <a:pt x="1185" y="59"/>
                  </a:cubicBezTo>
                  <a:cubicBezTo>
                    <a:pt x="1180" y="45"/>
                    <a:pt x="1162" y="3"/>
                    <a:pt x="1157" y="3"/>
                  </a:cubicBezTo>
                  <a:lnTo>
                    <a:pt x="1157" y="59"/>
                  </a:lnTo>
                  <a:cubicBezTo>
                    <a:pt x="1157" y="59"/>
                    <a:pt x="1155" y="84"/>
                    <a:pt x="1146" y="98"/>
                  </a:cubicBezTo>
                  <a:cubicBezTo>
                    <a:pt x="1137" y="112"/>
                    <a:pt x="1109" y="131"/>
                    <a:pt x="1101" y="143"/>
                  </a:cubicBezTo>
                  <a:cubicBezTo>
                    <a:pt x="1092" y="157"/>
                    <a:pt x="1102" y="170"/>
                    <a:pt x="1098" y="182"/>
                  </a:cubicBezTo>
                  <a:cubicBezTo>
                    <a:pt x="1094" y="194"/>
                    <a:pt x="1078" y="202"/>
                    <a:pt x="1074" y="214"/>
                  </a:cubicBezTo>
                  <a:cubicBezTo>
                    <a:pt x="1070" y="226"/>
                    <a:pt x="1072" y="243"/>
                    <a:pt x="1072" y="254"/>
                  </a:cubicBezTo>
                  <a:lnTo>
                    <a:pt x="1066" y="284"/>
                  </a:lnTo>
                  <a:cubicBezTo>
                    <a:pt x="1062" y="294"/>
                    <a:pt x="1058" y="303"/>
                    <a:pt x="1050" y="312"/>
                  </a:cubicBezTo>
                  <a:cubicBezTo>
                    <a:pt x="1042" y="321"/>
                    <a:pt x="1026" y="329"/>
                    <a:pt x="1016" y="338"/>
                  </a:cubicBezTo>
                  <a:lnTo>
                    <a:pt x="988" y="366"/>
                  </a:lnTo>
                  <a:lnTo>
                    <a:pt x="988" y="310"/>
                  </a:lnTo>
                  <a:lnTo>
                    <a:pt x="988" y="254"/>
                  </a:lnTo>
                  <a:lnTo>
                    <a:pt x="988" y="199"/>
                  </a:lnTo>
                  <a:lnTo>
                    <a:pt x="960" y="143"/>
                  </a:lnTo>
                  <a:lnTo>
                    <a:pt x="960" y="87"/>
                  </a:lnTo>
                  <a:lnTo>
                    <a:pt x="934" y="0"/>
                  </a:lnTo>
                  <a:lnTo>
                    <a:pt x="932" y="3"/>
                  </a:lnTo>
                  <a:lnTo>
                    <a:pt x="932" y="59"/>
                  </a:lnTo>
                  <a:lnTo>
                    <a:pt x="904" y="115"/>
                  </a:lnTo>
                  <a:lnTo>
                    <a:pt x="908" y="164"/>
                  </a:lnTo>
                  <a:lnTo>
                    <a:pt x="932" y="227"/>
                  </a:lnTo>
                  <a:lnTo>
                    <a:pt x="932" y="282"/>
                  </a:lnTo>
                  <a:lnTo>
                    <a:pt x="928" y="328"/>
                  </a:lnTo>
                  <a:lnTo>
                    <a:pt x="900" y="358"/>
                  </a:lnTo>
                  <a:lnTo>
                    <a:pt x="862" y="312"/>
                  </a:lnTo>
                  <a:lnTo>
                    <a:pt x="814" y="264"/>
                  </a:lnTo>
                  <a:lnTo>
                    <a:pt x="791" y="199"/>
                  </a:lnTo>
                  <a:lnTo>
                    <a:pt x="763" y="171"/>
                  </a:lnTo>
                  <a:cubicBezTo>
                    <a:pt x="754" y="157"/>
                    <a:pt x="744" y="141"/>
                    <a:pt x="735" y="115"/>
                  </a:cubicBezTo>
                  <a:cubicBezTo>
                    <a:pt x="726" y="89"/>
                    <a:pt x="715" y="25"/>
                    <a:pt x="710" y="16"/>
                  </a:cubicBezTo>
                  <a:lnTo>
                    <a:pt x="707" y="59"/>
                  </a:lnTo>
                  <a:lnTo>
                    <a:pt x="707" y="115"/>
                  </a:lnTo>
                  <a:lnTo>
                    <a:pt x="707" y="143"/>
                  </a:lnTo>
                  <a:lnTo>
                    <a:pt x="735" y="199"/>
                  </a:lnTo>
                  <a:lnTo>
                    <a:pt x="735" y="254"/>
                  </a:lnTo>
                  <a:lnTo>
                    <a:pt x="763" y="310"/>
                  </a:lnTo>
                  <a:lnTo>
                    <a:pt x="791" y="338"/>
                  </a:lnTo>
                  <a:lnTo>
                    <a:pt x="791" y="366"/>
                  </a:lnTo>
                  <a:lnTo>
                    <a:pt x="791" y="394"/>
                  </a:lnTo>
                  <a:lnTo>
                    <a:pt x="707" y="366"/>
                  </a:lnTo>
                  <a:cubicBezTo>
                    <a:pt x="688" y="352"/>
                    <a:pt x="693" y="324"/>
                    <a:pt x="679" y="310"/>
                  </a:cubicBezTo>
                  <a:cubicBezTo>
                    <a:pt x="665" y="296"/>
                    <a:pt x="642" y="296"/>
                    <a:pt x="623" y="282"/>
                  </a:cubicBezTo>
                  <a:lnTo>
                    <a:pt x="566" y="227"/>
                  </a:lnTo>
                  <a:lnTo>
                    <a:pt x="546" y="200"/>
                  </a:lnTo>
                  <a:cubicBezTo>
                    <a:pt x="540" y="191"/>
                    <a:pt x="539" y="185"/>
                    <a:pt x="528" y="172"/>
                  </a:cubicBezTo>
                  <a:cubicBezTo>
                    <a:pt x="521" y="162"/>
                    <a:pt x="482" y="116"/>
                    <a:pt x="482" y="122"/>
                  </a:cubicBezTo>
                  <a:cubicBezTo>
                    <a:pt x="482" y="128"/>
                    <a:pt x="517" y="184"/>
                    <a:pt x="526" y="206"/>
                  </a:cubicBezTo>
                  <a:cubicBezTo>
                    <a:pt x="533" y="225"/>
                    <a:pt x="533" y="240"/>
                    <a:pt x="538" y="254"/>
                  </a:cubicBezTo>
                  <a:cubicBezTo>
                    <a:pt x="545" y="271"/>
                    <a:pt x="552" y="296"/>
                    <a:pt x="566" y="310"/>
                  </a:cubicBezTo>
                  <a:cubicBezTo>
                    <a:pt x="580" y="324"/>
                    <a:pt x="609" y="324"/>
                    <a:pt x="623" y="338"/>
                  </a:cubicBezTo>
                  <a:lnTo>
                    <a:pt x="651" y="394"/>
                  </a:lnTo>
                  <a:lnTo>
                    <a:pt x="679" y="450"/>
                  </a:lnTo>
                  <a:lnTo>
                    <a:pt x="679" y="478"/>
                  </a:lnTo>
                  <a:lnTo>
                    <a:pt x="623" y="450"/>
                  </a:lnTo>
                  <a:lnTo>
                    <a:pt x="564" y="418"/>
                  </a:lnTo>
                  <a:lnTo>
                    <a:pt x="516" y="416"/>
                  </a:lnTo>
                  <a:lnTo>
                    <a:pt x="454" y="394"/>
                  </a:lnTo>
                  <a:lnTo>
                    <a:pt x="400" y="376"/>
                  </a:lnTo>
                  <a:cubicBezTo>
                    <a:pt x="386" y="367"/>
                    <a:pt x="379" y="357"/>
                    <a:pt x="368" y="342"/>
                  </a:cubicBezTo>
                  <a:cubicBezTo>
                    <a:pt x="362" y="326"/>
                    <a:pt x="332" y="279"/>
                    <a:pt x="332" y="288"/>
                  </a:cubicBezTo>
                  <a:cubicBezTo>
                    <a:pt x="332" y="297"/>
                    <a:pt x="354" y="372"/>
                    <a:pt x="370" y="394"/>
                  </a:cubicBezTo>
                  <a:cubicBezTo>
                    <a:pt x="386" y="412"/>
                    <a:pt x="407" y="408"/>
                    <a:pt x="426" y="422"/>
                  </a:cubicBezTo>
                  <a:lnTo>
                    <a:pt x="482" y="478"/>
                  </a:lnTo>
                  <a:cubicBezTo>
                    <a:pt x="496" y="492"/>
                    <a:pt x="495" y="500"/>
                    <a:pt x="510" y="506"/>
                  </a:cubicBezTo>
                  <a:cubicBezTo>
                    <a:pt x="524" y="511"/>
                    <a:pt x="550" y="508"/>
                    <a:pt x="570" y="516"/>
                  </a:cubicBezTo>
                  <a:lnTo>
                    <a:pt x="630" y="552"/>
                  </a:lnTo>
                  <a:lnTo>
                    <a:pt x="576" y="554"/>
                  </a:lnTo>
                  <a:lnTo>
                    <a:pt x="510" y="562"/>
                  </a:lnTo>
                  <a:lnTo>
                    <a:pt x="476" y="576"/>
                  </a:lnTo>
                  <a:lnTo>
                    <a:pt x="428" y="582"/>
                  </a:lnTo>
                  <a:lnTo>
                    <a:pt x="408" y="572"/>
                  </a:lnTo>
                  <a:lnTo>
                    <a:pt x="370" y="574"/>
                  </a:lnTo>
                  <a:cubicBezTo>
                    <a:pt x="357" y="576"/>
                    <a:pt x="342" y="584"/>
                    <a:pt x="328" y="582"/>
                  </a:cubicBezTo>
                  <a:cubicBezTo>
                    <a:pt x="314" y="577"/>
                    <a:pt x="304" y="573"/>
                    <a:pt x="285" y="562"/>
                  </a:cubicBezTo>
                  <a:lnTo>
                    <a:pt x="218" y="508"/>
                  </a:lnTo>
                  <a:lnTo>
                    <a:pt x="278" y="592"/>
                  </a:lnTo>
                  <a:lnTo>
                    <a:pt x="313" y="618"/>
                  </a:lnTo>
                  <a:lnTo>
                    <a:pt x="370" y="618"/>
                  </a:lnTo>
                  <a:lnTo>
                    <a:pt x="426" y="646"/>
                  </a:lnTo>
                  <a:lnTo>
                    <a:pt x="482" y="646"/>
                  </a:lnTo>
                  <a:lnTo>
                    <a:pt x="538" y="646"/>
                  </a:lnTo>
                  <a:lnTo>
                    <a:pt x="595" y="646"/>
                  </a:lnTo>
                  <a:lnTo>
                    <a:pt x="595" y="674"/>
                  </a:lnTo>
                  <a:cubicBezTo>
                    <a:pt x="590" y="679"/>
                    <a:pt x="580" y="669"/>
                    <a:pt x="566" y="674"/>
                  </a:cubicBezTo>
                  <a:cubicBezTo>
                    <a:pt x="552" y="679"/>
                    <a:pt x="529" y="688"/>
                    <a:pt x="510" y="702"/>
                  </a:cubicBezTo>
                  <a:cubicBezTo>
                    <a:pt x="493" y="714"/>
                    <a:pt x="479" y="738"/>
                    <a:pt x="464" y="748"/>
                  </a:cubicBezTo>
                  <a:cubicBezTo>
                    <a:pt x="450" y="757"/>
                    <a:pt x="427" y="757"/>
                    <a:pt x="418" y="762"/>
                  </a:cubicBezTo>
                  <a:cubicBezTo>
                    <a:pt x="409" y="767"/>
                    <a:pt x="415" y="777"/>
                    <a:pt x="398" y="785"/>
                  </a:cubicBezTo>
                  <a:cubicBezTo>
                    <a:pt x="381" y="793"/>
                    <a:pt x="339" y="810"/>
                    <a:pt x="313" y="813"/>
                  </a:cubicBezTo>
                  <a:cubicBezTo>
                    <a:pt x="287" y="816"/>
                    <a:pt x="240" y="801"/>
                    <a:pt x="240" y="806"/>
                  </a:cubicBezTo>
                  <a:cubicBezTo>
                    <a:pt x="240" y="811"/>
                    <a:pt x="287" y="840"/>
                    <a:pt x="313" y="841"/>
                  </a:cubicBezTo>
                  <a:cubicBezTo>
                    <a:pt x="339" y="842"/>
                    <a:pt x="375" y="818"/>
                    <a:pt x="398" y="813"/>
                  </a:cubicBezTo>
                  <a:lnTo>
                    <a:pt x="454" y="813"/>
                  </a:lnTo>
                  <a:lnTo>
                    <a:pt x="538" y="813"/>
                  </a:lnTo>
                  <a:cubicBezTo>
                    <a:pt x="538" y="813"/>
                    <a:pt x="0" y="1364"/>
                    <a:pt x="0" y="136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 txBox="1"/>
            <p:nvPr/>
          </p:nvSpPr>
          <p:spPr>
            <a:xfrm>
              <a:off x="5725800" y="5919120"/>
              <a:ext cx="61200" cy="74520"/>
            </a:xfrm>
            <a:prstGeom prst="rect">
              <a:avLst/>
            </a:prstGeom>
          </p:spPr>
          <p:txBody>
            <a:bodyPr wrap="none" lIns="90000" rIns="90000" tIns="28080" bIns="28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U</a:t>
              </a:r>
              <a:endPara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96" name=""/>
            <p:cNvSpPr txBox="1"/>
            <p:nvPr/>
          </p:nvSpPr>
          <p:spPr>
            <a:xfrm>
              <a:off x="5832000" y="5919120"/>
              <a:ext cx="47160" cy="74520"/>
            </a:xfrm>
            <a:prstGeom prst="rect">
              <a:avLst/>
            </a:prstGeom>
          </p:spPr>
          <p:txBody>
            <a:bodyPr wrap="none" lIns="90000" rIns="90000" tIns="28080" bIns="28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F</a:t>
              </a:r>
              <a:endPara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97" name=""/>
            <p:cNvSpPr txBox="1"/>
            <p:nvPr/>
          </p:nvSpPr>
          <p:spPr>
            <a:xfrm>
              <a:off x="5916960" y="5919120"/>
              <a:ext cx="63000" cy="74520"/>
            </a:xfrm>
            <a:prstGeom prst="rect">
              <a:avLst/>
            </a:prstGeom>
          </p:spPr>
          <p:txBody>
            <a:bodyPr wrap="none" lIns="90000" rIns="90000" tIns="28080" bIns="28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C</a:t>
              </a:r>
              <a:endPara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98" name=""/>
            <p:cNvSpPr txBox="1"/>
            <p:nvPr/>
          </p:nvSpPr>
          <p:spPr>
            <a:xfrm>
              <a:off x="6013800" y="5919120"/>
              <a:ext cx="65880" cy="74520"/>
            </a:xfrm>
            <a:prstGeom prst="rect">
              <a:avLst/>
            </a:prstGeom>
          </p:spPr>
          <p:txBody>
            <a:bodyPr wrap="none" lIns="90000" rIns="90000" tIns="28080" bIns="28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"/>
                </a:rPr>
                <a:t>G</a:t>
              </a:r>
              <a:endPara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130800" y="6361920"/>
              <a:ext cx="168480" cy="155520"/>
            </a:xfrm>
            <a:custGeom>
              <a:avLst/>
              <a:gdLst/>
              <a:ahLst/>
              <a:rect l="l" t="t" r="r" b="b"/>
              <a:pathLst>
                <a:path w="882" h="858">
                  <a:moveTo>
                    <a:pt x="0" y="534"/>
                  </a:moveTo>
                  <a:lnTo>
                    <a:pt x="630" y="0"/>
                  </a:lnTo>
                  <a:lnTo>
                    <a:pt x="576" y="324"/>
                  </a:lnTo>
                  <a:lnTo>
                    <a:pt x="882" y="354"/>
                  </a:lnTo>
                  <a:lnTo>
                    <a:pt x="252" y="858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5506920" y="6357960"/>
              <a:ext cx="168480" cy="154800"/>
            </a:xfrm>
            <a:custGeom>
              <a:avLst/>
              <a:gdLst/>
              <a:ahLst/>
              <a:rect l="l" t="t" r="r" b="b"/>
              <a:pathLst>
                <a:path w="882" h="858">
                  <a:moveTo>
                    <a:pt x="0" y="534"/>
                  </a:moveTo>
                  <a:lnTo>
                    <a:pt x="630" y="0"/>
                  </a:lnTo>
                  <a:lnTo>
                    <a:pt x="576" y="324"/>
                  </a:lnTo>
                  <a:lnTo>
                    <a:pt x="882" y="354"/>
                  </a:lnTo>
                  <a:lnTo>
                    <a:pt x="252" y="858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52640" y="6454080"/>
              <a:ext cx="122400" cy="69120"/>
            </a:xfrm>
            <a:custGeom>
              <a:avLst/>
              <a:gdLst/>
              <a:ahLst/>
              <a:rect l="l" t="t" r="r" b="b"/>
              <a:pathLst>
                <a:path w="624" h="384">
                  <a:moveTo>
                    <a:pt x="294" y="0"/>
                  </a:moveTo>
                  <a:lnTo>
                    <a:pt x="624" y="0"/>
                  </a:lnTo>
                  <a:lnTo>
                    <a:pt x="324" y="384"/>
                  </a:lnTo>
                  <a:lnTo>
                    <a:pt x="0" y="384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130800" y="6459840"/>
              <a:ext cx="120960" cy="68760"/>
            </a:xfrm>
            <a:custGeom>
              <a:avLst/>
              <a:gdLst/>
              <a:ahLst/>
              <a:rect l="l" t="t" r="r" b="b"/>
              <a:pathLst>
                <a:path w="633" h="384">
                  <a:moveTo>
                    <a:pt x="345" y="13"/>
                  </a:moveTo>
                  <a:lnTo>
                    <a:pt x="0" y="0"/>
                  </a:lnTo>
                  <a:lnTo>
                    <a:pt x="309" y="384"/>
                  </a:lnTo>
                  <a:lnTo>
                    <a:pt x="633" y="377"/>
                  </a:lnTo>
                  <a:lnTo>
                    <a:pt x="345" y="13"/>
                  </a:lnTo>
                  <a:close/>
                </a:path>
              </a:pathLst>
            </a:custGeom>
            <a:solidFill>
              <a:srgbClr val="000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553720" y="6458760"/>
              <a:ext cx="697320" cy="181800"/>
            </a:xfrm>
            <a:custGeom>
              <a:avLst/>
              <a:gdLst/>
              <a:ahLst/>
              <a:rect l="l" t="t" r="r" b="b"/>
              <a:pathLst>
                <a:path w="3654" h="1005">
                  <a:moveTo>
                    <a:pt x="0" y="356"/>
                  </a:moveTo>
                  <a:cubicBezTo>
                    <a:pt x="84" y="248"/>
                    <a:pt x="202" y="86"/>
                    <a:pt x="278" y="0"/>
                  </a:cubicBezTo>
                  <a:cubicBezTo>
                    <a:pt x="362" y="72"/>
                    <a:pt x="377" y="93"/>
                    <a:pt x="456" y="142"/>
                  </a:cubicBezTo>
                  <a:cubicBezTo>
                    <a:pt x="535" y="191"/>
                    <a:pt x="652" y="254"/>
                    <a:pt x="750" y="296"/>
                  </a:cubicBezTo>
                  <a:cubicBezTo>
                    <a:pt x="848" y="338"/>
                    <a:pt x="941" y="366"/>
                    <a:pt x="1042" y="392"/>
                  </a:cubicBezTo>
                  <a:cubicBezTo>
                    <a:pt x="1143" y="418"/>
                    <a:pt x="1248" y="439"/>
                    <a:pt x="1356" y="454"/>
                  </a:cubicBezTo>
                  <a:cubicBezTo>
                    <a:pt x="1464" y="469"/>
                    <a:pt x="1577" y="476"/>
                    <a:pt x="1688" y="480"/>
                  </a:cubicBezTo>
                  <a:cubicBezTo>
                    <a:pt x="1799" y="484"/>
                    <a:pt x="1889" y="489"/>
                    <a:pt x="2024" y="478"/>
                  </a:cubicBezTo>
                  <a:cubicBezTo>
                    <a:pt x="2159" y="467"/>
                    <a:pt x="2346" y="446"/>
                    <a:pt x="2496" y="414"/>
                  </a:cubicBezTo>
                  <a:cubicBezTo>
                    <a:pt x="2646" y="382"/>
                    <a:pt x="2810" y="327"/>
                    <a:pt x="2926" y="284"/>
                  </a:cubicBezTo>
                  <a:cubicBezTo>
                    <a:pt x="3042" y="241"/>
                    <a:pt x="3119" y="198"/>
                    <a:pt x="3194" y="154"/>
                  </a:cubicBezTo>
                  <a:cubicBezTo>
                    <a:pt x="3269" y="110"/>
                    <a:pt x="3298" y="80"/>
                    <a:pt x="3374" y="18"/>
                  </a:cubicBezTo>
                  <a:cubicBezTo>
                    <a:pt x="3478" y="150"/>
                    <a:pt x="3584" y="288"/>
                    <a:pt x="3654" y="382"/>
                  </a:cubicBezTo>
                  <a:cubicBezTo>
                    <a:pt x="3568" y="468"/>
                    <a:pt x="3518" y="501"/>
                    <a:pt x="3432" y="560"/>
                  </a:cubicBezTo>
                  <a:cubicBezTo>
                    <a:pt x="3346" y="619"/>
                    <a:pt x="3253" y="684"/>
                    <a:pt x="3138" y="736"/>
                  </a:cubicBezTo>
                  <a:cubicBezTo>
                    <a:pt x="3023" y="788"/>
                    <a:pt x="2907" y="832"/>
                    <a:pt x="2742" y="874"/>
                  </a:cubicBezTo>
                  <a:cubicBezTo>
                    <a:pt x="2577" y="916"/>
                    <a:pt x="2349" y="971"/>
                    <a:pt x="2148" y="988"/>
                  </a:cubicBezTo>
                  <a:cubicBezTo>
                    <a:pt x="1947" y="1005"/>
                    <a:pt x="1716" y="989"/>
                    <a:pt x="1536" y="976"/>
                  </a:cubicBezTo>
                  <a:cubicBezTo>
                    <a:pt x="1356" y="963"/>
                    <a:pt x="1223" y="947"/>
                    <a:pt x="1068" y="910"/>
                  </a:cubicBezTo>
                  <a:cubicBezTo>
                    <a:pt x="913" y="873"/>
                    <a:pt x="742" y="814"/>
                    <a:pt x="606" y="756"/>
                  </a:cubicBezTo>
                  <a:cubicBezTo>
                    <a:pt x="470" y="698"/>
                    <a:pt x="355" y="629"/>
                    <a:pt x="254" y="562"/>
                  </a:cubicBezTo>
                  <a:cubicBezTo>
                    <a:pt x="153" y="495"/>
                    <a:pt x="122" y="462"/>
                    <a:pt x="0" y="356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 txBox="1"/>
            <p:nvPr/>
          </p:nvSpPr>
          <p:spPr>
            <a:xfrm rot="1771800">
              <a:off x="5620680" y="6512400"/>
              <a:ext cx="25920" cy="36720"/>
            </a:xfrm>
            <a:prstGeom prst="rect">
              <a:avLst/>
            </a:prstGeom>
          </p:spPr>
          <p:txBody>
            <a:bodyPr wrap="none" lIns="90000" rIns="90000" tIns="-9720" bIns="-9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 rot="1336200">
              <a:off x="5646240" y="6527520"/>
              <a:ext cx="28440" cy="36360"/>
            </a:xfrm>
            <a:prstGeom prst="rect">
              <a:avLst/>
            </a:prstGeom>
          </p:spPr>
          <p:txBody>
            <a:bodyPr wrap="none" lIns="90000" rIns="90000" tIns="-10080" bIns="-10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 rot="1336200">
              <a:off x="5678280" y="6539400"/>
              <a:ext cx="28080" cy="37440"/>
            </a:xfrm>
            <a:prstGeom prst="rect">
              <a:avLst/>
            </a:prstGeom>
          </p:spPr>
          <p:txBody>
            <a:bodyPr wrap="none" lIns="90000" rIns="90000" tIns="-9000" bIns="-9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P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07" name=""/>
            <p:cNvSpPr txBox="1"/>
            <p:nvPr/>
          </p:nvSpPr>
          <p:spPr>
            <a:xfrm rot="1068600">
              <a:off x="5707800" y="6549840"/>
              <a:ext cx="28800" cy="37080"/>
            </a:xfrm>
            <a:prstGeom prst="rect">
              <a:avLst/>
            </a:prstGeom>
          </p:spPr>
          <p:txBody>
            <a:bodyPr wrap="none" lIns="90000" rIns="90000" tIns="-9360" bIns="-9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R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 rot="898200">
              <a:off x="5735880" y="6557400"/>
              <a:ext cx="28800" cy="36720"/>
            </a:xfrm>
            <a:prstGeom prst="rect">
              <a:avLst/>
            </a:prstGeom>
          </p:spPr>
          <p:txBody>
            <a:bodyPr wrap="none" lIns="90000" rIns="90000" tIns="-9720" bIns="-9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A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 rot="526200">
              <a:off x="5775840" y="6566040"/>
              <a:ext cx="33120" cy="36720"/>
            </a:xfrm>
            <a:prstGeom prst="rect">
              <a:avLst/>
            </a:prstGeom>
          </p:spPr>
          <p:txBody>
            <a:bodyPr wrap="none" lIns="90000" rIns="90000" tIns="-9720" bIns="-9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O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 rot="235200">
              <a:off x="5812920" y="6571080"/>
              <a:ext cx="39240" cy="36360"/>
            </a:xfrm>
            <a:prstGeom prst="rect">
              <a:avLst/>
            </a:prstGeom>
          </p:spPr>
          <p:txBody>
            <a:bodyPr wrap="none" lIns="90000" rIns="90000" tIns="-10080" bIns="-10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M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5859360" y="6573600"/>
              <a:ext cx="28440" cy="36360"/>
            </a:xfrm>
            <a:prstGeom prst="rect">
              <a:avLst/>
            </a:prstGeom>
          </p:spPr>
          <p:txBody>
            <a:bodyPr wrap="none" lIns="90000" rIns="90000" tIns="-10080" bIns="-10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N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>
              <a:off x="5893920" y="6573960"/>
              <a:ext cx="8640" cy="36720"/>
            </a:xfrm>
            <a:prstGeom prst="rect">
              <a:avLst/>
            </a:prstGeom>
          </p:spPr>
          <p:txBody>
            <a:bodyPr wrap="none" lIns="90000" rIns="90000" tIns="-9720" bIns="-9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I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3" name=""/>
            <p:cNvSpPr txBox="1"/>
            <p:nvPr/>
          </p:nvSpPr>
          <p:spPr>
            <a:xfrm>
              <a:off x="5908320" y="6573960"/>
              <a:ext cx="25200" cy="36720"/>
            </a:xfrm>
            <a:prstGeom prst="rect">
              <a:avLst/>
            </a:prstGeom>
          </p:spPr>
          <p:txBody>
            <a:bodyPr wrap="none" lIns="90000" rIns="90000" tIns="-9720" bIns="-9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" name=""/>
            <p:cNvSpPr txBox="1"/>
            <p:nvPr/>
          </p:nvSpPr>
          <p:spPr>
            <a:xfrm rot="21364200">
              <a:off x="5948640" y="6570000"/>
              <a:ext cx="25920" cy="36000"/>
            </a:xfrm>
            <a:prstGeom prst="rect">
              <a:avLst/>
            </a:prstGeom>
          </p:spPr>
          <p:txBody>
            <a:bodyPr wrap="none" lIns="90000" rIns="90000" tIns="-10440" bIns="-104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L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5" name=""/>
            <p:cNvSpPr txBox="1"/>
            <p:nvPr/>
          </p:nvSpPr>
          <p:spPr>
            <a:xfrm rot="21095400">
              <a:off x="5974560" y="6567840"/>
              <a:ext cx="29520" cy="36000"/>
            </a:xfrm>
            <a:prstGeom prst="rect">
              <a:avLst/>
            </a:prstGeom>
          </p:spPr>
          <p:txBody>
            <a:bodyPr wrap="none" lIns="90000" rIns="90000" tIns="-10440" bIns="-104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6" name=""/>
            <p:cNvSpPr txBox="1"/>
            <p:nvPr/>
          </p:nvSpPr>
          <p:spPr>
            <a:xfrm rot="20857800">
              <a:off x="6006600" y="6562080"/>
              <a:ext cx="30240" cy="36360"/>
            </a:xfrm>
            <a:prstGeom prst="rect">
              <a:avLst/>
            </a:prstGeom>
          </p:spPr>
          <p:txBody>
            <a:bodyPr wrap="none" lIns="90000" rIns="90000" tIns="-10080" bIns="-10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X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7" name=""/>
            <p:cNvSpPr txBox="1"/>
            <p:nvPr/>
          </p:nvSpPr>
          <p:spPr>
            <a:xfrm rot="20720400">
              <a:off x="6049800" y="6553800"/>
              <a:ext cx="25200" cy="36720"/>
            </a:xfrm>
            <a:prstGeom prst="rect">
              <a:avLst/>
            </a:prstGeom>
          </p:spPr>
          <p:txBody>
            <a:bodyPr wrap="none" lIns="90000" rIns="90000" tIns="-9720" bIns="-9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L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8" name=""/>
            <p:cNvSpPr txBox="1"/>
            <p:nvPr/>
          </p:nvSpPr>
          <p:spPr>
            <a:xfrm rot="20418000">
              <a:off x="6076800" y="6546960"/>
              <a:ext cx="28800" cy="36000"/>
            </a:xfrm>
            <a:prstGeom prst="rect">
              <a:avLst/>
            </a:prstGeom>
          </p:spPr>
          <p:txBody>
            <a:bodyPr wrap="none" lIns="90000" rIns="90000" tIns="-10440" bIns="-104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 rot="20344200">
              <a:off x="6107760" y="6536880"/>
              <a:ext cx="30600" cy="37080"/>
            </a:xfrm>
            <a:prstGeom prst="rect">
              <a:avLst/>
            </a:prstGeom>
          </p:spPr>
          <p:txBody>
            <a:bodyPr wrap="none" lIns="90000" rIns="90000" tIns="-9360" bIns="-9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C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 rot="20044200">
              <a:off x="6141600" y="6528240"/>
              <a:ext cx="8640" cy="36360"/>
            </a:xfrm>
            <a:prstGeom prst="rect">
              <a:avLst/>
            </a:prstGeom>
          </p:spPr>
          <p:txBody>
            <a:bodyPr wrap="none" lIns="90000" rIns="90000" tIns="-10080" bIns="-10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I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 rot="20054400">
              <a:off x="6153480" y="6517800"/>
              <a:ext cx="25920" cy="36360"/>
            </a:xfrm>
            <a:prstGeom prst="rect">
              <a:avLst/>
            </a:prstGeom>
          </p:spPr>
          <p:txBody>
            <a:bodyPr wrap="none" lIns="90000" rIns="90000" tIns="-10080" bIns="-10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6516720" y="6021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FCG / D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87280" y="3316320"/>
            <a:ext cx="741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Disciplina 4: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Criptografia, protocolos seguros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suas aplicaçõ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(Parte 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81400" y="5008680"/>
            <a:ext cx="330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Profa.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joseana@dsc.ufcg.edu.br</a:t>
            </a: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da Comunicaçã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99640" y="1844280"/>
            <a:ext cx="792180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IPSec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IP Security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Vários algoritmo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?  torná-lo independente do tipo de algoritmo utilizado (menos susceptível à violação, a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lexibilidade permite que sejam utilizadas as normas  mais recentes disponíveis, incrementando a segurança).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Várias granularidade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? tornar possível a proteção de uma única conexão TCP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e todo o tráfego entre um par de hosts ou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e todo o tráfego entre um par de roteadores seguros,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5F1A5-FEC3-4647-A3FF-7AA181A9B40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da Comunicaçã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99640" y="1773000"/>
            <a:ext cx="7705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IPSec 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IP Security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mbora esteja na camada de IP é orientado à conex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Denominação da conexão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- SA (S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ecurity Association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exão simplex entre dois pontos extremos e tem um identificador de segurança associado a mesm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e houver necessidade de tráfego seguro em ambos os sentidos – serão exigidas duas associações de seguranç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dentificadores de segurança – transportados em pacotes, percorrem as conexões seguras e são usados para pesquisar chaves e outras informações relevantes ao chegar um pacote segur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BC5D5-5CD9-438D-9FA1-1417ABD3CB5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da Comunicaçã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92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PSec 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IP Security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ma entidade deseja estabelecer uma associação de segurança - utiliza um SPI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ecurity Parameter Index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e um endereço de destino (da entidade na qual se deseja fazer  a comunicação segura) e envia essas informações à entidade com que se quer estabelecer o canal seguro. 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ra cada sessão de comunicação autenticada serão necessários dois SPIs, ou seja, um para cada sentido, devido ao fato de que a associação de segurança ser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nidireciona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04C33-0387-4B17-B1E0-CC436DB1491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da Comunicaçã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411280" y="2276640"/>
            <a:ext cx="5040360" cy="38271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433160" y="1773360"/>
            <a:ext cx="24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IPSec (IP Secur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76720" y="6165720"/>
            <a:ext cx="54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Fonte: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www.rnp.br/newsgen/9907/ipsec3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05539-5D3F-4B49-84F5-A6AB913C0F8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da Comunicaçã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PSec 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IP Security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ecanismos de segurança inclusos no IPSec (definidos pelas especificações do IPv6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utenticação de cabeçalho (AH -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authentication header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egurança do encapsulamento IP (ESP -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encrypted security payload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s cabeçalhos de extensão se seguem ao cabeçalho IP principal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abeçalho de autenticação - A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abeçalho para privacidade - ESP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 IPSec no IPv6 encripta os dados em todo o seu percurso enquanto no IPv4 os dados apenas podiam se encriptados entre roteadores da camada de distribuição.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CEF88-A23A-41B7-B837-7B95493CB57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da Comunicaçã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00000" y="1827360"/>
            <a:ext cx="792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IPSec (IP Security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utenticação de cabeçalh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ssegura ao destinatário que os dados IP são realmente do remetente indicado no endereço de origem, e que o conteúdo foi entregue sem modificaçõe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xemplo de algoritmo de autenticação utilizado: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MD5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egurança do encapsulamento IP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ermite confidencialidade, autenticação da origem e integridade dos dados encapsulados no pacote IP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xemplo de algoritmo de criptografia: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DES/3DE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C4302-0116-495B-BE41-EA31906D5A3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da Comunicaçã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10" name=""/>
          <p:cNvSpPr/>
          <p:nvPr/>
        </p:nvSpPr>
        <p:spPr>
          <a:xfrm>
            <a:off x="1332000" y="530064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Cabeçalho de autenticação do IPSe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993080" cy="2870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B8ACC-47EC-4825-8B73-963285EB5A8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da Comunicaçã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13" name=""/>
          <p:cNvSpPr/>
          <p:nvPr/>
        </p:nvSpPr>
        <p:spPr>
          <a:xfrm>
            <a:off x="900000" y="4941720"/>
            <a:ext cx="784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(a) ESP em modo de transporte</a:t>
            </a: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b) ESP em modo de tú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 rot="21540000">
            <a:off x="684360" y="2193480"/>
            <a:ext cx="8280360" cy="2632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771E6-48ED-47A9-8982-393EBFFD006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da Comunicaçã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560" y="1773000"/>
            <a:ext cx="7993080" cy="38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IPSec (IP Security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s algoritmos de autenticação e criptografia utilizam o conceito de associação de segurança entre o transmissor e o recepto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o transmissor e o receptor devem concordar com uma chave secreta e com outros parâmetros relacionados à segurança, conhecidos apenas pelos membros da associação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Para gerar as chaves provavelmente será utilizado o IKMP (</a:t>
            </a:r>
            <a:r>
              <a:rPr b="0" i="1" lang="pt-BR" sz="1800" spc="-1" strike="noStrike">
                <a:solidFill>
                  <a:srgbClr val="000000"/>
                </a:solidFill>
                <a:latin typeface="Verdana"/>
              </a:rPr>
              <a:t>Internet Key Management Protocol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ma empresa pode usar uma rede TCP/IP privada segura eliminando os links com instalações não-confiáveis, cifrando os pacotes que deixam as suas instalações físicas e autenticando os pacotes que entram nas suas instalações física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DE105-2637-4307-AE26-EF4315F911D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da Comunicaçã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99640" y="170028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Verdana"/>
              </a:rPr>
              <a:t>Firewal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Idéia básica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 impedir a entrada de intrusos e a saída de dados secret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Funçõ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rreiras interpostas entre a rede privada da organização e a rede externa, baseados na combinação d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hardwar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oftwar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u somente em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oftwar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alisa o tráfego entre a rede interna e a rede externa em tempo real, permitindo ou bloqueando o tráfego de acordo com as regras definidas previamen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"/>
          <p:cNvSpPr/>
          <p:nvPr/>
        </p:nvSpPr>
        <p:spPr>
          <a:xfrm>
            <a:off x="900000" y="5734080"/>
            <a:ext cx="78487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gundo Tanenbaum, os Firewalls são apenas uma adaptação moderna de uma antiga forma de segurança medieval: cavar uma fossa profunda em torno do castelo, ponte levadiça eletrônica (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firewall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57C5D-A66A-4309-A8E6-80D83BA3008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Impact"/>
              </a:rPr>
              <a:t>Tópico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42920" y="1989000"/>
            <a:ext cx="557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egurança da Comunicaç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egurança de Correio Eletrôn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egurança na WE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84720" y="4411800"/>
            <a:ext cx="2221200" cy="168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FD46F-C093-4E26-AD5A-0A3B99FD36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971640" y="2349360"/>
            <a:ext cx="7345440" cy="37656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da Comunicaçã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331640" y="1773360"/>
            <a:ext cx="712764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Um firewall que consiste em dois filtros de pacotes e um gateway de aplicaçã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02266-7E4E-4C2F-82D4-F2384A693C6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da Comunicaçã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71640" y="1773360"/>
            <a:ext cx="763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Verdana"/>
              </a:rPr>
              <a:t>Firewall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 – Problemas de seguranç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m intruso pode inserir falsos endereços de orige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m usuário interno pode transportar documentos secretos  utilizando, por exemplo, arquivos JPEG que passam por filtros de palavr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erca de 70% dos ataques vêm de dentro do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firewal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taques para desativar o destino em vez de roubar dados (DOS –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Denial of Service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– negação de serviço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 intruso entra em centenas de computadores e depois comanda todos os computadores em um ataque ao mesmo alvo ao mesmo tempo - DDoS (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Distributed Denial of Service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AEA27-46C7-4271-8757-ABCAE12C221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da Comunicaçã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99640" y="1773360"/>
            <a:ext cx="770436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PN -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Virtual Private Net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finiçã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- é uma rede privada construída dentro da infra-estrutura de uma rede pública, como a Internet, utilizando recursos de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riptografi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ara garantir a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tegridad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 a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fidencialidad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dos dados trafegad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incipais objetivos na Implantação de uma VP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sponibilizar acesso por meio de redes públicas, Internet, a baixo custo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solar uma rede distribuída contra interferência externa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teger a privacidade e a integridade de mensagens atravessando redes não confiáveis (públicas)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nipular toda faixa de protocolos da Internet correntemente em uso de forma transparent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EF293-4B80-42C6-8E45-AF29E82B42D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da Comunicaçã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99640" y="1699920"/>
            <a:ext cx="75675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PN 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Virtual Private Network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racterísticas mínimas desejáveis para uma VPN sob o aspecto da seguranç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enticação de Usuário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renciamento de Endereço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iptografia de Dado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renciamento de Chave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orte a Múltiplos Protocol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55689-445A-43A1-9748-E8B84CA9985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da Comunicaçã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99640" y="1916280"/>
            <a:ext cx="7712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PN 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Virtual Private Network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egurança - Idéia básic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utilizar, a partir da rede pública de telecomunicações, "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únei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" de criptografia entre pontos autorizados, criados através da Internet ou outras redes existentes (públicas ou privadas) para a transferência de informações, de modo seguro, entre redes ou usuários remoto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2BCF5-C6D5-417D-9F5A-1598ECC6D5F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da Comunicaçã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6920" y="19162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PN 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Virtual Private Network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 o IPSec for utilizado no “tunelamento”, será possível agregar todo o tráfego entre dois pares de escritórios quaisquer em uma única SA autenticada e criptografada, fornecend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role de integridade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ilo 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é mesmo uma considerável imunidade à análise de tráfeg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58262-4E16-4677-822C-E0E941174B6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da Comunicaçã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71640" y="1844640"/>
            <a:ext cx="770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PN 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Virtual Private Network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ndo um sistema é criado, cada par de firewall tem de negociar os parâmetros de sua SA, incluindo os serviços, os modos, os algoritmos e as chav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rewalls, VPNs e IPSec com ESP em modo túnel formam uma combinação natural e amplamente usada na prátic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ntagem dessa forma de organização de uma VPN – completa transparência para todo o software do usuário (o administrador de sistema tem que configurar e administrar os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firewall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9ACF0-40F6-448D-A456-F9C3AC10E61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da Comunicaçã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834920" y="5084280"/>
            <a:ext cx="629748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(a) Uma rede privada de linha  dedicada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(b) Uma rede privada virtu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755640" y="2300400"/>
            <a:ext cx="7993080" cy="271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A0C51-1B6A-4B00-8341-8DBAE2FCC8B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da Comunicaçã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87280" y="191628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Segurança em Redes sem F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 alcance das redes 802.11 freqüentemente é de algumas centenas de metros – facilidade de captura de informaçõ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 rede sem fio é um sonho que se tornou realidade para o espião: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dados gratuitos sem qualquer trabalho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38381-F6E6-4CE1-B307-49B2788A445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da Comunicaçã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00000" y="1916280"/>
            <a:ext cx="763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Segurança em Redes sem F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 padrão 802.11 define um protocolo de segurança do nível de enlace de dados, chamado WEP (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Wired Equivalent Privacy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Função do WEP: criptografar os pacotes sem fio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 WEP 802.11b oferece duas formas de criptografia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40 bi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128 bits (802.11a e 802.11g incluem uma terceira variante, 152 bits).</a:t>
            </a:r>
            <a:r>
              <a:rPr b="0" lang="pt-BR" sz="3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DC467-4D36-4A7C-95B0-115EABB6A15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96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Segurança na Arquitetura TCP/IP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29" name=""/>
          <p:cNvSpPr/>
          <p:nvPr/>
        </p:nvSpPr>
        <p:spPr>
          <a:xfrm>
            <a:off x="2014560" y="2362320"/>
            <a:ext cx="1959120" cy="946440"/>
          </a:xfrm>
          <a:prstGeom prst="rect">
            <a:avLst/>
          </a:prstGeom>
          <a:solidFill>
            <a:srgbClr val="990000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rotocolo de Aplic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FTP, SMTP, HTTP, Telnet, SNMP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014560" y="3276720"/>
            <a:ext cx="1960560" cy="733320"/>
          </a:xfrm>
          <a:prstGeom prst="rect">
            <a:avLst/>
          </a:prstGeom>
          <a:solidFill>
            <a:srgbClr val="c0c0c0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CP, UD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14560" y="4800600"/>
            <a:ext cx="1977840" cy="733320"/>
          </a:xfrm>
          <a:prstGeom prst="rect">
            <a:avLst/>
          </a:prstGeom>
          <a:solidFill>
            <a:srgbClr val="99cccc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Data 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Ethernet, Token Ring, FDDI,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14560" y="4038480"/>
            <a:ext cx="1965240" cy="733320"/>
          </a:xfrm>
          <a:prstGeom prst="rect">
            <a:avLst/>
          </a:prstGeom>
          <a:solidFill>
            <a:srgbClr val="006666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14560" y="5562720"/>
            <a:ext cx="1981080" cy="733320"/>
          </a:xfrm>
          <a:prstGeom prst="rect">
            <a:avLst/>
          </a:prstGeom>
          <a:solidFill>
            <a:srgbClr val="5f5f5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ís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014560" y="2057400"/>
            <a:ext cx="1959120" cy="307080"/>
          </a:xfrm>
          <a:prstGeom prst="rect">
            <a:avLst/>
          </a:prstGeom>
          <a:solidFill>
            <a:srgbClr val="cc3300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licaçõ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5640" y="162864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segurança pode ser implementada em diversas camadas da arquitetura TCP/IP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34120" y="4608360"/>
            <a:ext cx="3457440" cy="717840"/>
          </a:xfrm>
          <a:prstGeom prst="rect">
            <a:avLst/>
          </a:prstGeom>
          <a:solidFill>
            <a:srgbClr val="99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6480" y="4608360"/>
            <a:ext cx="647640" cy="717840"/>
          </a:xfrm>
          <a:prstGeom prst="rect">
            <a:avLst/>
          </a:prstGeom>
          <a:solidFill>
            <a:srgbClr val="99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981760" y="4710240"/>
            <a:ext cx="2522520" cy="514080"/>
          </a:xfrm>
          <a:prstGeom prst="rect">
            <a:avLst/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45120" y="3527280"/>
            <a:ext cx="517680" cy="40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62800" y="3527280"/>
            <a:ext cx="1877760" cy="409680"/>
          </a:xfrm>
          <a:prstGeom prst="rect">
            <a:avLst/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627960" y="3578400"/>
            <a:ext cx="647640" cy="25524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275600" y="3578400"/>
            <a:ext cx="1100160" cy="25524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649920" y="3054240"/>
            <a:ext cx="647640" cy="2574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297560" y="3054240"/>
            <a:ext cx="1100160" cy="2574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045120" y="4762440"/>
            <a:ext cx="517680" cy="409680"/>
          </a:xfrm>
          <a:prstGeom prst="rect">
            <a:avLst/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562800" y="4762440"/>
            <a:ext cx="1877760" cy="409680"/>
          </a:xfrm>
          <a:prstGeom prst="rect">
            <a:avLst/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627960" y="4813200"/>
            <a:ext cx="647640" cy="2556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275600" y="4813200"/>
            <a:ext cx="1100160" cy="2556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98920" y="4710240"/>
            <a:ext cx="582840" cy="514080"/>
          </a:xfrm>
          <a:prstGeom prst="rect">
            <a:avLst/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981760" y="4029120"/>
            <a:ext cx="2522520" cy="512640"/>
          </a:xfrm>
          <a:prstGeom prst="rect">
            <a:avLst/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45120" y="4081320"/>
            <a:ext cx="517680" cy="409680"/>
          </a:xfrm>
          <a:prstGeom prst="rect">
            <a:avLst/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562800" y="4081320"/>
            <a:ext cx="1877760" cy="409680"/>
          </a:xfrm>
          <a:prstGeom prst="rect">
            <a:avLst/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627960" y="4132440"/>
            <a:ext cx="645840" cy="25524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73800" y="4132440"/>
            <a:ext cx="1100160" cy="25524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97480" y="4029120"/>
            <a:ext cx="584280" cy="512640"/>
          </a:xfrm>
          <a:prstGeom prst="rect">
            <a:avLst/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343400" y="5386320"/>
            <a:ext cx="4648320" cy="87804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34120" y="5486400"/>
            <a:ext cx="3458880" cy="717480"/>
          </a:xfrm>
          <a:prstGeom prst="rect">
            <a:avLst/>
          </a:prstGeom>
          <a:solidFill>
            <a:srgbClr val="99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6480" y="5486400"/>
            <a:ext cx="647640" cy="717480"/>
          </a:xfrm>
          <a:prstGeom prst="rect">
            <a:avLst/>
          </a:prstGeom>
          <a:solidFill>
            <a:srgbClr val="99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981760" y="5587920"/>
            <a:ext cx="2522520" cy="514440"/>
          </a:xfrm>
          <a:prstGeom prst="rect">
            <a:avLst/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45120" y="5640480"/>
            <a:ext cx="517680" cy="409320"/>
          </a:xfrm>
          <a:prstGeom prst="rect">
            <a:avLst/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562800" y="5640480"/>
            <a:ext cx="1877760" cy="409320"/>
          </a:xfrm>
          <a:prstGeom prst="rect">
            <a:avLst/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627960" y="5691240"/>
            <a:ext cx="647640" cy="2556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275600" y="5691240"/>
            <a:ext cx="1100160" cy="2556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98920" y="5587920"/>
            <a:ext cx="582840" cy="514440"/>
          </a:xfrm>
          <a:prstGeom prst="rect">
            <a:avLst/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238880" y="2209680"/>
            <a:ext cx="1100160" cy="255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1762920" y="4800600"/>
            <a:ext cx="179640" cy="1523880"/>
          </a:xfrm>
          <a:custGeom>
            <a:avLst/>
            <a:gdLst>
              <a:gd name="textAreaLeft" fmla="*/ -360 w 179640"/>
              <a:gd name="textAreaRight" fmla="*/ 64440 w 1796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4360" y="5300640"/>
            <a:ext cx="11523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cnolog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eterogên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77240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76760" y="3048120"/>
            <a:ext cx="87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lic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563080" y="365760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nspor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34480" y="4114800"/>
            <a:ext cx="5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95680" y="4800600"/>
            <a:ext cx="65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038840" y="5715000"/>
            <a:ext cx="5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ís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724280" y="243828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qüência de empacot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48320" y="24382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75C23-0A61-4865-A2DC-245851C683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da Comunicaçã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71640" y="1844640"/>
            <a:ext cx="770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Segurança em Redes sem F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egurança 802.11 ativa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ada estação tem uma chave secreta compartilhada com a estação base (o padrão não especifica a forma como as chaves são distribuídas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ma vez estabelecidas, em geral as chaves permanecem estáveis por meses ou ano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3F4A7-19D2-41C4-B992-D864CF623CD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da Comunicaçã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258920" y="1844640"/>
            <a:ext cx="731376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Codificação de pacotes usando a WE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"/>
          <p:cNvSpPr/>
          <p:nvPr/>
        </p:nvSpPr>
        <p:spPr>
          <a:xfrm>
            <a:off x="1332000" y="6021360"/>
            <a:ext cx="6912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Um método para romper essa abordagem foi publicado em 200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633C5-FA09-45FA-97F0-99BD5912BD9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da Comunicaçã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71280" y="184464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Segurança em Redes sem F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evido à lentidão por parte de alguns fabricantes de hardware sem fio, o WEP nem sempre é ativado por padrão, e alguns fabricantes (notavelmente a Apple) não oferecem suporte total à versão mais segura de 128 bits do WEP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 Windows 2000, o Windows XP e o Windows Server 2003 incluem recursos de segurança para WLAN que pode ser usado para reforçar a segurança do sistema sem fio, e os pontos de acesso da WLAN provavelmente podem ser configurados para serem mais seguro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54B00-21B4-442C-8B51-FCC57C2F825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da Comunicaçã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71280" y="184464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Segurança em </a:t>
            </a:r>
            <a:r>
              <a:rPr b="1" i="1" lang="pt-BR" sz="2400" spc="-1" strike="noStrike">
                <a:solidFill>
                  <a:srgbClr val="000000"/>
                </a:solidFill>
                <a:latin typeface="Verdana"/>
              </a:rPr>
              <a:t>Bluetoo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Tem um alcance bem mais curto que o 802.11 – não pode ser atacado a partir do estacionamento – mas isso não resolve o problema da seguranç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Fornece segurança em várias camadas (p.ex.: Camada física – uso de saltos de freqüência - não é secret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fetua a autenticação apenas de dispositivos, não de usuários. O furto de um dispositivo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Bluetooth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pode dar ao ladrão acesso às informaçõ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841EE-8AA3-4038-BD39-C41B1365F51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da Comunicaçã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42560" y="184464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Segurança do WAP 2.0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i="1" lang="pt-BR" sz="2400" spc="-1" strike="noStrike">
                <a:solidFill>
                  <a:srgbClr val="000000"/>
                </a:solidFill>
                <a:latin typeface="Verdana"/>
              </a:rPr>
              <a:t>Wireless Aplication Protocol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tiliza protocolos padrão em todas as camad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amada de rede - admite o uso total do IPSe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amada de transporte – proteção utilizando TLS (</a:t>
            </a:r>
            <a:r>
              <a:rPr b="1" i="1" lang="en-US" sz="1900" spc="-1" strike="noStrike">
                <a:solidFill>
                  <a:srgbClr val="000000"/>
                </a:solidFill>
                <a:latin typeface="Verdana"/>
              </a:rPr>
              <a:t>Transport Layer Security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tocolo para comunicações seguras - criptografia e autenticaçã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Bibliotecas de criptografia da camada de aplicação – controle de integridade e não-repúd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0A4D3-331B-40A0-8F86-E25662F27A4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de Correio Eletrônic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Tóp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GP (</a:t>
            </a:r>
            <a:r>
              <a:rPr b="0" i="1" lang="pt-BR" sz="2400" spc="-1" strike="noStrike">
                <a:solidFill>
                  <a:srgbClr val="000000"/>
                </a:solidFill>
                <a:latin typeface="Verdana"/>
              </a:rPr>
              <a:t>Pretty Good Privacy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EM (</a:t>
            </a:r>
            <a:r>
              <a:rPr b="0" i="1" lang="pt-BR" sz="2400" spc="-1" strike="noStrike">
                <a:solidFill>
                  <a:srgbClr val="000000"/>
                </a:solidFill>
                <a:latin typeface="Verdana"/>
              </a:rPr>
              <a:t>Privacy Enhanced Mail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/MIME (</a:t>
            </a:r>
            <a:r>
              <a:rPr b="0" i="1" lang="pt-BR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/MIM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878FC-2FFC-4F12-828A-33461EF31A0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de Correio Eletrônic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63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PGP (Pretty Good Privacy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acote completo para segurança de mensagens de correio eletrônico que fornec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rivacida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utenticaç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ssinaturas Digita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mpactaç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ão oferece recursos de correio eletrôn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istribuído gratuitamente via Internet (pacote completo incluindo código font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lataformas: UNIX, Linux, Windows e Mac 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5DB63-72CF-45EF-8D03-53B16CC818D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de Correio Eletrônic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PGP (Pretty Good Privacy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dificação: IDEA, chaves de 128 bi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Gerenciamento de chaves: RS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tegridade: MD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3A1E5-CC17-4222-B1EA-2FB695A5759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de Correio Eletrônic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476360" y="1844640"/>
            <a:ext cx="665784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O PGP em operação para enviar uma mensag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009800" y="2425680"/>
            <a:ext cx="7954920" cy="370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DD8CC-2591-4D0C-B428-17BC2653EB3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de Correio Eletrônic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85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Tamanhos de chave aceitos pelo PG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Casual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(384 bits): pode ser decifrado com facilidade atualmen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Comercial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(512 bits): pode ser decifrado por empresas de informátic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Militar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(1.024 bits): ninguém no planeta pode decifr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cc"/>
                </a:solidFill>
                <a:latin typeface="Verdana"/>
              </a:rPr>
              <a:t>Alienígena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(2.048 bits): não pode ser decifrado por ninguém de outros planet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3C19C-6B51-42CF-BFC3-447E50D73CA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07640" y="301320"/>
            <a:ext cx="677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Aplicação de Criptografia em Segurança em Rede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58920" y="1844280"/>
            <a:ext cx="7416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Localização de protocolos dentro do TCP/IP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476360" y="2781360"/>
          <a:ext cx="2422440" cy="1152360"/>
        </p:xfrm>
        <a:graphic>
          <a:graphicData uri="http://schemas.openxmlformats.org/drawingml/2006/table">
            <a:tbl>
              <a:tblPr/>
              <a:tblGrid>
                <a:gridCol w="838080"/>
                <a:gridCol w="792360"/>
                <a:gridCol w="792000"/>
              </a:tblGrid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MT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TT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NT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P/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PS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1515960" y="4078440"/>
            <a:ext cx="2303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(a) segurança de re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842000" y="4059360"/>
            <a:ext cx="2889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(b) segurança de transpor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5003640" y="2421000"/>
          <a:ext cx="2422800" cy="1530360"/>
        </p:xfrm>
        <a:graphic>
          <a:graphicData uri="http://schemas.openxmlformats.org/drawingml/2006/table">
            <a:tbl>
              <a:tblPr/>
              <a:tblGrid>
                <a:gridCol w="838440"/>
                <a:gridCol w="792000"/>
                <a:gridCol w="792360"/>
              </a:tblGrid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MT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TT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NT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S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826920" y="4579920"/>
            <a:ext cx="8066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Protocolos da camada de aplicativo dentro do TCP/I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419640" y="5013360"/>
          <a:ext cx="2303280" cy="1530360"/>
        </p:xfrm>
        <a:graphic>
          <a:graphicData uri="http://schemas.openxmlformats.org/drawingml/2006/table">
            <a:tbl>
              <a:tblPr/>
              <a:tblGrid>
                <a:gridCol w="1150560"/>
                <a:gridCol w="1152720"/>
              </a:tblGrid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/M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MT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TT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63AEF-3C75-49F1-8223-707A6639A75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de Correio Eletrônic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6920" y="1915920"/>
            <a:ext cx="6946920" cy="4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Formato de uma mensagem PGP clássic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684360" y="2697120"/>
            <a:ext cx="8386560" cy="281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8DC34-8F1F-4424-B5D7-E3825432878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de Correio Eletrônic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71280" y="1773360"/>
            <a:ext cx="777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PGP - Gerenciamento de Chaves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ada usuário mantém duas estruturas de dados localmente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um anel de chave privada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– contém um ou mais pares de chave pública/privada do usuár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um anel de chave pública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– contém as chaves públicas dos correspondentes do usuár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Obs.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Na prática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– freqüentemente as pessoas recebem chaves públicas consultando um servidor de chaves confiável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Depois da padronização do X.509, o PGP também passou a admitir esses certificados, bem como o mecanismo tradicional de anel de chaves públicas do PGP. Todas as versões do PGP têm suporte X.509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70EFD-6B76-46A9-920E-1785803F9E7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de Correio Eletrônic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42560" y="1844280"/>
            <a:ext cx="7489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rivacy-Enhanced Mail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(PE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drão da Internet para o envio de mensagens de correio eletrônico criptografada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i criada uma implementação utilizando a lógica do DES chamada de Riodan's Internet Privacy-Enhanced Mail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RIPE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criada pelo americano Mike Riorda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Grosso mod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cobre o mesmo território do PGP: privacidade e autenticidade para sistemas de correio eletrônico baseados na RFC 822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blema: falta de utilização – Quem iria operar a raiz e sob que condições? (Estrutura rígida de certificad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130B8-3063-4905-863F-131C98883FF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de Correio Eletrônic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15640" y="1773360"/>
            <a:ext cx="7559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S/M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Secure/Multipurpose Internet Mail Extension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- Especificação para manter o e-mail segur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escreve um protocolo  para a adição de serviços criptográficos de segurança por meio do encapsulamento de MIME de objetos encriptados e assinados digitalm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erviços oferecid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enticaç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ão-repúd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gridade de mensag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idencialidade de mensag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8CBAB-A449-4115-8E61-8625F035F56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de Correio Eletrônic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15640" y="177336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S/M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dmite uma variedade de algoritmos criptográfic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ermite que todos os tipos de mensagens sejam protegid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ão tem uma estrutura rígida de certificados – os usuários podem ter várias âncoras de confiança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B87D7-811E-44D1-824F-296A048E0FF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na WEB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26560" y="184464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Tóp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meaç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omenclatura segu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poofing de DNS, DNS seguro, Nomes autocertifica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SL –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Secure Sockets Lay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SET – Secure Eletronic Transa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egurança do Código Mó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egurança de miniaplicativos Java, Activ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JavaScript, Vír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D7A58-65E1-4BC5-B911-0F4B79BDC69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na WEB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Ameaç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vasão de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sit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Sites “derrubados”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– ataques de negação de serviço (p.ex.: DDoS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riação de site “espelho”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entre outr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ED986-71C8-4BF9-8F1A-83E36AF5A8B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na WEB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403280" y="1699920"/>
            <a:ext cx="35798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Nomenclatura Segu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971640" y="5877000"/>
            <a:ext cx="784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(a) Situação normal.</a:t>
            </a: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(b) Um ataque baseado na invasão do DNS </a:t>
            </a: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      e na modificação do registro de Bo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1692360" y="2141640"/>
            <a:ext cx="6551640" cy="37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9EF38-EEB1-49A5-A523-2DF06E85A31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na WEB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00000" y="1989000"/>
            <a:ext cx="792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Nomenclatura Segura - Problem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stalação de um falso endereço IP –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spoofing de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 DN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ache que contém endereço IP intensionamente falso –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cache envenenad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7247C-A608-4D7B-BC6A-9589BD9B769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na WEB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55280" y="1701720"/>
            <a:ext cx="82803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DNS Segu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inimização dos problemas de segurança de DNS – IDs aleatórias em suas consult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ossível solução - uso de DNSSec (DNS Securit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Se baseia na criptografia de chave públic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Cada zona DNS tem um par de chave pública/chave privad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Toda informação enviada por um servidor DNS é assinada com a chave privada de origem – verificação de autenticidad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erviços oferecidos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Prova de onde os dados se origina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Distribuição de chave públic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Autenticação de transação e solicitaçã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 DNSSec ainda não teve uma distribuição total  - servidores de DNS estão vulneráveis a ataques de spoofi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0B41A-1693-4882-B042-7C1C95DE141C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826560" y="1844640"/>
            <a:ext cx="7921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óp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PSe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Firewal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Redes Privadas Virtua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egurança sem f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7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Segurança de redes 802.11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7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Segurança do Bluetooth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7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Segurança do WAP 2.0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610920" y="1886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da Comunicaçã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FE1C3-60AF-4449-A850-1073284BBAD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na WEB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71280" y="1827000"/>
            <a:ext cx="7777080" cy="23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Nomes autocertifica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 DNS não é a única possibilidade para proteger nom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utra abordagem –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Secure File System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(sistema de arquivo seguro)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– não modifica o DNS e não utiliza certificados e não supõe a existência de uma PK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755640" y="4292640"/>
            <a:ext cx="8388360" cy="12333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900000" y="5734080"/>
            <a:ext cx="799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URL autocertificado contendo um </a:t>
            </a:r>
            <a:r>
              <a:rPr b="1" i="1" lang="pt-BR" sz="1600" spc="-1" strike="noStrike">
                <a:solidFill>
                  <a:srgbClr val="000000"/>
                </a:solidFill>
                <a:latin typeface="Verdana"/>
              </a:rPr>
              <a:t>hash</a:t>
            </a: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 do nome e da chave pública do servid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866DB-83E0-4D38-A94E-9DCC3872173A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na WEB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55280" y="177336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SSL (</a:t>
            </a:r>
            <a:r>
              <a:rPr b="1" i="1" lang="pt-BR" sz="2400" spc="-1" strike="noStrike">
                <a:solidFill>
                  <a:srgbClr val="000000"/>
                </a:solidFill>
                <a:latin typeface="Verdana"/>
              </a:rPr>
              <a:t>Secure Sockets Layer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rotocolo de Internet para a criptografia e autenticação baseada em sessão, fornece um canal seguro entre as duas partes (o cliente e o servidor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Fornece uma autenticação de servidor e uma autenticação opcional de cliente para evitar espionagem, adulteração e falsificação de mensagens em aplicativos cliente-servidor. Estabelece um segredo compartilhado entre as duas partes – privacidad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strói uma conexão segura entre dois soquetes, incluind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Negociação de parâmetros entre cliente e servido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utenticação mútua de cliente e servido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Comunicação secret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Proteção da integridade dos dad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9BE91-502E-4972-9D1D-22D8ACFB5AB2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na WEB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26560" y="1773360"/>
            <a:ext cx="7920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SSL (</a:t>
            </a:r>
            <a:r>
              <a:rPr b="1" i="1" lang="pt-BR" sz="2400" spc="-1" strike="noStrike">
                <a:solidFill>
                  <a:srgbClr val="000000"/>
                </a:solidFill>
                <a:latin typeface="Verdana"/>
              </a:rPr>
              <a:t>Secure Sockets Layer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amadas (e protocolos) para um usuário doméstico navegando com a SS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D8AEA-3C96-40C3-99C3-57ABF8FF3AAB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na WEB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26560" y="198900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SSL (</a:t>
            </a:r>
            <a:r>
              <a:rPr b="1" i="1" lang="pt-BR" sz="2400" spc="-1" strike="noStrike">
                <a:solidFill>
                  <a:srgbClr val="000000"/>
                </a:solidFill>
                <a:latin typeface="Verdana"/>
              </a:rPr>
              <a:t>Secure Sockets Layer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Funciona na camada de transporte (abaixo da camada de aplicativo) e independe dos protocolos dos aplicativos utilizad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rotocolos de aplicativo (HTTP, FTP, Telnet, etc.) podem estar de maneira transparente na camada da parte superior de SS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F2767-BD76-49A9-A7AF-BAEA92AFA687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na WEB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6560" y="1773360"/>
            <a:ext cx="7920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SSL (</a:t>
            </a:r>
            <a:r>
              <a:rPr b="1" i="1" lang="pt-BR" sz="2400" spc="-1" strike="noStrike">
                <a:solidFill>
                  <a:srgbClr val="000000"/>
                </a:solidFill>
                <a:latin typeface="Verdana"/>
              </a:rPr>
              <a:t>Secure Sockets Layer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HTTP utilizado sobre SSL –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HTTP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Secure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HTT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dmite uma variedade de algoritmos e opções distintas (p.ex.: presença ou ausência de compactação, quais os algoritmos criptografos serão usad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xemplos de algoritmos utilizados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DES triplo e SHA-1 (lento) – aplicações bancária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RC4 e MD5 (mais rápido) – comércio eletrônico comum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siste de 2 subprotocolos: um para estabelecer a conexão e outro para usá-l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E1E01-6B9F-4E7A-A4A5-09DF3FD261F1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na WEB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26560" y="1773360"/>
            <a:ext cx="7920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SSL (</a:t>
            </a:r>
            <a:r>
              <a:rPr b="1" i="1" lang="pt-BR" sz="2400" spc="-1" strike="noStrike">
                <a:solidFill>
                  <a:srgbClr val="000000"/>
                </a:solidFill>
                <a:latin typeface="Verdana"/>
              </a:rPr>
              <a:t>Secure Sockets Layer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lhas detectad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is incidentes bastante divulgados em 1995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chave de 40 bits usada em versões de software para exportação é vulnerável a ata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des de estações de trabalho conseguem quebrar o código em algumas semanas de trabalh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ardware especializado (possivelmente) pode realizar o mesmo em algumas hora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blema de implementaç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versão 2.0 do Navegador da Netscape usava chaves aleatórias previsíveis para gerar as chaves secreta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nsagens quebradas em apenas alguns minutos em uma estação de trabalho convenciona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C5C89-24EA-4142-8A40-E1D239BBC3E0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na WEB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00000" y="1844640"/>
            <a:ext cx="7561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SET (</a:t>
            </a:r>
            <a:r>
              <a:rPr b="1" i="1" lang="pt-BR" sz="2400" spc="-1" strike="noStrike">
                <a:solidFill>
                  <a:srgbClr val="000000"/>
                </a:solidFill>
                <a:latin typeface="Verdana"/>
              </a:rPr>
              <a:t>Secure Eletronic Transactions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specificação aberta que fornece uma estrutura para a proteção de cartões de pagamento utilizados em transações de comércio eletrônic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stá incorporado no Microsoft Outlook e em aplicativos de e-mail do Outlook Express e no Messenger do Netscap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BA4B0-1E20-459C-A8C4-A0D560960C46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na WEB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SET (</a:t>
            </a:r>
            <a:r>
              <a:rPr b="1" i="1" lang="pt-BR" sz="2400" spc="-1" strike="noStrike">
                <a:solidFill>
                  <a:srgbClr val="000000"/>
                </a:solidFill>
                <a:latin typeface="Verdana"/>
              </a:rPr>
              <a:t>Secure Eletronic Transactions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Recurs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fidencialidade das informaçõ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tegridade de da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utenticação da conta do portador de cart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utenticação de comercia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teroperabilida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15B6B-AE34-4481-81FC-2500E8CB4B80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na WEB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1600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SET (</a:t>
            </a:r>
            <a:r>
              <a:rPr b="1" i="1" lang="pt-BR" sz="2400" spc="-1" strike="noStrike">
                <a:solidFill>
                  <a:srgbClr val="000000"/>
                </a:solidFill>
                <a:latin typeface="Verdana"/>
              </a:rPr>
              <a:t>Secure Eletronic Transactions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articipan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miss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ortador do cart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mercia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dquir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ortal de pagam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EE953-3FF4-4BE7-819D-C2F452353718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na WEB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55280" y="1773000"/>
            <a:ext cx="8209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2300" spc="-1" strike="noStrike">
                <a:solidFill>
                  <a:srgbClr val="000000"/>
                </a:solidFill>
                <a:latin typeface="Verdana"/>
              </a:rPr>
              <a:t>Segurança do código móvel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 - Miniaplicativos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Vantagens da interpretaç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Verificar se o endereço da instrução é váli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s chamadas ao Sistema são captadas e interpretad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Quando um miniaplicativo tentar usar um recurso do sistema, sua chamada é repassada a um monitor de segurança para aprovaç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Miniaplicativo Confiável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(veio do disco local) – as chamadas são executada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Miniaplicativo não-confiável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(veio da Internet) – pode ser encapsulado em uma sandbox (caixa de areia) para limitar seu comportamento e bloquear tentativas de usar os recursos do sistema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Problema: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o modelo de segurança funciona mal e os bugs são constant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82987-34B2-4817-9ECE-C7FEEC69A7B7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da Comunicaçã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6000" y="198900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ualmente o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Internet Protoco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IP) possui diversas vulnerabilidades ainda muito exploradas, permitindo por exemplo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onitoração não autorizada de pacotes d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dos trocados entre dois hosts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exploração de aplicações cuja autenticação é feita baseada no endereço IP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Solução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IPSe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96D51-C3DC-4262-B1E1-AA6BAB0EBBC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na WEB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00000" y="1844640"/>
            <a:ext cx="79200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Segurança do código móvel – </a:t>
            </a:r>
            <a:r>
              <a:rPr b="1" i="1" lang="pt-BR" sz="2400" spc="-1" strike="noStrike">
                <a:solidFill>
                  <a:srgbClr val="000000"/>
                </a:solidFill>
                <a:latin typeface="Verdana"/>
              </a:rPr>
              <a:t>Active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ão programas binários que podem ser incorporados às páginas Web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ActiveX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encontrado – realizada uma verificação para saber se deve ser executado ou nã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etodologia utilizada pela Microsoft –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ssinatura de código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(um hash do código assinado pelo criador do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ActiveX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com o uso de criptografia de chave pública) –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Authenticode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A778F-FCB5-4DAC-BF7B-3F542A0AE2E2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na WEB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00000" y="1916280"/>
            <a:ext cx="78487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Segurança do código móvel – </a:t>
            </a:r>
            <a:r>
              <a:rPr b="1" i="1" lang="pt-BR" sz="2400" spc="-1" strike="noStrike">
                <a:solidFill>
                  <a:srgbClr val="000000"/>
                </a:solidFill>
                <a:latin typeface="Verdana"/>
              </a:rPr>
              <a:t>Active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bordagem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ActiveX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- verifica apenas se o criador é confiáve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bordagem Java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– não determina o criador e certifica-se de que o miniaplicativo não executa ações que o proprietário da máquina afirmou que os miniaplicativos não poderiam executa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6FE2E-07FE-452C-A758-BB995F27C902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na WEB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99640" y="1916280"/>
            <a:ext cx="79930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Segurança do código móvel – </a:t>
            </a:r>
            <a:r>
              <a:rPr b="1" i="1" lang="pt-BR" sz="2400" spc="-1" strike="noStrike">
                <a:solidFill>
                  <a:srgbClr val="000000"/>
                </a:solidFill>
                <a:latin typeface="Verdana"/>
              </a:rPr>
              <a:t>JavaScrip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ão possui nenhum modelo de segurança form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ada fornecedor cuida da segurança ao seu mod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xemplo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Netscape Navigator 2 (algo similar ao modelo do Jav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Netscape Navigator 4 (modelo de assinatura de código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uitos projetistas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Web site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acham que as vantagens oferecidas pelo código móvel (imagens gráficas, interação rápida) são mais importantes que a seguranç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499F8-6C83-4989-987A-73DE1DC23568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na WEB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00000" y="1916280"/>
            <a:ext cx="80647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Segurança do código móvel – </a:t>
            </a:r>
            <a:r>
              <a:rPr b="1" i="1" lang="pt-BR" sz="2400" spc="-1" strike="noStrike">
                <a:solidFill>
                  <a:srgbClr val="000000"/>
                </a:solidFill>
                <a:latin typeface="Verdana"/>
              </a:rPr>
              <a:t>Vír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utra forma de código móve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esenvolvidos para se reproduzi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ormalmente infecta arquivos executáveis (não apena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Quando o programa é executado, o controle é transferido para o vírus, que pode, por exempl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Se difundir para outras máquinas enviando cópias de si mesm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fetar o setor de inicialização do disco rígi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olução: não é óbvia!!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ECA99-9ACC-48E0-89B2-8AE2189D062D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Segurança 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86920" y="1916280"/>
            <a:ext cx="5040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“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É fácil ter-se um sistema de computação seguro. Você meramente tem que desconectar o seu sistema de qualquer rede externa, e permitir somente terminais ligados diretamente a ele. Colocar a máquina e seus terminais em uma sala fechada, e um guarda na porta.“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.T. Grampp e R.H. Morr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7020000" y="4941720"/>
            <a:ext cx="142884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3F8C8-E4E2-449C-A5CF-21AEA89FBFA6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da Comunicaçã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6560" y="1773360"/>
            <a:ext cx="7921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IPSec (IP Security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 segurança na camada de rede engloba duas áreas funcionais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utenticação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privacidade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utenticação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- garante que um pacote recebido foi de fato transmitido pelo nó identificado como origem no cabeçalho do pacote. Além disso, esse mecanismo também assegura que o pacote não foi alterado enquanto transitava pela red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Privacidade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- permite que sejam criptografadas mensagens de modo a evitar que essas possam ser interceptadas e lidas por terceir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0064E-D165-4D30-8ACE-DF590F7F42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da Comunicaçã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26920" y="1773360"/>
            <a:ext cx="8028000" cy="44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IPSec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IP Security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strutura de padrões abertos para assegurar na rede de IP uma comunicação privada segur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ssegura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 confidencialidade, integridade e autenticidade para a comunicação de dados em uma rede pública de IP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acote encriptado de IPSec – similar ao pacote comum  de IP (redução de custos de implementação e de gerenciamento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1187280" y="6021360"/>
            <a:ext cx="7272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Vantagem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: Transparente para o usuário (utiliza a camada de red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822EA-700C-4305-B580-C4723A11AFB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Segurança da Comunicaçã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71640" y="1773360"/>
            <a:ext cx="7883280" cy="44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IPSec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IP Security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strutura para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vários serviço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lgoritmo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granularidade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Principais serviço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igil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tegridade de da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roteção contra ataques de reproduç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erviços baseados em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criptografia de chave simétrica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– alto desempenho é importan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F3974-1F6E-4F0E-B969-6D685C0AAD8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8T10:28:21Z</dcterms:created>
  <dc:creator>Paqtc-pb</dc:creator>
  <dc:description/>
  <dc:language>en-US</dc:language>
  <cp:lastModifiedBy>Joseana Macedo Fechine</cp:lastModifiedBy>
  <dcterms:modified xsi:type="dcterms:W3CDTF">2005-02-25T12:15:14Z</dcterms:modified>
  <cp:revision>871</cp:revision>
  <dc:subject/>
  <dc:title>Segurança da Informação</dc:title>
</cp:coreProperties>
</file>