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9.png" ContentType="image/png"/>
  <Override PartName="/ppt/media/image5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445B-E2D1-49EB-9053-DBCE65543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4D51-9775-4ABA-ADDA-9C9CA3630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43E8-6CF0-4FAF-9E28-E5AB11815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5A3F-37E4-487A-9E0E-3985E8239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7F2BF-C30B-4205-9D75-2536BD6B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A7221-C8B9-4F0D-89F9-F38D1E7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276C-8E88-4FA9-BC3E-230E7764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9EF24-52BA-4CAB-82EB-8D318D7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DC079-7B3B-405A-AB60-D7C2705C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F91BF-02F7-4170-8E43-3C3DED6C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18F34-CF91-4FEE-B821-5290EA1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A7D9-30CF-43F1-B5CD-DF0DD59FE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DDAE3-728F-4CBE-B60F-BF5CF581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1AE2B-2E38-4243-8DB7-74C91C9D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0EBAD-A02D-41B2-BBDA-FEA046CE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E2491-DE07-4416-9F90-70067F49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E886A-174B-40BF-B28C-8870C573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17C5-AD87-4578-BE98-A8498FA91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97F5-AE8D-4A98-9912-7E2979C70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7D76-09C7-4C8A-87F8-F8CD0D5F5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731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9CD6-4D99-4B0B-B73E-330727ECD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31E2-66F6-4D97-A609-17569FD74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D214-6634-47F8-854D-AED04C6FC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9DED-32F5-4445-A405-D3406891A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9280" y="6356520"/>
            <a:ext cx="403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910F-D8D4-499F-8981-888EA14A85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370-51A5-4024-966E-A82521295E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1.xml"/><Relationship Id="rId6" Type="http://schemas.openxmlformats.org/officeDocument/2006/relationships/slide" Target="slide43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umaboa.com.br/criptologia/historia/geremia.php" TargetMode="External"/><Relationship Id="rId2" Type="http://schemas.openxmlformats.org/officeDocument/2006/relationships/hyperlink" Target="http://www.numaboa.com.br/criptologia/historia/geremia.php" TargetMode="External"/><Relationship Id="rId3" Type="http://schemas.openxmlformats.org/officeDocument/2006/relationships/hyperlink" Target="http://www.numaboa.com.br/criptologia/historia/geremia.ph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5136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3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94280"/>
            <a:ext cx="792360" cy="763560"/>
            <a:chOff x="5506920" y="589428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9428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4620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5736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4528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11064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3640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3640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3640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3640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7920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7524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7136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7712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7604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2968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448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5668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6712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7468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8332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8836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9088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9124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9124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8728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8512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7936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7108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6424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5416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4552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3508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24468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493560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79218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487 a.C. -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astão de Licu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remetente escreve a mensagem ao longo do bastão e depois desenrola a tira, a qual então se converte numa sequência de letras sem sentido. O mensageiro usa a tira como cinto, com as letras voltadas para dentro. O destinatário, ao receber o "cinto", enrola-o no seu bastão, cujo diâmetro é igual ao do bastão do remetente. Desta forma, pode ler a mensagem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92360" y="4437000"/>
            <a:ext cx="640872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652D-8E6A-4D37-AB58-759C99AFA3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96728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± 240 a.C - Crivo de Erastóten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m dos meios mais eficientes de achar todos os números primos pequenos, por exemplo os menores que 10.000.000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ta fazer uma lista com todos os inteiros maiores que um e menores ou igual a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e riscar os múltiplos de todos os primos menores ou igual à raiz quadrada de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n½).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Os números que não estiverem riscados são os números primo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xemplo: D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terminar os primos menores ou igual a 2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6912000" y="1836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12000" y="2906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12000" y="40561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12000" y="52084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10160" y="2341440"/>
            <a:ext cx="3240000" cy="490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581800" y="3411360"/>
            <a:ext cx="3240000" cy="501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581800" y="4689360"/>
            <a:ext cx="3240000" cy="51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581800" y="5711760"/>
            <a:ext cx="316692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9CB5-53F0-41D0-97D8-93A25C981A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7993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± 150 a.C -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Código de Políb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da letra é representada pela combinação de dois números, os quais se referem à posição ocupada pela letra. Desta forma, A é substituído por 11, B por 12...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mensagem pode ser transmitida com dois grupos de 5 tochas. Por exemplo, a letra E é transformada em 1 e 5  e pode ser transmitida com 1 tocha à direita e 5 à esquerd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 sistema de telecomunicação - um telégrafo ótic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419640" y="4221000"/>
          <a:ext cx="28810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221000"/>
                    <a:ext cx="2881080" cy="230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3761-2248-4684-A515-FB37DD892E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753920"/>
            <a:ext cx="828036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50 a.C. - Código de Cés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da letra da mensagem original é substituída pela letra que a seguia em três posições no alfabeto: a letra A substituída por D, a B por E, e assim até a última letra, cifrada com a primeir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Único da antiguidade usado até hoje, apesar de representar um retrocesso em relação à criptografia existente na époc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ominação atual para qualquer cifra baseada na substituição cíclica do alfabeto: Código de Cés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4508640"/>
            <a:ext cx="2016000" cy="19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971640" y="4149720"/>
          <a:ext cx="5832360" cy="5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149720"/>
                    <a:ext cx="5832360" cy="522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AE96-2E0E-41FC-9FED-4B9F28C181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777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lvl="1" marL="252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por Máqui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-96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tabela predeterminada era usada em conjunto com uma máquina, em que o operador desta, usando a tabela e manipulando a máquina, podia enviar uma mensagem criptografa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-96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s de máquinas de criptograf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ilindro de Jefferson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ódigo Mo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ódigo Bra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O Código ASC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Máquina Enig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2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Máquina Coloss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8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537F-949F-4E8B-85C8-D698FCA5A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1835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 cilindro de Jefferson (Thomas Jefferson, 1743-1826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 sua forma original, é composto por 26 discos de madeira que giram livremente ao redor de um eixo central de metal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vinte e seis letras do alfabeto são inscritas aleatoriamente na superfície mais externa de cada disco de modo que, cada um deles, possua uma sequência diferente de letra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rando-se os discos pode-se obter as mensage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345600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9B7C-1083-4FC4-9391-A19852741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muel Mor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791-187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desenvolve o código que recebeu o seu nom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 verdade não é um código, mas sim um alfabeto cifrado em sons curtos e long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se também foi o inventor do telégraf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541680" cy="227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8F38-3179-461D-A09A-A3456EACA4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uis Brail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809-185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ódigo Brail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siste de 63 caracteres, cada um deles constituído por 1 a 6 pontos dispostos numa matriz ou célula de seis posiçõ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 Sistema Braille é universalmente aceito e utilizado até os dias de hoj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48360" y="2637000"/>
          <a:ext cx="33112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637000"/>
                    <a:ext cx="3311280" cy="2638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FE71-BCD2-46A4-BC74-1BEF3C334A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2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ódigo ASC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ottfried Wilhelm v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ibniz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1646-1716) inventou o cálculo diferencial e integral, a máquina de calcular e descreveu minuciosamente 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stema binár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a máquina de calcular usava a escala binária. Esta escala, obviamente mais elaborada, é utilizada até hoje e é conhecida como códig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CII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merican Standard Code for Information Interchange)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permitiu que máquinas de diferentes fabricantes trocassem dados entre s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2852640"/>
            <a:ext cx="3967200" cy="206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2888-552A-4347-98E7-66712C0194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0656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áquina Enigma (19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áquina cifrante baseada em rotor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</a:rPr>
              <a:t>Foi um dos segredos mais bem guardados na Segunda Grande Guerra, usada pelos Alemães para proteger as comunicações entre o comando e as embarcações navais.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1940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(Alan Turing e sua equipe) – construção do primeiro computador operacional para o serviço de inteligência britânico -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Heath Robins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Heath Robinson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- utilizava tecnologia de relés e foi construído especificamente para decifrar mensagens alemãs (durante a Segunda Guerra Mundial) cifradas pela máquina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nigma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2349360" cy="31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C53D-EBC0-4B92-BD4E-6B20951254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- Fundamen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erminolog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istór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steganografia - Fundamen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reve Histór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ormas de Utiliz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– Segurança da Inform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DB1D-045A-4310-A1A1-A74160EE5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30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1943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ingleses (Alan Turing) desenvolvem uma nova máquina para substituir o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Heath Robinson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loss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48280" y="3141720"/>
            <a:ext cx="4240080" cy="29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0F1C-E6C3-459F-96A0-63299421CB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74560" y="1699920"/>
            <a:ext cx="8569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em rede (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ensagem é criptografada usando-se algoritm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o advento da internet e sua popularização, a criptografia em rede tem sido responsável pelo surgimento/fortalecimento do comércio eletrôn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DE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ata Encryption Stand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da IB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O RSA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ald Rivest, Adi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mir e Leonar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lem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O PGP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de Phil Zimmer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as codificações (nas telecomunicações: celulare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satélites, etc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E4BE-1BAC-4349-87C2-399D70493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918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lvl="1" marL="540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sões da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-25164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-25164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C9CD-6604-4CEB-AA22-24E18D8B18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748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fra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5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316080"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neira banal de tentar ocultar informações de pessoas leigas no assu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5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316080"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jogo criptograma - a pessoa deve chegar a identificar uma frase analisando certos símbo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5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3827520"/>
          <a:ext cx="446400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827520"/>
                    <a:ext cx="4464000" cy="2697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B4C6-A242-4B92-8D46-A069ADC6B4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08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lvl="1" marL="437040" indent="-203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For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04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-19404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alta complexidade que visa manter as informações ocultas mesmo sob intensa verificação de super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-19404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feita de duas form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864720" indent="-16524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s públic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u 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s priv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-19404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PGP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024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589720"/>
            <a:ext cx="799308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Geralmente, a maneira mais fácil de determinar se um algoritmo é forte ou fraco consiste em publicar sua descrição, fazendo com que várias pessoas possam discutir sobre a eficiência ou não dos métodos uti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21E7-7FEC-48FB-9462-26384C4C1C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209080" cy="14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lvl="1" marL="540000" indent="-251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have públic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- a forma de criptografia é passada publicamente, para diversas pessoas, porém a maneira de descriptografá-las fica apenas com a pessoa/empresa que criou a chav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0000" indent="-251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have privad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- o criador é o único que sabe como codificar e decodificar, somente poderão ler ou esconder a informação aqueles a quem ele passar as instruções para fazê-l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8A46-F0D9-4049-8449-41516587D0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5075280" y="6524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4654440"/>
            <a:ext cx="1871640" cy="503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4654440"/>
            <a:ext cx="1944720" cy="503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3790800"/>
            <a:ext cx="2590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3790800"/>
            <a:ext cx="12240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0360" y="3790800"/>
            <a:ext cx="151128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2925720"/>
            <a:ext cx="2232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2925720"/>
            <a:ext cx="215892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2133720"/>
            <a:ext cx="2159280" cy="50472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263844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2781360"/>
            <a:ext cx="388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27828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278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88000" y="364824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364824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64824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45115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45115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6464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451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34304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67280" y="42958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278136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364644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515772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54468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5448240"/>
            <a:ext cx="0" cy="6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5446800"/>
            <a:ext cx="0" cy="6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206800"/>
            <a:ext cx="7488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PT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ÓDIGO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IFRA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ESTEGA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Transposiçã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Substit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onoalfabética       Polialfabétic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1332000" y="38624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3419640" y="38624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2268360" y="4726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5" action="ppaction://hlinksldjump"/>
          </p:cNvPr>
          <p:cNvSpPr/>
          <p:nvPr/>
        </p:nvSpPr>
        <p:spPr>
          <a:xfrm>
            <a:off x="4643280" y="4726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5796000" y="38624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6093000"/>
            <a:ext cx="806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ifra considerada inviolável: Cifra (ou chave) de uso único (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one-time-pad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7" action="ppaction://hlinksldjump"/>
          </p:cNvPr>
          <p:cNvSpPr/>
          <p:nvPr/>
        </p:nvSpPr>
        <p:spPr>
          <a:xfrm>
            <a:off x="7020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4007-047F-4986-8889-FDF049BF51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9280" y="1755720"/>
            <a:ext cx="8209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lvl="1" marL="44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as de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-2077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 códig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procura esconder o conteúdo da mensagem através de códigos pré-definidos entre as partes envolvidas na troca de mensagens (substitui uma palavra por outra palavra ou símbol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-2077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ódigo utilizado pelas forças armadas dos EUA na 2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uerra Mundial. Utilizado pelos índios navajo que se comunicavam uns com os outros usando palavras navajo específicas para termos militares (exemplo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y-dagahi-nail-tsaid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assassino de cágado – indicar arma antitanqu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4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6165720"/>
            <a:ext cx="7561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arte da História do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índios navajo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oderá ser vista no filme </a:t>
            </a:r>
            <a:r>
              <a:rPr b="1" i="1" lang="pt-BR" sz="1400" spc="-1" strike="noStrike">
                <a:solidFill>
                  <a:srgbClr val="000000"/>
                </a:solidFill>
                <a:latin typeface="Verdana"/>
              </a:rPr>
              <a:t>Códigos de Guerr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36B7-9DD2-481C-8D70-F5E4F92E819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11280" y="1684440"/>
            <a:ext cx="8208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lvl="1" marL="36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as de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-1677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 cif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o conteúdo da mensagem é cifrado através da mistura e/ou substituição das letras da mensagem original. Transformação de caractere por caractere (ou de bit por bit). Não considera a estrutura lingüística da mensagem. A  mensagem é decifrada fazendo-se o processo inverso ao ciframe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-1677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ifras Hebráic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-1677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43960" indent="-1598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 Transposiçã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43960" indent="-1598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 Substituiçã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AE1C-7C14-4548-8BE5-137030F0F64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4920" y="2060640"/>
            <a:ext cx="8209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s de Transposiçã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 método pelo qual o conteúdo da mensagem é o mesmo, porém com as letras postas em ordem diferente (permutadas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 pode-se cifrar a palav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carr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e escrevê-la como ORAR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5D3A-74F3-484B-BB55-F44730A2BE4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Conjunto de técnicas que permitem tornar “incompreensível” uma mensagem originalmente escrita com clareza, de forma a permitir que apenas o destinatário a decifre e a compreen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do grego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kryptos 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ály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omposiçã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- ciência que estuda a decomposição do que está oculto ou a 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br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do sistema criptográfic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riptologi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Criptografia + Criptoanáli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2555-3568-47A7-9169-88407D9AF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734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a cifra de transpos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297920" cy="3144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995640" y="2925720"/>
            <a:ext cx="165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cla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4100400"/>
            <a:ext cx="194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cif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2205000"/>
            <a:ext cx="2736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421000"/>
            <a:ext cx="165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64000" y="2446200"/>
            <a:ext cx="503280" cy="46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36000" y="1916280"/>
            <a:ext cx="1728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Lido em colunas, a partir da coluna cuja letra da chave é a mais baixa (mais próxima do início do alfabe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516720" y="3860640"/>
            <a:ext cx="719280" cy="578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5734080"/>
            <a:ext cx="748836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ifra de blocos de 64 caracte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Saída: 4, 12, 20, 28, 36, 44, 52, 60, 5, 13, ..., 6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E25F-56ED-4C06-9092-2C4E26FB11C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09080" cy="14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lvl="1" marL="462600" indent="-215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s de Substituição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 troca-se cada letra ou grupo de letras da mensagem de acordo com uma tabela de substituiçã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-21564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Tipo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simples, monoalfabética ou Cifra de Cés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polialfabé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por desloc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587160" y="3330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4607-7650-477A-A963-312DF9281ED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42560" y="1827360"/>
            <a:ext cx="8893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lvl="1" marL="419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ifra de substituição simples, monoalfabét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o cifra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substitui-se cada caractere do texto claro por outro, de acordo com uma tabela pré-estabeleci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tém a freqüência relativa dos caracte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ptografia contemporânea (uso de computadores) - substitui-se caracteres por blocos de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-19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vamente segura em textos muito curtos. Uma simples criptanálise estatística, baseada na característica estatística da língua, é suficiente para decifrar o tex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8945-75A7-427B-BC59-773A07F5917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7640" y="1844640"/>
            <a:ext cx="8496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lvl="1" marL="419760" indent="-195840" algn="just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ifra de substituição simples, monoalfabética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197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-18648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ogrâm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nográfica) - cada letra da mensagem original é substituída por apenas uma outra letra, número ou símbol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-18648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omprimento da mensagem cifrada é o mesmo da mensagem origi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34680" indent="-1864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Utilizando 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ódigo de César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ta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é criptogrado como DWDTX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051A-69DE-4357-84BC-3CA669AF201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da símbolo (letra) é substituído por ou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or função matemá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or tabe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iderando 26 letra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em-se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26!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possibilidades (cerca de 4x10</a:t>
            </a:r>
            <a:r>
              <a:rPr b="0" lang="pt-BR" sz="2100" spc="-1" strike="noStrike" baseline="30000">
                <a:solidFill>
                  <a:srgbClr val="000000"/>
                </a:solidFill>
                <a:latin typeface="Verdana"/>
              </a:rPr>
              <a:t>26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m 1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por tentativa, são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necessários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pt-BR" sz="21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nos para experimentar todas as chav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6C28-A125-4E02-B8FA-5DCC3A7F762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ifra de desloca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alização da cifra de Cés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da c = (m + k) mod 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 : texto cifr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: texto cla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k: chave (deslocamen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: quantidade de símbolos ou letr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ifra de Cés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 = (m + 3) mod 2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teste de uma cifra de ces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whvwh gh xpd fliud gh fhvd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0CB2-26FF-42EE-A32D-C96BAFBAA99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(Exempl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ito poucas tentativas (só 2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Courier New"/>
              </a:rPr>
              <a:t>alzal kl bth jpmyh kl klzsvjhtluz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Courier New"/>
              </a:rPr>
              <a:t>zkyzk jk asg iolxg jk jkyruigskt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Courier New"/>
              </a:rPr>
              <a:t>yjxyj ij zrf hnkwf ij ijxqthfrjsy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xiwxi hi yqe gmjve hi hiwpsgeqirx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99"/>
                </a:solidFill>
                <a:latin typeface="Courier New"/>
              </a:rPr>
              <a:t>whvwh gh xpd fliud gh ghvorfdphqw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00"/>
                </a:solidFill>
                <a:latin typeface="Courier New"/>
              </a:rPr>
              <a:t>vguvg fg woc ekhtc fg fgunqecogpv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Courier New"/>
              </a:rPr>
              <a:t>uftuf ef vnb djgsb ef eftmpdbnf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este de uma cifra de desloca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21F2-F414-46A1-991B-7989749B386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71280" y="1611360"/>
            <a:ext cx="8964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lvl="1" marL="385560" indent="-17964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simples, monoalfabética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igrâm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poligráfica) = vários caracte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itui um ou mais caracteres da mensagem original por uma ou mais letras, números ou símbol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5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imento da mensagem cifrada nem sempre é o mesmo da mensagem origin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968760" indent="0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ituição homofônica ("mesmo som”) - sequências diferentes de letras pronunciadas de forma semelh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968760" indent="0">
              <a:spcBef>
                <a:spcPts val="7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uz um único símbolo do texto claro para um de muitos símbolos cifrados, todos com o mesmo signifi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 algn="just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-1713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cifra de Babou (substituir uma letra por um de vários símbolos)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b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corresponder a MÃE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rresponder a JK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7DBE-26F3-4DF6-9E5C-3D77502280E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5694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lvl="1" marL="462600" indent="-21564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 de substituição simples, monoalfabética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626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stemas tomogrâm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cada letra é representada por um grupo de duas ou mais letras ou númer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s letras ou números são obtidos através de uma cifragem por substituição ou por transposição separ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99120" indent="-20556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 Código de Políb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3224-6352-4D00-9DC7-E21FDC94439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425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lvl="1" marL="411120" indent="-19188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 de substituição polialfabétic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111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stituição polialfabét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utiliza múltiplos alfabetos para a substituição de uma mesma mensa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0" algn="just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alfabetos não precisam necessariamente ser de origens diferentes. O simples fato de alterar a ordem na sequência das letras já caracteriza um "novo" alfabe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0" algn="just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iculta a interpretação do texto cifrado pela aplicação da análise de frequênci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0" algn="just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621720" indent="-1825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Disco de Alber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DA31-0A46-4A67-8E38-A075E274FEB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1989000"/>
            <a:ext cx="7921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ré-requisitos da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oria de Núm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temática Discr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oria da Inform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oria de Probabi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lexidade Comput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cessamento de Si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DBAA-7ED5-4BE3-98C6-4F57F6664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40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9996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 de substituição polialfabética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isco de Alber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456000" cy="330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8820000" y="6551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CD7C-CC08-4E92-852F-C8C08666B82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06472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lvl="1" marL="325440" indent="-151920" algn="just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ifra (ou chave) de uso único (</a:t>
            </a:r>
            <a:r>
              <a:rPr b="1" i="1" lang="pt-BR" sz="2100" spc="-1" strike="noStrike">
                <a:solidFill>
                  <a:srgbClr val="000000"/>
                </a:solidFill>
                <a:latin typeface="Verdana"/>
              </a:rPr>
              <a:t>one-time-pad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325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-1447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fra inviolá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0" algn="just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-1447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écn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644040" indent="-123120" algn="just">
              <a:spcBef>
                <a:spcPts val="451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olher como chave um string de bits aleató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644040" indent="-123120" algn="just">
              <a:spcBef>
                <a:spcPts val="451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verter o texto simples em um string de bits (utilizando´o Código ASCII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644040" indent="-123120" algn="just">
              <a:spcBef>
                <a:spcPts val="451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lcular o OR exclusivo (XOR) dos dois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492120" indent="-144720" algn="just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mune a ataqu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Teoria da Informação – não existe nenhuma informação na mensagem, todos os textos possíveis com o tamanho dado são igualmente prová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1C28-E808-4A5D-BF8D-D10E045DA85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186920" y="170028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so de uma chave única para criptografia e a possibilidade de conseguir texto simples que seja possível a partir do texto cifrado pela utilização de alguma outra ch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–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1280" y="3895560"/>
            <a:ext cx="8424360" cy="1576440"/>
            <a:chOff x="611280" y="3895560"/>
            <a:chExt cx="8424360" cy="157644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826920" y="3982680"/>
              <a:ext cx="82087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11280" y="3895560"/>
              <a:ext cx="1007640" cy="7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Mensagem 1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Chave 1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Texto cifrado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280" y="4927320"/>
              <a:ext cx="115236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82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Chave 2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Verdana"/>
                </a:rPr>
                <a:t>Texto simples 2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476360" y="30211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I love you”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vertida em ASCII de 7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86920" y="3452760"/>
            <a:ext cx="36036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79640" y="56134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lvis lives”  ??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402920" y="5468400"/>
            <a:ext cx="36036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19280" y="3884760"/>
            <a:ext cx="73080" cy="50472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763280" y="3716280"/>
            <a:ext cx="360360" cy="239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352440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peração 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B7F6-9481-4AAE-AA83-5CF9BA377C8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6720" y="2884320"/>
            <a:ext cx="3024360" cy="2776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16000" y="1052640"/>
            <a:ext cx="3025800" cy="29955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87280" y="1969920"/>
            <a:ext cx="7272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Esteganograf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eganos = cober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grapho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graf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unicação secreta por ocultação de mensag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5641920"/>
            <a:ext cx="8277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impulso para descobrir segredos está profundamente enraizado na natureza humana. Mesmo a mente menos curiosa é estimulada pela perspectiva de compartilhar o conhecimento oculto aos outros” (John Chadwic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01080" y="1268280"/>
            <a:ext cx="718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67280" y="1413000"/>
            <a:ext cx="4392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89E1-564B-4942-AD96-513420540CB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75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steganografia x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esconde o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nteú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 mensagem. Normalmente é conhecida a existência da mensa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steganografia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conde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stênc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 mensag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urança adicional pode ser obtida combinando-s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eganografia + criptograf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C08E-46AC-4B6C-8188-4A125D32538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</a:t>
            </a:r>
            <a:r>
              <a:rPr b="0" i="1" lang="pt-BR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  Cript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07" name=""/>
          <p:cNvSpPr/>
          <p:nvPr/>
        </p:nvSpPr>
        <p:spPr>
          <a:xfrm>
            <a:off x="1601640" y="5479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7840" y="5479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egan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106960" y="2508120"/>
          <a:ext cx="335268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6960" y="2508120"/>
                    <a:ext cx="335268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826920" y="2708280"/>
          <a:ext cx="4192920" cy="21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419292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487160" y="169704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steganografia x Crip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2C03-763B-457B-A50C-BAD8AA5FDD2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hando popularidade na indústr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rca D’águ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utores de imagens, músicas e softwares podem esconder uma marca registrada em seu produ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essão Digit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esconder números de série ou um conjunto de características que diferenciam um objeto de seu simil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ualmente é utilizada na luta contra a pirataria, ataques e terrorismo cibernét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C9D8-02A3-4814-B49D-70D175B7F88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Formas de Obten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rcação de carac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nta Invisí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quenos furos no pap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derna Estegan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o de bits não signific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rea não us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B715-81EE-4350-B044-A218EFD6503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0840" y="190620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Escrever uma mensagem com suco de limão, esperar secar e aquecer o pape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390680" y="3354480"/>
          <a:ext cx="27147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3354480"/>
                    <a:ext cx="27147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971960" y="3354480"/>
          <a:ext cx="2705040" cy="20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3354480"/>
                    <a:ext cx="270504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924200" y="55641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1800" y="55641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p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20C1-F932-42C4-A6B8-071900DACAB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Esteganografia - Fundamen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7200" y="2020680"/>
            <a:ext cx="79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édula de R$10,00, vista contra a luz mostra a Bandeira do Bras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209088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4267440" cy="196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776160" y="3697200"/>
          <a:ext cx="15685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6160" y="3697200"/>
                    <a:ext cx="1568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3665520" y="3925800"/>
            <a:ext cx="762120" cy="990720"/>
          </a:xfrm>
          <a:prstGeom prst="flowChartConnector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2529000" y="4154040"/>
            <a:ext cx="838080" cy="6858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66F7-AC83-41CC-BF12-8BB8D62F2E4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00000" y="1630440"/>
          <a:ext cx="7775640" cy="4967280"/>
        </p:xfrm>
        <a:graphic>
          <a:graphicData uri="http://schemas.openxmlformats.org/drawingml/2006/table">
            <a:tbl>
              <a:tblPr/>
              <a:tblGrid>
                <a:gridCol w="3598920"/>
                <a:gridCol w="41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o claro, simples (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in text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ou mensa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gem 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fração ou cript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o de “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baralhar”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 mensagem de forma a ocultar seu conteúdo de out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o cifrado (</a:t>
                      </a:r>
                      <a:r>
                        <a:rPr b="1" i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pher text, Encrypted Text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ou cript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gem cif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ifração ou descript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o inverso de recuperação da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ge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 partir d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ve criptográ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âmetro de controle. Segredo por meio do qual a mensagem pode ser cifrada ou decif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7160" y="1980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Terminolog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2F4F-6235-40B4-B251-F810AE2A6E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– Breve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écia antig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éculo 5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.C.) - Primeiro rela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tiaeus era prisioneiro do Rei Davi e enviou uma mensagem para seu cunhado tatuada em seu escra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eratus notificou Sparta que os Xerxes iriam invadiar a Grécia e escreveu uma mensagem numa mesa e a cobriu com c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Guerra Mund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os alemães escondiam mensagens utilizando tinta invisível, tais como, suco de frutas, leite e ur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mensagens eram escondidas nas linhas em branco entre linhas de textos aparentemente inofensi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EF39-728A-4E9B-A7BA-CE03E0046F7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- Formas de utiliz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92280" y="179856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ganografia pode ser utilizada em textos, imagens, áudio e mais recentemente em pacotes TCP/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844560" y="501336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magem da esquerda possui (8.0Kb) e não contém dados escond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magem da direita possui (13.0Kb) e contém 5Kb de textos escond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Monster Truck"/>
          <p:cNvPicPr/>
          <p:nvPr/>
        </p:nvPicPr>
        <p:blipFill>
          <a:blip r:embed="rId1"/>
          <a:stretch/>
        </p:blipFill>
        <p:spPr>
          <a:xfrm>
            <a:off x="1301760" y="2651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Monster Truck"/>
          <p:cNvPicPr/>
          <p:nvPr/>
        </p:nvPicPr>
        <p:blipFill>
          <a:blip r:embed="rId2"/>
          <a:stretch/>
        </p:blipFill>
        <p:spPr>
          <a:xfrm>
            <a:off x="4959360" y="26510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1446-D1F3-4B38-BFF9-F58D0CF0964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tex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écnic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locamento de linhas vertic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locamento de palavras em textos justif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locamento do caracter de fim de linh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icionar pontuações como vírgulas e preposiçõ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rase original: 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ão, manteiga e le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rase alterada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ão, manteiga, e le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rase alterada: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Pão com manteiga e le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9F7F-28CA-4B63-AC21-50699EF88BA8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text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08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 (mensagem escondida em um text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 Senhor Evandro quer usar este salão temporariam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elembre o fato ocorrido, isto poderia estragar relíquia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florais e imagens talhadas. Obrig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ho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ndr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ã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orariamente.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br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 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ido,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eria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ga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íquias,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rai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gen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hadas.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g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sequestro foi perfe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2771640" y="5300640"/>
            <a:ext cx="417672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3065-3B7F-4DC2-B17E-AFFCD769009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imagen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écnica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it menos significa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letra “A”  (10000011)  pode ser escondida em 3 pixels (imagem de 24 bi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ixels origina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1 11101001 1100100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1 11001000 1110100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1001000 00100111 1110100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ixels altera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1 111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0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010011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0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1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10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010011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110100</a:t>
            </a:r>
            <a:r>
              <a:rPr b="1" i="1" lang="en-US" sz="16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588000" y="3716280"/>
            <a:ext cx="1657440" cy="16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8F54-98A1-439F-BB88-E6A83144CF2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imagen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1116000" y="1916280"/>
            <a:ext cx="775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magem da direita contém o texto completo de cinco peças d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hakespeare incorporado (700 K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3280" y="55897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gura + (Hamlet, Macbeth, Julius Caesar, Merchant of Venice, King L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3762720" cy="28209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759120" cy="28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6673-04ED-4F1A-BB91-4E21E6FD904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imagen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mo funciona esse canal esteganográfi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magem em corel original – 1024 x 768 pix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ixel – 3 números de 8 bits (R, G e 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étod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utilizar o bit de baixa ordem de cada valor de cor RGB como canal oculto. Cada pixel tem espaço para 3 bits de informações secretas (R, G e B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-se armazenar até 1024 x 768 x 3 bits = 294.912 bytes de informações secre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A09C-2538-47BF-A973-B97C6DEDFB0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steganografia em áudi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99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écnica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t menos significa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Kb por segundo por KiloHert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4 Kbps em um áudio de 44 KH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conder dados no eco do áud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ariar 3 parâmetros: amplitude, depressão, del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659640" y="2781360"/>
            <a:ext cx="1584360" cy="145404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F70B-142B-44B7-A139-86DF395D862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26920" y="191592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is princípios fundamentais da criptograf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dundâ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tua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 segurança é baseada em tem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gurança é baseada em 3 componen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te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c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D765-15FD-479D-A91B-62EEC8710FF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47280" y="1699920"/>
            <a:ext cx="849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eção, detecção e reação aos incidentes de seguranç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ar qual informação e processos realmente precisam ser protegi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r uma política de segurança para as atividades que possam colocar seu negócio em ris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ar a melhor e mais rápida maneira de detectar violações, soando alarm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gir rapidamente a um incid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iar barreiras para que o ataque demore o tempo suficiente para que seja detect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er constantemente as políticas de controle de acesso e logs dos produtos de seguranç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nitorar o que você deseja proteg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car inform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ualizar constantemente seu ambi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zer documentações de sua experiênci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r a comunidade sobre novas ameaças que você encontra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6476-EA72-4870-9D91-559972D60C8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55640" y="1844640"/>
          <a:ext cx="7919640" cy="3170160"/>
        </p:xfrm>
        <a:graphic>
          <a:graphicData uri="http://schemas.openxmlformats.org/drawingml/2006/table">
            <a:tbl>
              <a:tblPr/>
              <a:tblGrid>
                <a:gridCol w="3225960"/>
                <a:gridCol w="4693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1bf">
                        <a:alpha val="50000"/>
                      </a:srgbClr>
                    </a:solidFill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criptográf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ormação matemática - converte uma mensagem em claro em uma mensagem cifrada e vice-vers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em - Cifra um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ino - Decifra um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uso – tenta interceptar e decifrar 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- Terminolog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44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7080" y="5288040"/>
            <a:ext cx="79916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ce e Bob são personagens fictícios, mas são nomes sistematicamente utilizados pelos especialistas de criptografia. É mais colorido do que falar apenas no emissor e receptor, ou em A e B. Utiliza-se habitualmente uma terceira personagem, que costuma receber o nome de Eva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v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e que representa aquela que se põe à escuta - ou seja, aquela que “eavesdrop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FDFE-31CB-4A81-93FE-6E947B64B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87160" y="269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gurança incondi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ossível de ser queb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gurança comput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viável de ser queb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971640" y="4941720"/>
            <a:ext cx="7775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e sobre is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 primeiro ataque é sempre o mais perigoso”  (World Trade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45EB-3E2E-4D25-B327-56723F3488F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26920" y="177300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por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cessita de chaves e/ou identific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 que o usuário sabe (senh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 que o usuário possui (cartã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 que o usuário é (voz, digital, íris, rost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cessário gerenciar as cha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cessário distribuir as cha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786960" y="25992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gurança da Inform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EF33-541A-44E3-8723-A273C4785CA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474560" y="1989000"/>
            <a:ext cx="6481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riptografia não oferece nenhuma solução mágica para problemas de segurança na informática. O que oferece são técnicas que permitem escolher o terreno e a maneira que torne possível ao usuário se defender no mundo dos bits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1270080"/>
            <a:ext cx="74898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9402-E004-4B6B-81B1-400019B4EF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75610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lvl="1" marL="482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ses da evolução da cript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-185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manu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-185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por máqui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2760" indent="-185760" algn="just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em r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589720"/>
            <a:ext cx="7993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Historicamente quatro grupos de pessoas utilizaram e contribuíram para a arte da criptografia: os militares, os diplomatas, as pessoas que gostam de guardar memórias e os am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B407-FDA3-4E2B-8880-231CED60B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5614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lvl="1" marL="274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man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-1054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riptografia era feita manualmente através de algum processo predetermin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74680" indent="-1054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mpl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Cifras Hebra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Bastão de Licu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Crivo de Erastóte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Código de Políb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2264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 Código de Cés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E053-38AE-42F3-BA68-F1F4E6DC21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Histór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600 a 500 a.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ribas hebreus, no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livro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de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Jeremi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usaram a cifra de substituição simples pelo alfabeto reverso - ATBASH. Cifras mais conhecidas da época: ATBASH, o ALBAM e o ATBAH –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fras hebraic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BAS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primeira letra do alfabeto hebreu (Aleph) é trocada pela última (Taw), a segunda letra (Beth) e trocada pela penúltima (Shin) e assim sucessivamente. Destas quatro letras deriva o nome da cifra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ph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w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th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- ATBASH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580000" y="1700280"/>
            <a:ext cx="180504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5580000" y="5950080"/>
            <a:ext cx="30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b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.: O barro de </a:t>
            </a:r>
            <a:r>
              <a:rPr b="0" i="1" lang="pt-BR" sz="1400" spc="-1" strike="noStrike">
                <a:solidFill>
                  <a:srgbClr val="000000"/>
                </a:solidFill>
                <a:latin typeface="Verdana"/>
              </a:rPr>
              <a:t>Phaistos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(1600 a.c)  ainda não decifr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2207-4539-49B5-B886-A8433833D5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1-31T13:13:37Z</dcterms:modified>
  <cp:revision>538</cp:revision>
  <dc:subject/>
  <dc:title>Segurança da Informação</dc:title>
</cp:coreProperties>
</file>