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5406-02EC-4792-995C-B8B51E634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0773-0EDF-4B45-9A05-397B2F66C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9173-E740-46FD-AC5B-5DD6FEB3D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F7DB-2EF9-4A5B-950A-E2B5152F6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AA3C7-A910-47EE-9172-114F1BD6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F7394-B457-481A-86C2-D0791623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8FA87-E3D3-4EE3-914F-AF289CB5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0D881-E0E5-4EFE-9D19-639CAFC4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ED294-27EC-480B-90F6-9BC6D8AD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397AE-A7F0-4EEB-8EB2-1A39A6F9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A9CEA-417B-43C6-B1F7-520C2F1A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E2A85-2046-4A2D-951F-76BEBB4D7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F567E-DF22-49FC-BCB6-355EFC2B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6A392-06B5-412D-9FB8-CFD2136B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C924D-DD9A-4D71-B494-896EE1A3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9B2A4-5DDE-4710-9212-03ACAC5E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4567F-0729-49E4-9ADB-39F19975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0D5C5-9C47-4DE3-B786-F51891770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4EC0-1493-47DA-AD92-F39345FC5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ABE43-C896-40CD-8045-8CC24293B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86D8-EFD7-4A40-ACB8-EF04DB2F3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5C3AF-7631-4C9D-B7AE-780ADE826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1EF6-C5D0-4400-8401-A746D9D10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C297-A500-4DAD-B413-546F5FFAF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11280" y="640080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C3C8-4723-4704-82BA-A8A508A71F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55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EB28-7082-4915-A2B1-38B17BEC1C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263700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Impact"/>
              </a:rPr>
              <a:t>Segurança da Informação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o de Especial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6560" y="575136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4920" y="603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FET-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06920" y="5894280"/>
            <a:ext cx="792360" cy="763560"/>
            <a:chOff x="5506920" y="5894280"/>
            <a:chExt cx="792360" cy="763560"/>
          </a:xfrm>
        </p:grpSpPr>
        <p:sp>
          <p:nvSpPr>
            <p:cNvPr id="90" name=""/>
            <p:cNvSpPr/>
            <p:nvPr/>
          </p:nvSpPr>
          <p:spPr>
            <a:xfrm>
              <a:off x="5656320" y="5894280"/>
              <a:ext cx="492840" cy="63288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2960" y="6046200"/>
              <a:ext cx="439560" cy="4521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4120" y="6057360"/>
              <a:ext cx="417600" cy="42696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22200" y="6245280"/>
              <a:ext cx="360720" cy="23868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22200" y="6110640"/>
              <a:ext cx="361440" cy="24804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725800" y="5936400"/>
              <a:ext cx="612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832000" y="5936400"/>
              <a:ext cx="4716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5916960" y="5936400"/>
              <a:ext cx="630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013800" y="5936400"/>
              <a:ext cx="658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0800" y="6379200"/>
              <a:ext cx="168480" cy="155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506920" y="6375240"/>
              <a:ext cx="168480" cy="154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2640" y="6471360"/>
              <a:ext cx="122400" cy="691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30800" y="6477120"/>
              <a:ext cx="120960" cy="687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53720" y="6476040"/>
              <a:ext cx="697320" cy="18180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 rot="1771800">
              <a:off x="5620680" y="6529680"/>
              <a:ext cx="259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 rot="1336200">
              <a:off x="5646240" y="654480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336200">
              <a:off x="5678280" y="6556680"/>
              <a:ext cx="28080" cy="37440"/>
            </a:xfrm>
            <a:prstGeom prst="rect">
              <a:avLst/>
            </a:prstGeom>
          </p:spPr>
          <p:txBody>
            <a:bodyPr wrap="none" lIns="90000" rIns="90000" tIns="-9000" bIns="-9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68600">
              <a:off x="5707800" y="6567120"/>
              <a:ext cx="288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898200">
              <a:off x="5735880" y="6574680"/>
              <a:ext cx="288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526200">
              <a:off x="5775840" y="6583320"/>
              <a:ext cx="331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235200">
              <a:off x="5812920" y="6588360"/>
              <a:ext cx="39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859360" y="659088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893920" y="6591240"/>
              <a:ext cx="864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908320" y="659124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21364200">
              <a:off x="5948640" y="6587280"/>
              <a:ext cx="259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21095400">
              <a:off x="5974560" y="6585120"/>
              <a:ext cx="295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20857800">
              <a:off x="6006600" y="6579360"/>
              <a:ext cx="30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20720400">
              <a:off x="6049800" y="657108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20418000">
              <a:off x="6076800" y="6564240"/>
              <a:ext cx="2880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20344200">
              <a:off x="6107760" y="6554160"/>
              <a:ext cx="306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20044200">
              <a:off x="6141600" y="6545520"/>
              <a:ext cx="86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0054400">
              <a:off x="6153480" y="6535080"/>
              <a:ext cx="2592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5167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FCG / 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24468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isciplina 4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, protocolos segur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uas a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Parte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1400" y="493560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a.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Plano de Ensin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ópico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odologia, Técnicas de ens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ursos Didát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vali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AE03E-CA64-4366-8740-AADEC2A977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Objetiv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673280"/>
            <a:ext cx="808524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Discutir preliminarmente os principais conceitos, problemas e soluções relacionados ao uso da </a:t>
            </a:r>
            <a:r>
              <a:rPr b="1" lang="pt-BR" sz="2500" spc="-1" strike="noStrike">
                <a:solidFill>
                  <a:srgbClr val="000000"/>
                </a:solidFill>
                <a:latin typeface="Verdana"/>
              </a:rPr>
              <a:t>Criptografia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 no contexto da </a:t>
            </a:r>
            <a:r>
              <a:rPr b="1" lang="pt-BR" sz="2500" spc="-1" strike="noStrike">
                <a:solidFill>
                  <a:srgbClr val="000000"/>
                </a:solidFill>
                <a:latin typeface="Verdana"/>
              </a:rPr>
              <a:t>Segurança da Informação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D5DDF-32FD-43FE-A4E7-90514CC834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Tópic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89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undamentos de Criptografi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incipais técnicas de criptografia e suas aplicações em S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 padrão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dvanced Encryption Standard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(A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ssinatura digital e protocolos criptográfic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ertificação digita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retty Good Privac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(PGP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Virtual Private Network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(VPN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MIME (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Secure Multiple Internet Mail Exchang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tocolos seguros: IPSec (Internet Protocol Security).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Pv6. SSL (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Secure Sockets Layer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. SET (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Secure Electronic Paymen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D7EB-6C5E-4A53-92F4-1A05241715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Metodologia, Técnicas de Ensin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31376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ulas expositiv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tividades individuais e em grup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8E82-1573-400E-B725-00D008CDA8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Recursos Didátic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dro bran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atash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gramas de Simulação de domínio públ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0AE6-0D62-441A-ACBD-61B3862A83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vali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Contínua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pt-BR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valiações individuais e trabalhos em laboratóri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Trabalhos interativos de pesquisa extra-classe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pt-BR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dividuais e em grup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Trabalhos de pesquisa em sala de aul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pt-BR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dividuais e em grup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A95FF-2973-4C94-8948-A42E161ADE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Bibliografi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4247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33480" indent="-476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ryptography and Network Security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llings, W., 2nd Edition, Prentice Hall, 1998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riptografia e Segurança - O guia oficial RS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Burnett, S. e Paine, S., Editora Campus, 200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Redes de Computadores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Tanenbaum, A. S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dição, Editora Campus, 200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ryptography Theory and Practi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tinson, D., 2nd Edition, CRC Press, 200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he Codebreakers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ahn, D., 2nd Edition, Macmillan, 199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Network Security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Kaufman, C., Perlman, R. Speciner, M.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nd Editio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Prentice Hall, 200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3439-2A9D-436E-8907-3126C5CE35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Bibliografi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33480" indent="-47628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pplied Cryptography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neier, B., 2nd Edition, John Wiley &amp; Sons, Inc., 199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GP: Pretty Good Privacy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Garfinkel, S., O’Reilly &amp; Associates, Inc., 199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Modern Operating System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anenbaum, A. S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2nd Edition, Prentice Hall, 1998, 200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ostilas e Manuais Técnicos de Autores/Fabricantes Divers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096E8-47BD-4CFC-BF35-0392E6B6BE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174600"/>
            <a:ext cx="7924680" cy="4191120"/>
          </a:xfrm>
          <a:prstGeom prst="cloudCallout">
            <a:avLst>
              <a:gd name="adj1" fmla="val -41064"/>
              <a:gd name="adj2" fmla="val 65986"/>
            </a:avLst>
          </a:prstGeom>
          <a:solidFill>
            <a:srgbClr val="fbfccc">
              <a:alpha val="50000"/>
            </a:srgbClr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Georgia"/>
              </a:rPr>
              <a:t>“</a:t>
            </a:r>
            <a:r>
              <a:rPr b="1" i="1" lang="en-US" sz="2000" spc="-1" strike="noStrike">
                <a:solidFill>
                  <a:srgbClr val="006666"/>
                </a:solidFill>
                <a:latin typeface="Georgia"/>
              </a:rPr>
              <a:t>Existem homens de bom senso que, por serem incapazes de decifrar as coisas que são ‘grego’ para eles, convencem-se de que a lógica e a filosofia estão acima deles. Pois bem, gostaria que vissem que, assim como a natureza os dotou de olhos com os quais podem enxergar as obras dela, também lhes concedeu cérebros para penetrar e compreendê-la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9040" y="5581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f5f5f"/>
                </a:solidFill>
                <a:latin typeface="Times New Roman"/>
              </a:rPr>
              <a:t>Galileu Gali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160" y="49737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A3CF-7646-4AA2-A816-A5A0BF3EDB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332000" y="1268280"/>
            <a:ext cx="7561080" cy="4701240"/>
            <a:chOff x="1332000" y="1268280"/>
            <a:chExt cx="7561080" cy="47012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332000" y="1413000"/>
              <a:ext cx="6985080" cy="45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403280" y="1989000"/>
              <a:ext cx="6769080" cy="39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Verdana"/>
                </a:rPr>
                <a:t>O que é Criptografia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17080" y="1268280"/>
              <a:ext cx="576000" cy="6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F50E-EA80-467A-B870-D24C434BCA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187280" y="1268280"/>
            <a:ext cx="7632720" cy="4673880"/>
            <a:chOff x="1187280" y="1268280"/>
            <a:chExt cx="7632720" cy="4673880"/>
          </a:xfrm>
        </p:grpSpPr>
        <p:pic>
          <p:nvPicPr>
            <p:cNvPr id="130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1187280" y="1413000"/>
              <a:ext cx="6985080" cy="45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258920" y="2205000"/>
              <a:ext cx="6769080" cy="24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Verdana"/>
                </a:rPr>
                <a:t>Criptograf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kriptos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= oculto 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graphos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= grafi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te ou a ciência de escrever em cifras (código)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72360" y="1268280"/>
              <a:ext cx="64764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C5DE-2F97-4DD2-B37A-0E005D1486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Visão Geral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ão é “possível” apresentar roteiros ou receitas para segurança na informát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post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estudo  dos conceitos, técnicas e procedimentos mais eficazes hoje conhecidos para a construção de mecanismos criptográficos de proteção a dados digitais, e de meios para esses mecanismos se integrarem a sistemas de informação que se queira protege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4F021-6401-4929-9ED7-710F4F0446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Visão Geral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mundo das redes e com o comércio eletrônico, todo sistema de computador se tornou um alvo em potencial para intruso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bl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não há como saber os motivos que levam o intruso a agir e nem quando este pode atacar, contudo é importante tentar se previnir utilizando mecanismos de prote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FB55C-D086-4383-B2C4-529DF3BA97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Visão Geral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correio eletrônico à telefonia celular, do acesso seguro a servidores WEB à moeda eletrônica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riptografia é parte essencial dos sistemas de informação de hoj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ptografia ajuda a imputa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ponsabilida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romover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ustiç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rove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urác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cida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d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evenir fraud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m comércio eletrônico 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arantir a valida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 transações financeir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da apropriadamente, protege a anonimidade e fornece provas de identidade de pesso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3FA2-12CE-4738-99C6-4D94F0F32F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Visão Geral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riptografia existente hoje no mercado, em alguns casos, não fornece a segurança que aprega o seu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arke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lhões de dólares são gastos em segurança de computadores, e muito é desperdiçado em produtos insegur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B1503-EE47-4CE5-904A-8C5D41327C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Visão Geral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 ataques a sistemas de informação são dos mais variados tipos (no comércio eletrônico, no correio eletrônico, nas páginas digitais, etc.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informatização torna os riscos maiores ainda, permitindo ataques automatizados, impossíveis de serem conduzidos contra sistemas não automatizado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penas com a criptografia forte pode-se proteger os sistemas de informação contra estes tipos de ataqu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B7D2D-1FAE-4F0B-A676-70314F8135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26920" y="3860640"/>
            <a:ext cx="7705800" cy="2016360"/>
          </a:xfrm>
          <a:prstGeom prst="ellipse">
            <a:avLst/>
          </a:prstGeom>
          <a:solidFill>
            <a:srgbClr val="99ccc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Visão Geral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 que a criptografia pode e não pode faze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arantia de 100% de segurança é uma falácia, mas é possível trabalhar em direção a 100% de aceitação de risco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m bom sistema criptográfico atinge o equilíbrio entre o que é possível e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 que é aceitáv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82E6-9A8B-4E14-81C6-4CF4851DA9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28:21Z</dcterms:created>
  <dc:creator>Paqtc-pb</dc:creator>
  <dc:description/>
  <dc:language>en-US</dc:language>
  <cp:lastModifiedBy>Joseana Macedo Fechine</cp:lastModifiedBy>
  <dcterms:modified xsi:type="dcterms:W3CDTF">2005-01-28T12:10:18Z</dcterms:modified>
  <cp:revision>419</cp:revision>
  <dc:subject/>
  <dc:title>Segurança da Informação</dc:title>
</cp:coreProperties>
</file>