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393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29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441828-E977-4998-BD7D-B198FE3D83D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5760A1-B363-4D31-A6F0-843FE75228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8D72F4-2B95-4E54-A3DC-9ECD30A592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59ABA7-CB24-46B2-A735-733D8E14A5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106CFAB-0B79-4AB7-AE84-7E247B1EE0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917AEBE-00CB-4666-A852-CBF36E5282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F4E9FD-083F-406E-9CA5-8F72852598B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1DB8B2-445E-48C0-A7B1-8B204EF258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88F5A49-14A3-4DBB-9AD6-519EE1B9B5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E0629B-4A03-46B5-A3B3-74493A1852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77CA7B-95E2-4C67-9A3D-542EB5502D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6A338D-6F21-4E18-B047-194132568C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27858DC-EF7E-4423-95BA-2B59AD0A97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30A9B3-24B5-414F-850E-BA8DA5320A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E1F2772-3CB0-46D2-90E1-FC8B195F10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6293F1B-72E7-4543-86EC-BE462743257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9B5569-995B-4BC1-8055-4638A02F64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017CE1-DEB6-449D-BDCF-A21364F377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38A373-7EC5-475D-9227-F4F7AC9A0F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E3927D-BD5A-42C8-BEB3-8FB2997B5A0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16B434-3357-4942-B275-7D8819AC49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F011E3E-D592-4923-B3BC-CBB6E7DD75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BC8C38-C019-47E2-99F7-80CBD3F4EC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817441A-D74E-4E55-A414-75D79624A0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049B8CA-23A5-44F8-9C3D-A9169F9560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98C149-C544-446B-B264-016738C422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2C0E22-F27E-4EBD-BE78-9D378023D7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B3E26D-397E-40F2-89F9-3A9268F74F5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94DE5D-5D59-4E19-A297-D4DF22A74E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90204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4CFADF-EB33-4C66-A2C6-B25B685312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13932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49400" y="728640"/>
            <a:ext cx="4790880" cy="3594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F49F-5320-43C7-B867-847956FD5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4306-AF41-4413-8C95-9CD13AB7F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08F2-D3AD-4D0B-9742-86E7697A2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04F1-AD1B-4FAA-9DE3-F297DB642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9C704-E286-4C18-9523-B1FF53CC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684B3-157E-47AE-BE68-29A7F342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38284-8AB0-4A77-82C7-5AC503BC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26BF-DEBA-418B-A3AA-EA006B71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8466F-985E-46CB-BC7E-34F1C144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DEEB4-BB8D-45FD-AC41-3702FFFD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9F060-EE40-4D98-B730-7BACBD6F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4B69-3BC4-4721-B5DC-D6320E9B0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64D87-C63A-4C28-AFB9-4217B4A8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5FCE3-D872-4332-B115-57BA2FAC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0D813-6CE4-4C7C-9CBF-85F6180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D1613-E478-42D9-9595-3B105494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A523D-AEBC-4C84-9ED3-5177D532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43A3-862D-4B8C-B765-72B871364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9069-FD4F-4764-A3DE-7C4CFA71A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1CC9-6515-491D-BF47-112943763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4A73-A1F8-4C98-A505-E0732F879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DCB3-943E-4941-9F8C-9406CB7BE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7416-3226-4CC9-8F66-71207E34A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1C81-0376-4550-B366-CC619E96F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9900-BEE2-457F-9F2D-014A0BFEC9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62C7-7786-4F6C-A41F-1C45EEE23C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7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Exemplo - Criptoanál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331640" y="2491920"/>
            <a:ext cx="6985080" cy="37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W = d, N = 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C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JYUC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107F-896B-46CC-BC50-B791A70A2C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403280" y="2565000"/>
            <a:ext cx="7018560" cy="36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M,C,D,F,J,R,Y (t,a,o,i,n,s,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C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JYUC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77E8-C69F-4482-BBBC-A9DB172617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32000" y="2565360"/>
            <a:ext cx="712944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 = t, C =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C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JYUC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00D8-407A-436E-AD9B-F7CDCC0112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8920" y="306864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32000" y="2636640"/>
            <a:ext cx="712944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 = t, C =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1527120" y="181944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3BCB-E007-489D-89BC-691C271329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306864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331640" y="2565000"/>
            <a:ext cx="723420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M,D,F,R,Y (o,i,n,s,r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1E5C-E7B4-40E1-9D67-8C4792DF4E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8920" y="299736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0182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 = n (trigrama an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R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2344-0FDD-4560-B058-7683B2FC13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403280" y="2528640"/>
            <a:ext cx="7129440" cy="34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 = n (trigrama and)</a:t>
            </a: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D5DF-EA68-4AD2-A5A7-6948A07590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87280" y="306864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58560" y="2565360"/>
            <a:ext cx="69850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M,D,F,Y (o,i,s,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9A4E-7FFE-4ACB-8C67-4CF41A2EB3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16000" y="306864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05636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M = i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DEEB-6AF9-41FD-8BB6-60E7064316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42920" y="306864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58920" y="2491920"/>
            <a:ext cx="741672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 = 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i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4FD8-6800-4E4A-9BBA-A3238540EF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96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iptoanálise – Cifra de substitui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cilmente realizada analisando-se a frequência dos símbolos (letras, digramas e trigram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glê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 (12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, A, O, I, N, S, H, R (de 6 a 9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, L (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, U, M, W, F, G, Y, P, B (de 2,8 a 1,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, K, J, X, Q, Z (menos de 1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FAE5-F315-45A6-9A88-E368D40C13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314172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8920" y="2565360"/>
            <a:ext cx="70898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D = s, U = w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D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FEFi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U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0217-4249-4560-BBE3-70EF3DBFA2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42920" y="306864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258560" y="2565360"/>
            <a:ext cx="7305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D = s, U = w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FE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DDE4-2616-442C-ABEC-17F1F885D7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16000" y="314172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332000" y="2565000"/>
            <a:ext cx="708984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F,Y (o,r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FE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D49A-4341-4F54-A087-7E54C6C1A2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314172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369800" y="2636640"/>
            <a:ext cx="723420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 = r, Y = o (análise: X = l, Q =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QFY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FE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XYY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 Q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AA44-C07E-4A6A-A6A5-D0E0838346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16000" y="3213000"/>
            <a:ext cx="720108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403280" y="2565000"/>
            <a:ext cx="716112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 = r, Y = o (análise: X = l, Q =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7E9C-1872-4AA5-A445-01F9179989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87280" y="3070080"/>
            <a:ext cx="720108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371600" y="2565360"/>
            <a:ext cx="71611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I = u, V =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I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C693-E386-4698-8374-B7DD4CB81C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87280" y="314172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369800" y="2637000"/>
            <a:ext cx="7234200" cy="31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I = u, V =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8172-DE89-464C-A5A3-9A30B961D2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87280" y="328608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698508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: E, H, S (c, u, g, y, p, 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527120" y="19162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47A6-7170-43DA-938E-335F518C35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58920" y="306864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403280" y="2636640"/>
            <a:ext cx="71611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 = p, H =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E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i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FBCA-C045-4FEF-B2CA-88515B5D33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87280" y="3286080"/>
            <a:ext cx="720108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331640" y="2707920"/>
            <a:ext cx="701820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 = p, H =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p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p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p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lace 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c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chair fac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p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1527120" y="19162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80A7-1802-4096-B91D-51E54820D7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i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H, HE, IN, ER, AN, RE, ED, ON, ES, ST, EN, AT, TO, NT, HA, ND, OU, EA, NG, AS, OR, TI, IS, ET, IT, AR, TE, SE, HI,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i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HE, ING, AND, HER, ERE, ENT, THA, NTH, WAS, ETH, FOR, D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06DB-6781-4ECF-B4B3-D4AE584F8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58920" y="3070080"/>
            <a:ext cx="720072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403280" y="2636640"/>
            <a:ext cx="701856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S = k, T = 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p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T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p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p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lace 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c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chair fac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p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9400-05A8-4E79-9F66-8F68F36074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58920" y="3141720"/>
            <a:ext cx="7200720" cy="28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332000" y="2637000"/>
            <a:ext cx="7092720" cy="31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: S = k, T = 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ou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ie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fr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ari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min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mp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glas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th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rpris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f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poratio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a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ake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lace 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as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looking 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pour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win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n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ettl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G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ack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i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chair fac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ilted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up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oward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th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D517-3887-47A7-A14B-0447CD043D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02920" y="1916280"/>
            <a:ext cx="7201080" cy="35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Exemplo: Texto cifr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YIF QFMZRW QFYV ECFMD ZPCVMRZ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ZVEJB TXCDD UMJN DIFEFMDZ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ZKCEYFCJMYR NCW JCSZR EXCHZ UNMXZ N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CDRJ XYYSMRT M EYIFZW DYVZ VYF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MRZ CRW NZ DZJJXZ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NCMF QCHZ JMXJZW IE JYUCFWD JNZ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4FDD-C82E-4A34-A4B4-36E07C7B9D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835280" y="2565360"/>
          <a:ext cx="5859360" cy="34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565360"/>
                    <a:ext cx="585936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403280" y="177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Freqüência das le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C3FB-16F5-43C9-AD61-335440E5CD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58920" y="3213000"/>
            <a:ext cx="720072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76000" y="2637000"/>
            <a:ext cx="727236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Z =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W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N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NCW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N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W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N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IE JYUCFWD J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7724-22E7-4D69-89A2-BE73889A8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58920" y="3213000"/>
            <a:ext cx="720072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406520" y="2565000"/>
            <a:ext cx="719784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requência M,C,D,F,J,R,Y,N (t,a,o,i,n,s,h,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W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N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NCW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N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W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N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IE JYUCFWD J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9E318-CC2F-49E4-94B2-78E3F0F022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58920" y="3213000"/>
            <a:ext cx="720072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02920" y="2565360"/>
            <a:ext cx="6985080" cy="33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igramas (he, er, re, ed, es, en, 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W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N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NCW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N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W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N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IE JYUCFWD J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F406-E855-4FBD-BBCE-3A139B0BE3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58920" y="3213000"/>
            <a:ext cx="6842160" cy="288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58560" y="2599920"/>
            <a:ext cx="7305480" cy="33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W = d, N = 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IF QFM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W QFYV ECFMD 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V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JB TXCDD UMJN DIFEFM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D MQ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KCEYFCJMYR NCW JCS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 EX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UNM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CDRJ XYYSMRT M EYI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DYV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VYF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MR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CRW 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JX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GCHS MR N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NCMF QCH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JMXJ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IE JYUCFWD JN</a:t>
            </a:r>
            <a:r>
              <a:rPr b="1" lang="pt-BR" sz="2400" spc="-1" strike="noStrike">
                <a:solidFill>
                  <a:srgbClr val="99cccc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527120" y="17938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16AB3-7CB5-42D3-8142-66BCF94811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</cp:lastModifiedBy>
  <dcterms:modified xsi:type="dcterms:W3CDTF">2005-04-09T20:12:40Z</dcterms:modified>
  <cp:revision>881</cp:revision>
  <dc:subject/>
  <dc:title>Segurança da Informação</dc:title>
</cp:coreProperties>
</file>