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9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9.png" ContentType="image/png"/>
  <Override PartName="/ppt/media/image34.png" ContentType="image/png"/>
  <Override PartName="/ppt/media/image30.wmf" ContentType="image/x-wmf"/>
  <Override PartName="/ppt/media/image38.png" ContentType="image/png"/>
  <Override PartName="/ppt/media/image8.jpeg" ContentType="image/jpeg"/>
  <Override PartName="/ppt/media/image33.png" ContentType="image/png"/>
  <Override PartName="/ppt/media/image12.png" ContentType="image/png"/>
  <Override PartName="/ppt/media/image35.wmf" ContentType="image/x-wmf"/>
  <Override PartName="/ppt/media/image28.wmf" ContentType="image/x-wmf"/>
  <Override PartName="/ppt/media/image3.jpeg" ContentType="image/jpeg"/>
  <Override PartName="/ppt/media/image15.png" ContentType="image/png"/>
  <Override PartName="/ppt/media/image36.wmf" ContentType="image/x-wmf"/>
  <Override PartName="/ppt/media/image16.png" ContentType="image/png"/>
  <Override PartName="/ppt/media/image37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1.wmf" ContentType="image/x-wmf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3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820880" y="774720"/>
            <a:ext cx="3408480" cy="25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52440" y="3563640"/>
            <a:ext cx="4778640" cy="5035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549440" y="930240"/>
            <a:ext cx="3949560" cy="29624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472680" y="4028760"/>
            <a:ext cx="6108840" cy="4570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617640"/>
            <a:ext cx="8001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56520" y="9907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61764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56520" y="361764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2240" y="99072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7640" y="99072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61764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2240" y="361764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7640" y="361764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6520" y="99072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134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520" y="99072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61764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520" y="9907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6520" y="361764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6520" y="9907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617640"/>
            <a:ext cx="8001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617640"/>
            <a:ext cx="8001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6520" y="9907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61764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6520" y="361764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2240" y="99072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7640" y="99072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61764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2240" y="361764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7640" y="3617640"/>
            <a:ext cx="2576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56520" y="99072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134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56520" y="99072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61764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904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6520" y="9907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56520" y="361764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90440"/>
            <a:ext cx="8134560" cy="6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6520" y="990720"/>
            <a:ext cx="3904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617640"/>
            <a:ext cx="8001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066080" y="6621480"/>
            <a:ext cx="8269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49280" y="762120"/>
            <a:ext cx="8161200" cy="98280"/>
            <a:chOff x="449280" y="762120"/>
            <a:chExt cx="8161200" cy="98280"/>
          </a:xfrm>
        </p:grpSpPr>
        <p:sp>
          <p:nvSpPr>
            <p:cNvPr id="3" name=""/>
            <p:cNvSpPr/>
            <p:nvPr/>
          </p:nvSpPr>
          <p:spPr>
            <a:xfrm>
              <a:off x="449280" y="811440"/>
              <a:ext cx="8161200" cy="0"/>
            </a:xfrm>
            <a:prstGeom prst="line">
              <a:avLst/>
            </a:prstGeom>
            <a:ln w="12600">
              <a:solidFill>
                <a:srgbClr val="ff0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5400000">
              <a:off x="4502520" y="766800"/>
              <a:ext cx="98280" cy="88560"/>
            </a:xfrm>
            <a:prstGeom prst="triangle">
              <a:avLst>
                <a:gd name="adj" fmla="val 49995"/>
              </a:avLst>
            </a:prstGeom>
            <a:solidFill>
              <a:srgbClr val="00ff00"/>
            </a:solidFill>
            <a:ln w="1260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4483080" y="6521400"/>
            <a:ext cx="46980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</a:t>
            </a:r>
            <a:fld id="{67E73844-B437-4F96-9BAD-6F5B90E9CB12}" type="slidenum">
              <a:rPr b="1" lang="en-US" sz="8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1874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228600">
              <a:spcBef>
                <a:spcPts val="1874"/>
              </a:spcBef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2320" indent="-228600">
              <a:spcBef>
                <a:spcPts val="18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165400" indent="-228600">
              <a:spcBef>
                <a:spcPts val="18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165400" indent="-228600"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165400" indent="-228600"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RatLogo_rgb1" descr=""/>
          <p:cNvPicPr/>
          <p:nvPr/>
        </p:nvPicPr>
        <p:blipFill>
          <a:blip r:embed="rId2"/>
          <a:stretch/>
        </p:blipFill>
        <p:spPr>
          <a:xfrm>
            <a:off x="7772400" y="6523200"/>
            <a:ext cx="1371600" cy="33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66080" y="6621480"/>
            <a:ext cx="8269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57200" y="3292560"/>
            <a:ext cx="8229600" cy="98280"/>
            <a:chOff x="457200" y="3292560"/>
            <a:chExt cx="8229600" cy="98280"/>
          </a:xfrm>
        </p:grpSpPr>
        <p:sp>
          <p:nvSpPr>
            <p:cNvPr id="47" name=""/>
            <p:cNvSpPr/>
            <p:nvPr/>
          </p:nvSpPr>
          <p:spPr>
            <a:xfrm>
              <a:off x="457200" y="3303360"/>
              <a:ext cx="8229600" cy="75960"/>
            </a:xfrm>
            <a:prstGeom prst="rect">
              <a:avLst/>
            </a:prstGeom>
            <a:gradFill rotWithShape="0">
              <a:gsLst>
                <a:gs pos="0">
                  <a:srgbClr val="650065"/>
                </a:gs>
                <a:gs pos="50000">
                  <a:srgbClr val="ff00ff"/>
                </a:gs>
                <a:gs pos="100000">
                  <a:srgbClr val="6500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5400000">
              <a:off x="4521960" y="3297960"/>
              <a:ext cx="98280" cy="8712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00ff"/>
                </a:gs>
                <a:gs pos="100000">
                  <a:srgbClr val="350035"/>
                </a:gs>
              </a:gsLst>
              <a:lin ang="5400000"/>
            </a:gradFill>
            <a:ln w="7308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36600" algn="ctr">
              <a:spcBef>
                <a:spcPts val="550"/>
              </a:spcBef>
              <a:buClr>
                <a:srgbClr val="ffffff"/>
              </a:buClr>
              <a:buFont typeface="Wingdings" charset="2"/>
              <a:buChar char="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22212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1080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1080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1080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66"/>
                </a:solidFill>
                <a:latin typeface="Arial"/>
              </a:rPr>
              <a:t>Software Architecture</a:t>
            </a:r>
            <a:br>
              <a:rPr sz="5000"/>
            </a:br>
            <a:r>
              <a:rPr b="1" lang="en-US" sz="5000" spc="-1" strike="noStrike">
                <a:solidFill>
                  <a:srgbClr val="ffff66"/>
                </a:solidFill>
                <a:latin typeface="Arial"/>
              </a:rPr>
              <a:t>and the UML</a:t>
            </a:r>
            <a:endParaRPr b="1" lang="en-US" sz="5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rady Booch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RatLogo_rgb1" descr=""/>
          <p:cNvPicPr/>
          <p:nvPr/>
        </p:nvPicPr>
        <p:blipFill>
          <a:blip r:embed="rId1"/>
          <a:stretch/>
        </p:blipFill>
        <p:spPr>
          <a:xfrm>
            <a:off x="2743200" y="5029200"/>
            <a:ext cx="365760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6629400" y="2448000"/>
          <a:ext cx="990720" cy="75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2448000"/>
                    <a:ext cx="9907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Forces in civil architectur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4960" y="3200400"/>
            <a:ext cx="2103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Avoiding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Safety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Redund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2760" y="1676520"/>
            <a:ext cx="2897640" cy="2971800"/>
            <a:chOff x="302760" y="1676520"/>
            <a:chExt cx="2897640" cy="2971800"/>
          </a:xfrm>
        </p:grpSpPr>
        <p:sp>
          <p:nvSpPr>
            <p:cNvPr id="121" name=""/>
            <p:cNvSpPr/>
            <p:nvPr/>
          </p:nvSpPr>
          <p:spPr>
            <a:xfrm>
              <a:off x="1676520" y="3733920"/>
              <a:ext cx="1523880" cy="914400"/>
            </a:xfrm>
            <a:prstGeom prst="cube">
              <a:avLst>
                <a:gd name="adj" fmla="val 45314"/>
              </a:avLst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2760" y="3048120"/>
              <a:ext cx="18190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Compr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0" y="2438640"/>
              <a:ext cx="304920" cy="1600200"/>
            </a:xfrm>
            <a:prstGeom prst="can">
              <a:avLst>
                <a:gd name="adj" fmla="val 7736"/>
              </a:avLst>
            </a:pr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676520" y="1676520"/>
              <a:ext cx="1523880" cy="914400"/>
              <a:chOff x="1676520" y="1676520"/>
              <a:chExt cx="1523880" cy="914400"/>
            </a:xfrm>
          </p:grpSpPr>
          <p:sp>
            <p:nvSpPr>
              <p:cNvPr id="125" name=""/>
              <p:cNvSpPr/>
              <p:nvPr/>
            </p:nvSpPr>
            <p:spPr>
              <a:xfrm>
                <a:off x="1676520" y="1676520"/>
                <a:ext cx="1523880" cy="914400"/>
              </a:xfrm>
              <a:prstGeom prst="cube">
                <a:avLst>
                  <a:gd name="adj" fmla="val 45314"/>
                </a:avLst>
              </a:prstGeom>
              <a:solidFill>
                <a:srgbClr val="ddddd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27360" y="2133720"/>
                <a:ext cx="801000" cy="39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3656160" y="1676520"/>
            <a:ext cx="2287440" cy="2971800"/>
            <a:chOff x="3656160" y="1676520"/>
            <a:chExt cx="2287440" cy="2971800"/>
          </a:xfrm>
        </p:grpSpPr>
        <p:sp>
          <p:nvSpPr>
            <p:cNvPr id="128" name=""/>
            <p:cNvSpPr/>
            <p:nvPr/>
          </p:nvSpPr>
          <p:spPr>
            <a:xfrm>
              <a:off x="3656160" y="3048120"/>
              <a:ext cx="11682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Te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419720" y="3733920"/>
              <a:ext cx="1523880" cy="914400"/>
              <a:chOff x="4419720" y="3733920"/>
              <a:chExt cx="1523880" cy="914400"/>
            </a:xfrm>
          </p:grpSpPr>
          <p:sp>
            <p:nvSpPr>
              <p:cNvPr id="130" name=""/>
              <p:cNvSpPr/>
              <p:nvPr/>
            </p:nvSpPr>
            <p:spPr>
              <a:xfrm>
                <a:off x="4419720" y="3733920"/>
                <a:ext cx="1523880" cy="914400"/>
              </a:xfrm>
              <a:prstGeom prst="cube">
                <a:avLst>
                  <a:gd name="adj" fmla="val 45314"/>
                </a:avLst>
              </a:prstGeom>
              <a:solidFill>
                <a:srgbClr val="dddddd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70560" y="4191120"/>
                <a:ext cx="801000" cy="39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029200" y="2438640"/>
              <a:ext cx="304920" cy="1600200"/>
            </a:xfrm>
            <a:prstGeom prst="can">
              <a:avLst>
                <a:gd name="adj" fmla="val 7736"/>
              </a:avLst>
            </a:prstGeom>
            <a:gradFill rotWithShape="0">
              <a:gsLst>
                <a:gs pos="0">
                  <a:srgbClr val="175e17"/>
                </a:gs>
                <a:gs pos="100000">
                  <a:srgbClr val="33cc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19720" y="1676520"/>
              <a:ext cx="1523880" cy="914400"/>
            </a:xfrm>
            <a:prstGeom prst="cube">
              <a:avLst>
                <a:gd name="adj" fmla="val 45314"/>
              </a:avLst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475320" y="2341440"/>
            <a:ext cx="1933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Kinds of 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Dead l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Live l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Dynamic l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7560" y="5257800"/>
            <a:ext cx="84218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Any time you depart from established practice, make ten times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effort, ten times the investigation. Especially on a very large pro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LeMessu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Shearing layers of change 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37280" y="5456160"/>
            <a:ext cx="5768280" cy="335160"/>
            <a:chOff x="1637280" y="5456160"/>
            <a:chExt cx="5768280" cy="335160"/>
          </a:xfrm>
        </p:grpSpPr>
        <p:sp>
          <p:nvSpPr>
            <p:cNvPr id="138" name=""/>
            <p:cNvSpPr/>
            <p:nvPr/>
          </p:nvSpPr>
          <p:spPr>
            <a:xfrm>
              <a:off x="2833560" y="5562720"/>
              <a:ext cx="4572000" cy="152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7280" y="5456160"/>
              <a:ext cx="587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392040"/>
                  <a:tab algn="l" pos="784080"/>
                  <a:tab algn="l" pos="1176480"/>
                  <a:tab algn="l" pos="1568520"/>
                  <a:tab algn="l" pos="1960560"/>
                  <a:tab algn="l" pos="2352600"/>
                  <a:tab algn="l" pos="2744640"/>
                  <a:tab algn="l" pos="3137040"/>
                  <a:tab algn="l" pos="3529080"/>
                  <a:tab algn="l" pos="3921120"/>
                  <a:tab algn="l" pos="4313160"/>
                  <a:tab algn="l" pos="4705200"/>
                  <a:tab algn="l" pos="5097600"/>
                  <a:tab algn="l" pos="5489640"/>
                  <a:tab algn="l" pos="5881680"/>
                  <a:tab algn="l" pos="6273720"/>
                  <a:tab algn="l" pos="6665760"/>
                  <a:tab algn="l" pos="7058160"/>
                  <a:tab algn="l" pos="7450200"/>
                  <a:tab algn="l" pos="784224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09680" y="5624640"/>
              <a:ext cx="83844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566360" y="1600200"/>
            <a:ext cx="5382000" cy="3733920"/>
            <a:chOff x="1566360" y="1600200"/>
            <a:chExt cx="5382000" cy="3733920"/>
          </a:xfrm>
        </p:grpSpPr>
        <p:sp>
          <p:nvSpPr>
            <p:cNvPr id="142" name=""/>
            <p:cNvSpPr/>
            <p:nvPr/>
          </p:nvSpPr>
          <p:spPr>
            <a:xfrm>
              <a:off x="3443400" y="1600200"/>
              <a:ext cx="3504960" cy="3733920"/>
            </a:xfrm>
            <a:custGeom>
              <a:avLst/>
              <a:gdLst/>
              <a:ahLst/>
              <a:rect l="l" t="t" r="r" b="b"/>
              <a:pathLst>
                <a:path w="2208" h="2352">
                  <a:moveTo>
                    <a:pt x="0" y="2352"/>
                  </a:moveTo>
                  <a:lnTo>
                    <a:pt x="0" y="1008"/>
                  </a:lnTo>
                  <a:lnTo>
                    <a:pt x="1104" y="0"/>
                  </a:lnTo>
                  <a:lnTo>
                    <a:pt x="2208" y="1008"/>
                  </a:lnTo>
                  <a:lnTo>
                    <a:pt x="2208" y="2352"/>
                  </a:lnTo>
                  <a:lnTo>
                    <a:pt x="0" y="2352"/>
                  </a:lnTo>
                  <a:close/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66360" y="4714920"/>
              <a:ext cx="6580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392040"/>
                  <a:tab algn="l" pos="784080"/>
                  <a:tab algn="l" pos="1176480"/>
                  <a:tab algn="l" pos="1568520"/>
                  <a:tab algn="l" pos="1960560"/>
                  <a:tab algn="l" pos="2352600"/>
                  <a:tab algn="l" pos="2744640"/>
                  <a:tab algn="l" pos="3137040"/>
                  <a:tab algn="l" pos="3529080"/>
                  <a:tab algn="l" pos="3921120"/>
                  <a:tab algn="l" pos="4313160"/>
                  <a:tab algn="l" pos="4705200"/>
                  <a:tab algn="l" pos="5097600"/>
                  <a:tab algn="l" pos="5489640"/>
                  <a:tab algn="l" pos="5881680"/>
                  <a:tab algn="l" pos="6273720"/>
                  <a:tab algn="l" pos="6665760"/>
                  <a:tab algn="l" pos="7058160"/>
                  <a:tab algn="l" pos="7450200"/>
                  <a:tab algn="l" pos="784224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Sk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9680" y="4883040"/>
              <a:ext cx="120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72720" y="1981080"/>
            <a:ext cx="5690160" cy="3124440"/>
            <a:chOff x="972720" y="1981080"/>
            <a:chExt cx="5690160" cy="3124440"/>
          </a:xfrm>
        </p:grpSpPr>
        <p:sp>
          <p:nvSpPr>
            <p:cNvPr id="146" name=""/>
            <p:cNvSpPr/>
            <p:nvPr/>
          </p:nvSpPr>
          <p:spPr>
            <a:xfrm>
              <a:off x="3728880" y="1981080"/>
              <a:ext cx="2934000" cy="3124440"/>
            </a:xfrm>
            <a:custGeom>
              <a:avLst/>
              <a:gdLst/>
              <a:ahLst/>
              <a:rect l="l" t="t" r="r" b="b"/>
              <a:pathLst>
                <a:path w="2208" h="2352">
                  <a:moveTo>
                    <a:pt x="0" y="2352"/>
                  </a:moveTo>
                  <a:lnTo>
                    <a:pt x="0" y="1008"/>
                  </a:lnTo>
                  <a:lnTo>
                    <a:pt x="1104" y="0"/>
                  </a:lnTo>
                  <a:lnTo>
                    <a:pt x="2208" y="1008"/>
                  </a:lnTo>
                  <a:lnTo>
                    <a:pt x="2208" y="2352"/>
                  </a:lnTo>
                  <a:lnTo>
                    <a:pt x="0" y="2352"/>
                  </a:lnTo>
                  <a:close/>
                </a:path>
              </a:pathLst>
            </a:custGeom>
            <a:noFill/>
            <a:ln w="15228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2720" y="3973680"/>
              <a:ext cx="1253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392040"/>
                  <a:tab algn="l" pos="784080"/>
                  <a:tab algn="l" pos="1176480"/>
                  <a:tab algn="l" pos="1568520"/>
                  <a:tab algn="l" pos="1960560"/>
                  <a:tab algn="l" pos="2352600"/>
                  <a:tab algn="l" pos="2744640"/>
                  <a:tab algn="l" pos="3137040"/>
                  <a:tab algn="l" pos="3529080"/>
                  <a:tab algn="l" pos="3921120"/>
                  <a:tab algn="l" pos="4313160"/>
                  <a:tab algn="l" pos="4705200"/>
                  <a:tab algn="l" pos="5097600"/>
                  <a:tab algn="l" pos="5489640"/>
                  <a:tab algn="l" pos="5881680"/>
                  <a:tab algn="l" pos="6273720"/>
                  <a:tab algn="l" pos="6665760"/>
                  <a:tab algn="l" pos="7058160"/>
                  <a:tab algn="l" pos="7450200"/>
                  <a:tab algn="l" pos="784224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209680" y="4133880"/>
              <a:ext cx="1506600" cy="144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057320" y="2286000"/>
            <a:ext cx="5354640" cy="2590920"/>
            <a:chOff x="1057320" y="2286000"/>
            <a:chExt cx="5354640" cy="2590920"/>
          </a:xfrm>
        </p:grpSpPr>
        <p:sp>
          <p:nvSpPr>
            <p:cNvPr id="150" name=""/>
            <p:cNvSpPr/>
            <p:nvPr/>
          </p:nvSpPr>
          <p:spPr>
            <a:xfrm>
              <a:off x="3978360" y="2286000"/>
              <a:ext cx="2433600" cy="2590920"/>
            </a:xfrm>
            <a:custGeom>
              <a:avLst/>
              <a:gdLst/>
              <a:ahLst/>
              <a:rect l="l" t="t" r="r" b="b"/>
              <a:pathLst>
                <a:path w="2208" h="2352">
                  <a:moveTo>
                    <a:pt x="0" y="2352"/>
                  </a:moveTo>
                  <a:lnTo>
                    <a:pt x="0" y="1008"/>
                  </a:lnTo>
                  <a:lnTo>
                    <a:pt x="1104" y="0"/>
                  </a:lnTo>
                  <a:lnTo>
                    <a:pt x="2208" y="1008"/>
                  </a:lnTo>
                  <a:lnTo>
                    <a:pt x="2208" y="2352"/>
                  </a:lnTo>
                  <a:lnTo>
                    <a:pt x="0" y="2352"/>
                  </a:lnTo>
                  <a:close/>
                </a:path>
              </a:pathLst>
            </a:cu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7320" y="3233880"/>
              <a:ext cx="1168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392040"/>
                  <a:tab algn="l" pos="784080"/>
                  <a:tab algn="l" pos="1176480"/>
                  <a:tab algn="l" pos="1568520"/>
                  <a:tab algn="l" pos="1960560"/>
                  <a:tab algn="l" pos="2352600"/>
                  <a:tab algn="l" pos="2744640"/>
                  <a:tab algn="l" pos="3137040"/>
                  <a:tab algn="l" pos="3529080"/>
                  <a:tab algn="l" pos="3921120"/>
                  <a:tab algn="l" pos="4313160"/>
                  <a:tab algn="l" pos="4705200"/>
                  <a:tab algn="l" pos="5097600"/>
                  <a:tab algn="l" pos="5489640"/>
                  <a:tab algn="l" pos="5881680"/>
                  <a:tab algn="l" pos="6273720"/>
                  <a:tab algn="l" pos="6665760"/>
                  <a:tab algn="l" pos="7058160"/>
                  <a:tab algn="l" pos="7450200"/>
                  <a:tab algn="l" pos="784224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209680" y="3394080"/>
              <a:ext cx="1791000" cy="144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61040" y="2438280"/>
            <a:ext cx="5401800" cy="2210040"/>
            <a:chOff x="761040" y="2438280"/>
            <a:chExt cx="5401800" cy="2210040"/>
          </a:xfrm>
        </p:grpSpPr>
        <p:sp>
          <p:nvSpPr>
            <p:cNvPr id="154" name=""/>
            <p:cNvSpPr/>
            <p:nvPr/>
          </p:nvSpPr>
          <p:spPr>
            <a:xfrm>
              <a:off x="4230720" y="2590920"/>
              <a:ext cx="1932120" cy="2057400"/>
            </a:xfrm>
            <a:custGeom>
              <a:avLst/>
              <a:gdLst/>
              <a:ahLst/>
              <a:rect l="l" t="t" r="r" b="b"/>
              <a:pathLst>
                <a:path w="2208" h="2352">
                  <a:moveTo>
                    <a:pt x="0" y="2352"/>
                  </a:moveTo>
                  <a:lnTo>
                    <a:pt x="0" y="1008"/>
                  </a:lnTo>
                  <a:lnTo>
                    <a:pt x="1104" y="0"/>
                  </a:lnTo>
                  <a:lnTo>
                    <a:pt x="2208" y="1008"/>
                  </a:lnTo>
                  <a:lnTo>
                    <a:pt x="2208" y="2352"/>
                  </a:lnTo>
                  <a:lnTo>
                    <a:pt x="0" y="2352"/>
                  </a:lnTo>
                  <a:close/>
                </a:path>
              </a:pathLst>
            </a:custGeom>
            <a:noFill/>
            <a:ln w="7632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1040" y="2438280"/>
              <a:ext cx="14644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392040"/>
                  <a:tab algn="l" pos="784080"/>
                  <a:tab algn="l" pos="1176480"/>
                  <a:tab algn="l" pos="1568520"/>
                  <a:tab algn="l" pos="1960560"/>
                  <a:tab algn="l" pos="2352600"/>
                  <a:tab algn="l" pos="2744640"/>
                  <a:tab algn="l" pos="3137040"/>
                  <a:tab algn="l" pos="3529080"/>
                  <a:tab algn="l" pos="3921120"/>
                  <a:tab algn="l" pos="4313160"/>
                  <a:tab algn="l" pos="4705200"/>
                  <a:tab algn="l" pos="5097600"/>
                  <a:tab algn="l" pos="5489640"/>
                  <a:tab algn="l" pos="5881680"/>
                  <a:tab algn="l" pos="6273720"/>
                  <a:tab algn="l" pos="6665760"/>
                  <a:tab algn="l" pos="7058160"/>
                  <a:tab algn="l" pos="7450200"/>
                  <a:tab algn="l" pos="784224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Space 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9680" y="2600280"/>
              <a:ext cx="2990880" cy="1116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443480" y="2819520"/>
            <a:ext cx="3648600" cy="1600200"/>
            <a:chOff x="4443480" y="2819520"/>
            <a:chExt cx="3648600" cy="1600200"/>
          </a:xfrm>
        </p:grpSpPr>
        <p:sp>
          <p:nvSpPr>
            <p:cNvPr id="158" name=""/>
            <p:cNvSpPr/>
            <p:nvPr/>
          </p:nvSpPr>
          <p:spPr>
            <a:xfrm>
              <a:off x="4443480" y="2819520"/>
              <a:ext cx="1503360" cy="1600200"/>
            </a:xfrm>
            <a:custGeom>
              <a:avLst/>
              <a:gdLst/>
              <a:ahLst/>
              <a:rect l="l" t="t" r="r" b="b"/>
              <a:pathLst>
                <a:path w="2208" h="2352">
                  <a:moveTo>
                    <a:pt x="0" y="2352"/>
                  </a:moveTo>
                  <a:lnTo>
                    <a:pt x="0" y="1008"/>
                  </a:lnTo>
                  <a:lnTo>
                    <a:pt x="1104" y="0"/>
                  </a:lnTo>
                  <a:lnTo>
                    <a:pt x="2208" y="1008"/>
                  </a:lnTo>
                  <a:lnTo>
                    <a:pt x="2208" y="2352"/>
                  </a:lnTo>
                  <a:lnTo>
                    <a:pt x="0" y="2352"/>
                  </a:lnTo>
                  <a:close/>
                </a:path>
              </a:pathLst>
            </a:custGeom>
            <a:noFill/>
            <a:ln w="76320">
              <a:solidFill>
                <a:srgbClr val="33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89720" y="3581280"/>
              <a:ext cx="7023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392040"/>
                  <a:tab algn="l" pos="784080"/>
                  <a:tab algn="l" pos="1176480"/>
                  <a:tab algn="l" pos="1568520"/>
                  <a:tab algn="l" pos="1960560"/>
                  <a:tab algn="l" pos="2352600"/>
                  <a:tab algn="l" pos="2744640"/>
                  <a:tab algn="l" pos="3137040"/>
                  <a:tab algn="l" pos="3529080"/>
                  <a:tab algn="l" pos="3921120"/>
                  <a:tab algn="l" pos="4313160"/>
                  <a:tab algn="l" pos="4705200"/>
                  <a:tab algn="l" pos="5097600"/>
                  <a:tab algn="l" pos="5489640"/>
                  <a:tab algn="l" pos="5881680"/>
                  <a:tab algn="l" pos="6273720"/>
                  <a:tab algn="l" pos="6665760"/>
                  <a:tab algn="l" pos="7058160"/>
                  <a:tab algn="l" pos="7450200"/>
                  <a:tab algn="l" pos="784224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Stu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952960" y="3745080"/>
              <a:ext cx="1444680" cy="1440"/>
            </a:xfrm>
            <a:prstGeom prst="line">
              <a:avLst/>
            </a:prstGeom>
            <a:ln w="381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265880" y="0"/>
            <a:ext cx="1877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Brand, </a:t>
            </a:r>
            <a:r>
              <a:rPr b="1" i="1" lang="en-US" sz="1000" spc="-1" strike="noStrike">
                <a:solidFill>
                  <a:srgbClr val="33cc33"/>
                </a:solidFill>
                <a:latin typeface="Arial"/>
              </a:rPr>
              <a:t>How Buildings Lea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Dimensions of software complexity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4238280" y="2098440"/>
            <a:ext cx="3240" cy="3033720"/>
          </a:xfrm>
          <a:prstGeom prst="line">
            <a:avLst/>
          </a:prstGeom>
          <a:ln w="255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341080" y="3564000"/>
            <a:ext cx="3963960" cy="1440"/>
          </a:xfrm>
          <a:prstGeom prst="line">
            <a:avLst/>
          </a:prstGeom>
          <a:ln w="255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5720" y="1219320"/>
            <a:ext cx="4077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Higher technical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Embedded, real-time, distributed, fault-tole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Custom, unprecedented, architecture reengin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High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19160" y="5486400"/>
            <a:ext cx="4532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Lower technical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 Mostly 4GL, or component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 Application reengin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 Interactive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1280" y="3124080"/>
            <a:ext cx="18212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Hig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Large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Contr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Many stake h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“Projec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5400" y="3124080"/>
            <a:ext cx="182124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manag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Small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Inf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Single stakeh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“Produc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276880" y="4114800"/>
            <a:ext cx="925200" cy="443520"/>
            <a:chOff x="5276880" y="4114800"/>
            <a:chExt cx="925200" cy="443520"/>
          </a:xfrm>
        </p:grpSpPr>
        <p:sp>
          <p:nvSpPr>
            <p:cNvPr id="170" name=""/>
            <p:cNvSpPr/>
            <p:nvPr/>
          </p:nvSpPr>
          <p:spPr>
            <a:xfrm>
              <a:off x="5692680" y="4114800"/>
              <a:ext cx="95400" cy="108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76880" y="4195800"/>
              <a:ext cx="92520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Defen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 </a:t>
              </a: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MIS 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37240" y="2131920"/>
            <a:ext cx="1158480" cy="459360"/>
            <a:chOff x="5637240" y="2131920"/>
            <a:chExt cx="1158480" cy="459360"/>
          </a:xfrm>
        </p:grpSpPr>
        <p:sp>
          <p:nvSpPr>
            <p:cNvPr id="173" name=""/>
            <p:cNvSpPr/>
            <p:nvPr/>
          </p:nvSpPr>
          <p:spPr>
            <a:xfrm>
              <a:off x="6168960" y="2131920"/>
              <a:ext cx="93600" cy="109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37240" y="2228760"/>
              <a:ext cx="11584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Defense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Weapon 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795200" y="2254320"/>
            <a:ext cx="730080" cy="459360"/>
            <a:chOff x="4795200" y="2254320"/>
            <a:chExt cx="730080" cy="459360"/>
          </a:xfrm>
        </p:grpSpPr>
        <p:sp>
          <p:nvSpPr>
            <p:cNvPr id="176" name=""/>
            <p:cNvSpPr/>
            <p:nvPr/>
          </p:nvSpPr>
          <p:spPr>
            <a:xfrm>
              <a:off x="5113440" y="2254320"/>
              <a:ext cx="93600" cy="108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95200" y="2351160"/>
              <a:ext cx="7300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Telecom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Swi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377160" y="3103560"/>
            <a:ext cx="835200" cy="322560"/>
            <a:chOff x="3377160" y="3103560"/>
            <a:chExt cx="835200" cy="322560"/>
          </a:xfrm>
        </p:grpSpPr>
        <p:sp>
          <p:nvSpPr>
            <p:cNvPr id="179" name=""/>
            <p:cNvSpPr/>
            <p:nvPr/>
          </p:nvSpPr>
          <p:spPr>
            <a:xfrm>
              <a:off x="3746520" y="3103560"/>
              <a:ext cx="95400" cy="109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77160" y="3200400"/>
              <a:ext cx="8352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CASE To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248880" y="2495520"/>
            <a:ext cx="1313640" cy="457920"/>
            <a:chOff x="6248880" y="2495520"/>
            <a:chExt cx="1313640" cy="457920"/>
          </a:xfrm>
        </p:grpSpPr>
        <p:sp>
          <p:nvSpPr>
            <p:cNvPr id="182" name=""/>
            <p:cNvSpPr/>
            <p:nvPr/>
          </p:nvSpPr>
          <p:spPr>
            <a:xfrm>
              <a:off x="6858000" y="2495520"/>
              <a:ext cx="93600" cy="109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48880" y="2590920"/>
              <a:ext cx="13136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National Air Traff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Control  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191120" y="4149720"/>
            <a:ext cx="984600" cy="575640"/>
            <a:chOff x="4191120" y="4149720"/>
            <a:chExt cx="984600" cy="575640"/>
          </a:xfrm>
        </p:grpSpPr>
        <p:sp>
          <p:nvSpPr>
            <p:cNvPr id="185" name=""/>
            <p:cNvSpPr/>
            <p:nvPr/>
          </p:nvSpPr>
          <p:spPr>
            <a:xfrm>
              <a:off x="4191120" y="4226040"/>
              <a:ext cx="98460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Enterprise 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(Family of 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Application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35360" y="4149720"/>
              <a:ext cx="95400" cy="108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352680" y="2602080"/>
            <a:ext cx="974880" cy="460800"/>
            <a:chOff x="3352680" y="2602080"/>
            <a:chExt cx="974880" cy="460800"/>
          </a:xfrm>
        </p:grpSpPr>
        <p:sp>
          <p:nvSpPr>
            <p:cNvPr id="188" name=""/>
            <p:cNvSpPr/>
            <p:nvPr/>
          </p:nvSpPr>
          <p:spPr>
            <a:xfrm>
              <a:off x="3794040" y="2602080"/>
              <a:ext cx="92160" cy="109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52680" y="2700360"/>
              <a:ext cx="97488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Commerc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980720" y="5025960"/>
            <a:ext cx="940320" cy="461160"/>
            <a:chOff x="1980720" y="5025960"/>
            <a:chExt cx="940320" cy="461160"/>
          </a:xfrm>
        </p:grpSpPr>
        <p:sp>
          <p:nvSpPr>
            <p:cNvPr id="191" name=""/>
            <p:cNvSpPr/>
            <p:nvPr/>
          </p:nvSpPr>
          <p:spPr>
            <a:xfrm>
              <a:off x="2403360" y="5025960"/>
              <a:ext cx="95040" cy="108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80720" y="5124600"/>
              <a:ext cx="9403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Busin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Spreadshe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844360" y="4013280"/>
            <a:ext cx="1385280" cy="597600"/>
            <a:chOff x="2844360" y="4013280"/>
            <a:chExt cx="1385280" cy="597600"/>
          </a:xfrm>
        </p:grpSpPr>
        <p:sp>
          <p:nvSpPr>
            <p:cNvPr id="194" name=""/>
            <p:cNvSpPr/>
            <p:nvPr/>
          </p:nvSpPr>
          <p:spPr>
            <a:xfrm>
              <a:off x="3490920" y="4013280"/>
              <a:ext cx="93600" cy="109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44360" y="4111560"/>
              <a:ext cx="138528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IS 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Distributed Object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(Order Entr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376000" y="3695760"/>
            <a:ext cx="1115640" cy="459360"/>
            <a:chOff x="2376000" y="3695760"/>
            <a:chExt cx="1115640" cy="459360"/>
          </a:xfrm>
        </p:grpSpPr>
        <p:sp>
          <p:nvSpPr>
            <p:cNvPr id="197" name=""/>
            <p:cNvSpPr/>
            <p:nvPr/>
          </p:nvSpPr>
          <p:spPr>
            <a:xfrm>
              <a:off x="2884320" y="3695760"/>
              <a:ext cx="96840" cy="109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76000" y="3792600"/>
              <a:ext cx="11156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Small Scientif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Sim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647600" y="2971800"/>
            <a:ext cx="1344240" cy="599040"/>
            <a:chOff x="4647600" y="2971800"/>
            <a:chExt cx="1344240" cy="599040"/>
          </a:xfrm>
        </p:grpSpPr>
        <p:sp>
          <p:nvSpPr>
            <p:cNvPr id="200" name=""/>
            <p:cNvSpPr/>
            <p:nvPr/>
          </p:nvSpPr>
          <p:spPr>
            <a:xfrm>
              <a:off x="5272200" y="2971800"/>
              <a:ext cx="95040" cy="107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47600" y="3071520"/>
              <a:ext cx="134424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Large-Sc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Organization/Ent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Sim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62960" y="1352160"/>
            <a:ext cx="6118200" cy="2271960"/>
            <a:chOff x="462960" y="1352160"/>
            <a:chExt cx="6118200" cy="2271960"/>
          </a:xfrm>
        </p:grpSpPr>
        <p:sp>
          <p:nvSpPr>
            <p:cNvPr id="203" name=""/>
            <p:cNvSpPr/>
            <p:nvPr/>
          </p:nvSpPr>
          <p:spPr>
            <a:xfrm rot="10800000">
              <a:off x="1736640" y="1351800"/>
              <a:ext cx="4844520" cy="217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7" y="0"/>
                  </a:moveTo>
                  <a:arcTo wR="10800" hR="10800" stAng="-5397748" swAng="51461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7" y="0"/>
                  </a:moveTo>
                  <a:arcTo wR="10800" hR="10800" stAng="-5397748" swAng="5146157"/>
                </a:path>
              </a:pathLst>
            </a:custGeom>
            <a:noFill/>
            <a:ln cap="rnd" w="1260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81400" y="3514680"/>
              <a:ext cx="96840" cy="109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2960" y="2057400"/>
              <a:ext cx="1953720" cy="77292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 average software project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 5-10 peop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 10-15 month du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 3-5 external interfa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 Some unknowns &amp; ris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658960" y="2724120"/>
            <a:ext cx="914400" cy="594720"/>
            <a:chOff x="2658960" y="2724120"/>
            <a:chExt cx="914400" cy="594720"/>
          </a:xfrm>
        </p:grpSpPr>
        <p:sp>
          <p:nvSpPr>
            <p:cNvPr id="207" name=""/>
            <p:cNvSpPr/>
            <p:nvPr/>
          </p:nvSpPr>
          <p:spPr>
            <a:xfrm>
              <a:off x="3068640" y="2724120"/>
              <a:ext cx="95400" cy="108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58960" y="2819520"/>
              <a:ext cx="91440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Embed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Automotiv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019320" y="4576680"/>
            <a:ext cx="1025640" cy="596160"/>
            <a:chOff x="3019320" y="4576680"/>
            <a:chExt cx="1025640" cy="596160"/>
          </a:xfrm>
        </p:grpSpPr>
        <p:sp>
          <p:nvSpPr>
            <p:cNvPr id="210" name=""/>
            <p:cNvSpPr/>
            <p:nvPr/>
          </p:nvSpPr>
          <p:spPr>
            <a:xfrm>
              <a:off x="3484440" y="4576680"/>
              <a:ext cx="93960" cy="108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19320" y="4673520"/>
              <a:ext cx="102564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IS 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GUI/RDB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dddddd"/>
                  </a:solidFill>
                  <a:latin typeface="Arial"/>
                </a:rPr>
                <a:t>(Order Entr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8134560" y="0"/>
            <a:ext cx="1009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Walker Roy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Forces in Softwar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32280" y="2438280"/>
            <a:ext cx="1295280" cy="1295640"/>
          </a:xfrm>
          <a:prstGeom prst="ellipse">
            <a:avLst/>
          </a:prstGeom>
          <a:gradFill rotWithShape="0">
            <a:gsLst>
              <a:gs pos="0">
                <a:srgbClr val="175e17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119320" y="3695400"/>
            <a:ext cx="2233440" cy="1206360"/>
            <a:chOff x="2119320" y="3695400"/>
            <a:chExt cx="2233440" cy="1206360"/>
          </a:xfrm>
        </p:grpSpPr>
        <p:sp>
          <p:nvSpPr>
            <p:cNvPr id="216" name=""/>
            <p:cNvSpPr/>
            <p:nvPr/>
          </p:nvSpPr>
          <p:spPr>
            <a:xfrm flipV="1">
              <a:off x="4092480" y="3695400"/>
              <a:ext cx="260280" cy="66996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19320" y="4502160"/>
              <a:ext cx="18478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Technology chu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095480" y="5915160"/>
            <a:ext cx="4794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ur enemy is complexity, and it’s our goal to kill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Jan Ba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448640" y="2052720"/>
            <a:ext cx="6202080" cy="2166480"/>
            <a:chOff x="1448640" y="2052720"/>
            <a:chExt cx="6202080" cy="2166480"/>
          </a:xfrm>
        </p:grpSpPr>
        <p:sp>
          <p:nvSpPr>
            <p:cNvPr id="220" name=""/>
            <p:cNvSpPr/>
            <p:nvPr/>
          </p:nvSpPr>
          <p:spPr>
            <a:xfrm>
              <a:off x="1629360" y="3819600"/>
              <a:ext cx="1386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Perform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14880" y="2362320"/>
              <a:ext cx="685800" cy="4572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32440" y="3819600"/>
              <a:ext cx="12596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Through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05000" y="3046320"/>
              <a:ext cx="819360" cy="18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36520" y="2052720"/>
              <a:ext cx="10022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Capa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349800" y="3467160"/>
              <a:ext cx="707760" cy="4572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8640" y="2847960"/>
              <a:ext cx="11728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35960" y="2052720"/>
              <a:ext cx="9792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Fail sa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219640" y="3048120"/>
              <a:ext cx="819360" cy="144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80040" y="2847960"/>
              <a:ext cx="15706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Fault toler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5067000" y="3468600"/>
              <a:ext cx="708120" cy="4572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5143320" y="2400480"/>
              <a:ext cx="685800" cy="4572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845880" y="915840"/>
            <a:ext cx="13604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37080" y="1486080"/>
            <a:ext cx="0" cy="95220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32480" y="1290600"/>
            <a:ext cx="6213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20320" y="1290600"/>
            <a:ext cx="13831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120" rIns="9612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49600" y="1690560"/>
            <a:ext cx="698400" cy="84312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921200" y="1690560"/>
            <a:ext cx="698400" cy="84312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836960" y="3695760"/>
            <a:ext cx="1320120" cy="1206000"/>
            <a:chOff x="4836960" y="3695760"/>
            <a:chExt cx="1320120" cy="1206000"/>
          </a:xfrm>
        </p:grpSpPr>
        <p:sp>
          <p:nvSpPr>
            <p:cNvPr id="239" name=""/>
            <p:cNvSpPr/>
            <p:nvPr/>
          </p:nvSpPr>
          <p:spPr>
            <a:xfrm>
              <a:off x="5005440" y="4502160"/>
              <a:ext cx="11516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Resil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836960" y="3695760"/>
              <a:ext cx="280800" cy="65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094400" y="5006880"/>
            <a:ext cx="74282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e challenge over the next 20 years will not be speed or cost or performan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t will be a question of complex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Bill Raduchel, Chief Strategy Officer, Sun Micr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The domain of architecting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42840" y="1530360"/>
            <a:ext cx="2633760" cy="2227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42840" y="4429080"/>
            <a:ext cx="2633760" cy="2227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95760" y="1530360"/>
            <a:ext cx="2633760" cy="2227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95760" y="4429080"/>
            <a:ext cx="2633760" cy="2227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8360" y="1819440"/>
            <a:ext cx="1401840" cy="544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7880" indent="-407880" algn="ctr">
              <a:lnSpc>
                <a:spcPct val="6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 algn="ctr">
              <a:lnSpc>
                <a:spcPct val="6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Qu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14960" y="4773600"/>
            <a:ext cx="1401840" cy="48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7880" indent="-40788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36560" y="2782800"/>
            <a:ext cx="1401840" cy="544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7880" indent="-407880" algn="ctr">
              <a:lnSpc>
                <a:spcPct val="6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Architec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 algn="ctr">
              <a:lnSpc>
                <a:spcPct val="6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4000" y="1173240"/>
            <a:ext cx="2329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e “wha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91520" y="1143000"/>
            <a:ext cx="224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e “wh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64160" y="4056120"/>
            <a:ext cx="2259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e “ho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2560" y="4084560"/>
            <a:ext cx="2259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e “wh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65960" y="1746360"/>
            <a:ext cx="1401840" cy="51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7880" indent="-407880" algn="ctr">
              <a:lnSpc>
                <a:spcPct val="6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 algn="ctr">
              <a:lnSpc>
                <a:spcPct val="6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240" y="2292480"/>
            <a:ext cx="1457280" cy="685800"/>
          </a:xfrm>
          <a:prstGeom prst="rightArrow">
            <a:avLst>
              <a:gd name="adj1" fmla="val 50000"/>
              <a:gd name="adj2" fmla="val 5312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7880" indent="-40788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71920" y="2170080"/>
            <a:ext cx="1919160" cy="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22840" y="2405160"/>
            <a:ext cx="1401840" cy="544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7880" indent="-407880" algn="ctr">
              <a:lnSpc>
                <a:spcPct val="5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/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 algn="ctr">
              <a:lnSpc>
                <a:spcPct val="5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92880" y="3087720"/>
            <a:ext cx="1528920" cy="531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7880" indent="-407880" algn="ctr">
              <a:lnSpc>
                <a:spcPct val="6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 algn="ctr">
              <a:lnSpc>
                <a:spcPct val="6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Quality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58760" y="1895400"/>
            <a:ext cx="1680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atisf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70120" y="2940120"/>
            <a:ext cx="1919520" cy="0"/>
          </a:xfrm>
          <a:prstGeom prst="line">
            <a:avLst/>
          </a:prstGeom>
          <a:ln w="1908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43280" y="2625840"/>
            <a:ext cx="1773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nst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41960" y="5638680"/>
            <a:ext cx="1401840" cy="489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7880" indent="-40788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92200" y="4732200"/>
            <a:ext cx="1401840" cy="489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7880" indent="-40788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Archit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56120" y="5361120"/>
            <a:ext cx="1401480" cy="48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7880" indent="-40788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ki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36760" y="5907240"/>
            <a:ext cx="1401840" cy="48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7880" indent="-40788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take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6527880" y="5245200"/>
            <a:ext cx="1440" cy="2793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7072200" y="5230440"/>
            <a:ext cx="0" cy="33660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390760" y="5198760"/>
            <a:ext cx="0" cy="70020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001960" y="5224320"/>
            <a:ext cx="0" cy="586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09720" y="5626080"/>
            <a:ext cx="194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efines r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8720" y="5203800"/>
            <a:ext cx="252360" cy="154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284560" y="3325680"/>
            <a:ext cx="0" cy="1401840"/>
          </a:xfrm>
          <a:prstGeom prst="line">
            <a:avLst/>
          </a:prstGeom>
          <a:ln w="12600">
            <a:solidFill>
              <a:srgbClr val="ff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45000" y="3983040"/>
            <a:ext cx="175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86120" y="5049720"/>
            <a:ext cx="3262320" cy="868320"/>
          </a:xfrm>
          <a:custGeom>
            <a:avLst/>
            <a:gdLst/>
            <a:ahLst/>
            <a:rect l="l" t="t" r="r" b="b"/>
            <a:pathLst>
              <a:path w="2055" h="547">
                <a:moveTo>
                  <a:pt x="0" y="0"/>
                </a:moveTo>
                <a:lnTo>
                  <a:pt x="1235" y="0"/>
                </a:lnTo>
                <a:lnTo>
                  <a:pt x="1235" y="547"/>
                </a:lnTo>
                <a:lnTo>
                  <a:pt x="2055" y="547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98720" y="4881600"/>
            <a:ext cx="3222720" cy="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2600" y="4587840"/>
            <a:ext cx="161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Fol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520040" y="2217240"/>
            <a:ext cx="0" cy="784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074000" y="2734560"/>
            <a:ext cx="264960" cy="336600"/>
          </a:xfrm>
          <a:custGeom>
            <a:avLst/>
            <a:gdLst/>
            <a:ahLst/>
            <a:rect l="l" t="t" r="r" b="b"/>
            <a:pathLst>
              <a:path w="150" h="265">
                <a:moveTo>
                  <a:pt x="0" y="265"/>
                </a:moveTo>
                <a:lnTo>
                  <a:pt x="150" y="265"/>
                </a:lnTo>
                <a:lnTo>
                  <a:pt x="150" y="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68960" y="2201760"/>
            <a:ext cx="265320" cy="336600"/>
          </a:xfrm>
          <a:custGeom>
            <a:avLst/>
            <a:gdLst/>
            <a:ahLst/>
            <a:rect l="l" t="t" r="r" b="b"/>
            <a:pathLst>
              <a:path w="150" h="265">
                <a:moveTo>
                  <a:pt x="0" y="265"/>
                </a:moveTo>
                <a:lnTo>
                  <a:pt x="150" y="265"/>
                </a:lnTo>
                <a:lnTo>
                  <a:pt x="150" y="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805440" y="3746160"/>
            <a:ext cx="0" cy="90972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17440" y="3983040"/>
            <a:ext cx="1598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ef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41920" y="3817800"/>
            <a:ext cx="1401480" cy="489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07880" indent="-407880" algn="ctr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850920" y="4278240"/>
            <a:ext cx="351000" cy="9810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774680" y="2948040"/>
            <a:ext cx="1333800" cy="7840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75080" y="4054320"/>
            <a:ext cx="3650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674800" y="4054320"/>
            <a:ext cx="798480" cy="632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2572920" y="3322800"/>
            <a:ext cx="901800" cy="736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333160" y="2344680"/>
            <a:ext cx="1800" cy="3794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751520" y="63360"/>
            <a:ext cx="1391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cc33"/>
                </a:solidFill>
                <a:latin typeface="Arial"/>
              </a:rPr>
              <a:t>Wojtek Kozaczyns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We all know that ...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53452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2904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e and design are the same 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e and infrastructure are the same 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&lt;my favorite technology&gt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ood architecture is the work of a single archi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e is flat, one blueprint is 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e is just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architecture precedes softwar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e cannot be measured and valid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e is a 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e is an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877160" y="63360"/>
            <a:ext cx="1265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cc33"/>
                </a:solidFill>
                <a:latin typeface="Arial"/>
              </a:rPr>
              <a:t>Philippe Kruch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ure defined 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(again)</a:t>
            </a:r>
            <a:endParaRPr b="1" lang="en-US" sz="2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chitecture n (1555) 1: the art of science of building, specifically, the art or practice of designing and building structures and esp. habitable ones 2 a: formation or construction as or as if as the result of conscious act &lt;the ~ of the garden&gt; b: a unifying or coherent form or structure &lt;the novel lacks ~&gt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38320" y="0"/>
            <a:ext cx="260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Merriam Webster’s Collegiate Dictio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10th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ure defined 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(yet again)</a:t>
            </a:r>
            <a:endParaRPr b="1" lang="en-US" sz="2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ftware architecture encompasses the set of significant decisions about the organization of a software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ection of the structural elements and their interfaces by which a system is compo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havior as specified in collaborations among those el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osition of these structural and behavioral elements into larger sub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chitectural style that guides this organ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87440" y="0"/>
            <a:ext cx="145548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Mary Shaw, CM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Grady Boo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Philippe Kruchte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Rich Reit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Kurt Bittner, R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ure defined 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(continued)</a:t>
            </a:r>
            <a:endParaRPr b="1" lang="en-US" sz="2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ftware architecture also invol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ili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rehensi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conomic and technology constraints and tradeoff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esthetic concer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687440" y="0"/>
            <a:ext cx="145548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Mary Shaw, CM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Grady Boo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Philippe Kruchte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Rich Reit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Kurt Bittner, R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ural styl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 architecture style defines a family of systems in terms of a pattern of structural organizat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9640" indent="-44964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 architectural style def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7720" indent="-27720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vocabulary of components and connector typ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7720" indent="-27720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et of constraints on how they can be combin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7720" indent="-27720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 or more semantic models that specify how a system’s overall properties can be determined from the properties of its par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943400" y="0"/>
            <a:ext cx="1199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Mary Shaw, CM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ing a dog house 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5" name="DOGHOUSE" descr=""/>
          <p:cNvPicPr/>
          <p:nvPr/>
        </p:nvPicPr>
        <p:blipFill>
          <a:blip r:embed="rId1"/>
          <a:stretch/>
        </p:blipFill>
        <p:spPr>
          <a:xfrm>
            <a:off x="2786040" y="990720"/>
            <a:ext cx="3538440" cy="5514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95800" y="3443400"/>
            <a:ext cx="348516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n be built by one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qu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inimal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mp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mple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ure metamodel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914400"/>
            <a:ext cx="6553440" cy="5486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882800" y="1185840"/>
          <a:ext cx="5481720" cy="56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2800" y="1185840"/>
                    <a:ext cx="548172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Model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0920" indent="-43092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dels are the language of designer, in many discipl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0920" indent="-43092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dels are representations of the system to-be-built or as-buil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0920" indent="-43092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dels are vehicle for communications with various stakehol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0920" indent="-43092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sual models, bluepri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0920" indent="-43092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0920" indent="-43092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dels allow reasoning about some characteristic of the real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1392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Many stakeholders, many view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00320" indent="-400320">
              <a:lnSpc>
                <a:spcPct val="7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chitecture is many things to many different interested par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506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d-us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506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506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ject manag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506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ystem engine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506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506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chit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506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tain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506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ther develop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0320" indent="-400320">
              <a:lnSpc>
                <a:spcPct val="7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ltidimensional rea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0320" indent="-40032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ltiple stakehold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0">
              <a:spcBef>
                <a:spcPts val="649"/>
              </a:spcBef>
              <a:buNone/>
              <a:tabLst>
                <a:tab algn="l" pos="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le views, multiple bluepri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5715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ural view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 architectural view is a simplified description (an abstraction) of a system from a particular perspective or vantage point, covering particular concerns, and omitting entities that are not relevant to this perspec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57320"/>
            <a:ext cx="8381880" cy="5284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urally significant element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 fontScale="91000"/>
          </a:bodyPr>
          <a:p>
            <a:pPr marL="421920" indent="-42192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all design is architec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192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1920" indent="-42192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in “business” clas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1920" indent="-42192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ortant  mechanis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1920" indent="-42192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cessors and proces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1920" indent="-42192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yers and subsyste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192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1920" indent="-42192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chitectural views = slices through mode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Characteristics of a Good Architectur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ili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roach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ear separation of concer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lanced distribution of responsib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lances economic and technology constrai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Representing System Architectur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1473120"/>
            <a:ext cx="3576600" cy="20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2082960"/>
            <a:ext cx="161136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Logical</a:t>
            </a:r>
            <a:r>
              <a:rPr b="0" lang="en-US" sz="2000" spc="-1" strike="noStrike">
                <a:solidFill>
                  <a:srgbClr val="ccccff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188360" y="2921040"/>
            <a:ext cx="1022040" cy="535680"/>
            <a:chOff x="1188360" y="2921040"/>
            <a:chExt cx="1022040" cy="535680"/>
          </a:xfrm>
        </p:grpSpPr>
        <p:sp>
          <p:nvSpPr>
            <p:cNvPr id="324" name=""/>
            <p:cNvSpPr/>
            <p:nvPr/>
          </p:nvSpPr>
          <p:spPr>
            <a:xfrm>
              <a:off x="1189080" y="2921040"/>
              <a:ext cx="836280" cy="31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 Narrow"/>
                </a:rPr>
                <a:t>End-us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88360" y="3141720"/>
              <a:ext cx="1022040" cy="31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 Narrow"/>
                </a:rPr>
                <a:t>Function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4495680" y="1473120"/>
            <a:ext cx="3645000" cy="20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2082960"/>
            <a:ext cx="252576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Implementation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49240" y="2921040"/>
            <a:ext cx="1717200" cy="55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Programmers</a:t>
            </a: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Narrow"/>
              </a:rPr>
              <a:t>Software management</a:t>
            </a:r>
            <a:r>
              <a:rPr b="0" lang="en-US" sz="16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3581280"/>
            <a:ext cx="3576600" cy="20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0" y="4216320"/>
            <a:ext cx="170640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Process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92600" y="4597560"/>
            <a:ext cx="1421280" cy="969480"/>
            <a:chOff x="1092600" y="4597560"/>
            <a:chExt cx="1421280" cy="969480"/>
          </a:xfrm>
        </p:grpSpPr>
        <p:sp>
          <p:nvSpPr>
            <p:cNvPr id="332" name=""/>
            <p:cNvSpPr/>
            <p:nvPr/>
          </p:nvSpPr>
          <p:spPr>
            <a:xfrm>
              <a:off x="1092600" y="4825800"/>
              <a:ext cx="1038960" cy="74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 Narrow"/>
                </a:rPr>
                <a:t>Perform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 Narrow"/>
                </a:rPr>
                <a:t>Scal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 Narrow"/>
                </a:rPr>
                <a:t>Throughput</a:t>
              </a:r>
              <a:r>
                <a:rPr b="0" lang="en-US" sz="1400" spc="-1" strike="noStrike">
                  <a:solidFill>
                    <a:srgbClr val="80808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92600" y="4597560"/>
              <a:ext cx="1421280" cy="31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 Narrow"/>
                </a:rPr>
                <a:t>System integra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4498920" y="3581280"/>
            <a:ext cx="3645000" cy="20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91240" y="4216320"/>
            <a:ext cx="2319120" cy="3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Deployment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57800" y="4826160"/>
            <a:ext cx="2567160" cy="74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Narrow"/>
              </a:rPr>
              <a:t>System topology</a:t>
            </a: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Narrow"/>
              </a:rPr>
              <a:t>Delivery, insta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Narrow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4840" y="4597560"/>
            <a:ext cx="1491480" cy="3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System 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40040" y="5794200"/>
            <a:ext cx="1374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6920" bIns="16920" anchor="t">
            <a:noAutofit/>
          </a:bodyPr>
          <a:p>
            <a:pPr algn="ctr">
              <a:lnSpc>
                <a:spcPts val="1899"/>
              </a:lnSpc>
              <a:spcBef>
                <a:spcPts val="901"/>
              </a:spcBef>
              <a:tabLst>
                <a:tab algn="l" pos="0"/>
                <a:tab algn="l" pos="270000"/>
                <a:tab algn="l" pos="538200"/>
                <a:tab algn="l" pos="808200"/>
                <a:tab algn="l" pos="1077840"/>
                <a:tab algn="l" pos="1346040"/>
                <a:tab algn="l" pos="1616040"/>
                <a:tab algn="l" pos="1884240"/>
                <a:tab algn="l" pos="21542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84760" y="5794200"/>
            <a:ext cx="1374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6920" bIns="16920" anchor="t">
            <a:noAutofit/>
          </a:bodyPr>
          <a:p>
            <a:pPr algn="ctr">
              <a:lnSpc>
                <a:spcPts val="1899"/>
              </a:lnSpc>
              <a:spcBef>
                <a:spcPts val="901"/>
              </a:spcBef>
              <a:tabLst>
                <a:tab algn="l" pos="0"/>
                <a:tab algn="l" pos="270000"/>
                <a:tab algn="l" pos="538200"/>
                <a:tab algn="l" pos="808200"/>
                <a:tab algn="l" pos="1077840"/>
                <a:tab algn="l" pos="1346040"/>
                <a:tab algn="l" pos="1616040"/>
                <a:tab algn="l" pos="1884240"/>
                <a:tab algn="l" pos="21542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36960" y="2717640"/>
            <a:ext cx="2830320" cy="15145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46520" y="3632040"/>
            <a:ext cx="1811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Use Case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Relation Between View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62560" y="2490840"/>
            <a:ext cx="4280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en-US" sz="1700" spc="-1" strike="noStrike">
                <a:solidFill>
                  <a:srgbClr val="fc0128"/>
                </a:solidFill>
                <a:latin typeface="Symbol"/>
                <a:ea typeface="Symbol"/>
              </a:rPr>
              <a:t>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82360" y="5005440"/>
            <a:ext cx="40968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360" bIns="72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2120760" y="1688760"/>
            <a:ext cx="914400" cy="3351240"/>
          </a:xfrm>
          <a:prstGeom prst="line">
            <a:avLst/>
          </a:prstGeom>
          <a:ln w="255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4720" rIns="144720" tIns="72360" bIns="72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056040" y="1760040"/>
            <a:ext cx="355320" cy="3289320"/>
          </a:xfrm>
          <a:prstGeom prst="line">
            <a:avLst/>
          </a:prstGeom>
          <a:ln w="255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4720" rIns="144720" tIns="72360" bIns="72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048120" y="4800600"/>
            <a:ext cx="3160440" cy="249120"/>
          </a:xfrm>
          <a:prstGeom prst="line">
            <a:avLst/>
          </a:prstGeom>
          <a:ln w="255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4720" rIns="144720" tIns="72360" bIns="72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27240" y="5019840"/>
            <a:ext cx="2818080" cy="742680"/>
          </a:xfrm>
          <a:prstGeom prst="line">
            <a:avLst/>
          </a:prstGeom>
          <a:ln w="255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4720" rIns="144720" tIns="72360" bIns="72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444400" y="2514600"/>
            <a:ext cx="834120" cy="389160"/>
            <a:chOff x="2444400" y="2514600"/>
            <a:chExt cx="834120" cy="389160"/>
          </a:xfrm>
        </p:grpSpPr>
        <p:sp>
          <p:nvSpPr>
            <p:cNvPr id="350" name=""/>
            <p:cNvSpPr/>
            <p:nvPr/>
          </p:nvSpPr>
          <p:spPr>
            <a:xfrm>
              <a:off x="2486160" y="2514600"/>
              <a:ext cx="792360" cy="38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54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5433"/>
                </a:path>
              </a:pathLst>
            </a:custGeom>
            <a:noFill/>
            <a:ln cap="rnd" w="12600">
              <a:solidFill>
                <a:srgbClr val="dddd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720" rIns="144720" tIns="72360" bIns="72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44400" y="2514600"/>
              <a:ext cx="791640" cy="38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4" y="0"/>
                  </a:moveTo>
                  <a:arcTo wR="10800" hR="10800" stAng="-5414567" swAng="54145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4" y="0"/>
                  </a:moveTo>
                  <a:arcTo wR="10800" hR="10800" stAng="-5414567" swAng="5414567"/>
                </a:path>
              </a:pathLst>
            </a:custGeom>
            <a:noFill/>
            <a:ln cap="rnd" w="1260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720" rIns="144720" tIns="72360" bIns="72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577400" y="4952880"/>
            <a:ext cx="1289160" cy="613800"/>
            <a:chOff x="4577400" y="4952880"/>
            <a:chExt cx="1289160" cy="613800"/>
          </a:xfrm>
        </p:grpSpPr>
        <p:sp>
          <p:nvSpPr>
            <p:cNvPr id="353" name=""/>
            <p:cNvSpPr/>
            <p:nvPr/>
          </p:nvSpPr>
          <p:spPr>
            <a:xfrm>
              <a:off x="4577400" y="4981680"/>
              <a:ext cx="1277640" cy="55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720" rIns="144720" tIns="72360" bIns="72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94800" y="4952880"/>
              <a:ext cx="671760" cy="61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dddd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720" rIns="144720" tIns="72360" bIns="72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836280" y="1295280"/>
            <a:ext cx="1693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Logical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98240" y="1295280"/>
            <a:ext cx="2217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Component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22320" y="4572000"/>
            <a:ext cx="179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ocess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940720" y="5638680"/>
            <a:ext cx="226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Deployment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How many views?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00320" indent="-400320">
              <a:lnSpc>
                <a:spcPct val="14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mplified models to fit the contex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0320" indent="-400320">
              <a:lnSpc>
                <a:spcPct val="14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all systems require all view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506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ngle processor: drop deployment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506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ngle process: drop process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506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y Small program: drop implementation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0320" indent="-400320">
              <a:lnSpc>
                <a:spcPct val="14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ing view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3600" indent="-3506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view, security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The Value of the UML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an open stand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orts the entire software development lifecyc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orts diverse applications ar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based on experience and needs of the user commun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orted by many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ing a hous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8" name="HOUSE" descr=""/>
          <p:cNvPicPr/>
          <p:nvPr/>
        </p:nvPicPr>
        <p:blipFill>
          <a:blip r:embed="rId1"/>
          <a:stretch/>
        </p:blipFill>
        <p:spPr>
          <a:xfrm>
            <a:off x="647640" y="1130400"/>
            <a:ext cx="7886880" cy="5060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5960" y="4738680"/>
            <a:ext cx="481104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7880" indent="-4078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uilt most efficiently and timely by a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qu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ell-defined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wer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 rot="1353600">
            <a:off x="5638320" y="547200"/>
            <a:ext cx="3272040" cy="2903760"/>
          </a:xfrm>
          <a:prstGeom prst="irregularSeal2">
            <a:avLst/>
          </a:prstGeom>
          <a:solidFill>
            <a:srgbClr val="0099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Creating the UML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31080" y="559584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Booch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60480" y="5595840"/>
            <a:ext cx="60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368000" y="4376880"/>
            <a:ext cx="4048200" cy="1238040"/>
            <a:chOff x="1368000" y="4376880"/>
            <a:chExt cx="4048200" cy="1238040"/>
          </a:xfrm>
        </p:grpSpPr>
        <p:sp>
          <p:nvSpPr>
            <p:cNvPr id="368" name=""/>
            <p:cNvSpPr/>
            <p:nvPr/>
          </p:nvSpPr>
          <p:spPr>
            <a:xfrm>
              <a:off x="3544200" y="4376880"/>
              <a:ext cx="1750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Unified Method 0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208320" y="4659480"/>
              <a:ext cx="954000" cy="9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4444560" y="4659480"/>
              <a:ext cx="971640" cy="90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68000" y="4383000"/>
              <a:ext cx="1175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OOPSLA ´9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0" y="1212840"/>
            <a:ext cx="7547400" cy="4754880"/>
            <a:chOff x="0" y="1212840"/>
            <a:chExt cx="7547400" cy="4754880"/>
          </a:xfrm>
        </p:grpSpPr>
        <p:sp>
          <p:nvSpPr>
            <p:cNvPr id="373" name=""/>
            <p:cNvSpPr/>
            <p:nvPr/>
          </p:nvSpPr>
          <p:spPr>
            <a:xfrm>
              <a:off x="6819840" y="5595840"/>
              <a:ext cx="727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O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7040" y="5600880"/>
              <a:ext cx="1420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Other meth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496880" y="3870000"/>
              <a:ext cx="2998800" cy="17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0" y="1212840"/>
              <a:ext cx="6996240" cy="4390920"/>
              <a:chOff x="0" y="1212840"/>
              <a:chExt cx="6996240" cy="4390920"/>
            </a:xfrm>
          </p:grpSpPr>
          <p:sp>
            <p:nvSpPr>
              <p:cNvPr id="377" name=""/>
              <p:cNvSpPr/>
              <p:nvPr/>
            </p:nvSpPr>
            <p:spPr>
              <a:xfrm>
                <a:off x="0" y="1212840"/>
                <a:ext cx="4272120" cy="28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1383840" y="3184560"/>
                <a:ext cx="5612400" cy="2419200"/>
                <a:chOff x="1383840" y="3184560"/>
                <a:chExt cx="5612400" cy="24192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386000" y="3184560"/>
                  <a:ext cx="18396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4402080" y="3995640"/>
                  <a:ext cx="409680" cy="424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 flipV="1">
                  <a:off x="5052960" y="4014720"/>
                  <a:ext cx="1943280" cy="1589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472640" y="3600360"/>
                  <a:ext cx="11300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 Narrow"/>
                    </a:rPr>
                    <a:t>UML 0.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383840" y="3638520"/>
                  <a:ext cx="14058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 Narrow"/>
                    </a:rPr>
                    <a:t>Web - June ´9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4" name=""/>
          <p:cNvGrpSpPr/>
          <p:nvPr/>
        </p:nvGrpSpPr>
        <p:grpSpPr>
          <a:xfrm>
            <a:off x="157680" y="1771560"/>
            <a:ext cx="1044000" cy="2200320"/>
            <a:chOff x="157680" y="1771560"/>
            <a:chExt cx="1044000" cy="2200320"/>
          </a:xfrm>
        </p:grpSpPr>
        <p:sp>
          <p:nvSpPr>
            <p:cNvPr id="385" name=""/>
            <p:cNvSpPr/>
            <p:nvPr/>
          </p:nvSpPr>
          <p:spPr>
            <a:xfrm>
              <a:off x="157680" y="2454480"/>
              <a:ext cx="909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publ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feedb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201680" y="1771560"/>
              <a:ext cx="0" cy="2200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1359360" y="1708200"/>
            <a:ext cx="6941520" cy="1090440"/>
            <a:chOff x="1359360" y="1708200"/>
            <a:chExt cx="6941520" cy="1090440"/>
          </a:xfrm>
        </p:grpSpPr>
        <p:sp>
          <p:nvSpPr>
            <p:cNvPr id="388" name=""/>
            <p:cNvSpPr/>
            <p:nvPr/>
          </p:nvSpPr>
          <p:spPr>
            <a:xfrm>
              <a:off x="1360440" y="2048040"/>
              <a:ext cx="2867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Final submission to OMG, Sep ‘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931000" y="2403360"/>
              <a:ext cx="352440" cy="3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61160" y="2425680"/>
              <a:ext cx="2829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First submission to OMG, Jan ´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23800" y="2009880"/>
              <a:ext cx="1130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UML 1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63680" y="19479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7359480" y="1901880"/>
              <a:ext cx="9414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359360" y="1708200"/>
              <a:ext cx="239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OMG Acceptance, Nov 199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645960" y="1282680"/>
            <a:ext cx="1130040" cy="789120"/>
            <a:chOff x="6645960" y="1282680"/>
            <a:chExt cx="1130040" cy="789120"/>
          </a:xfrm>
        </p:grpSpPr>
        <p:sp>
          <p:nvSpPr>
            <p:cNvPr id="396" name=""/>
            <p:cNvSpPr/>
            <p:nvPr/>
          </p:nvSpPr>
          <p:spPr>
            <a:xfrm flipV="1">
              <a:off x="6670800" y="1593720"/>
              <a:ext cx="35244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6645960" y="1282680"/>
              <a:ext cx="1130040" cy="789120"/>
              <a:chOff x="6645960" y="1282680"/>
              <a:chExt cx="1130040" cy="789120"/>
            </a:xfrm>
          </p:grpSpPr>
          <p:sp>
            <p:nvSpPr>
              <p:cNvPr id="398" name=""/>
              <p:cNvSpPr/>
              <p:nvPr/>
            </p:nvSpPr>
            <p:spPr>
              <a:xfrm flipV="1">
                <a:off x="6653160" y="1676520"/>
                <a:ext cx="352440" cy="3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645960" y="1282680"/>
                <a:ext cx="1130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UML 1.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971280" y="2819520"/>
            <a:ext cx="5342760" cy="793800"/>
            <a:chOff x="971280" y="2819520"/>
            <a:chExt cx="5342760" cy="793800"/>
          </a:xfrm>
        </p:grpSpPr>
        <p:grpSp>
          <p:nvGrpSpPr>
            <p:cNvPr id="401" name=""/>
            <p:cNvGrpSpPr/>
            <p:nvPr/>
          </p:nvGrpSpPr>
          <p:grpSpPr>
            <a:xfrm>
              <a:off x="5160960" y="2819520"/>
              <a:ext cx="1153080" cy="793800"/>
              <a:chOff x="5160960" y="2819520"/>
              <a:chExt cx="1153080" cy="793800"/>
            </a:xfrm>
          </p:grpSpPr>
          <p:sp>
            <p:nvSpPr>
              <p:cNvPr id="402" name=""/>
              <p:cNvSpPr/>
              <p:nvPr/>
            </p:nvSpPr>
            <p:spPr>
              <a:xfrm>
                <a:off x="5184000" y="2819520"/>
                <a:ext cx="1130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UML 1.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5160960" y="3189240"/>
                <a:ext cx="409680" cy="42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971280" y="2921040"/>
              <a:ext cx="20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07880" indent="-407880">
                <a:lnSpc>
                  <a:spcPct val="10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UML partn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UML Partner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3200" indent="-403200">
              <a:lnSpc>
                <a:spcPct val="77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ational Software Corpor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3200" indent="-403200">
              <a:lnSpc>
                <a:spcPct val="77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ewlett-Packar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3200" indent="-403200">
              <a:lnSpc>
                <a:spcPct val="77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-Logi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3200" indent="-403200">
              <a:lnSpc>
                <a:spcPct val="77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B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3200" indent="-403200">
              <a:lnSpc>
                <a:spcPct val="77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CON Comput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3200" indent="-403200">
              <a:lnSpc>
                <a:spcPct val="77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tellicorp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3200" indent="-403200">
              <a:lnSpc>
                <a:spcPct val="77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CI Systemhou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3200" indent="-403200">
              <a:lnSpc>
                <a:spcPct val="77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3200" indent="-403200">
              <a:lnSpc>
                <a:spcPct val="77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bjecTim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3200" indent="-403200">
              <a:lnSpc>
                <a:spcPct val="77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rac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3200" indent="-403200">
              <a:lnSpc>
                <a:spcPct val="77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latinum Technolog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3200" indent="-403200">
              <a:lnSpc>
                <a:spcPct val="77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k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3200" indent="-403200">
              <a:lnSpc>
                <a:spcPct val="77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exas Instruments/Sterling Softwa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03200" indent="-403200">
              <a:lnSpc>
                <a:spcPct val="77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Unisy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813680" y="1066680"/>
            <a:ext cx="1842480" cy="1955880"/>
            <a:chOff x="1813680" y="1066680"/>
            <a:chExt cx="1842480" cy="1955880"/>
          </a:xfrm>
        </p:grpSpPr>
        <p:sp>
          <p:nvSpPr>
            <p:cNvPr id="409" name=""/>
            <p:cNvSpPr/>
            <p:nvPr/>
          </p:nvSpPr>
          <p:spPr>
            <a:xfrm>
              <a:off x="3043080" y="2114640"/>
              <a:ext cx="61308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1813680" y="1066680"/>
              <a:ext cx="1424160" cy="1033200"/>
              <a:chOff x="1813680" y="1066680"/>
              <a:chExt cx="1424160" cy="1033200"/>
            </a:xfrm>
          </p:grpSpPr>
          <p:sp>
            <p:nvSpPr>
              <p:cNvPr id="411" name=""/>
              <p:cNvSpPr/>
              <p:nvPr/>
            </p:nvSpPr>
            <p:spPr>
              <a:xfrm>
                <a:off x="2155680" y="1066680"/>
                <a:ext cx="704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Mey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813680" y="1520640"/>
                <a:ext cx="14241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Before and af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     </a:t>
                </a:r>
                <a:r>
                  <a:rPr b="0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conditio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3688200" y="922320"/>
            <a:ext cx="1027800" cy="2087640"/>
            <a:chOff x="3688200" y="922320"/>
            <a:chExt cx="1027800" cy="2087640"/>
          </a:xfrm>
        </p:grpSpPr>
        <p:sp>
          <p:nvSpPr>
            <p:cNvPr id="414" name=""/>
            <p:cNvSpPr/>
            <p:nvPr/>
          </p:nvSpPr>
          <p:spPr>
            <a:xfrm flipH="1">
              <a:off x="4343040" y="1712880"/>
              <a:ext cx="468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688200" y="922320"/>
              <a:ext cx="1027800" cy="788040"/>
              <a:chOff x="3688200" y="922320"/>
              <a:chExt cx="1027800" cy="788040"/>
            </a:xfrm>
          </p:grpSpPr>
          <p:sp>
            <p:nvSpPr>
              <p:cNvPr id="416" name=""/>
              <p:cNvSpPr/>
              <p:nvPr/>
            </p:nvSpPr>
            <p:spPr>
              <a:xfrm>
                <a:off x="3884760" y="922320"/>
                <a:ext cx="6314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Har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688200" y="1374480"/>
                <a:ext cx="1027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Statechar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4915080" y="1087560"/>
            <a:ext cx="2327040" cy="1909800"/>
            <a:chOff x="4915080" y="1087560"/>
            <a:chExt cx="2327040" cy="1909800"/>
          </a:xfrm>
        </p:grpSpPr>
        <p:sp>
          <p:nvSpPr>
            <p:cNvPr id="419" name=""/>
            <p:cNvSpPr/>
            <p:nvPr/>
          </p:nvSpPr>
          <p:spPr>
            <a:xfrm flipH="1">
              <a:off x="4915080" y="2117880"/>
              <a:ext cx="614160" cy="87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5121720" y="1087560"/>
              <a:ext cx="2120400" cy="787320"/>
              <a:chOff x="5121720" y="1087560"/>
              <a:chExt cx="2120400" cy="787320"/>
            </a:xfrm>
          </p:grpSpPr>
          <p:sp>
            <p:nvSpPr>
              <p:cNvPr id="421" name=""/>
              <p:cNvSpPr/>
              <p:nvPr/>
            </p:nvSpPr>
            <p:spPr>
              <a:xfrm>
                <a:off x="5406480" y="1087560"/>
                <a:ext cx="13053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Gamma, et 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121720" y="1539000"/>
                <a:ext cx="2120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Frameworks and patterns,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5372280" y="2089080"/>
            <a:ext cx="3109320" cy="1263600"/>
            <a:chOff x="5372280" y="2089080"/>
            <a:chExt cx="3109320" cy="1263600"/>
          </a:xfrm>
        </p:grpSpPr>
        <p:grpSp>
          <p:nvGrpSpPr>
            <p:cNvPr id="424" name=""/>
            <p:cNvGrpSpPr/>
            <p:nvPr/>
          </p:nvGrpSpPr>
          <p:grpSpPr>
            <a:xfrm>
              <a:off x="6258960" y="2089080"/>
              <a:ext cx="2222640" cy="1032480"/>
              <a:chOff x="6258960" y="2089080"/>
              <a:chExt cx="2222640" cy="1032480"/>
            </a:xfrm>
          </p:grpSpPr>
          <p:sp>
            <p:nvSpPr>
              <p:cNvPr id="425" name=""/>
              <p:cNvSpPr/>
              <p:nvPr/>
            </p:nvSpPr>
            <p:spPr>
              <a:xfrm>
                <a:off x="6911640" y="2089080"/>
                <a:ext cx="1058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HP Fu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58960" y="2542320"/>
                <a:ext cx="222264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Operation descriptions and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message number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 flipH="1">
              <a:off x="5372280" y="3005280"/>
              <a:ext cx="766800" cy="34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402160" y="3321000"/>
            <a:ext cx="3067920" cy="1031040"/>
            <a:chOff x="5402160" y="3321000"/>
            <a:chExt cx="3067920" cy="1031040"/>
          </a:xfrm>
        </p:grpSpPr>
        <p:grpSp>
          <p:nvGrpSpPr>
            <p:cNvPr id="429" name=""/>
            <p:cNvGrpSpPr/>
            <p:nvPr/>
          </p:nvGrpSpPr>
          <p:grpSpPr>
            <a:xfrm>
              <a:off x="6661800" y="3321000"/>
              <a:ext cx="1808280" cy="1031040"/>
              <a:chOff x="6661800" y="3321000"/>
              <a:chExt cx="1808280" cy="1031040"/>
            </a:xfrm>
          </p:grpSpPr>
          <p:sp>
            <p:nvSpPr>
              <p:cNvPr id="430" name=""/>
              <p:cNvSpPr/>
              <p:nvPr/>
            </p:nvSpPr>
            <p:spPr>
              <a:xfrm>
                <a:off x="7029360" y="3321000"/>
                <a:ext cx="808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Emble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61800" y="3772800"/>
                <a:ext cx="18082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Singleton classes 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high-level vie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 flipH="1">
              <a:off x="5402160" y="3629160"/>
              <a:ext cx="138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401800" y="4025520"/>
            <a:ext cx="2361960" cy="1321560"/>
            <a:chOff x="5401800" y="4025520"/>
            <a:chExt cx="2361960" cy="1321560"/>
          </a:xfrm>
        </p:grpSpPr>
        <p:grpSp>
          <p:nvGrpSpPr>
            <p:cNvPr id="434" name=""/>
            <p:cNvGrpSpPr/>
            <p:nvPr/>
          </p:nvGrpSpPr>
          <p:grpSpPr>
            <a:xfrm>
              <a:off x="6420600" y="4559400"/>
              <a:ext cx="1343160" cy="787680"/>
              <a:chOff x="6420600" y="4559400"/>
              <a:chExt cx="1343160" cy="787680"/>
            </a:xfrm>
          </p:grpSpPr>
          <p:sp>
            <p:nvSpPr>
              <p:cNvPr id="435" name=""/>
              <p:cNvSpPr/>
              <p:nvPr/>
            </p:nvSpPr>
            <p:spPr>
              <a:xfrm>
                <a:off x="6453360" y="4559400"/>
                <a:ext cx="1154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Wirfs-Bro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20600" y="5011200"/>
                <a:ext cx="1343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Responsi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 flipH="1" flipV="1">
              <a:off x="5401800" y="4025520"/>
              <a:ext cx="970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986000" y="4509720"/>
            <a:ext cx="1213200" cy="1631160"/>
            <a:chOff x="4986000" y="4509720"/>
            <a:chExt cx="1213200" cy="1631160"/>
          </a:xfrm>
        </p:grpSpPr>
        <p:grpSp>
          <p:nvGrpSpPr>
            <p:cNvPr id="439" name=""/>
            <p:cNvGrpSpPr/>
            <p:nvPr/>
          </p:nvGrpSpPr>
          <p:grpSpPr>
            <a:xfrm>
              <a:off x="5032800" y="5353200"/>
              <a:ext cx="1166400" cy="787680"/>
              <a:chOff x="5032800" y="5353200"/>
              <a:chExt cx="1166400" cy="787680"/>
            </a:xfrm>
          </p:grpSpPr>
          <p:sp>
            <p:nvSpPr>
              <p:cNvPr id="440" name=""/>
              <p:cNvSpPr/>
              <p:nvPr/>
            </p:nvSpPr>
            <p:spPr>
              <a:xfrm>
                <a:off x="5259600" y="5353200"/>
                <a:ext cx="621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Odel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032800" y="5805000"/>
                <a:ext cx="1166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Classific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 flipH="1" flipV="1">
              <a:off x="4986000" y="4509720"/>
              <a:ext cx="428760" cy="79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949120" y="4524120"/>
            <a:ext cx="1483920" cy="1654200"/>
            <a:chOff x="2949120" y="4524120"/>
            <a:chExt cx="1483920" cy="1654200"/>
          </a:xfrm>
        </p:grpSpPr>
        <p:grpSp>
          <p:nvGrpSpPr>
            <p:cNvPr id="444" name=""/>
            <p:cNvGrpSpPr/>
            <p:nvPr/>
          </p:nvGrpSpPr>
          <p:grpSpPr>
            <a:xfrm>
              <a:off x="2949120" y="5394240"/>
              <a:ext cx="1483920" cy="784080"/>
              <a:chOff x="2949120" y="5394240"/>
              <a:chExt cx="1483920" cy="784080"/>
            </a:xfrm>
          </p:grpSpPr>
          <p:sp>
            <p:nvSpPr>
              <p:cNvPr id="445" name=""/>
              <p:cNvSpPr/>
              <p:nvPr/>
            </p:nvSpPr>
            <p:spPr>
              <a:xfrm>
                <a:off x="2949120" y="5394240"/>
                <a:ext cx="1398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Shlaer - Mell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4160" y="5842440"/>
                <a:ext cx="1388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Object lifecycl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 flipV="1">
              <a:off x="3900600" y="4524120"/>
              <a:ext cx="299880" cy="79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8" name=""/>
          <p:cNvGraphicFramePr/>
          <p:nvPr/>
        </p:nvGraphicFramePr>
        <p:xfrm>
          <a:off x="3200400" y="3048120"/>
          <a:ext cx="2133720" cy="14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048120"/>
                    <a:ext cx="213372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0" name=""/>
          <p:cNvGrpSpPr/>
          <p:nvPr/>
        </p:nvGrpSpPr>
        <p:grpSpPr>
          <a:xfrm>
            <a:off x="440640" y="3443400"/>
            <a:ext cx="2724840" cy="789840"/>
            <a:chOff x="440640" y="3443400"/>
            <a:chExt cx="2724840" cy="789840"/>
          </a:xfrm>
        </p:grpSpPr>
        <p:sp>
          <p:nvSpPr>
            <p:cNvPr id="451" name=""/>
            <p:cNvSpPr/>
            <p:nvPr/>
          </p:nvSpPr>
          <p:spPr>
            <a:xfrm flipV="1">
              <a:off x="1806480" y="3698640"/>
              <a:ext cx="1359000" cy="1285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440640" y="3443400"/>
              <a:ext cx="1098000" cy="789840"/>
              <a:chOff x="440640" y="3443400"/>
              <a:chExt cx="1098000" cy="789840"/>
            </a:xfrm>
          </p:grpSpPr>
          <p:sp>
            <p:nvSpPr>
              <p:cNvPr id="453" name=""/>
              <p:cNvSpPr/>
              <p:nvPr/>
            </p:nvSpPr>
            <p:spPr>
              <a:xfrm>
                <a:off x="440640" y="3443400"/>
                <a:ext cx="10980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Rumbaug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07120" y="3897360"/>
                <a:ext cx="5554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OM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703080" y="2324160"/>
            <a:ext cx="2421000" cy="952560"/>
            <a:chOff x="703080" y="2324160"/>
            <a:chExt cx="2421000" cy="952560"/>
          </a:xfrm>
        </p:grpSpPr>
        <p:sp>
          <p:nvSpPr>
            <p:cNvPr id="456" name=""/>
            <p:cNvSpPr/>
            <p:nvPr/>
          </p:nvSpPr>
          <p:spPr>
            <a:xfrm>
              <a:off x="2343240" y="2876400"/>
              <a:ext cx="780840" cy="400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703080" y="2324160"/>
              <a:ext cx="1465920" cy="789840"/>
              <a:chOff x="703080" y="2324160"/>
              <a:chExt cx="1465920" cy="789840"/>
            </a:xfrm>
          </p:grpSpPr>
          <p:sp>
            <p:nvSpPr>
              <p:cNvPr id="458" name=""/>
              <p:cNvSpPr/>
              <p:nvPr/>
            </p:nvSpPr>
            <p:spPr>
              <a:xfrm>
                <a:off x="1453680" y="2324160"/>
                <a:ext cx="715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Booc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03080" y="2778120"/>
                <a:ext cx="1261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Booch metho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1347120" y="4267080"/>
            <a:ext cx="1827720" cy="977400"/>
            <a:chOff x="1347120" y="4267080"/>
            <a:chExt cx="1827720" cy="977400"/>
          </a:xfrm>
        </p:grpSpPr>
        <p:sp>
          <p:nvSpPr>
            <p:cNvPr id="461" name=""/>
            <p:cNvSpPr/>
            <p:nvPr/>
          </p:nvSpPr>
          <p:spPr>
            <a:xfrm flipV="1">
              <a:off x="2673360" y="4267080"/>
              <a:ext cx="501480" cy="4111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1347120" y="4454640"/>
              <a:ext cx="986760" cy="789840"/>
              <a:chOff x="1347120" y="4454640"/>
              <a:chExt cx="986760" cy="789840"/>
            </a:xfrm>
          </p:grpSpPr>
          <p:sp>
            <p:nvSpPr>
              <p:cNvPr id="463" name=""/>
              <p:cNvSpPr/>
              <p:nvPr/>
            </p:nvSpPr>
            <p:spPr>
              <a:xfrm>
                <a:off x="1347120" y="4454640"/>
                <a:ext cx="986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 Narrow"/>
                  </a:rPr>
                  <a:t>Jacobs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585800" y="4908600"/>
                <a:ext cx="6667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ff"/>
                    </a:solidFill>
                    <a:latin typeface="Arial Narrow"/>
                  </a:rPr>
                  <a:t>OO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480" y="63360"/>
            <a:ext cx="89996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Contributions to the UML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Overview of the UML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ML is a language f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sualiz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fy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truc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cumen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36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artifacts of a software-intensive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267080" y="1835280"/>
          <a:ext cx="327672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835280"/>
                    <a:ext cx="32767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Overview of the UML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deling el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ensibility Mechanis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agra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Modeling Element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90520" y="981000"/>
            <a:ext cx="867744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uctural el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55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ass, interface, collaboration, use case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tive class, component, no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havioral el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55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action, stat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ouping el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55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ckage, sub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62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ther el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550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FIGURE_A-1.ILLUS" descr=""/>
          <p:cNvPicPr/>
          <p:nvPr/>
        </p:nvPicPr>
        <p:blipFill>
          <a:blip r:embed="rId1"/>
          <a:stretch/>
        </p:blipFill>
        <p:spPr>
          <a:xfrm>
            <a:off x="3762360" y="3346560"/>
            <a:ext cx="5159520" cy="27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Relationship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pende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soci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liz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aliz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FIGURE_A-9.ILLUS" descr=""/>
          <p:cNvPicPr/>
          <p:nvPr/>
        </p:nvPicPr>
        <p:blipFill>
          <a:blip r:embed="rId1"/>
          <a:stretch/>
        </p:blipFill>
        <p:spPr>
          <a:xfrm>
            <a:off x="2814480" y="3776760"/>
            <a:ext cx="5353200" cy="17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Extensibility Mechanism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ereo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agged val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FIGURE_A-11.ILLUS" descr=""/>
          <p:cNvPicPr/>
          <p:nvPr/>
        </p:nvPicPr>
        <p:blipFill>
          <a:blip r:embed="rId1"/>
          <a:stretch/>
        </p:blipFill>
        <p:spPr>
          <a:xfrm>
            <a:off x="3220920" y="2970360"/>
            <a:ext cx="4238640" cy="18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Models, Views, and Diagram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867200" y="2590920"/>
            <a:ext cx="217980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11560" y="4046400"/>
            <a:ext cx="203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8520" y="2874960"/>
            <a:ext cx="217836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009960" y="4547880"/>
            <a:ext cx="115092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27520" y="2427120"/>
            <a:ext cx="530280" cy="127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97080" y="4046400"/>
            <a:ext cx="203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17800" y="2398680"/>
            <a:ext cx="530280" cy="12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4808520" y="4046400"/>
            <a:ext cx="1609920" cy="9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64000" y="5156280"/>
            <a:ext cx="1458720" cy="909720"/>
          </a:xfrm>
          <a:prstGeom prst="rect">
            <a:avLst/>
          </a:prstGeom>
          <a:solidFill>
            <a:srgbClr val="66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ctr">
            <a:noAutofit/>
          </a:bodyPr>
          <a:p>
            <a:pPr marL="384120" indent="-384120" algn="ctr">
              <a:lnSpc>
                <a:spcPct val="9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781360" y="1814400"/>
            <a:ext cx="1746000" cy="1195200"/>
            <a:chOff x="2781360" y="1814400"/>
            <a:chExt cx="1746000" cy="1195200"/>
          </a:xfrm>
        </p:grpSpPr>
        <p:sp>
          <p:nvSpPr>
            <p:cNvPr id="492" name=""/>
            <p:cNvSpPr/>
            <p:nvPr/>
          </p:nvSpPr>
          <p:spPr>
            <a:xfrm>
              <a:off x="2781360" y="1814400"/>
              <a:ext cx="1458720" cy="90900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160" bIns="3816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Use C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25000" y="1957320"/>
              <a:ext cx="1458720" cy="90900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160" bIns="3816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Use C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69000" y="2100960"/>
              <a:ext cx="1458360" cy="90864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160" bIns="3816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Use C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95440" y="3473280"/>
            <a:ext cx="1747440" cy="1195560"/>
            <a:chOff x="595440" y="3473280"/>
            <a:chExt cx="1747440" cy="1195560"/>
          </a:xfrm>
        </p:grpSpPr>
        <p:sp>
          <p:nvSpPr>
            <p:cNvPr id="496" name=""/>
            <p:cNvSpPr/>
            <p:nvPr/>
          </p:nvSpPr>
          <p:spPr>
            <a:xfrm>
              <a:off x="595440" y="3473280"/>
              <a:ext cx="1458720" cy="909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Scenari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9800" y="3616200"/>
              <a:ext cx="1458360" cy="909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Scenari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84160" y="3760920"/>
              <a:ext cx="1458720" cy="9079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Collabor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757920" y="3473280"/>
            <a:ext cx="1747440" cy="1195560"/>
            <a:chOff x="6757920" y="3473280"/>
            <a:chExt cx="1747440" cy="1195560"/>
          </a:xfrm>
        </p:grpSpPr>
        <p:sp>
          <p:nvSpPr>
            <p:cNvPr id="500" name=""/>
            <p:cNvSpPr/>
            <p:nvPr/>
          </p:nvSpPr>
          <p:spPr>
            <a:xfrm>
              <a:off x="6757920" y="3473280"/>
              <a:ext cx="1458720" cy="90792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St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02280" y="3616200"/>
              <a:ext cx="1458360" cy="90792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St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46640" y="3759120"/>
              <a:ext cx="1458720" cy="90972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Compone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634000" y="4786200"/>
            <a:ext cx="1746000" cy="1193400"/>
            <a:chOff x="5634000" y="4786200"/>
            <a:chExt cx="1746000" cy="1193400"/>
          </a:xfrm>
        </p:grpSpPr>
        <p:sp>
          <p:nvSpPr>
            <p:cNvPr id="504" name=""/>
            <p:cNvSpPr/>
            <p:nvPr/>
          </p:nvSpPr>
          <p:spPr>
            <a:xfrm>
              <a:off x="5634000" y="4786200"/>
              <a:ext cx="1458360" cy="90720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160" bIns="3816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 Narrow"/>
                </a:rPr>
                <a:t>Compon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78000" y="4929120"/>
              <a:ext cx="1458000" cy="90756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160" bIns="3816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 Narrow"/>
                </a:rPr>
                <a:t>Compon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921640" y="5072400"/>
              <a:ext cx="1458360" cy="90720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160" bIns="3816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eployme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757920" y="1967040"/>
            <a:ext cx="1747440" cy="1194840"/>
            <a:chOff x="6757920" y="1967040"/>
            <a:chExt cx="1747440" cy="1194840"/>
          </a:xfrm>
        </p:grpSpPr>
        <p:sp>
          <p:nvSpPr>
            <p:cNvPr id="508" name=""/>
            <p:cNvSpPr/>
            <p:nvPr/>
          </p:nvSpPr>
          <p:spPr>
            <a:xfrm>
              <a:off x="6757920" y="1967040"/>
              <a:ext cx="1458720" cy="90756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St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02280" y="2109600"/>
              <a:ext cx="1458360" cy="90756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St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46640" y="2252520"/>
              <a:ext cx="1458720" cy="90936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Objec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262160" y="4832280"/>
            <a:ext cx="1747440" cy="1195560"/>
            <a:chOff x="1262160" y="4832280"/>
            <a:chExt cx="1747440" cy="1195560"/>
          </a:xfrm>
        </p:grpSpPr>
        <p:sp>
          <p:nvSpPr>
            <p:cNvPr id="512" name=""/>
            <p:cNvSpPr/>
            <p:nvPr/>
          </p:nvSpPr>
          <p:spPr>
            <a:xfrm>
              <a:off x="1262160" y="4832280"/>
              <a:ext cx="1458720" cy="909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Scenari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06520" y="4975200"/>
              <a:ext cx="1458360" cy="909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Scenari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50880" y="5119920"/>
              <a:ext cx="1458720" cy="9079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Statecha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57240" y="2147760"/>
            <a:ext cx="1746000" cy="1195200"/>
            <a:chOff x="957240" y="2147760"/>
            <a:chExt cx="1746000" cy="1195200"/>
          </a:xfrm>
        </p:grpSpPr>
        <p:sp>
          <p:nvSpPr>
            <p:cNvPr id="516" name=""/>
            <p:cNvSpPr/>
            <p:nvPr/>
          </p:nvSpPr>
          <p:spPr>
            <a:xfrm>
              <a:off x="957240" y="2147760"/>
              <a:ext cx="1458720" cy="909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160" bIns="3816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Use C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00880" y="2290680"/>
              <a:ext cx="1458720" cy="909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160" bIns="3816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Use Ca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44880" y="2434320"/>
              <a:ext cx="1458360" cy="9086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160" bIns="3816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Sequen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554360" y="1346040"/>
            <a:ext cx="1748160" cy="1195560"/>
            <a:chOff x="4554360" y="1346040"/>
            <a:chExt cx="1748160" cy="1195560"/>
          </a:xfrm>
        </p:grpSpPr>
        <p:sp>
          <p:nvSpPr>
            <p:cNvPr id="520" name=""/>
            <p:cNvSpPr/>
            <p:nvPr/>
          </p:nvSpPr>
          <p:spPr>
            <a:xfrm>
              <a:off x="4554360" y="1346040"/>
              <a:ext cx="1459080" cy="90792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St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99080" y="1488960"/>
              <a:ext cx="1458720" cy="90792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St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43440" y="1631880"/>
              <a:ext cx="1459080" cy="90972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ctr">
              <a:noAutofit/>
            </a:bodyPr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Clas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4120" indent="-384120" algn="ctr">
                <a:lnSpc>
                  <a:spcPct val="9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en-US" sz="1700" spc="-1" strike="noStrike">
                  <a:solidFill>
                    <a:srgbClr val="808080"/>
                  </a:solidFill>
                  <a:latin typeface="Arial Narrow"/>
                </a:rPr>
                <a:t>Diagra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4554360" y="466884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716280" y="5308560"/>
            <a:ext cx="1459080" cy="909720"/>
          </a:xfrm>
          <a:prstGeom prst="rect">
            <a:avLst/>
          </a:prstGeom>
          <a:solidFill>
            <a:srgbClr val="66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ctr">
            <a:noAutofit/>
          </a:bodyPr>
          <a:p>
            <a:pPr marL="384120" indent="-384120" algn="ctr">
              <a:lnSpc>
                <a:spcPct val="9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68560" y="5460840"/>
            <a:ext cx="1459080" cy="909720"/>
          </a:xfrm>
          <a:prstGeom prst="rect">
            <a:avLst/>
          </a:prstGeom>
          <a:solidFill>
            <a:srgbClr val="66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ctr">
            <a:noAutofit/>
          </a:bodyPr>
          <a:p>
            <a:pPr marL="384120" indent="-384120" algn="ctr">
              <a:lnSpc>
                <a:spcPct val="9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700" spc="-1" strike="noStrike">
                <a:solidFill>
                  <a:srgbClr val="808080"/>
                </a:solidFill>
                <a:latin typeface="Arial Narrow"/>
              </a:rPr>
              <a:t>Activ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ctr">
              <a:lnSpc>
                <a:spcPct val="9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700" spc="-1" strike="noStrike">
                <a:solidFill>
                  <a:srgbClr val="808080"/>
                </a:solidFill>
                <a:latin typeface="Arial Narrow"/>
              </a:rPr>
              <a:t>Diagra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080" y="808200"/>
            <a:ext cx="209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1" i="1" lang="en-US" sz="1800" spc="-1" strike="noStrike">
                <a:solidFill>
                  <a:srgbClr val="ffffff"/>
                </a:solidFill>
                <a:latin typeface="Arial Narrow"/>
              </a:rPr>
              <a:t>model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is a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scription of a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rom a parti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7480" y="3456000"/>
            <a:ext cx="1281240" cy="1195200"/>
          </a:xfrm>
          <a:prstGeom prst="can">
            <a:avLst>
              <a:gd name="adj" fmla="val 39254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7640" rIns="107640" tIns="53640" bIns="53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172400" y="4021200"/>
            <a:ext cx="8280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8080"/>
                </a:solidFill>
                <a:latin typeface="Arial Narrow"/>
              </a:rPr>
              <a:t>Mode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Diagram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4960" indent="-44496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diagram is a view into a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9080" indent="-27432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ented from the aspect of a particular stakehol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080" indent="-27432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s a partial representation of the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080" indent="-27432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semantically consistent with other vie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4960" indent="-44496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the UML, there are nine standard diagra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9080" indent="-27432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ic views: use case, class, object, component, deploy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29080" indent="-27432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ynamic views: sequence, collaboration, statechart, activ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ing a high ris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1" name="!HIGHRIS" descr=""/>
          <p:cNvPicPr/>
          <p:nvPr/>
        </p:nvPicPr>
        <p:blipFill>
          <a:blip r:embed="rId1"/>
          <a:stretch/>
        </p:blipFill>
        <p:spPr>
          <a:xfrm>
            <a:off x="609480" y="1130400"/>
            <a:ext cx="788688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Use Case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system functionality as seen by us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FIGURE_17-1.ILLUS" descr=""/>
          <p:cNvPicPr/>
          <p:nvPr/>
        </p:nvPicPr>
        <p:blipFill>
          <a:blip r:embed="rId1"/>
          <a:stretch/>
        </p:blipFill>
        <p:spPr>
          <a:xfrm>
            <a:off x="1846440" y="2209680"/>
            <a:ext cx="62100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Use Case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system functionality as seen by us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uilt in early stages of develop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fy the context of a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pture the requirements of a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lidate a system’s archite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ive implementation and generate test ca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ed by analysts and domain expe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Class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the vocabulary of a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FIGURE_8-1.ILLUS" descr=""/>
          <p:cNvPicPr/>
          <p:nvPr/>
        </p:nvPicPr>
        <p:blipFill>
          <a:blip r:embed="rId1"/>
          <a:stretch/>
        </p:blipFill>
        <p:spPr>
          <a:xfrm>
            <a:off x="2328840" y="1797120"/>
            <a:ext cx="42958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Class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the vocabulary of a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uilt and refined throughout develop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 and model concepts in the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fy collabor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fy logical database schem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ed by analysts, designers, and impleme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Object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instances and lin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FIGURE_14-1.ILLUS" descr=""/>
          <p:cNvPicPr/>
          <p:nvPr/>
        </p:nvPicPr>
        <p:blipFill>
          <a:blip r:embed="rId1"/>
          <a:stretch/>
        </p:blipFill>
        <p:spPr>
          <a:xfrm>
            <a:off x="1797120" y="1903320"/>
            <a:ext cx="561960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Object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ows instances and lin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uilt during analysis and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llustrate data/object stru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fy snapsho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ed by analysts, designers, and impleme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Component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the physical structure of the implement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FIGURE_29-1.ILLUS" descr=""/>
          <p:cNvPicPr/>
          <p:nvPr/>
        </p:nvPicPr>
        <p:blipFill>
          <a:blip r:embed="rId1"/>
          <a:stretch/>
        </p:blipFill>
        <p:spPr>
          <a:xfrm>
            <a:off x="1803240" y="2228760"/>
            <a:ext cx="522000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Component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the physical structure of the implement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uilt as part of architectural specif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ganize source c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truct an executable rele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fy a physical data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ed by architects and programm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Deployment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the topology of a system’s hard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FIGURE_30-1.ILLUS" descr=""/>
          <p:cNvPicPr/>
          <p:nvPr/>
        </p:nvPicPr>
        <p:blipFill>
          <a:blip r:embed="rId1"/>
          <a:stretch/>
        </p:blipFill>
        <p:spPr>
          <a:xfrm>
            <a:off x="1347840" y="1857240"/>
            <a:ext cx="618156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Deployment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the topology of a system’s hard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uilt as part of architectural specif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fy the distribution of compon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performance bottlene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ed by architects, networking engineers, and system engine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Early architectur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3" name="EGYPT" descr=""/>
          <p:cNvPicPr/>
          <p:nvPr/>
        </p:nvPicPr>
        <p:blipFill>
          <a:blip r:embed="rId1"/>
          <a:stretch/>
        </p:blipFill>
        <p:spPr>
          <a:xfrm>
            <a:off x="1143000" y="112392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248880" y="1447920"/>
            <a:ext cx="2429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Limited knowledge of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Sequence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dynamic behavior (time-orien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FIGURE_A-4.ILLUS" descr=""/>
          <p:cNvPicPr/>
          <p:nvPr/>
        </p:nvPicPr>
        <p:blipFill>
          <a:blip r:embed="rId1"/>
          <a:stretch/>
        </p:blipFill>
        <p:spPr>
          <a:xfrm>
            <a:off x="1611360" y="2243160"/>
            <a:ext cx="5505480" cy="34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Sequence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dynamic behavior (time-orien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del flow of 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llustrate typical scenar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7480" y="16164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Collaboration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dynamic behavior (message-orien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FIGURE_18-1.ILLUS" descr=""/>
          <p:cNvPicPr/>
          <p:nvPr/>
        </p:nvPicPr>
        <p:blipFill>
          <a:blip r:embed="rId1"/>
          <a:stretch/>
        </p:blipFill>
        <p:spPr>
          <a:xfrm>
            <a:off x="2419200" y="2362320"/>
            <a:ext cx="430560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7480" y="161640"/>
            <a:ext cx="89992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Collaboration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dynamic behavior (message-orien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del flow of 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llustrate coordination of object structure and contr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Statechart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dynamic behavior (event-orien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FIGURE_A-5.ILLUS" descr=""/>
          <p:cNvPicPr/>
          <p:nvPr/>
        </p:nvPicPr>
        <p:blipFill>
          <a:blip r:embed="rId1"/>
          <a:stretch/>
        </p:blipFill>
        <p:spPr>
          <a:xfrm>
            <a:off x="1474920" y="2419200"/>
            <a:ext cx="6095880" cy="30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Statechart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dynamic behavior (event-orien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del object lifecyc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del reactive objects (user interfaces, devices, etc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Activity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61800" y="1065240"/>
            <a:ext cx="849024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dynamic behavior (activity-orien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FIGURE_19-1.ILLUS" descr=""/>
          <p:cNvPicPr/>
          <p:nvPr/>
        </p:nvPicPr>
        <p:blipFill>
          <a:blip r:embed="rId1"/>
          <a:stretch/>
        </p:blipFill>
        <p:spPr>
          <a:xfrm>
            <a:off x="1946160" y="1684440"/>
            <a:ext cx="502776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Arial"/>
              </a:rPr>
              <a:t>Activity Diagra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61800" y="1065240"/>
            <a:ext cx="849024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ptures dynamic behavior (activity-oriente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del business workflo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del oper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ure and the UML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888840" y="1523880"/>
            <a:ext cx="7315200" cy="5243400"/>
            <a:chOff x="888840" y="1523880"/>
            <a:chExt cx="7315200" cy="5243400"/>
          </a:xfrm>
        </p:grpSpPr>
        <p:sp>
          <p:nvSpPr>
            <p:cNvPr id="578" name=""/>
            <p:cNvSpPr/>
            <p:nvPr/>
          </p:nvSpPr>
          <p:spPr>
            <a:xfrm>
              <a:off x="888840" y="1523880"/>
              <a:ext cx="3576960" cy="2046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46440" y="1523880"/>
              <a:ext cx="3645000" cy="2046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88840" y="3632040"/>
              <a:ext cx="3576960" cy="2006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559400" y="3632040"/>
              <a:ext cx="3644640" cy="2006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60600" y="5756400"/>
              <a:ext cx="2111040" cy="7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 Narrow"/>
                </a:rPr>
                <a:t>Organ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Package, sub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48840" y="5756400"/>
              <a:ext cx="1522800" cy="10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 Narrow"/>
                </a:rPr>
                <a:t>Dynam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Inte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State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838080" y="1473120"/>
            <a:ext cx="3576600" cy="20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86000" y="2082960"/>
            <a:ext cx="1611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Design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95680" y="1473120"/>
            <a:ext cx="3645000" cy="204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800600" y="2082960"/>
            <a:ext cx="252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Implementation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581280"/>
            <a:ext cx="3576600" cy="20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86000" y="4216320"/>
            <a:ext cx="170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Process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957000" y="1549440"/>
            <a:ext cx="1195920" cy="1997640"/>
            <a:chOff x="6957000" y="1549440"/>
            <a:chExt cx="1195920" cy="1997640"/>
          </a:xfrm>
        </p:grpSpPr>
        <p:graphicFrame>
          <p:nvGraphicFramePr>
            <p:cNvPr id="591" name=""/>
            <p:cNvGraphicFramePr/>
            <p:nvPr/>
          </p:nvGraphicFramePr>
          <p:xfrm>
            <a:off x="7010280" y="1549440"/>
            <a:ext cx="1041480" cy="81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010280" y="1549440"/>
                      <a:ext cx="1041480" cy="81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3" name=""/>
            <p:cNvSpPr/>
            <p:nvPr/>
          </p:nvSpPr>
          <p:spPr>
            <a:xfrm>
              <a:off x="6957000" y="3201840"/>
              <a:ext cx="119592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Narrow"/>
                </a:rPr>
                <a:t>Components</a:t>
              </a:r>
              <a:r>
                <a:rPr b="0" lang="en-US" sz="1600" spc="-1" strike="noStrike">
                  <a:solidFill>
                    <a:srgbClr val="80808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851400" y="1625760"/>
            <a:ext cx="1657800" cy="1945800"/>
            <a:chOff x="851400" y="1625760"/>
            <a:chExt cx="1657800" cy="1945800"/>
          </a:xfrm>
        </p:grpSpPr>
        <p:graphicFrame>
          <p:nvGraphicFramePr>
            <p:cNvPr id="595" name=""/>
            <p:cNvGraphicFramePr/>
            <p:nvPr/>
          </p:nvGraphicFramePr>
          <p:xfrm>
            <a:off x="914400" y="1625760"/>
            <a:ext cx="965160" cy="785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14400" y="1625760"/>
                      <a:ext cx="965160" cy="78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7" name=""/>
            <p:cNvSpPr/>
            <p:nvPr/>
          </p:nvSpPr>
          <p:spPr>
            <a:xfrm>
              <a:off x="851400" y="2982960"/>
              <a:ext cx="165780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Narrow"/>
                </a:rPr>
                <a:t>Classes, interface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Narrow"/>
                </a:rPr>
                <a:t>collabo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850680" y="3683160"/>
            <a:ext cx="1261440" cy="1918440"/>
            <a:chOff x="850680" y="3683160"/>
            <a:chExt cx="1261440" cy="1918440"/>
          </a:xfrm>
        </p:grpSpPr>
        <p:sp>
          <p:nvSpPr>
            <p:cNvPr id="599" name=""/>
            <p:cNvSpPr/>
            <p:nvPr/>
          </p:nvSpPr>
          <p:spPr>
            <a:xfrm>
              <a:off x="850680" y="5256360"/>
              <a:ext cx="126144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Narrow"/>
                </a:rPr>
                <a:t>Active 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0" name=""/>
            <p:cNvGraphicFramePr/>
            <p:nvPr/>
          </p:nvGraphicFramePr>
          <p:xfrm>
            <a:off x="914400" y="3683160"/>
            <a:ext cx="1041480" cy="819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14400" y="3683160"/>
                      <a:ext cx="1041480" cy="81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2" name=""/>
          <p:cNvSpPr/>
          <p:nvPr/>
        </p:nvSpPr>
        <p:spPr>
          <a:xfrm>
            <a:off x="4508640" y="3581280"/>
            <a:ext cx="3644640" cy="200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00600" y="4216320"/>
            <a:ext cx="231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Deployment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7197840" y="3760920"/>
            <a:ext cx="945720" cy="1853280"/>
            <a:chOff x="7197840" y="3760920"/>
            <a:chExt cx="945720" cy="1853280"/>
          </a:xfrm>
        </p:grpSpPr>
        <p:sp>
          <p:nvSpPr>
            <p:cNvPr id="605" name=""/>
            <p:cNvSpPr/>
            <p:nvPr/>
          </p:nvSpPr>
          <p:spPr>
            <a:xfrm>
              <a:off x="7456680" y="5268960"/>
              <a:ext cx="6868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Narrow"/>
                </a:rPr>
                <a:t>N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7197840" y="3760920"/>
              <a:ext cx="693720" cy="769680"/>
              <a:chOff x="7197840" y="3760920"/>
              <a:chExt cx="693720" cy="769680"/>
            </a:xfrm>
          </p:grpSpPr>
          <p:sp>
            <p:nvSpPr>
              <p:cNvPr id="607" name=""/>
              <p:cNvSpPr/>
              <p:nvPr/>
            </p:nvSpPr>
            <p:spPr>
              <a:xfrm>
                <a:off x="7197840" y="3794040"/>
                <a:ext cx="161640" cy="169920"/>
              </a:xfrm>
              <a:prstGeom prst="rect">
                <a:avLst/>
              </a:prstGeom>
              <a:solidFill>
                <a:srgbClr val="48a08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197840" y="3760920"/>
                <a:ext cx="225360" cy="33120"/>
              </a:xfrm>
              <a:custGeom>
                <a:avLst/>
                <a:gdLst/>
                <a:ahLst/>
                <a:rect l="l" t="t" r="r" b="b"/>
                <a:pathLst>
                  <a:path w="691" h="96">
                    <a:moveTo>
                      <a:pt x="0" y="96"/>
                    </a:moveTo>
                    <a:lnTo>
                      <a:pt x="276" y="0"/>
                    </a:lnTo>
                    <a:lnTo>
                      <a:pt x="691" y="0"/>
                    </a:lnTo>
                    <a:lnTo>
                      <a:pt x="495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48a08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359480" y="3760920"/>
                <a:ext cx="63720" cy="203040"/>
              </a:xfrm>
              <a:custGeom>
                <a:avLst/>
                <a:gdLst/>
                <a:ahLst/>
                <a:rect l="l" t="t" r="r" b="b"/>
                <a:pathLst>
                  <a:path w="196" h="577">
                    <a:moveTo>
                      <a:pt x="0" y="96"/>
                    </a:moveTo>
                    <a:lnTo>
                      <a:pt x="196" y="0"/>
                    </a:lnTo>
                    <a:lnTo>
                      <a:pt x="196" y="432"/>
                    </a:lnTo>
                    <a:lnTo>
                      <a:pt x="0" y="577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48a08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666200" y="3836880"/>
                <a:ext cx="161640" cy="168480"/>
              </a:xfrm>
              <a:prstGeom prst="rect">
                <a:avLst/>
              </a:prstGeom>
              <a:solidFill>
                <a:srgbClr val="48a08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666200" y="3801960"/>
                <a:ext cx="225360" cy="34920"/>
              </a:xfrm>
              <a:custGeom>
                <a:avLst/>
                <a:gdLst/>
                <a:ahLst/>
                <a:rect l="l" t="t" r="r" b="b"/>
                <a:pathLst>
                  <a:path w="691" h="96">
                    <a:moveTo>
                      <a:pt x="0" y="96"/>
                    </a:moveTo>
                    <a:lnTo>
                      <a:pt x="276" y="0"/>
                    </a:lnTo>
                    <a:lnTo>
                      <a:pt x="691" y="0"/>
                    </a:lnTo>
                    <a:lnTo>
                      <a:pt x="495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48a08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27840" y="3801960"/>
                <a:ext cx="63720" cy="203400"/>
              </a:xfrm>
              <a:custGeom>
                <a:avLst/>
                <a:gdLst/>
                <a:ahLst/>
                <a:rect l="l" t="t" r="r" b="b"/>
                <a:pathLst>
                  <a:path w="196" h="577">
                    <a:moveTo>
                      <a:pt x="0" y="96"/>
                    </a:moveTo>
                    <a:lnTo>
                      <a:pt x="196" y="0"/>
                    </a:lnTo>
                    <a:lnTo>
                      <a:pt x="196" y="433"/>
                    </a:lnTo>
                    <a:lnTo>
                      <a:pt x="0" y="577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48a08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391520" y="3862440"/>
                <a:ext cx="274680" cy="41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197840" y="4110120"/>
                <a:ext cx="161640" cy="168120"/>
              </a:xfrm>
              <a:prstGeom prst="rect">
                <a:avLst/>
              </a:prstGeom>
              <a:solidFill>
                <a:srgbClr val="48a08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197840" y="4075200"/>
                <a:ext cx="225360" cy="34920"/>
              </a:xfrm>
              <a:custGeom>
                <a:avLst/>
                <a:gdLst/>
                <a:ahLst/>
                <a:rect l="l" t="t" r="r" b="b"/>
                <a:pathLst>
                  <a:path w="691" h="96">
                    <a:moveTo>
                      <a:pt x="0" y="96"/>
                    </a:moveTo>
                    <a:lnTo>
                      <a:pt x="276" y="0"/>
                    </a:lnTo>
                    <a:lnTo>
                      <a:pt x="691" y="0"/>
                    </a:lnTo>
                    <a:lnTo>
                      <a:pt x="495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48a08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359480" y="4075200"/>
                <a:ext cx="63720" cy="203040"/>
              </a:xfrm>
              <a:custGeom>
                <a:avLst/>
                <a:gdLst/>
                <a:ahLst/>
                <a:rect l="l" t="t" r="r" b="b"/>
                <a:pathLst>
                  <a:path w="196" h="577">
                    <a:moveTo>
                      <a:pt x="0" y="96"/>
                    </a:moveTo>
                    <a:lnTo>
                      <a:pt x="196" y="0"/>
                    </a:lnTo>
                    <a:lnTo>
                      <a:pt x="196" y="433"/>
                    </a:lnTo>
                    <a:lnTo>
                      <a:pt x="0" y="577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48a08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7391520" y="3903840"/>
                <a:ext cx="27468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66200" y="4194000"/>
                <a:ext cx="161640" cy="168480"/>
              </a:xfrm>
              <a:prstGeom prst="rect">
                <a:avLst/>
              </a:prstGeom>
              <a:solidFill>
                <a:srgbClr val="48a08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666200" y="4159080"/>
                <a:ext cx="225360" cy="34920"/>
              </a:xfrm>
              <a:custGeom>
                <a:avLst/>
                <a:gdLst/>
                <a:ahLst/>
                <a:rect l="l" t="t" r="r" b="b"/>
                <a:pathLst>
                  <a:path w="691" h="97">
                    <a:moveTo>
                      <a:pt x="0" y="97"/>
                    </a:moveTo>
                    <a:lnTo>
                      <a:pt x="276" y="0"/>
                    </a:lnTo>
                    <a:lnTo>
                      <a:pt x="691" y="0"/>
                    </a:lnTo>
                    <a:lnTo>
                      <a:pt x="495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48a08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827840" y="4159080"/>
                <a:ext cx="63720" cy="203400"/>
              </a:xfrm>
              <a:custGeom>
                <a:avLst/>
                <a:gdLst/>
                <a:ahLst/>
                <a:rect l="l" t="t" r="r" b="b"/>
                <a:pathLst>
                  <a:path w="196" h="577">
                    <a:moveTo>
                      <a:pt x="0" y="97"/>
                    </a:moveTo>
                    <a:lnTo>
                      <a:pt x="196" y="0"/>
                    </a:lnTo>
                    <a:lnTo>
                      <a:pt x="196" y="433"/>
                    </a:lnTo>
                    <a:lnTo>
                      <a:pt x="0" y="57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48a08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197840" y="4361040"/>
                <a:ext cx="161640" cy="169560"/>
              </a:xfrm>
              <a:prstGeom prst="rect">
                <a:avLst/>
              </a:prstGeom>
              <a:solidFill>
                <a:srgbClr val="48a08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197840" y="4327560"/>
                <a:ext cx="225360" cy="33480"/>
              </a:xfrm>
              <a:custGeom>
                <a:avLst/>
                <a:gdLst/>
                <a:ahLst/>
                <a:rect l="l" t="t" r="r" b="b"/>
                <a:pathLst>
                  <a:path w="691" h="97">
                    <a:moveTo>
                      <a:pt x="0" y="97"/>
                    </a:moveTo>
                    <a:lnTo>
                      <a:pt x="276" y="0"/>
                    </a:lnTo>
                    <a:lnTo>
                      <a:pt x="691" y="0"/>
                    </a:lnTo>
                    <a:lnTo>
                      <a:pt x="495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48a08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359480" y="4327560"/>
                <a:ext cx="63720" cy="203040"/>
              </a:xfrm>
              <a:custGeom>
                <a:avLst/>
                <a:gdLst/>
                <a:ahLst/>
                <a:rect l="l" t="t" r="r" b="b"/>
                <a:pathLst>
                  <a:path w="196" h="577">
                    <a:moveTo>
                      <a:pt x="0" y="97"/>
                    </a:moveTo>
                    <a:lnTo>
                      <a:pt x="196" y="0"/>
                    </a:lnTo>
                    <a:lnTo>
                      <a:pt x="196" y="433"/>
                    </a:lnTo>
                    <a:lnTo>
                      <a:pt x="0" y="57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48a08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7391520" y="4260600"/>
                <a:ext cx="274680" cy="168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5" name=""/>
          <p:cNvGrpSpPr/>
          <p:nvPr/>
        </p:nvGrpSpPr>
        <p:grpSpPr>
          <a:xfrm>
            <a:off x="3036960" y="2717640"/>
            <a:ext cx="2830320" cy="1514520"/>
            <a:chOff x="3036960" y="2717640"/>
            <a:chExt cx="2830320" cy="1514520"/>
          </a:xfrm>
        </p:grpSpPr>
        <p:sp>
          <p:nvSpPr>
            <p:cNvPr id="626" name=""/>
            <p:cNvSpPr/>
            <p:nvPr/>
          </p:nvSpPr>
          <p:spPr>
            <a:xfrm>
              <a:off x="3036960" y="2717640"/>
              <a:ext cx="2830320" cy="15145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46520" y="3632040"/>
              <a:ext cx="1811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Arial Narrow"/>
                </a:rPr>
                <a:t>Use Case 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114360" y="2793960"/>
            <a:ext cx="2046600" cy="854640"/>
            <a:chOff x="3114360" y="2793960"/>
            <a:chExt cx="2046600" cy="854640"/>
          </a:xfrm>
        </p:grpSpPr>
        <p:graphicFrame>
          <p:nvGraphicFramePr>
            <p:cNvPr id="629" name=""/>
            <p:cNvGraphicFramePr/>
            <p:nvPr/>
          </p:nvGraphicFramePr>
          <p:xfrm>
            <a:off x="3962520" y="2793960"/>
            <a:ext cx="1198440" cy="743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62520" y="2793960"/>
                      <a:ext cx="119844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1" name=""/>
            <p:cNvSpPr/>
            <p:nvPr/>
          </p:nvSpPr>
          <p:spPr>
            <a:xfrm>
              <a:off x="3114360" y="3333600"/>
              <a:ext cx="88488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Arial Narrow"/>
                </a:rPr>
                <a:t>Use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Software engineering proces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Arial"/>
              </a:rPr>
              <a:t>A set of partially ordered steps intended to reach a goal. In software engineering the goal is to build a software product or to enhance an existing on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chitectural proc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quence of activities that lead to the production of architectural artifac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228600">
              <a:spcBef>
                <a:spcPts val="374"/>
              </a:spcBef>
              <a:buClr>
                <a:srgbClr val="ffffff"/>
              </a:buClr>
              <a:buFont typeface="Wingdings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 software architecture descrip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228600">
              <a:spcBef>
                <a:spcPts val="374"/>
              </a:spcBef>
              <a:buClr>
                <a:srgbClr val="ffffff"/>
              </a:buClr>
              <a:buFont typeface="Wingdings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n architectural prototyp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Modern architectur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6" name="DOME" descr=""/>
          <p:cNvPicPr/>
          <p:nvPr/>
        </p:nvPicPr>
        <p:blipFill>
          <a:blip r:embed="rId1"/>
          <a:stretch/>
        </p:blipFill>
        <p:spPr>
          <a:xfrm>
            <a:off x="609480" y="1171440"/>
            <a:ext cx="5562720" cy="3570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44200" y="1447920"/>
            <a:ext cx="19753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Advances in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Advances in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7800" y="2278080"/>
            <a:ext cx="275256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5 times the span of the Panth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3 times the height of Che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Rational Unified Proces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era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chitecture-centr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-case driv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isk confron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Focus over tim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1984320" y="1890360"/>
            <a:ext cx="0" cy="4157640"/>
          </a:xfrm>
          <a:prstGeom prst="line">
            <a:avLst/>
          </a:prstGeom>
          <a:ln w="1260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86120" y="6056280"/>
            <a:ext cx="5965560" cy="0"/>
          </a:xfrm>
          <a:prstGeom prst="line">
            <a:avLst/>
          </a:prstGeom>
          <a:ln w="1260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828800" y="1295280"/>
            <a:ext cx="1752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000680" y="1295280"/>
            <a:ext cx="1752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In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429000"/>
            <a:ext cx="1752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Fo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81080" y="2057400"/>
            <a:ext cx="6019920" cy="3797280"/>
          </a:xfrm>
          <a:custGeom>
            <a:avLst/>
            <a:gdLst/>
            <a:ahLst/>
            <a:rect l="l" t="t" r="r" b="b"/>
            <a:pathLst>
              <a:path w="3792" h="2392">
                <a:moveTo>
                  <a:pt x="0" y="0"/>
                </a:moveTo>
                <a:cubicBezTo>
                  <a:pt x="196" y="20"/>
                  <a:pt x="392" y="40"/>
                  <a:pt x="624" y="240"/>
                </a:cubicBezTo>
                <a:cubicBezTo>
                  <a:pt x="856" y="440"/>
                  <a:pt x="1024" y="872"/>
                  <a:pt x="1392" y="1200"/>
                </a:cubicBezTo>
                <a:cubicBezTo>
                  <a:pt x="1760" y="1528"/>
                  <a:pt x="2432" y="2024"/>
                  <a:pt x="2832" y="2208"/>
                </a:cubicBezTo>
                <a:cubicBezTo>
                  <a:pt x="3232" y="2392"/>
                  <a:pt x="3512" y="2348"/>
                  <a:pt x="3792" y="23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81080" y="2273400"/>
            <a:ext cx="6019920" cy="3593880"/>
          </a:xfrm>
          <a:custGeom>
            <a:avLst/>
            <a:gdLst/>
            <a:ahLst/>
            <a:rect l="l" t="t" r="r" b="b"/>
            <a:pathLst>
              <a:path w="3792" h="2264">
                <a:moveTo>
                  <a:pt x="0" y="2264"/>
                </a:moveTo>
                <a:cubicBezTo>
                  <a:pt x="204" y="2164"/>
                  <a:pt x="408" y="2064"/>
                  <a:pt x="624" y="1736"/>
                </a:cubicBezTo>
                <a:cubicBezTo>
                  <a:pt x="840" y="1408"/>
                  <a:pt x="1112" y="584"/>
                  <a:pt x="1296" y="296"/>
                </a:cubicBezTo>
                <a:cubicBezTo>
                  <a:pt x="1480" y="8"/>
                  <a:pt x="1584" y="0"/>
                  <a:pt x="1728" y="8"/>
                </a:cubicBezTo>
                <a:cubicBezTo>
                  <a:pt x="1872" y="16"/>
                  <a:pt x="2016" y="128"/>
                  <a:pt x="2160" y="344"/>
                </a:cubicBezTo>
                <a:cubicBezTo>
                  <a:pt x="2304" y="560"/>
                  <a:pt x="2320" y="1016"/>
                  <a:pt x="2592" y="1304"/>
                </a:cubicBezTo>
                <a:cubicBezTo>
                  <a:pt x="2864" y="1592"/>
                  <a:pt x="3328" y="1832"/>
                  <a:pt x="3792" y="2072"/>
                </a:cubicBezTo>
              </a:path>
            </a:pathLst>
          </a:custGeom>
          <a:noFill/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81080" y="2133720"/>
            <a:ext cx="6096240" cy="3733560"/>
          </a:xfrm>
          <a:custGeom>
            <a:avLst/>
            <a:gdLst/>
            <a:ahLst/>
            <a:rect l="l" t="t" r="r" b="b"/>
            <a:pathLst>
              <a:path w="3840" h="2352">
                <a:moveTo>
                  <a:pt x="0" y="2352"/>
                </a:moveTo>
                <a:cubicBezTo>
                  <a:pt x="376" y="2344"/>
                  <a:pt x="752" y="2336"/>
                  <a:pt x="1200" y="2016"/>
                </a:cubicBezTo>
                <a:cubicBezTo>
                  <a:pt x="1648" y="1696"/>
                  <a:pt x="2248" y="768"/>
                  <a:pt x="2688" y="432"/>
                </a:cubicBezTo>
                <a:cubicBezTo>
                  <a:pt x="3128" y="96"/>
                  <a:pt x="3484" y="48"/>
                  <a:pt x="3840" y="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77120" y="1295280"/>
            <a:ext cx="2209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Key concept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33520" y="914400"/>
            <a:ext cx="653400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3680" indent="-463680">
              <a:lnSpc>
                <a:spcPct val="13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ase, Iter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4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cess Workflow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tivity, ste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orts, docu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2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orker: Archit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91320" y="2133720"/>
            <a:ext cx="2158920" cy="628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es happ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67280" y="3657600"/>
            <a:ext cx="1943280" cy="628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produc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95880" y="5257800"/>
            <a:ext cx="1440000" cy="628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does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10080" y="990720"/>
            <a:ext cx="3124440" cy="628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do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e happ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Lifecycle Phase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609480" y="2438280"/>
            <a:ext cx="7772040" cy="366840"/>
            <a:chOff x="609480" y="2438280"/>
            <a:chExt cx="7772040" cy="366840"/>
          </a:xfrm>
        </p:grpSpPr>
        <p:sp>
          <p:nvSpPr>
            <p:cNvPr id="654" name=""/>
            <p:cNvSpPr/>
            <p:nvPr/>
          </p:nvSpPr>
          <p:spPr>
            <a:xfrm>
              <a:off x="749160" y="2453400"/>
              <a:ext cx="76323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9480" y="2438280"/>
              <a:ext cx="537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 Narrow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457200" y="1371600"/>
            <a:ext cx="8153280" cy="5684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7200" y="1371600"/>
            <a:ext cx="8153280" cy="56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1905120" y="1371600"/>
            <a:ext cx="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733920" y="137160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6477120" y="137160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60240" y="1447920"/>
            <a:ext cx="10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71880" y="1447920"/>
            <a:ext cx="1238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390920" y="1447920"/>
            <a:ext cx="135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870240" y="1461960"/>
            <a:ext cx="10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7840" y="2930400"/>
            <a:ext cx="848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39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p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the scope of the project an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business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77840" y="3844800"/>
            <a:ext cx="848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39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abor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 project, specify features, an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line th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77840" y="4757760"/>
            <a:ext cx="8489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39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 th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7840" y="5276880"/>
            <a:ext cx="8489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39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the product to its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Major Milestone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09480" y="2438280"/>
            <a:ext cx="7772040" cy="366840"/>
            <a:chOff x="609480" y="2438280"/>
            <a:chExt cx="7772040" cy="366840"/>
          </a:xfrm>
        </p:grpSpPr>
        <p:sp>
          <p:nvSpPr>
            <p:cNvPr id="671" name=""/>
            <p:cNvSpPr/>
            <p:nvPr/>
          </p:nvSpPr>
          <p:spPr>
            <a:xfrm>
              <a:off x="749160" y="2453400"/>
              <a:ext cx="76323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9480" y="2438280"/>
              <a:ext cx="537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 Narrow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568160" y="3009960"/>
            <a:ext cx="741600" cy="1185480"/>
            <a:chOff x="1568160" y="3009960"/>
            <a:chExt cx="741600" cy="1185480"/>
          </a:xfrm>
        </p:grpSpPr>
        <p:sp>
          <p:nvSpPr>
            <p:cNvPr id="674" name=""/>
            <p:cNvSpPr/>
            <p:nvPr/>
          </p:nvSpPr>
          <p:spPr>
            <a:xfrm>
              <a:off x="1568160" y="3552840"/>
              <a:ext cx="74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Vis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49240" y="3009960"/>
              <a:ext cx="380880" cy="380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3102480" y="3009960"/>
            <a:ext cx="1230840" cy="1459800"/>
            <a:chOff x="3102480" y="3009960"/>
            <a:chExt cx="1230840" cy="1459800"/>
          </a:xfrm>
        </p:grpSpPr>
        <p:sp>
          <p:nvSpPr>
            <p:cNvPr id="677" name=""/>
            <p:cNvSpPr/>
            <p:nvPr/>
          </p:nvSpPr>
          <p:spPr>
            <a:xfrm>
              <a:off x="3102480" y="3552840"/>
              <a:ext cx="123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Baseli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Architectu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27280" y="3009960"/>
              <a:ext cx="380520" cy="380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5966640" y="3009960"/>
            <a:ext cx="1052280" cy="1459800"/>
            <a:chOff x="5966640" y="3009960"/>
            <a:chExt cx="1052280" cy="1459800"/>
          </a:xfrm>
        </p:grpSpPr>
        <p:sp>
          <p:nvSpPr>
            <p:cNvPr id="680" name=""/>
            <p:cNvSpPr/>
            <p:nvPr/>
          </p:nvSpPr>
          <p:spPr>
            <a:xfrm>
              <a:off x="5966640" y="3552840"/>
              <a:ext cx="1052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Ini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Cap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302520" y="3009960"/>
              <a:ext cx="380880" cy="380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8091720" y="3009960"/>
            <a:ext cx="877320" cy="1185480"/>
            <a:chOff x="8091720" y="3009960"/>
            <a:chExt cx="877320" cy="1185480"/>
          </a:xfrm>
        </p:grpSpPr>
        <p:sp>
          <p:nvSpPr>
            <p:cNvPr id="683" name=""/>
            <p:cNvSpPr/>
            <p:nvPr/>
          </p:nvSpPr>
          <p:spPr>
            <a:xfrm>
              <a:off x="8091720" y="3552840"/>
              <a:ext cx="8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Produc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Rele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40840" y="3009960"/>
              <a:ext cx="380880" cy="380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457200" y="1371600"/>
            <a:ext cx="8153280" cy="5684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" y="1371600"/>
            <a:ext cx="8153280" cy="56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1905120" y="1371600"/>
            <a:ext cx="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3733920" y="137160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6477120" y="137160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60240" y="1447920"/>
            <a:ext cx="10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71880" y="1447920"/>
            <a:ext cx="1238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390920" y="1447920"/>
            <a:ext cx="135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70240" y="1461960"/>
            <a:ext cx="10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Phases and Iteration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09480" y="4572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n iteration is a sequence of activities with an established plan and evaluation criteria, resulting in an executable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07960" y="2384280"/>
            <a:ext cx="8104320" cy="56844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22840" y="2414520"/>
            <a:ext cx="766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54320" y="2414520"/>
            <a:ext cx="3027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26440" y="2414520"/>
            <a:ext cx="766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Dev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739040" y="2414520"/>
            <a:ext cx="766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Dev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80240" y="2414520"/>
            <a:ext cx="3027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94840" y="2414520"/>
            <a:ext cx="766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810560" y="2413080"/>
            <a:ext cx="3027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3743280" y="1963440"/>
            <a:ext cx="0" cy="99540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867040" y="1953720"/>
            <a:ext cx="0" cy="99540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895400" y="1944360"/>
            <a:ext cx="0" cy="99540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4648320" y="1941120"/>
            <a:ext cx="0" cy="99540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572080" y="1963440"/>
            <a:ext cx="0" cy="99540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6486480" y="1953720"/>
            <a:ext cx="0" cy="99540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7477200" y="1963440"/>
            <a:ext cx="0" cy="99540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8601120" y="1703160"/>
            <a:ext cx="0" cy="995400"/>
          </a:xfrm>
          <a:prstGeom prst="line">
            <a:avLst/>
          </a:prstGeom>
          <a:ln w="28440">
            <a:solidFill>
              <a:srgbClr val="cc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517760" y="3251160"/>
            <a:ext cx="793440" cy="1149120"/>
            <a:chOff x="1517760" y="3251160"/>
            <a:chExt cx="793440" cy="1149120"/>
          </a:xfrm>
        </p:grpSpPr>
        <p:sp>
          <p:nvSpPr>
            <p:cNvPr id="713" name=""/>
            <p:cNvSpPr/>
            <p:nvPr/>
          </p:nvSpPr>
          <p:spPr>
            <a:xfrm>
              <a:off x="1517760" y="3819600"/>
              <a:ext cx="79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Narrow"/>
                </a:rPr>
                <a:t>Re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24040" y="3251160"/>
              <a:ext cx="380880" cy="380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2482920" y="3251160"/>
            <a:ext cx="793440" cy="1149120"/>
            <a:chOff x="2482920" y="3251160"/>
            <a:chExt cx="793440" cy="1149120"/>
          </a:xfrm>
        </p:grpSpPr>
        <p:sp>
          <p:nvSpPr>
            <p:cNvPr id="716" name=""/>
            <p:cNvSpPr/>
            <p:nvPr/>
          </p:nvSpPr>
          <p:spPr>
            <a:xfrm>
              <a:off x="2482920" y="3819600"/>
              <a:ext cx="79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Narrow"/>
                </a:rPr>
                <a:t>Re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89200" y="3251160"/>
              <a:ext cx="380880" cy="380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3371760" y="3251160"/>
            <a:ext cx="793440" cy="1149120"/>
            <a:chOff x="3371760" y="3251160"/>
            <a:chExt cx="793440" cy="1149120"/>
          </a:xfrm>
        </p:grpSpPr>
        <p:sp>
          <p:nvSpPr>
            <p:cNvPr id="719" name=""/>
            <p:cNvSpPr/>
            <p:nvPr/>
          </p:nvSpPr>
          <p:spPr>
            <a:xfrm>
              <a:off x="3371760" y="3819600"/>
              <a:ext cx="79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Narrow"/>
                </a:rPr>
                <a:t>Re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578040" y="3251160"/>
              <a:ext cx="380880" cy="380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4273560" y="3251160"/>
            <a:ext cx="793440" cy="1149120"/>
            <a:chOff x="4273560" y="3251160"/>
            <a:chExt cx="793440" cy="1149120"/>
          </a:xfrm>
        </p:grpSpPr>
        <p:sp>
          <p:nvSpPr>
            <p:cNvPr id="722" name=""/>
            <p:cNvSpPr/>
            <p:nvPr/>
          </p:nvSpPr>
          <p:spPr>
            <a:xfrm>
              <a:off x="4273560" y="3819600"/>
              <a:ext cx="79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Narrow"/>
                </a:rPr>
                <a:t>Re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479840" y="3251160"/>
              <a:ext cx="380880" cy="380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187960" y="3251160"/>
            <a:ext cx="793440" cy="1149120"/>
            <a:chOff x="5187960" y="3251160"/>
            <a:chExt cx="793440" cy="1149120"/>
          </a:xfrm>
        </p:grpSpPr>
        <p:sp>
          <p:nvSpPr>
            <p:cNvPr id="725" name=""/>
            <p:cNvSpPr/>
            <p:nvPr/>
          </p:nvSpPr>
          <p:spPr>
            <a:xfrm>
              <a:off x="5187960" y="3819600"/>
              <a:ext cx="79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Narrow"/>
                </a:rPr>
                <a:t>Re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94240" y="3251160"/>
              <a:ext cx="380880" cy="380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127920" y="3251160"/>
            <a:ext cx="793440" cy="1149120"/>
            <a:chOff x="6127920" y="3251160"/>
            <a:chExt cx="793440" cy="1149120"/>
          </a:xfrm>
        </p:grpSpPr>
        <p:sp>
          <p:nvSpPr>
            <p:cNvPr id="728" name=""/>
            <p:cNvSpPr/>
            <p:nvPr/>
          </p:nvSpPr>
          <p:spPr>
            <a:xfrm>
              <a:off x="6127920" y="3819600"/>
              <a:ext cx="79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Narrow"/>
                </a:rPr>
                <a:t>Re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33840" y="3251160"/>
              <a:ext cx="380520" cy="380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7118280" y="3251160"/>
            <a:ext cx="793440" cy="1149120"/>
            <a:chOff x="7118280" y="3251160"/>
            <a:chExt cx="793440" cy="1149120"/>
          </a:xfrm>
        </p:grpSpPr>
        <p:sp>
          <p:nvSpPr>
            <p:cNvPr id="731" name=""/>
            <p:cNvSpPr/>
            <p:nvPr/>
          </p:nvSpPr>
          <p:spPr>
            <a:xfrm>
              <a:off x="7118280" y="3819600"/>
              <a:ext cx="79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Narrow"/>
                </a:rPr>
                <a:t>Re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24560" y="3251160"/>
              <a:ext cx="380880" cy="380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8197920" y="3251160"/>
            <a:ext cx="793440" cy="1149120"/>
            <a:chOff x="8197920" y="3251160"/>
            <a:chExt cx="793440" cy="1149120"/>
          </a:xfrm>
        </p:grpSpPr>
        <p:sp>
          <p:nvSpPr>
            <p:cNvPr id="734" name=""/>
            <p:cNvSpPr/>
            <p:nvPr/>
          </p:nvSpPr>
          <p:spPr>
            <a:xfrm>
              <a:off x="8197920" y="3819600"/>
              <a:ext cx="79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Narrow"/>
                </a:rPr>
                <a:t>Rele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404200" y="3251160"/>
              <a:ext cx="380880" cy="380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575280" y="2414520"/>
            <a:ext cx="766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rel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478160" y="2414520"/>
            <a:ext cx="3027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1419120" y="1953720"/>
            <a:ext cx="0" cy="99540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57200" y="1371600"/>
            <a:ext cx="8153280" cy="5684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" y="1371600"/>
            <a:ext cx="8153280" cy="56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905120" y="1371600"/>
            <a:ext cx="0" cy="57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3733920" y="137160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477120" y="137160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0240" y="1447920"/>
            <a:ext cx="102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171880" y="1447920"/>
            <a:ext cx="1238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390920" y="1447920"/>
            <a:ext cx="135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70240" y="1461960"/>
            <a:ext cx="1099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ure-Centric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61800" y="1168560"/>
            <a:ext cx="8490240" cy="45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rmAutofit/>
          </a:bodyPr>
          <a:p>
            <a:pPr marL="463680" indent="-4636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dels are vehicles for visualizing, specifying, constructing, and documenting architec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nified Process prescribes the successive refinement of an executable architec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704880" y="4896000"/>
            <a:ext cx="7772040" cy="366840"/>
            <a:chOff x="704880" y="4896000"/>
            <a:chExt cx="7772040" cy="366840"/>
          </a:xfrm>
        </p:grpSpPr>
        <p:sp>
          <p:nvSpPr>
            <p:cNvPr id="751" name=""/>
            <p:cNvSpPr/>
            <p:nvPr/>
          </p:nvSpPr>
          <p:spPr>
            <a:xfrm>
              <a:off x="844560" y="4911120"/>
              <a:ext cx="76323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04880" y="4896000"/>
              <a:ext cx="537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 Narrow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2147760" y="5264280"/>
            <a:ext cx="6483240" cy="550800"/>
            <a:chOff x="2147760" y="5264280"/>
            <a:chExt cx="6483240" cy="550800"/>
          </a:xfrm>
        </p:grpSpPr>
        <p:sp>
          <p:nvSpPr>
            <p:cNvPr id="754" name=""/>
            <p:cNvSpPr/>
            <p:nvPr/>
          </p:nvSpPr>
          <p:spPr>
            <a:xfrm>
              <a:off x="2147760" y="5264280"/>
              <a:ext cx="1760400" cy="550800"/>
            </a:xfrm>
            <a:prstGeom prst="triangle">
              <a:avLst>
                <a:gd name="adj" fmla="val 100000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94120" y="5267520"/>
              <a:ext cx="4736880" cy="542880"/>
            </a:xfrm>
            <a:prstGeom prst="rect">
              <a:avLst/>
            </a:prstGeom>
            <a:gradFill rotWithShape="0">
              <a:gsLst>
                <a:gs pos="0">
                  <a:srgbClr val="004600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084920" y="5389560"/>
              <a:ext cx="111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Archite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57200" y="3936960"/>
            <a:ext cx="8153280" cy="581040"/>
            <a:chOff x="457200" y="3936960"/>
            <a:chExt cx="8153280" cy="581040"/>
          </a:xfrm>
        </p:grpSpPr>
        <p:sp>
          <p:nvSpPr>
            <p:cNvPr id="758" name=""/>
            <p:cNvSpPr/>
            <p:nvPr/>
          </p:nvSpPr>
          <p:spPr>
            <a:xfrm>
              <a:off x="457200" y="3936960"/>
              <a:ext cx="8153280" cy="568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33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57200" y="3936960"/>
              <a:ext cx="8153280" cy="56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1905120" y="3936960"/>
              <a:ext cx="0" cy="57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3733920" y="3936960"/>
              <a:ext cx="0" cy="58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6477120" y="3936960"/>
              <a:ext cx="0" cy="58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0240" y="4013280"/>
              <a:ext cx="1029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Ince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71880" y="4013280"/>
              <a:ext cx="1238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Elabo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90920" y="4013280"/>
              <a:ext cx="135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Co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70240" y="4027320"/>
              <a:ext cx="109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Narrow"/>
                </a:rPr>
                <a:t>Tran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344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Unified Process structur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643040" y="4545000"/>
            <a:ext cx="2243160" cy="898560"/>
          </a:xfrm>
          <a:prstGeom prst="rect">
            <a:avLst/>
          </a:prstGeom>
          <a:solidFill>
            <a:srgbClr val="febf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43040" y="1943280"/>
            <a:ext cx="2241720" cy="2176200"/>
          </a:xfrm>
          <a:prstGeom prst="rect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1622520"/>
            <a:ext cx="4414680" cy="3984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5224320" y="1941120"/>
            <a:ext cx="5040" cy="34894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6232680" y="1943280"/>
            <a:ext cx="0" cy="34905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6719400" y="1940040"/>
            <a:ext cx="1800" cy="3457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7719840" y="1942920"/>
            <a:ext cx="0" cy="34779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84760" y="5454720"/>
            <a:ext cx="4422600" cy="363600"/>
          </a:xfrm>
          <a:prstGeom prst="rect">
            <a:avLst/>
          </a:prstGeom>
          <a:gradFill rotWithShape="0">
            <a:gsLst>
              <a:gs pos="0">
                <a:srgbClr val="00c8b5"/>
              </a:gs>
              <a:gs pos="100000">
                <a:srgbClr val="baef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4764240" y="1937880"/>
            <a:ext cx="2880" cy="3505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5722920" y="1937880"/>
            <a:ext cx="0" cy="3505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7162920" y="1941120"/>
            <a:ext cx="0" cy="348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462400" y="4911840"/>
            <a:ext cx="132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62400" y="5197320"/>
            <a:ext cx="132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752840" y="2052720"/>
            <a:ext cx="19728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usiness Model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126880" y="3166920"/>
            <a:ext cx="1598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55480" y="3500280"/>
            <a:ext cx="4456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836000" y="2773440"/>
            <a:ext cx="18889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alysis &amp; Desig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939840" y="5477040"/>
            <a:ext cx="8053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io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866840" y="5477040"/>
            <a:ext cx="307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932280" y="4975200"/>
            <a:ext cx="4286160" cy="106560"/>
          </a:xfrm>
          <a:custGeom>
            <a:avLst/>
            <a:gdLst/>
            <a:ahLst/>
            <a:rect l="l" t="t" r="r" b="b"/>
            <a:pathLst>
              <a:path w="3169" h="79">
                <a:moveTo>
                  <a:pt x="0" y="79"/>
                </a:moveTo>
                <a:lnTo>
                  <a:pt x="356" y="5"/>
                </a:lnTo>
                <a:lnTo>
                  <a:pt x="538" y="20"/>
                </a:lnTo>
                <a:lnTo>
                  <a:pt x="620" y="72"/>
                </a:lnTo>
                <a:lnTo>
                  <a:pt x="666" y="61"/>
                </a:lnTo>
                <a:lnTo>
                  <a:pt x="715" y="54"/>
                </a:lnTo>
                <a:lnTo>
                  <a:pt x="764" y="46"/>
                </a:lnTo>
                <a:lnTo>
                  <a:pt x="810" y="38"/>
                </a:lnTo>
                <a:lnTo>
                  <a:pt x="859" y="31"/>
                </a:lnTo>
                <a:lnTo>
                  <a:pt x="907" y="23"/>
                </a:lnTo>
                <a:lnTo>
                  <a:pt x="954" y="15"/>
                </a:lnTo>
                <a:lnTo>
                  <a:pt x="1002" y="5"/>
                </a:lnTo>
                <a:lnTo>
                  <a:pt x="1028" y="5"/>
                </a:lnTo>
                <a:lnTo>
                  <a:pt x="1053" y="5"/>
                </a:lnTo>
                <a:lnTo>
                  <a:pt x="1079" y="2"/>
                </a:lnTo>
                <a:lnTo>
                  <a:pt x="1105" y="0"/>
                </a:lnTo>
                <a:lnTo>
                  <a:pt x="1130" y="0"/>
                </a:lnTo>
                <a:lnTo>
                  <a:pt x="1156" y="0"/>
                </a:lnTo>
                <a:lnTo>
                  <a:pt x="1182" y="2"/>
                </a:lnTo>
                <a:lnTo>
                  <a:pt x="1207" y="5"/>
                </a:lnTo>
                <a:lnTo>
                  <a:pt x="1218" y="10"/>
                </a:lnTo>
                <a:lnTo>
                  <a:pt x="1225" y="13"/>
                </a:lnTo>
                <a:lnTo>
                  <a:pt x="1233" y="20"/>
                </a:lnTo>
                <a:lnTo>
                  <a:pt x="1238" y="25"/>
                </a:lnTo>
                <a:lnTo>
                  <a:pt x="1243" y="33"/>
                </a:lnTo>
                <a:lnTo>
                  <a:pt x="1248" y="38"/>
                </a:lnTo>
                <a:lnTo>
                  <a:pt x="1253" y="46"/>
                </a:lnTo>
                <a:lnTo>
                  <a:pt x="1261" y="51"/>
                </a:lnTo>
                <a:lnTo>
                  <a:pt x="1300" y="79"/>
                </a:lnTo>
                <a:lnTo>
                  <a:pt x="1471" y="46"/>
                </a:lnTo>
                <a:lnTo>
                  <a:pt x="1564" y="38"/>
                </a:lnTo>
                <a:lnTo>
                  <a:pt x="1687" y="79"/>
                </a:lnTo>
                <a:lnTo>
                  <a:pt x="1807" y="51"/>
                </a:lnTo>
                <a:lnTo>
                  <a:pt x="1894" y="33"/>
                </a:lnTo>
                <a:lnTo>
                  <a:pt x="1964" y="43"/>
                </a:lnTo>
                <a:lnTo>
                  <a:pt x="2053" y="74"/>
                </a:lnTo>
                <a:lnTo>
                  <a:pt x="2074" y="69"/>
                </a:lnTo>
                <a:lnTo>
                  <a:pt x="2092" y="61"/>
                </a:lnTo>
                <a:lnTo>
                  <a:pt x="2112" y="54"/>
                </a:lnTo>
                <a:lnTo>
                  <a:pt x="2128" y="49"/>
                </a:lnTo>
                <a:lnTo>
                  <a:pt x="2146" y="41"/>
                </a:lnTo>
                <a:lnTo>
                  <a:pt x="2161" y="36"/>
                </a:lnTo>
                <a:lnTo>
                  <a:pt x="2179" y="31"/>
                </a:lnTo>
                <a:lnTo>
                  <a:pt x="2194" y="25"/>
                </a:lnTo>
                <a:lnTo>
                  <a:pt x="2210" y="23"/>
                </a:lnTo>
                <a:lnTo>
                  <a:pt x="2223" y="20"/>
                </a:lnTo>
                <a:lnTo>
                  <a:pt x="2233" y="18"/>
                </a:lnTo>
                <a:lnTo>
                  <a:pt x="2243" y="18"/>
                </a:lnTo>
                <a:lnTo>
                  <a:pt x="2253" y="18"/>
                </a:lnTo>
                <a:lnTo>
                  <a:pt x="2261" y="18"/>
                </a:lnTo>
                <a:lnTo>
                  <a:pt x="2269" y="18"/>
                </a:lnTo>
                <a:lnTo>
                  <a:pt x="2276" y="20"/>
                </a:lnTo>
                <a:lnTo>
                  <a:pt x="2284" y="20"/>
                </a:lnTo>
                <a:lnTo>
                  <a:pt x="2294" y="23"/>
                </a:lnTo>
                <a:lnTo>
                  <a:pt x="2302" y="25"/>
                </a:lnTo>
                <a:lnTo>
                  <a:pt x="2310" y="31"/>
                </a:lnTo>
                <a:lnTo>
                  <a:pt x="2320" y="33"/>
                </a:lnTo>
                <a:lnTo>
                  <a:pt x="2328" y="38"/>
                </a:lnTo>
                <a:lnTo>
                  <a:pt x="2333" y="41"/>
                </a:lnTo>
                <a:lnTo>
                  <a:pt x="2340" y="46"/>
                </a:lnTo>
                <a:lnTo>
                  <a:pt x="2392" y="77"/>
                </a:lnTo>
                <a:lnTo>
                  <a:pt x="2805" y="25"/>
                </a:lnTo>
                <a:lnTo>
                  <a:pt x="2830" y="25"/>
                </a:lnTo>
                <a:lnTo>
                  <a:pt x="2856" y="23"/>
                </a:lnTo>
                <a:lnTo>
                  <a:pt x="2881" y="20"/>
                </a:lnTo>
                <a:lnTo>
                  <a:pt x="2907" y="20"/>
                </a:lnTo>
                <a:lnTo>
                  <a:pt x="2933" y="18"/>
                </a:lnTo>
                <a:lnTo>
                  <a:pt x="2956" y="18"/>
                </a:lnTo>
                <a:lnTo>
                  <a:pt x="2976" y="18"/>
                </a:lnTo>
                <a:lnTo>
                  <a:pt x="2997" y="20"/>
                </a:lnTo>
                <a:lnTo>
                  <a:pt x="3012" y="20"/>
                </a:lnTo>
                <a:lnTo>
                  <a:pt x="3025" y="25"/>
                </a:lnTo>
                <a:lnTo>
                  <a:pt x="3035" y="28"/>
                </a:lnTo>
                <a:lnTo>
                  <a:pt x="3046" y="33"/>
                </a:lnTo>
                <a:lnTo>
                  <a:pt x="3056" y="38"/>
                </a:lnTo>
                <a:lnTo>
                  <a:pt x="3063" y="43"/>
                </a:lnTo>
                <a:lnTo>
                  <a:pt x="3071" y="49"/>
                </a:lnTo>
                <a:lnTo>
                  <a:pt x="3081" y="51"/>
                </a:lnTo>
                <a:lnTo>
                  <a:pt x="3169" y="79"/>
                </a:lnTo>
                <a:lnTo>
                  <a:pt x="2840" y="77"/>
                </a:lnTo>
                <a:lnTo>
                  <a:pt x="1546" y="79"/>
                </a:lnTo>
                <a:lnTo>
                  <a:pt x="0" y="79"/>
                </a:lnTo>
                <a:close/>
              </a:path>
            </a:pathLst>
          </a:custGeom>
          <a:solidFill>
            <a:srgbClr val="de80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52800" y="5289480"/>
            <a:ext cx="4241880" cy="108000"/>
          </a:xfrm>
          <a:custGeom>
            <a:avLst/>
            <a:gdLst/>
            <a:ahLst/>
            <a:rect l="l" t="t" r="r" b="b"/>
            <a:pathLst>
              <a:path w="3136" h="79">
                <a:moveTo>
                  <a:pt x="0" y="77"/>
                </a:moveTo>
                <a:lnTo>
                  <a:pt x="151" y="15"/>
                </a:lnTo>
                <a:lnTo>
                  <a:pt x="162" y="13"/>
                </a:lnTo>
                <a:lnTo>
                  <a:pt x="172" y="10"/>
                </a:lnTo>
                <a:lnTo>
                  <a:pt x="185" y="10"/>
                </a:lnTo>
                <a:lnTo>
                  <a:pt x="195" y="7"/>
                </a:lnTo>
                <a:lnTo>
                  <a:pt x="208" y="5"/>
                </a:lnTo>
                <a:lnTo>
                  <a:pt x="218" y="2"/>
                </a:lnTo>
                <a:lnTo>
                  <a:pt x="228" y="2"/>
                </a:lnTo>
                <a:lnTo>
                  <a:pt x="239" y="0"/>
                </a:lnTo>
                <a:lnTo>
                  <a:pt x="249" y="0"/>
                </a:lnTo>
                <a:lnTo>
                  <a:pt x="257" y="2"/>
                </a:lnTo>
                <a:lnTo>
                  <a:pt x="267" y="2"/>
                </a:lnTo>
                <a:lnTo>
                  <a:pt x="275" y="5"/>
                </a:lnTo>
                <a:lnTo>
                  <a:pt x="282" y="7"/>
                </a:lnTo>
                <a:lnTo>
                  <a:pt x="292" y="10"/>
                </a:lnTo>
                <a:lnTo>
                  <a:pt x="300" y="10"/>
                </a:lnTo>
                <a:lnTo>
                  <a:pt x="310" y="10"/>
                </a:lnTo>
                <a:lnTo>
                  <a:pt x="321" y="10"/>
                </a:lnTo>
                <a:lnTo>
                  <a:pt x="328" y="13"/>
                </a:lnTo>
                <a:lnTo>
                  <a:pt x="341" y="15"/>
                </a:lnTo>
                <a:lnTo>
                  <a:pt x="351" y="18"/>
                </a:lnTo>
                <a:lnTo>
                  <a:pt x="362" y="20"/>
                </a:lnTo>
                <a:lnTo>
                  <a:pt x="372" y="23"/>
                </a:lnTo>
                <a:lnTo>
                  <a:pt x="382" y="25"/>
                </a:lnTo>
                <a:lnTo>
                  <a:pt x="392" y="25"/>
                </a:lnTo>
                <a:lnTo>
                  <a:pt x="403" y="28"/>
                </a:lnTo>
                <a:lnTo>
                  <a:pt x="413" y="28"/>
                </a:lnTo>
                <a:lnTo>
                  <a:pt x="421" y="31"/>
                </a:lnTo>
                <a:lnTo>
                  <a:pt x="431" y="33"/>
                </a:lnTo>
                <a:lnTo>
                  <a:pt x="441" y="36"/>
                </a:lnTo>
                <a:lnTo>
                  <a:pt x="451" y="38"/>
                </a:lnTo>
                <a:lnTo>
                  <a:pt x="462" y="38"/>
                </a:lnTo>
                <a:lnTo>
                  <a:pt x="474" y="41"/>
                </a:lnTo>
                <a:lnTo>
                  <a:pt x="587" y="56"/>
                </a:lnTo>
                <a:lnTo>
                  <a:pt x="605" y="56"/>
                </a:lnTo>
                <a:lnTo>
                  <a:pt x="615" y="56"/>
                </a:lnTo>
                <a:lnTo>
                  <a:pt x="621" y="56"/>
                </a:lnTo>
                <a:lnTo>
                  <a:pt x="623" y="56"/>
                </a:lnTo>
                <a:lnTo>
                  <a:pt x="623" y="56"/>
                </a:lnTo>
                <a:lnTo>
                  <a:pt x="623" y="56"/>
                </a:lnTo>
                <a:lnTo>
                  <a:pt x="623" y="56"/>
                </a:lnTo>
                <a:lnTo>
                  <a:pt x="631" y="56"/>
                </a:lnTo>
                <a:lnTo>
                  <a:pt x="639" y="56"/>
                </a:lnTo>
                <a:lnTo>
                  <a:pt x="649" y="56"/>
                </a:lnTo>
                <a:lnTo>
                  <a:pt x="659" y="56"/>
                </a:lnTo>
                <a:lnTo>
                  <a:pt x="669" y="56"/>
                </a:lnTo>
                <a:lnTo>
                  <a:pt x="680" y="56"/>
                </a:lnTo>
                <a:lnTo>
                  <a:pt x="690" y="56"/>
                </a:lnTo>
                <a:lnTo>
                  <a:pt x="700" y="59"/>
                </a:lnTo>
                <a:lnTo>
                  <a:pt x="708" y="59"/>
                </a:lnTo>
                <a:lnTo>
                  <a:pt x="718" y="59"/>
                </a:lnTo>
                <a:lnTo>
                  <a:pt x="726" y="61"/>
                </a:lnTo>
                <a:lnTo>
                  <a:pt x="733" y="61"/>
                </a:lnTo>
                <a:lnTo>
                  <a:pt x="741" y="61"/>
                </a:lnTo>
                <a:lnTo>
                  <a:pt x="749" y="61"/>
                </a:lnTo>
                <a:lnTo>
                  <a:pt x="756" y="61"/>
                </a:lnTo>
                <a:lnTo>
                  <a:pt x="764" y="61"/>
                </a:lnTo>
                <a:lnTo>
                  <a:pt x="772" y="61"/>
                </a:lnTo>
                <a:lnTo>
                  <a:pt x="774" y="64"/>
                </a:lnTo>
                <a:lnTo>
                  <a:pt x="780" y="64"/>
                </a:lnTo>
                <a:lnTo>
                  <a:pt x="785" y="66"/>
                </a:lnTo>
                <a:lnTo>
                  <a:pt x="790" y="66"/>
                </a:lnTo>
                <a:lnTo>
                  <a:pt x="795" y="66"/>
                </a:lnTo>
                <a:lnTo>
                  <a:pt x="803" y="66"/>
                </a:lnTo>
                <a:lnTo>
                  <a:pt x="810" y="66"/>
                </a:lnTo>
                <a:lnTo>
                  <a:pt x="821" y="66"/>
                </a:lnTo>
                <a:lnTo>
                  <a:pt x="833" y="66"/>
                </a:lnTo>
                <a:lnTo>
                  <a:pt x="846" y="66"/>
                </a:lnTo>
                <a:lnTo>
                  <a:pt x="862" y="66"/>
                </a:lnTo>
                <a:lnTo>
                  <a:pt x="874" y="64"/>
                </a:lnTo>
                <a:lnTo>
                  <a:pt x="890" y="64"/>
                </a:lnTo>
                <a:lnTo>
                  <a:pt x="903" y="66"/>
                </a:lnTo>
                <a:lnTo>
                  <a:pt x="913" y="66"/>
                </a:lnTo>
                <a:lnTo>
                  <a:pt x="923" y="66"/>
                </a:lnTo>
                <a:lnTo>
                  <a:pt x="931" y="66"/>
                </a:lnTo>
                <a:lnTo>
                  <a:pt x="936" y="66"/>
                </a:lnTo>
                <a:lnTo>
                  <a:pt x="941" y="66"/>
                </a:lnTo>
                <a:lnTo>
                  <a:pt x="946" y="66"/>
                </a:lnTo>
                <a:lnTo>
                  <a:pt x="951" y="66"/>
                </a:lnTo>
                <a:lnTo>
                  <a:pt x="959" y="66"/>
                </a:lnTo>
                <a:lnTo>
                  <a:pt x="967" y="66"/>
                </a:lnTo>
                <a:lnTo>
                  <a:pt x="974" y="69"/>
                </a:lnTo>
                <a:lnTo>
                  <a:pt x="987" y="69"/>
                </a:lnTo>
                <a:lnTo>
                  <a:pt x="1000" y="72"/>
                </a:lnTo>
                <a:lnTo>
                  <a:pt x="1010" y="72"/>
                </a:lnTo>
                <a:lnTo>
                  <a:pt x="1023" y="72"/>
                </a:lnTo>
                <a:lnTo>
                  <a:pt x="1033" y="72"/>
                </a:lnTo>
                <a:lnTo>
                  <a:pt x="1046" y="72"/>
                </a:lnTo>
                <a:lnTo>
                  <a:pt x="1056" y="72"/>
                </a:lnTo>
                <a:lnTo>
                  <a:pt x="1067" y="72"/>
                </a:lnTo>
                <a:lnTo>
                  <a:pt x="1085" y="72"/>
                </a:lnTo>
                <a:lnTo>
                  <a:pt x="1097" y="72"/>
                </a:lnTo>
                <a:lnTo>
                  <a:pt x="1108" y="72"/>
                </a:lnTo>
                <a:lnTo>
                  <a:pt x="1118" y="72"/>
                </a:lnTo>
                <a:lnTo>
                  <a:pt x="1123" y="72"/>
                </a:lnTo>
                <a:lnTo>
                  <a:pt x="1131" y="72"/>
                </a:lnTo>
                <a:lnTo>
                  <a:pt x="1138" y="72"/>
                </a:lnTo>
                <a:lnTo>
                  <a:pt x="1149" y="72"/>
                </a:lnTo>
                <a:lnTo>
                  <a:pt x="1162" y="72"/>
                </a:lnTo>
                <a:lnTo>
                  <a:pt x="1172" y="72"/>
                </a:lnTo>
                <a:lnTo>
                  <a:pt x="1185" y="72"/>
                </a:lnTo>
                <a:lnTo>
                  <a:pt x="1197" y="72"/>
                </a:lnTo>
                <a:lnTo>
                  <a:pt x="1210" y="72"/>
                </a:lnTo>
                <a:lnTo>
                  <a:pt x="1221" y="72"/>
                </a:lnTo>
                <a:lnTo>
                  <a:pt x="1228" y="72"/>
                </a:lnTo>
                <a:lnTo>
                  <a:pt x="1236" y="72"/>
                </a:lnTo>
                <a:lnTo>
                  <a:pt x="1238" y="74"/>
                </a:lnTo>
                <a:lnTo>
                  <a:pt x="1241" y="74"/>
                </a:lnTo>
                <a:lnTo>
                  <a:pt x="1244" y="77"/>
                </a:lnTo>
                <a:lnTo>
                  <a:pt x="1246" y="77"/>
                </a:lnTo>
                <a:lnTo>
                  <a:pt x="1249" y="79"/>
                </a:lnTo>
                <a:lnTo>
                  <a:pt x="1251" y="79"/>
                </a:lnTo>
                <a:lnTo>
                  <a:pt x="1256" y="79"/>
                </a:lnTo>
                <a:lnTo>
                  <a:pt x="1264" y="77"/>
                </a:lnTo>
                <a:lnTo>
                  <a:pt x="1274" y="74"/>
                </a:lnTo>
                <a:lnTo>
                  <a:pt x="1285" y="74"/>
                </a:lnTo>
                <a:lnTo>
                  <a:pt x="1297" y="74"/>
                </a:lnTo>
                <a:lnTo>
                  <a:pt x="1310" y="74"/>
                </a:lnTo>
                <a:lnTo>
                  <a:pt x="1326" y="77"/>
                </a:lnTo>
                <a:lnTo>
                  <a:pt x="1338" y="77"/>
                </a:lnTo>
                <a:lnTo>
                  <a:pt x="1354" y="77"/>
                </a:lnTo>
                <a:lnTo>
                  <a:pt x="1364" y="74"/>
                </a:lnTo>
                <a:lnTo>
                  <a:pt x="1374" y="74"/>
                </a:lnTo>
                <a:lnTo>
                  <a:pt x="1385" y="72"/>
                </a:lnTo>
                <a:lnTo>
                  <a:pt x="1390" y="72"/>
                </a:lnTo>
                <a:lnTo>
                  <a:pt x="1397" y="72"/>
                </a:lnTo>
                <a:lnTo>
                  <a:pt x="1405" y="72"/>
                </a:lnTo>
                <a:lnTo>
                  <a:pt x="1413" y="74"/>
                </a:lnTo>
                <a:lnTo>
                  <a:pt x="1426" y="74"/>
                </a:lnTo>
                <a:lnTo>
                  <a:pt x="1438" y="77"/>
                </a:lnTo>
                <a:lnTo>
                  <a:pt x="1459" y="77"/>
                </a:lnTo>
                <a:lnTo>
                  <a:pt x="1487" y="79"/>
                </a:lnTo>
                <a:lnTo>
                  <a:pt x="1520" y="79"/>
                </a:lnTo>
                <a:lnTo>
                  <a:pt x="1556" y="79"/>
                </a:lnTo>
                <a:lnTo>
                  <a:pt x="1592" y="79"/>
                </a:lnTo>
                <a:lnTo>
                  <a:pt x="1626" y="77"/>
                </a:lnTo>
                <a:lnTo>
                  <a:pt x="1654" y="77"/>
                </a:lnTo>
                <a:lnTo>
                  <a:pt x="1674" y="74"/>
                </a:lnTo>
                <a:lnTo>
                  <a:pt x="1687" y="74"/>
                </a:lnTo>
                <a:lnTo>
                  <a:pt x="1695" y="74"/>
                </a:lnTo>
                <a:lnTo>
                  <a:pt x="1697" y="74"/>
                </a:lnTo>
                <a:lnTo>
                  <a:pt x="1700" y="74"/>
                </a:lnTo>
                <a:lnTo>
                  <a:pt x="1700" y="77"/>
                </a:lnTo>
                <a:lnTo>
                  <a:pt x="1700" y="77"/>
                </a:lnTo>
                <a:lnTo>
                  <a:pt x="1705" y="77"/>
                </a:lnTo>
                <a:lnTo>
                  <a:pt x="1713" y="77"/>
                </a:lnTo>
                <a:lnTo>
                  <a:pt x="1720" y="74"/>
                </a:lnTo>
                <a:lnTo>
                  <a:pt x="1726" y="74"/>
                </a:lnTo>
                <a:lnTo>
                  <a:pt x="1731" y="74"/>
                </a:lnTo>
                <a:lnTo>
                  <a:pt x="1736" y="74"/>
                </a:lnTo>
                <a:lnTo>
                  <a:pt x="1738" y="74"/>
                </a:lnTo>
                <a:lnTo>
                  <a:pt x="1746" y="74"/>
                </a:lnTo>
                <a:lnTo>
                  <a:pt x="1754" y="74"/>
                </a:lnTo>
                <a:lnTo>
                  <a:pt x="1764" y="74"/>
                </a:lnTo>
                <a:lnTo>
                  <a:pt x="1777" y="74"/>
                </a:lnTo>
                <a:lnTo>
                  <a:pt x="1790" y="77"/>
                </a:lnTo>
                <a:lnTo>
                  <a:pt x="1805" y="77"/>
                </a:lnTo>
                <a:lnTo>
                  <a:pt x="1820" y="77"/>
                </a:lnTo>
                <a:lnTo>
                  <a:pt x="1836" y="74"/>
                </a:lnTo>
                <a:lnTo>
                  <a:pt x="1851" y="74"/>
                </a:lnTo>
                <a:lnTo>
                  <a:pt x="1867" y="77"/>
                </a:lnTo>
                <a:lnTo>
                  <a:pt x="1882" y="77"/>
                </a:lnTo>
                <a:lnTo>
                  <a:pt x="1895" y="77"/>
                </a:lnTo>
                <a:lnTo>
                  <a:pt x="1908" y="77"/>
                </a:lnTo>
                <a:lnTo>
                  <a:pt x="1918" y="77"/>
                </a:lnTo>
                <a:lnTo>
                  <a:pt x="1931" y="77"/>
                </a:lnTo>
                <a:lnTo>
                  <a:pt x="1941" y="77"/>
                </a:lnTo>
                <a:lnTo>
                  <a:pt x="1954" y="77"/>
                </a:lnTo>
                <a:lnTo>
                  <a:pt x="1967" y="77"/>
                </a:lnTo>
                <a:lnTo>
                  <a:pt x="1979" y="77"/>
                </a:lnTo>
                <a:lnTo>
                  <a:pt x="1995" y="77"/>
                </a:lnTo>
                <a:lnTo>
                  <a:pt x="2010" y="77"/>
                </a:lnTo>
                <a:lnTo>
                  <a:pt x="2026" y="77"/>
                </a:lnTo>
                <a:lnTo>
                  <a:pt x="2043" y="77"/>
                </a:lnTo>
                <a:lnTo>
                  <a:pt x="2059" y="77"/>
                </a:lnTo>
                <a:lnTo>
                  <a:pt x="2074" y="77"/>
                </a:lnTo>
                <a:lnTo>
                  <a:pt x="2090" y="77"/>
                </a:lnTo>
                <a:lnTo>
                  <a:pt x="2102" y="74"/>
                </a:lnTo>
                <a:lnTo>
                  <a:pt x="2115" y="74"/>
                </a:lnTo>
                <a:lnTo>
                  <a:pt x="2126" y="74"/>
                </a:lnTo>
                <a:lnTo>
                  <a:pt x="2136" y="74"/>
                </a:lnTo>
                <a:lnTo>
                  <a:pt x="2146" y="74"/>
                </a:lnTo>
                <a:lnTo>
                  <a:pt x="2156" y="74"/>
                </a:lnTo>
                <a:lnTo>
                  <a:pt x="2164" y="77"/>
                </a:lnTo>
                <a:lnTo>
                  <a:pt x="2174" y="77"/>
                </a:lnTo>
                <a:lnTo>
                  <a:pt x="2184" y="77"/>
                </a:lnTo>
                <a:lnTo>
                  <a:pt x="2195" y="77"/>
                </a:lnTo>
                <a:lnTo>
                  <a:pt x="2205" y="77"/>
                </a:lnTo>
                <a:lnTo>
                  <a:pt x="2215" y="77"/>
                </a:lnTo>
                <a:lnTo>
                  <a:pt x="2225" y="77"/>
                </a:lnTo>
                <a:lnTo>
                  <a:pt x="2236" y="77"/>
                </a:lnTo>
                <a:lnTo>
                  <a:pt x="2246" y="77"/>
                </a:lnTo>
                <a:lnTo>
                  <a:pt x="2254" y="77"/>
                </a:lnTo>
                <a:lnTo>
                  <a:pt x="2264" y="77"/>
                </a:lnTo>
                <a:lnTo>
                  <a:pt x="2267" y="77"/>
                </a:lnTo>
                <a:lnTo>
                  <a:pt x="2267" y="77"/>
                </a:lnTo>
                <a:lnTo>
                  <a:pt x="2261" y="77"/>
                </a:lnTo>
                <a:lnTo>
                  <a:pt x="2259" y="77"/>
                </a:lnTo>
                <a:lnTo>
                  <a:pt x="2259" y="77"/>
                </a:lnTo>
                <a:lnTo>
                  <a:pt x="2264" y="74"/>
                </a:lnTo>
                <a:lnTo>
                  <a:pt x="2277" y="74"/>
                </a:lnTo>
                <a:lnTo>
                  <a:pt x="2300" y="74"/>
                </a:lnTo>
                <a:lnTo>
                  <a:pt x="2341" y="74"/>
                </a:lnTo>
                <a:lnTo>
                  <a:pt x="2392" y="77"/>
                </a:lnTo>
                <a:lnTo>
                  <a:pt x="2454" y="77"/>
                </a:lnTo>
                <a:lnTo>
                  <a:pt x="2520" y="77"/>
                </a:lnTo>
                <a:lnTo>
                  <a:pt x="2587" y="77"/>
                </a:lnTo>
                <a:lnTo>
                  <a:pt x="2654" y="77"/>
                </a:lnTo>
                <a:lnTo>
                  <a:pt x="2713" y="77"/>
                </a:lnTo>
                <a:lnTo>
                  <a:pt x="2759" y="77"/>
                </a:lnTo>
                <a:lnTo>
                  <a:pt x="2797" y="77"/>
                </a:lnTo>
                <a:lnTo>
                  <a:pt x="2831" y="77"/>
                </a:lnTo>
                <a:lnTo>
                  <a:pt x="2859" y="77"/>
                </a:lnTo>
                <a:lnTo>
                  <a:pt x="2884" y="77"/>
                </a:lnTo>
                <a:lnTo>
                  <a:pt x="2907" y="77"/>
                </a:lnTo>
                <a:lnTo>
                  <a:pt x="2925" y="77"/>
                </a:lnTo>
                <a:lnTo>
                  <a:pt x="2943" y="77"/>
                </a:lnTo>
                <a:lnTo>
                  <a:pt x="2964" y="77"/>
                </a:lnTo>
                <a:lnTo>
                  <a:pt x="2982" y="77"/>
                </a:lnTo>
                <a:lnTo>
                  <a:pt x="3002" y="79"/>
                </a:lnTo>
                <a:lnTo>
                  <a:pt x="3018" y="79"/>
                </a:lnTo>
                <a:lnTo>
                  <a:pt x="3033" y="79"/>
                </a:lnTo>
                <a:lnTo>
                  <a:pt x="3046" y="79"/>
                </a:lnTo>
                <a:lnTo>
                  <a:pt x="3056" y="79"/>
                </a:lnTo>
                <a:lnTo>
                  <a:pt x="3064" y="77"/>
                </a:lnTo>
                <a:lnTo>
                  <a:pt x="3066" y="74"/>
                </a:lnTo>
                <a:lnTo>
                  <a:pt x="3072" y="74"/>
                </a:lnTo>
                <a:lnTo>
                  <a:pt x="3077" y="74"/>
                </a:lnTo>
                <a:lnTo>
                  <a:pt x="3079" y="74"/>
                </a:lnTo>
                <a:lnTo>
                  <a:pt x="3084" y="77"/>
                </a:lnTo>
                <a:lnTo>
                  <a:pt x="3089" y="77"/>
                </a:lnTo>
                <a:lnTo>
                  <a:pt x="3092" y="77"/>
                </a:lnTo>
                <a:lnTo>
                  <a:pt x="3097" y="77"/>
                </a:lnTo>
                <a:lnTo>
                  <a:pt x="3102" y="74"/>
                </a:lnTo>
                <a:lnTo>
                  <a:pt x="3107" y="74"/>
                </a:lnTo>
                <a:lnTo>
                  <a:pt x="3113" y="74"/>
                </a:lnTo>
                <a:lnTo>
                  <a:pt x="3120" y="74"/>
                </a:lnTo>
                <a:lnTo>
                  <a:pt x="3128" y="74"/>
                </a:lnTo>
                <a:lnTo>
                  <a:pt x="3133" y="77"/>
                </a:lnTo>
                <a:lnTo>
                  <a:pt x="3136" y="77"/>
                </a:lnTo>
                <a:lnTo>
                  <a:pt x="3136" y="77"/>
                </a:lnTo>
                <a:lnTo>
                  <a:pt x="3130" y="77"/>
                </a:lnTo>
                <a:lnTo>
                  <a:pt x="3020" y="77"/>
                </a:lnTo>
                <a:lnTo>
                  <a:pt x="3007" y="77"/>
                </a:lnTo>
                <a:lnTo>
                  <a:pt x="2995" y="77"/>
                </a:lnTo>
                <a:lnTo>
                  <a:pt x="2979" y="77"/>
                </a:lnTo>
                <a:lnTo>
                  <a:pt x="2964" y="77"/>
                </a:lnTo>
                <a:lnTo>
                  <a:pt x="2946" y="77"/>
                </a:lnTo>
                <a:lnTo>
                  <a:pt x="2928" y="77"/>
                </a:lnTo>
                <a:lnTo>
                  <a:pt x="2907" y="77"/>
                </a:lnTo>
                <a:lnTo>
                  <a:pt x="2884" y="77"/>
                </a:lnTo>
                <a:lnTo>
                  <a:pt x="2869" y="77"/>
                </a:lnTo>
                <a:lnTo>
                  <a:pt x="2854" y="77"/>
                </a:lnTo>
                <a:lnTo>
                  <a:pt x="2838" y="77"/>
                </a:lnTo>
                <a:lnTo>
                  <a:pt x="2823" y="77"/>
                </a:lnTo>
                <a:lnTo>
                  <a:pt x="2805" y="77"/>
                </a:lnTo>
                <a:lnTo>
                  <a:pt x="2787" y="77"/>
                </a:lnTo>
                <a:lnTo>
                  <a:pt x="2766" y="77"/>
                </a:lnTo>
                <a:lnTo>
                  <a:pt x="2748" y="77"/>
                </a:lnTo>
                <a:lnTo>
                  <a:pt x="2692" y="77"/>
                </a:lnTo>
                <a:lnTo>
                  <a:pt x="2631" y="77"/>
                </a:lnTo>
                <a:lnTo>
                  <a:pt x="2559" y="77"/>
                </a:lnTo>
                <a:lnTo>
                  <a:pt x="2482" y="77"/>
                </a:lnTo>
                <a:lnTo>
                  <a:pt x="2400" y="77"/>
                </a:lnTo>
                <a:lnTo>
                  <a:pt x="2315" y="77"/>
                </a:lnTo>
                <a:lnTo>
                  <a:pt x="2225" y="77"/>
                </a:lnTo>
                <a:lnTo>
                  <a:pt x="2136" y="77"/>
                </a:lnTo>
                <a:lnTo>
                  <a:pt x="2028" y="77"/>
                </a:lnTo>
                <a:lnTo>
                  <a:pt x="1920" y="77"/>
                </a:lnTo>
                <a:lnTo>
                  <a:pt x="1818" y="77"/>
                </a:lnTo>
                <a:lnTo>
                  <a:pt x="1718" y="77"/>
                </a:lnTo>
                <a:lnTo>
                  <a:pt x="1623" y="77"/>
                </a:lnTo>
                <a:lnTo>
                  <a:pt x="1538" y="77"/>
                </a:lnTo>
                <a:lnTo>
                  <a:pt x="1462" y="77"/>
                </a:lnTo>
                <a:lnTo>
                  <a:pt x="1397" y="77"/>
                </a:lnTo>
                <a:lnTo>
                  <a:pt x="1305" y="77"/>
                </a:lnTo>
                <a:lnTo>
                  <a:pt x="1246" y="77"/>
                </a:lnTo>
                <a:lnTo>
                  <a:pt x="1208" y="77"/>
                </a:lnTo>
                <a:lnTo>
                  <a:pt x="1180" y="77"/>
                </a:lnTo>
                <a:lnTo>
                  <a:pt x="1156" y="77"/>
                </a:lnTo>
                <a:lnTo>
                  <a:pt x="1126" y="77"/>
                </a:lnTo>
                <a:lnTo>
                  <a:pt x="1077" y="77"/>
                </a:lnTo>
                <a:lnTo>
                  <a:pt x="1005" y="77"/>
                </a:lnTo>
                <a:lnTo>
                  <a:pt x="992" y="77"/>
                </a:lnTo>
                <a:lnTo>
                  <a:pt x="982" y="77"/>
                </a:lnTo>
                <a:lnTo>
                  <a:pt x="969" y="77"/>
                </a:lnTo>
                <a:lnTo>
                  <a:pt x="956" y="77"/>
                </a:lnTo>
                <a:lnTo>
                  <a:pt x="941" y="77"/>
                </a:lnTo>
                <a:lnTo>
                  <a:pt x="928" y="77"/>
                </a:lnTo>
                <a:lnTo>
                  <a:pt x="913" y="77"/>
                </a:lnTo>
                <a:lnTo>
                  <a:pt x="900" y="77"/>
                </a:lnTo>
                <a:lnTo>
                  <a:pt x="454" y="77"/>
                </a:lnTo>
                <a:lnTo>
                  <a:pt x="0" y="77"/>
                </a:lnTo>
                <a:close/>
              </a:path>
            </a:pathLst>
          </a:custGeom>
          <a:solidFill>
            <a:srgbClr val="de80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952800" y="5289480"/>
            <a:ext cx="4241880" cy="108000"/>
          </a:xfrm>
          <a:custGeom>
            <a:avLst/>
            <a:gdLst/>
            <a:ahLst/>
            <a:rect l="l" t="t" r="r" b="b"/>
            <a:pathLst>
              <a:path w="3136" h="79">
                <a:moveTo>
                  <a:pt x="0" y="77"/>
                </a:moveTo>
                <a:lnTo>
                  <a:pt x="151" y="15"/>
                </a:lnTo>
                <a:lnTo>
                  <a:pt x="162" y="13"/>
                </a:lnTo>
                <a:lnTo>
                  <a:pt x="172" y="10"/>
                </a:lnTo>
                <a:lnTo>
                  <a:pt x="185" y="10"/>
                </a:lnTo>
                <a:lnTo>
                  <a:pt x="195" y="7"/>
                </a:lnTo>
                <a:lnTo>
                  <a:pt x="208" y="5"/>
                </a:lnTo>
                <a:lnTo>
                  <a:pt x="218" y="2"/>
                </a:lnTo>
                <a:lnTo>
                  <a:pt x="228" y="2"/>
                </a:lnTo>
                <a:lnTo>
                  <a:pt x="239" y="0"/>
                </a:lnTo>
                <a:lnTo>
                  <a:pt x="249" y="0"/>
                </a:lnTo>
                <a:lnTo>
                  <a:pt x="257" y="2"/>
                </a:lnTo>
                <a:lnTo>
                  <a:pt x="267" y="2"/>
                </a:lnTo>
                <a:lnTo>
                  <a:pt x="275" y="5"/>
                </a:lnTo>
                <a:lnTo>
                  <a:pt x="282" y="7"/>
                </a:lnTo>
                <a:lnTo>
                  <a:pt x="292" y="10"/>
                </a:lnTo>
                <a:lnTo>
                  <a:pt x="300" y="10"/>
                </a:lnTo>
                <a:lnTo>
                  <a:pt x="310" y="10"/>
                </a:lnTo>
                <a:lnTo>
                  <a:pt x="321" y="10"/>
                </a:lnTo>
                <a:lnTo>
                  <a:pt x="328" y="13"/>
                </a:lnTo>
                <a:lnTo>
                  <a:pt x="341" y="15"/>
                </a:lnTo>
                <a:lnTo>
                  <a:pt x="351" y="18"/>
                </a:lnTo>
                <a:lnTo>
                  <a:pt x="362" y="20"/>
                </a:lnTo>
                <a:lnTo>
                  <a:pt x="372" y="23"/>
                </a:lnTo>
                <a:lnTo>
                  <a:pt x="382" y="25"/>
                </a:lnTo>
                <a:lnTo>
                  <a:pt x="392" y="25"/>
                </a:lnTo>
                <a:lnTo>
                  <a:pt x="403" y="28"/>
                </a:lnTo>
                <a:lnTo>
                  <a:pt x="413" y="28"/>
                </a:lnTo>
                <a:lnTo>
                  <a:pt x="421" y="31"/>
                </a:lnTo>
                <a:lnTo>
                  <a:pt x="431" y="33"/>
                </a:lnTo>
                <a:lnTo>
                  <a:pt x="441" y="36"/>
                </a:lnTo>
                <a:lnTo>
                  <a:pt x="451" y="38"/>
                </a:lnTo>
                <a:lnTo>
                  <a:pt x="462" y="38"/>
                </a:lnTo>
                <a:lnTo>
                  <a:pt x="474" y="41"/>
                </a:lnTo>
                <a:lnTo>
                  <a:pt x="587" y="56"/>
                </a:lnTo>
                <a:lnTo>
                  <a:pt x="605" y="56"/>
                </a:lnTo>
                <a:lnTo>
                  <a:pt x="615" y="56"/>
                </a:lnTo>
                <a:lnTo>
                  <a:pt x="621" y="56"/>
                </a:lnTo>
                <a:lnTo>
                  <a:pt x="623" y="56"/>
                </a:lnTo>
                <a:lnTo>
                  <a:pt x="631" y="56"/>
                </a:lnTo>
                <a:lnTo>
                  <a:pt x="639" y="56"/>
                </a:lnTo>
                <a:lnTo>
                  <a:pt x="649" y="56"/>
                </a:lnTo>
                <a:lnTo>
                  <a:pt x="659" y="56"/>
                </a:lnTo>
                <a:lnTo>
                  <a:pt x="669" y="56"/>
                </a:lnTo>
                <a:lnTo>
                  <a:pt x="680" y="56"/>
                </a:lnTo>
                <a:lnTo>
                  <a:pt x="690" y="56"/>
                </a:lnTo>
                <a:lnTo>
                  <a:pt x="700" y="59"/>
                </a:lnTo>
                <a:lnTo>
                  <a:pt x="708" y="59"/>
                </a:lnTo>
                <a:lnTo>
                  <a:pt x="718" y="59"/>
                </a:lnTo>
                <a:lnTo>
                  <a:pt x="726" y="61"/>
                </a:lnTo>
                <a:lnTo>
                  <a:pt x="733" y="61"/>
                </a:lnTo>
                <a:lnTo>
                  <a:pt x="741" y="61"/>
                </a:lnTo>
                <a:lnTo>
                  <a:pt x="749" y="61"/>
                </a:lnTo>
                <a:lnTo>
                  <a:pt x="756" y="61"/>
                </a:lnTo>
                <a:lnTo>
                  <a:pt x="764" y="61"/>
                </a:lnTo>
                <a:lnTo>
                  <a:pt x="772" y="61"/>
                </a:lnTo>
                <a:lnTo>
                  <a:pt x="774" y="64"/>
                </a:lnTo>
                <a:lnTo>
                  <a:pt x="780" y="64"/>
                </a:lnTo>
                <a:lnTo>
                  <a:pt x="785" y="66"/>
                </a:lnTo>
                <a:lnTo>
                  <a:pt x="790" y="66"/>
                </a:lnTo>
                <a:lnTo>
                  <a:pt x="795" y="66"/>
                </a:lnTo>
                <a:lnTo>
                  <a:pt x="803" y="66"/>
                </a:lnTo>
                <a:lnTo>
                  <a:pt x="810" y="66"/>
                </a:lnTo>
                <a:lnTo>
                  <a:pt x="821" y="66"/>
                </a:lnTo>
                <a:lnTo>
                  <a:pt x="833" y="66"/>
                </a:lnTo>
                <a:lnTo>
                  <a:pt x="846" y="66"/>
                </a:lnTo>
                <a:lnTo>
                  <a:pt x="862" y="66"/>
                </a:lnTo>
                <a:lnTo>
                  <a:pt x="874" y="64"/>
                </a:lnTo>
                <a:lnTo>
                  <a:pt x="890" y="64"/>
                </a:lnTo>
                <a:lnTo>
                  <a:pt x="903" y="66"/>
                </a:lnTo>
                <a:lnTo>
                  <a:pt x="913" y="66"/>
                </a:lnTo>
                <a:lnTo>
                  <a:pt x="923" y="66"/>
                </a:lnTo>
                <a:lnTo>
                  <a:pt x="931" y="66"/>
                </a:lnTo>
                <a:lnTo>
                  <a:pt x="936" y="66"/>
                </a:lnTo>
                <a:lnTo>
                  <a:pt x="941" y="66"/>
                </a:lnTo>
                <a:lnTo>
                  <a:pt x="946" y="66"/>
                </a:lnTo>
                <a:lnTo>
                  <a:pt x="951" y="66"/>
                </a:lnTo>
                <a:lnTo>
                  <a:pt x="959" y="66"/>
                </a:lnTo>
                <a:lnTo>
                  <a:pt x="967" y="66"/>
                </a:lnTo>
                <a:lnTo>
                  <a:pt x="974" y="69"/>
                </a:lnTo>
                <a:lnTo>
                  <a:pt x="987" y="69"/>
                </a:lnTo>
                <a:lnTo>
                  <a:pt x="1000" y="72"/>
                </a:lnTo>
                <a:lnTo>
                  <a:pt x="1010" y="72"/>
                </a:lnTo>
                <a:lnTo>
                  <a:pt x="1023" y="72"/>
                </a:lnTo>
                <a:lnTo>
                  <a:pt x="1033" y="72"/>
                </a:lnTo>
                <a:lnTo>
                  <a:pt x="1046" y="72"/>
                </a:lnTo>
                <a:lnTo>
                  <a:pt x="1056" y="72"/>
                </a:lnTo>
                <a:lnTo>
                  <a:pt x="1067" y="72"/>
                </a:lnTo>
                <a:lnTo>
                  <a:pt x="1085" y="72"/>
                </a:lnTo>
                <a:lnTo>
                  <a:pt x="1097" y="72"/>
                </a:lnTo>
                <a:lnTo>
                  <a:pt x="1108" y="72"/>
                </a:lnTo>
                <a:lnTo>
                  <a:pt x="1118" y="72"/>
                </a:lnTo>
                <a:lnTo>
                  <a:pt x="1123" y="72"/>
                </a:lnTo>
                <a:lnTo>
                  <a:pt x="1131" y="72"/>
                </a:lnTo>
                <a:lnTo>
                  <a:pt x="1138" y="72"/>
                </a:lnTo>
                <a:lnTo>
                  <a:pt x="1149" y="72"/>
                </a:lnTo>
                <a:lnTo>
                  <a:pt x="1162" y="72"/>
                </a:lnTo>
                <a:lnTo>
                  <a:pt x="1172" y="72"/>
                </a:lnTo>
                <a:lnTo>
                  <a:pt x="1185" y="72"/>
                </a:lnTo>
                <a:lnTo>
                  <a:pt x="1197" y="72"/>
                </a:lnTo>
                <a:lnTo>
                  <a:pt x="1210" y="72"/>
                </a:lnTo>
                <a:lnTo>
                  <a:pt x="1221" y="72"/>
                </a:lnTo>
                <a:lnTo>
                  <a:pt x="1228" y="72"/>
                </a:lnTo>
                <a:lnTo>
                  <a:pt x="1236" y="72"/>
                </a:lnTo>
                <a:lnTo>
                  <a:pt x="1238" y="74"/>
                </a:lnTo>
                <a:lnTo>
                  <a:pt x="1241" y="74"/>
                </a:lnTo>
                <a:lnTo>
                  <a:pt x="1244" y="77"/>
                </a:lnTo>
                <a:lnTo>
                  <a:pt x="1246" y="77"/>
                </a:lnTo>
                <a:lnTo>
                  <a:pt x="1249" y="79"/>
                </a:lnTo>
                <a:lnTo>
                  <a:pt x="1251" y="79"/>
                </a:lnTo>
                <a:lnTo>
                  <a:pt x="1256" y="79"/>
                </a:lnTo>
                <a:lnTo>
                  <a:pt x="1264" y="77"/>
                </a:lnTo>
                <a:lnTo>
                  <a:pt x="1274" y="74"/>
                </a:lnTo>
                <a:lnTo>
                  <a:pt x="1285" y="74"/>
                </a:lnTo>
                <a:lnTo>
                  <a:pt x="1297" y="74"/>
                </a:lnTo>
                <a:lnTo>
                  <a:pt x="1310" y="74"/>
                </a:lnTo>
                <a:lnTo>
                  <a:pt x="1326" y="77"/>
                </a:lnTo>
                <a:lnTo>
                  <a:pt x="1338" y="77"/>
                </a:lnTo>
                <a:lnTo>
                  <a:pt x="1354" y="77"/>
                </a:lnTo>
                <a:lnTo>
                  <a:pt x="1364" y="74"/>
                </a:lnTo>
                <a:lnTo>
                  <a:pt x="1374" y="74"/>
                </a:lnTo>
                <a:lnTo>
                  <a:pt x="1385" y="72"/>
                </a:lnTo>
                <a:lnTo>
                  <a:pt x="1390" y="72"/>
                </a:lnTo>
                <a:lnTo>
                  <a:pt x="1397" y="72"/>
                </a:lnTo>
                <a:lnTo>
                  <a:pt x="1405" y="72"/>
                </a:lnTo>
                <a:lnTo>
                  <a:pt x="1413" y="74"/>
                </a:lnTo>
                <a:lnTo>
                  <a:pt x="1426" y="74"/>
                </a:lnTo>
                <a:lnTo>
                  <a:pt x="1438" y="77"/>
                </a:lnTo>
                <a:lnTo>
                  <a:pt x="1459" y="77"/>
                </a:lnTo>
                <a:lnTo>
                  <a:pt x="1487" y="79"/>
                </a:lnTo>
                <a:lnTo>
                  <a:pt x="1520" y="79"/>
                </a:lnTo>
                <a:lnTo>
                  <a:pt x="1556" y="79"/>
                </a:lnTo>
                <a:lnTo>
                  <a:pt x="1592" y="79"/>
                </a:lnTo>
                <a:lnTo>
                  <a:pt x="1626" y="77"/>
                </a:lnTo>
                <a:lnTo>
                  <a:pt x="1654" y="77"/>
                </a:lnTo>
                <a:lnTo>
                  <a:pt x="1674" y="74"/>
                </a:lnTo>
                <a:lnTo>
                  <a:pt x="1687" y="74"/>
                </a:lnTo>
                <a:lnTo>
                  <a:pt x="1695" y="74"/>
                </a:lnTo>
                <a:lnTo>
                  <a:pt x="1697" y="74"/>
                </a:lnTo>
                <a:lnTo>
                  <a:pt x="1700" y="74"/>
                </a:lnTo>
                <a:lnTo>
                  <a:pt x="1700" y="77"/>
                </a:lnTo>
                <a:lnTo>
                  <a:pt x="1705" y="77"/>
                </a:lnTo>
                <a:lnTo>
                  <a:pt x="1713" y="77"/>
                </a:lnTo>
                <a:lnTo>
                  <a:pt x="1720" y="74"/>
                </a:lnTo>
                <a:lnTo>
                  <a:pt x="1726" y="74"/>
                </a:lnTo>
                <a:lnTo>
                  <a:pt x="1731" y="74"/>
                </a:lnTo>
                <a:lnTo>
                  <a:pt x="1736" y="74"/>
                </a:lnTo>
                <a:lnTo>
                  <a:pt x="1738" y="74"/>
                </a:lnTo>
                <a:lnTo>
                  <a:pt x="1746" y="74"/>
                </a:lnTo>
                <a:lnTo>
                  <a:pt x="1754" y="74"/>
                </a:lnTo>
                <a:lnTo>
                  <a:pt x="1764" y="74"/>
                </a:lnTo>
                <a:lnTo>
                  <a:pt x="1777" y="74"/>
                </a:lnTo>
                <a:lnTo>
                  <a:pt x="1790" y="77"/>
                </a:lnTo>
                <a:lnTo>
                  <a:pt x="1805" y="77"/>
                </a:lnTo>
                <a:lnTo>
                  <a:pt x="1820" y="77"/>
                </a:lnTo>
                <a:lnTo>
                  <a:pt x="1836" y="74"/>
                </a:lnTo>
                <a:lnTo>
                  <a:pt x="1851" y="74"/>
                </a:lnTo>
                <a:lnTo>
                  <a:pt x="1867" y="77"/>
                </a:lnTo>
                <a:lnTo>
                  <a:pt x="1882" y="77"/>
                </a:lnTo>
                <a:lnTo>
                  <a:pt x="1895" y="77"/>
                </a:lnTo>
                <a:lnTo>
                  <a:pt x="1908" y="77"/>
                </a:lnTo>
                <a:lnTo>
                  <a:pt x="1918" y="77"/>
                </a:lnTo>
                <a:lnTo>
                  <a:pt x="1931" y="77"/>
                </a:lnTo>
                <a:lnTo>
                  <a:pt x="1941" y="77"/>
                </a:lnTo>
                <a:lnTo>
                  <a:pt x="1954" y="77"/>
                </a:lnTo>
                <a:lnTo>
                  <a:pt x="1967" y="77"/>
                </a:lnTo>
                <a:lnTo>
                  <a:pt x="1979" y="77"/>
                </a:lnTo>
                <a:lnTo>
                  <a:pt x="1995" y="77"/>
                </a:lnTo>
                <a:lnTo>
                  <a:pt x="2010" y="77"/>
                </a:lnTo>
                <a:lnTo>
                  <a:pt x="2026" y="77"/>
                </a:lnTo>
                <a:lnTo>
                  <a:pt x="2043" y="77"/>
                </a:lnTo>
                <a:lnTo>
                  <a:pt x="2059" y="77"/>
                </a:lnTo>
                <a:lnTo>
                  <a:pt x="2074" y="77"/>
                </a:lnTo>
                <a:lnTo>
                  <a:pt x="2090" y="77"/>
                </a:lnTo>
                <a:lnTo>
                  <a:pt x="2102" y="74"/>
                </a:lnTo>
                <a:lnTo>
                  <a:pt x="2115" y="74"/>
                </a:lnTo>
                <a:lnTo>
                  <a:pt x="2126" y="74"/>
                </a:lnTo>
                <a:lnTo>
                  <a:pt x="2136" y="74"/>
                </a:lnTo>
                <a:lnTo>
                  <a:pt x="2146" y="74"/>
                </a:lnTo>
                <a:lnTo>
                  <a:pt x="2156" y="74"/>
                </a:lnTo>
                <a:lnTo>
                  <a:pt x="2164" y="77"/>
                </a:lnTo>
                <a:lnTo>
                  <a:pt x="2174" y="77"/>
                </a:lnTo>
                <a:lnTo>
                  <a:pt x="2184" y="77"/>
                </a:lnTo>
                <a:lnTo>
                  <a:pt x="2195" y="77"/>
                </a:lnTo>
                <a:lnTo>
                  <a:pt x="2205" y="77"/>
                </a:lnTo>
                <a:lnTo>
                  <a:pt x="2215" y="77"/>
                </a:lnTo>
                <a:lnTo>
                  <a:pt x="2225" y="77"/>
                </a:lnTo>
                <a:lnTo>
                  <a:pt x="2236" y="77"/>
                </a:lnTo>
                <a:lnTo>
                  <a:pt x="2246" y="77"/>
                </a:lnTo>
                <a:lnTo>
                  <a:pt x="2254" y="77"/>
                </a:lnTo>
                <a:lnTo>
                  <a:pt x="2264" y="77"/>
                </a:lnTo>
                <a:lnTo>
                  <a:pt x="2267" y="77"/>
                </a:lnTo>
                <a:lnTo>
                  <a:pt x="2261" y="77"/>
                </a:lnTo>
                <a:lnTo>
                  <a:pt x="2259" y="77"/>
                </a:lnTo>
                <a:lnTo>
                  <a:pt x="2264" y="74"/>
                </a:lnTo>
                <a:lnTo>
                  <a:pt x="2277" y="74"/>
                </a:lnTo>
                <a:lnTo>
                  <a:pt x="2300" y="74"/>
                </a:lnTo>
                <a:lnTo>
                  <a:pt x="2341" y="74"/>
                </a:lnTo>
                <a:lnTo>
                  <a:pt x="2392" y="77"/>
                </a:lnTo>
                <a:lnTo>
                  <a:pt x="2454" y="77"/>
                </a:lnTo>
                <a:lnTo>
                  <a:pt x="2520" y="77"/>
                </a:lnTo>
                <a:lnTo>
                  <a:pt x="2587" y="77"/>
                </a:lnTo>
                <a:lnTo>
                  <a:pt x="2654" y="77"/>
                </a:lnTo>
                <a:lnTo>
                  <a:pt x="2713" y="77"/>
                </a:lnTo>
                <a:lnTo>
                  <a:pt x="2759" y="77"/>
                </a:lnTo>
                <a:lnTo>
                  <a:pt x="2797" y="77"/>
                </a:lnTo>
                <a:lnTo>
                  <a:pt x="2831" y="77"/>
                </a:lnTo>
                <a:lnTo>
                  <a:pt x="2859" y="77"/>
                </a:lnTo>
                <a:lnTo>
                  <a:pt x="2884" y="77"/>
                </a:lnTo>
                <a:lnTo>
                  <a:pt x="2907" y="77"/>
                </a:lnTo>
                <a:lnTo>
                  <a:pt x="2925" y="77"/>
                </a:lnTo>
                <a:lnTo>
                  <a:pt x="2943" y="77"/>
                </a:lnTo>
                <a:lnTo>
                  <a:pt x="2964" y="77"/>
                </a:lnTo>
                <a:lnTo>
                  <a:pt x="2982" y="77"/>
                </a:lnTo>
                <a:lnTo>
                  <a:pt x="3002" y="79"/>
                </a:lnTo>
                <a:lnTo>
                  <a:pt x="3018" y="79"/>
                </a:lnTo>
                <a:lnTo>
                  <a:pt x="3033" y="79"/>
                </a:lnTo>
                <a:lnTo>
                  <a:pt x="3046" y="79"/>
                </a:lnTo>
                <a:lnTo>
                  <a:pt x="3056" y="79"/>
                </a:lnTo>
                <a:lnTo>
                  <a:pt x="3064" y="77"/>
                </a:lnTo>
                <a:lnTo>
                  <a:pt x="3066" y="74"/>
                </a:lnTo>
                <a:lnTo>
                  <a:pt x="3072" y="74"/>
                </a:lnTo>
                <a:lnTo>
                  <a:pt x="3077" y="74"/>
                </a:lnTo>
                <a:lnTo>
                  <a:pt x="3079" y="74"/>
                </a:lnTo>
                <a:lnTo>
                  <a:pt x="3084" y="77"/>
                </a:lnTo>
                <a:lnTo>
                  <a:pt x="3089" y="77"/>
                </a:lnTo>
                <a:lnTo>
                  <a:pt x="3092" y="77"/>
                </a:lnTo>
                <a:lnTo>
                  <a:pt x="3097" y="77"/>
                </a:lnTo>
                <a:lnTo>
                  <a:pt x="3102" y="74"/>
                </a:lnTo>
                <a:lnTo>
                  <a:pt x="3107" y="74"/>
                </a:lnTo>
                <a:lnTo>
                  <a:pt x="3113" y="74"/>
                </a:lnTo>
                <a:lnTo>
                  <a:pt x="3120" y="74"/>
                </a:lnTo>
                <a:lnTo>
                  <a:pt x="3128" y="74"/>
                </a:lnTo>
                <a:lnTo>
                  <a:pt x="3133" y="77"/>
                </a:lnTo>
                <a:lnTo>
                  <a:pt x="3136" y="77"/>
                </a:lnTo>
                <a:lnTo>
                  <a:pt x="3130" y="77"/>
                </a:lnTo>
                <a:lnTo>
                  <a:pt x="3020" y="77"/>
                </a:lnTo>
                <a:lnTo>
                  <a:pt x="3007" y="77"/>
                </a:lnTo>
                <a:lnTo>
                  <a:pt x="2995" y="77"/>
                </a:lnTo>
                <a:lnTo>
                  <a:pt x="2979" y="77"/>
                </a:lnTo>
                <a:lnTo>
                  <a:pt x="2964" y="77"/>
                </a:lnTo>
                <a:lnTo>
                  <a:pt x="2946" y="77"/>
                </a:lnTo>
                <a:lnTo>
                  <a:pt x="2928" y="77"/>
                </a:lnTo>
                <a:lnTo>
                  <a:pt x="2907" y="77"/>
                </a:lnTo>
                <a:lnTo>
                  <a:pt x="2884" y="77"/>
                </a:lnTo>
                <a:lnTo>
                  <a:pt x="2869" y="77"/>
                </a:lnTo>
                <a:lnTo>
                  <a:pt x="2854" y="77"/>
                </a:lnTo>
                <a:lnTo>
                  <a:pt x="2838" y="77"/>
                </a:lnTo>
                <a:lnTo>
                  <a:pt x="2823" y="77"/>
                </a:lnTo>
                <a:lnTo>
                  <a:pt x="2805" y="77"/>
                </a:lnTo>
                <a:lnTo>
                  <a:pt x="2787" y="77"/>
                </a:lnTo>
                <a:lnTo>
                  <a:pt x="2766" y="77"/>
                </a:lnTo>
                <a:lnTo>
                  <a:pt x="2748" y="77"/>
                </a:lnTo>
                <a:lnTo>
                  <a:pt x="2692" y="77"/>
                </a:lnTo>
                <a:lnTo>
                  <a:pt x="2631" y="77"/>
                </a:lnTo>
                <a:lnTo>
                  <a:pt x="2559" y="77"/>
                </a:lnTo>
                <a:lnTo>
                  <a:pt x="2482" y="77"/>
                </a:lnTo>
                <a:lnTo>
                  <a:pt x="2400" y="77"/>
                </a:lnTo>
                <a:lnTo>
                  <a:pt x="2315" y="77"/>
                </a:lnTo>
                <a:lnTo>
                  <a:pt x="2225" y="77"/>
                </a:lnTo>
                <a:lnTo>
                  <a:pt x="2136" y="77"/>
                </a:lnTo>
                <a:lnTo>
                  <a:pt x="2028" y="77"/>
                </a:lnTo>
                <a:lnTo>
                  <a:pt x="1920" y="77"/>
                </a:lnTo>
                <a:lnTo>
                  <a:pt x="1818" y="77"/>
                </a:lnTo>
                <a:lnTo>
                  <a:pt x="1718" y="77"/>
                </a:lnTo>
                <a:lnTo>
                  <a:pt x="1623" y="77"/>
                </a:lnTo>
                <a:lnTo>
                  <a:pt x="1538" y="77"/>
                </a:lnTo>
                <a:lnTo>
                  <a:pt x="1462" y="77"/>
                </a:lnTo>
                <a:lnTo>
                  <a:pt x="1397" y="77"/>
                </a:lnTo>
                <a:lnTo>
                  <a:pt x="1305" y="77"/>
                </a:lnTo>
                <a:lnTo>
                  <a:pt x="1246" y="77"/>
                </a:lnTo>
                <a:lnTo>
                  <a:pt x="1208" y="77"/>
                </a:lnTo>
                <a:lnTo>
                  <a:pt x="1180" y="77"/>
                </a:lnTo>
                <a:lnTo>
                  <a:pt x="1156" y="77"/>
                </a:lnTo>
                <a:lnTo>
                  <a:pt x="1126" y="77"/>
                </a:lnTo>
                <a:lnTo>
                  <a:pt x="1077" y="77"/>
                </a:lnTo>
                <a:lnTo>
                  <a:pt x="1005" y="77"/>
                </a:lnTo>
                <a:lnTo>
                  <a:pt x="992" y="77"/>
                </a:lnTo>
                <a:lnTo>
                  <a:pt x="982" y="77"/>
                </a:lnTo>
                <a:lnTo>
                  <a:pt x="969" y="77"/>
                </a:lnTo>
                <a:lnTo>
                  <a:pt x="956" y="77"/>
                </a:lnTo>
                <a:lnTo>
                  <a:pt x="941" y="77"/>
                </a:lnTo>
                <a:lnTo>
                  <a:pt x="928" y="77"/>
                </a:lnTo>
                <a:lnTo>
                  <a:pt x="913" y="77"/>
                </a:lnTo>
                <a:lnTo>
                  <a:pt x="900" y="77"/>
                </a:lnTo>
                <a:lnTo>
                  <a:pt x="454" y="77"/>
                </a:lnTo>
                <a:lnTo>
                  <a:pt x="0" y="77"/>
                </a:lnTo>
              </a:path>
            </a:pathLst>
          </a:custGeom>
          <a:solidFill>
            <a:srgbClr val="de80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56040" y="2398680"/>
            <a:ext cx="4249800" cy="184320"/>
          </a:xfrm>
          <a:custGeom>
            <a:avLst/>
            <a:gdLst/>
            <a:ahLst/>
            <a:rect l="l" t="t" r="r" b="b"/>
            <a:pathLst>
              <a:path w="2968" h="145">
                <a:moveTo>
                  <a:pt x="0" y="145"/>
                </a:moveTo>
                <a:lnTo>
                  <a:pt x="530" y="34"/>
                </a:lnTo>
                <a:lnTo>
                  <a:pt x="573" y="29"/>
                </a:lnTo>
                <a:lnTo>
                  <a:pt x="618" y="24"/>
                </a:lnTo>
                <a:lnTo>
                  <a:pt x="658" y="17"/>
                </a:lnTo>
                <a:lnTo>
                  <a:pt x="702" y="10"/>
                </a:lnTo>
                <a:lnTo>
                  <a:pt x="746" y="5"/>
                </a:lnTo>
                <a:lnTo>
                  <a:pt x="787" y="3"/>
                </a:lnTo>
                <a:lnTo>
                  <a:pt x="830" y="0"/>
                </a:lnTo>
                <a:lnTo>
                  <a:pt x="873" y="5"/>
                </a:lnTo>
                <a:lnTo>
                  <a:pt x="1135" y="34"/>
                </a:lnTo>
                <a:lnTo>
                  <a:pt x="1220" y="60"/>
                </a:lnTo>
                <a:lnTo>
                  <a:pt x="1302" y="85"/>
                </a:lnTo>
                <a:lnTo>
                  <a:pt x="1401" y="97"/>
                </a:lnTo>
                <a:lnTo>
                  <a:pt x="1461" y="105"/>
                </a:lnTo>
                <a:lnTo>
                  <a:pt x="1931" y="107"/>
                </a:lnTo>
                <a:lnTo>
                  <a:pt x="2153" y="109"/>
                </a:lnTo>
                <a:lnTo>
                  <a:pt x="2529" y="113"/>
                </a:lnTo>
                <a:lnTo>
                  <a:pt x="2968" y="145"/>
                </a:lnTo>
                <a:lnTo>
                  <a:pt x="0" y="145"/>
                </a:lnTo>
                <a:close/>
              </a:path>
            </a:pathLst>
          </a:custGeom>
          <a:solidFill>
            <a:srgbClr val="ff9b9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089240" y="2738520"/>
            <a:ext cx="4132440" cy="207720"/>
          </a:xfrm>
          <a:custGeom>
            <a:avLst/>
            <a:gdLst/>
            <a:ahLst/>
            <a:rect l="l" t="t" r="r" b="b"/>
            <a:pathLst>
              <a:path w="3056" h="154">
                <a:moveTo>
                  <a:pt x="0" y="154"/>
                </a:moveTo>
                <a:lnTo>
                  <a:pt x="374" y="141"/>
                </a:lnTo>
                <a:lnTo>
                  <a:pt x="500" y="113"/>
                </a:lnTo>
                <a:lnTo>
                  <a:pt x="600" y="28"/>
                </a:lnTo>
                <a:lnTo>
                  <a:pt x="718" y="0"/>
                </a:lnTo>
                <a:lnTo>
                  <a:pt x="1226" y="13"/>
                </a:lnTo>
                <a:lnTo>
                  <a:pt x="1249" y="18"/>
                </a:lnTo>
                <a:lnTo>
                  <a:pt x="1269" y="20"/>
                </a:lnTo>
                <a:lnTo>
                  <a:pt x="1290" y="26"/>
                </a:lnTo>
                <a:lnTo>
                  <a:pt x="1313" y="28"/>
                </a:lnTo>
                <a:lnTo>
                  <a:pt x="1333" y="33"/>
                </a:lnTo>
                <a:lnTo>
                  <a:pt x="1354" y="38"/>
                </a:lnTo>
                <a:lnTo>
                  <a:pt x="1374" y="43"/>
                </a:lnTo>
                <a:lnTo>
                  <a:pt x="1395" y="49"/>
                </a:lnTo>
                <a:lnTo>
                  <a:pt x="1544" y="92"/>
                </a:lnTo>
                <a:lnTo>
                  <a:pt x="1702" y="133"/>
                </a:lnTo>
                <a:lnTo>
                  <a:pt x="2243" y="143"/>
                </a:lnTo>
                <a:lnTo>
                  <a:pt x="2889" y="143"/>
                </a:lnTo>
                <a:lnTo>
                  <a:pt x="3056" y="154"/>
                </a:lnTo>
                <a:lnTo>
                  <a:pt x="0" y="154"/>
                </a:lnTo>
              </a:path>
            </a:pathLst>
          </a:custGeom>
          <a:solidFill>
            <a:srgbClr val="ff9b9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057560" y="3102120"/>
            <a:ext cx="4160880" cy="234720"/>
          </a:xfrm>
          <a:custGeom>
            <a:avLst/>
            <a:gdLst/>
            <a:ahLst/>
            <a:rect l="l" t="t" r="r" b="b"/>
            <a:pathLst>
              <a:path w="3077" h="239">
                <a:moveTo>
                  <a:pt x="0" y="239"/>
                </a:moveTo>
                <a:lnTo>
                  <a:pt x="410" y="226"/>
                </a:lnTo>
                <a:lnTo>
                  <a:pt x="738" y="193"/>
                </a:lnTo>
                <a:lnTo>
                  <a:pt x="1044" y="113"/>
                </a:lnTo>
                <a:lnTo>
                  <a:pt x="1338" y="21"/>
                </a:lnTo>
                <a:lnTo>
                  <a:pt x="1484" y="0"/>
                </a:lnTo>
                <a:lnTo>
                  <a:pt x="2038" y="0"/>
                </a:lnTo>
                <a:lnTo>
                  <a:pt x="2064" y="5"/>
                </a:lnTo>
                <a:lnTo>
                  <a:pt x="2084" y="8"/>
                </a:lnTo>
                <a:lnTo>
                  <a:pt x="2107" y="11"/>
                </a:lnTo>
                <a:lnTo>
                  <a:pt x="2131" y="16"/>
                </a:lnTo>
                <a:lnTo>
                  <a:pt x="2154" y="21"/>
                </a:lnTo>
                <a:lnTo>
                  <a:pt x="2179" y="31"/>
                </a:lnTo>
                <a:lnTo>
                  <a:pt x="2202" y="44"/>
                </a:lnTo>
                <a:lnTo>
                  <a:pt x="2231" y="64"/>
                </a:lnTo>
                <a:lnTo>
                  <a:pt x="2246" y="77"/>
                </a:lnTo>
                <a:lnTo>
                  <a:pt x="2264" y="93"/>
                </a:lnTo>
                <a:lnTo>
                  <a:pt x="2279" y="105"/>
                </a:lnTo>
                <a:lnTo>
                  <a:pt x="2297" y="121"/>
                </a:lnTo>
                <a:lnTo>
                  <a:pt x="2313" y="134"/>
                </a:lnTo>
                <a:lnTo>
                  <a:pt x="2331" y="146"/>
                </a:lnTo>
                <a:lnTo>
                  <a:pt x="2346" y="159"/>
                </a:lnTo>
                <a:lnTo>
                  <a:pt x="2364" y="169"/>
                </a:lnTo>
                <a:lnTo>
                  <a:pt x="2379" y="177"/>
                </a:lnTo>
                <a:lnTo>
                  <a:pt x="2392" y="182"/>
                </a:lnTo>
                <a:lnTo>
                  <a:pt x="2407" y="190"/>
                </a:lnTo>
                <a:lnTo>
                  <a:pt x="2423" y="193"/>
                </a:lnTo>
                <a:lnTo>
                  <a:pt x="2438" y="198"/>
                </a:lnTo>
                <a:lnTo>
                  <a:pt x="2454" y="203"/>
                </a:lnTo>
                <a:lnTo>
                  <a:pt x="2466" y="205"/>
                </a:lnTo>
                <a:lnTo>
                  <a:pt x="2482" y="208"/>
                </a:lnTo>
                <a:lnTo>
                  <a:pt x="2502" y="208"/>
                </a:lnTo>
                <a:lnTo>
                  <a:pt x="2515" y="210"/>
                </a:lnTo>
                <a:lnTo>
                  <a:pt x="2523" y="210"/>
                </a:lnTo>
                <a:lnTo>
                  <a:pt x="2528" y="210"/>
                </a:lnTo>
                <a:lnTo>
                  <a:pt x="2536" y="210"/>
                </a:lnTo>
                <a:lnTo>
                  <a:pt x="2548" y="210"/>
                </a:lnTo>
                <a:lnTo>
                  <a:pt x="2566" y="210"/>
                </a:lnTo>
                <a:lnTo>
                  <a:pt x="2595" y="210"/>
                </a:lnTo>
                <a:lnTo>
                  <a:pt x="2615" y="205"/>
                </a:lnTo>
                <a:lnTo>
                  <a:pt x="2625" y="200"/>
                </a:lnTo>
                <a:lnTo>
                  <a:pt x="2633" y="193"/>
                </a:lnTo>
                <a:lnTo>
                  <a:pt x="2638" y="182"/>
                </a:lnTo>
                <a:lnTo>
                  <a:pt x="2643" y="175"/>
                </a:lnTo>
                <a:lnTo>
                  <a:pt x="2646" y="167"/>
                </a:lnTo>
                <a:lnTo>
                  <a:pt x="2654" y="159"/>
                </a:lnTo>
                <a:lnTo>
                  <a:pt x="2664" y="157"/>
                </a:lnTo>
                <a:lnTo>
                  <a:pt x="2674" y="159"/>
                </a:lnTo>
                <a:lnTo>
                  <a:pt x="2682" y="164"/>
                </a:lnTo>
                <a:lnTo>
                  <a:pt x="2684" y="172"/>
                </a:lnTo>
                <a:lnTo>
                  <a:pt x="2687" y="180"/>
                </a:lnTo>
                <a:lnTo>
                  <a:pt x="2689" y="187"/>
                </a:lnTo>
                <a:lnTo>
                  <a:pt x="2689" y="195"/>
                </a:lnTo>
                <a:lnTo>
                  <a:pt x="2695" y="200"/>
                </a:lnTo>
                <a:lnTo>
                  <a:pt x="2702" y="208"/>
                </a:lnTo>
                <a:lnTo>
                  <a:pt x="2723" y="210"/>
                </a:lnTo>
                <a:lnTo>
                  <a:pt x="2761" y="216"/>
                </a:lnTo>
                <a:lnTo>
                  <a:pt x="2810" y="221"/>
                </a:lnTo>
                <a:lnTo>
                  <a:pt x="2866" y="223"/>
                </a:lnTo>
                <a:lnTo>
                  <a:pt x="2925" y="228"/>
                </a:lnTo>
                <a:lnTo>
                  <a:pt x="2982" y="231"/>
                </a:lnTo>
                <a:lnTo>
                  <a:pt x="3033" y="234"/>
                </a:lnTo>
                <a:lnTo>
                  <a:pt x="3077" y="239"/>
                </a:lnTo>
                <a:lnTo>
                  <a:pt x="2592" y="239"/>
                </a:lnTo>
                <a:lnTo>
                  <a:pt x="2295" y="239"/>
                </a:lnTo>
                <a:lnTo>
                  <a:pt x="1697" y="239"/>
                </a:lnTo>
                <a:lnTo>
                  <a:pt x="1044" y="239"/>
                </a:lnTo>
                <a:lnTo>
                  <a:pt x="328" y="239"/>
                </a:lnTo>
                <a:lnTo>
                  <a:pt x="0" y="239"/>
                </a:lnTo>
                <a:close/>
              </a:path>
            </a:pathLst>
          </a:custGeom>
          <a:solidFill>
            <a:srgbClr val="ff9b9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098960" y="3494160"/>
            <a:ext cx="4119480" cy="156960"/>
          </a:xfrm>
          <a:custGeom>
            <a:avLst/>
            <a:gdLst/>
            <a:ahLst/>
            <a:rect l="l" t="t" r="r" b="b"/>
            <a:pathLst>
              <a:path w="3046" h="118">
                <a:moveTo>
                  <a:pt x="0" y="118"/>
                </a:moveTo>
                <a:lnTo>
                  <a:pt x="490" y="118"/>
                </a:lnTo>
                <a:lnTo>
                  <a:pt x="625" y="92"/>
                </a:lnTo>
                <a:lnTo>
                  <a:pt x="725" y="87"/>
                </a:lnTo>
                <a:lnTo>
                  <a:pt x="818" y="118"/>
                </a:lnTo>
                <a:lnTo>
                  <a:pt x="905" y="100"/>
                </a:lnTo>
                <a:lnTo>
                  <a:pt x="989" y="87"/>
                </a:lnTo>
                <a:lnTo>
                  <a:pt x="1074" y="87"/>
                </a:lnTo>
                <a:lnTo>
                  <a:pt x="1148" y="118"/>
                </a:lnTo>
                <a:lnTo>
                  <a:pt x="1187" y="118"/>
                </a:lnTo>
                <a:lnTo>
                  <a:pt x="1261" y="87"/>
                </a:lnTo>
                <a:lnTo>
                  <a:pt x="1366" y="66"/>
                </a:lnTo>
                <a:lnTo>
                  <a:pt x="1469" y="79"/>
                </a:lnTo>
                <a:lnTo>
                  <a:pt x="1564" y="118"/>
                </a:lnTo>
                <a:lnTo>
                  <a:pt x="1782" y="59"/>
                </a:lnTo>
                <a:lnTo>
                  <a:pt x="1866" y="54"/>
                </a:lnTo>
                <a:lnTo>
                  <a:pt x="1912" y="87"/>
                </a:lnTo>
                <a:lnTo>
                  <a:pt x="1933" y="118"/>
                </a:lnTo>
                <a:lnTo>
                  <a:pt x="2079" y="46"/>
                </a:lnTo>
                <a:lnTo>
                  <a:pt x="2092" y="41"/>
                </a:lnTo>
                <a:lnTo>
                  <a:pt x="2107" y="36"/>
                </a:lnTo>
                <a:lnTo>
                  <a:pt x="2120" y="31"/>
                </a:lnTo>
                <a:lnTo>
                  <a:pt x="2133" y="25"/>
                </a:lnTo>
                <a:lnTo>
                  <a:pt x="2146" y="20"/>
                </a:lnTo>
                <a:lnTo>
                  <a:pt x="2161" y="15"/>
                </a:lnTo>
                <a:lnTo>
                  <a:pt x="2176" y="10"/>
                </a:lnTo>
                <a:lnTo>
                  <a:pt x="2192" y="7"/>
                </a:lnTo>
                <a:lnTo>
                  <a:pt x="2205" y="5"/>
                </a:lnTo>
                <a:lnTo>
                  <a:pt x="2217" y="2"/>
                </a:lnTo>
                <a:lnTo>
                  <a:pt x="2230" y="0"/>
                </a:lnTo>
                <a:lnTo>
                  <a:pt x="2241" y="0"/>
                </a:lnTo>
                <a:lnTo>
                  <a:pt x="2253" y="0"/>
                </a:lnTo>
                <a:lnTo>
                  <a:pt x="2266" y="0"/>
                </a:lnTo>
                <a:lnTo>
                  <a:pt x="2279" y="2"/>
                </a:lnTo>
                <a:lnTo>
                  <a:pt x="2292" y="5"/>
                </a:lnTo>
                <a:lnTo>
                  <a:pt x="2441" y="54"/>
                </a:lnTo>
                <a:lnTo>
                  <a:pt x="2458" y="59"/>
                </a:lnTo>
                <a:lnTo>
                  <a:pt x="2474" y="64"/>
                </a:lnTo>
                <a:lnTo>
                  <a:pt x="2492" y="69"/>
                </a:lnTo>
                <a:lnTo>
                  <a:pt x="2507" y="74"/>
                </a:lnTo>
                <a:lnTo>
                  <a:pt x="2523" y="79"/>
                </a:lnTo>
                <a:lnTo>
                  <a:pt x="2543" y="82"/>
                </a:lnTo>
                <a:lnTo>
                  <a:pt x="2564" y="87"/>
                </a:lnTo>
                <a:lnTo>
                  <a:pt x="2589" y="89"/>
                </a:lnTo>
                <a:lnTo>
                  <a:pt x="2797" y="92"/>
                </a:lnTo>
                <a:lnTo>
                  <a:pt x="2902" y="100"/>
                </a:lnTo>
                <a:lnTo>
                  <a:pt x="3046" y="118"/>
                </a:lnTo>
                <a:lnTo>
                  <a:pt x="0" y="118"/>
                </a:lnTo>
                <a:close/>
              </a:path>
            </a:pathLst>
          </a:custGeom>
          <a:solidFill>
            <a:srgbClr val="ff9b9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644440" y="1289160"/>
            <a:ext cx="89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h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88400" y="1606680"/>
            <a:ext cx="23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s Work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88640" y="5904000"/>
            <a:ext cx="114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t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751280" y="5465880"/>
            <a:ext cx="28800" cy="257040"/>
          </a:xfrm>
          <a:custGeom>
            <a:avLst/>
            <a:gdLst/>
            <a:ahLst/>
            <a:rect l="l" t="t" r="r" b="b"/>
            <a:pathLst>
              <a:path w="21" h="192">
                <a:moveTo>
                  <a:pt x="11" y="192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1" y="19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88760" y="4194000"/>
            <a:ext cx="271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upporting Work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6719400" y="5454720"/>
            <a:ext cx="1800" cy="27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232680" y="5456160"/>
            <a:ext cx="0" cy="26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24320" y="5457960"/>
            <a:ext cx="1800" cy="261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325840" y="5477040"/>
            <a:ext cx="307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814720" y="5477040"/>
            <a:ext cx="307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03600" y="5477040"/>
            <a:ext cx="345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n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760800" y="5477040"/>
            <a:ext cx="345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n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316280" y="5477040"/>
            <a:ext cx="307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800120" y="5477040"/>
            <a:ext cx="386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m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486160" y="3836880"/>
            <a:ext cx="12398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854600" y="3808440"/>
            <a:ext cx="3298680" cy="190440"/>
          </a:xfrm>
          <a:custGeom>
            <a:avLst/>
            <a:gdLst/>
            <a:ahLst/>
            <a:rect l="l" t="t" r="r" b="b"/>
            <a:pathLst>
              <a:path w="2440" h="141">
                <a:moveTo>
                  <a:pt x="0" y="141"/>
                </a:moveTo>
                <a:lnTo>
                  <a:pt x="169" y="139"/>
                </a:lnTo>
                <a:lnTo>
                  <a:pt x="254" y="141"/>
                </a:lnTo>
                <a:lnTo>
                  <a:pt x="343" y="141"/>
                </a:lnTo>
                <a:lnTo>
                  <a:pt x="430" y="139"/>
                </a:lnTo>
                <a:lnTo>
                  <a:pt x="520" y="139"/>
                </a:lnTo>
                <a:lnTo>
                  <a:pt x="607" y="136"/>
                </a:lnTo>
                <a:lnTo>
                  <a:pt x="671" y="141"/>
                </a:lnTo>
                <a:lnTo>
                  <a:pt x="712" y="141"/>
                </a:lnTo>
                <a:lnTo>
                  <a:pt x="802" y="139"/>
                </a:lnTo>
                <a:lnTo>
                  <a:pt x="905" y="141"/>
                </a:lnTo>
                <a:lnTo>
                  <a:pt x="1000" y="139"/>
                </a:lnTo>
                <a:lnTo>
                  <a:pt x="1089" y="141"/>
                </a:lnTo>
                <a:lnTo>
                  <a:pt x="1300" y="141"/>
                </a:lnTo>
                <a:lnTo>
                  <a:pt x="1389" y="134"/>
                </a:lnTo>
                <a:lnTo>
                  <a:pt x="1435" y="128"/>
                </a:lnTo>
                <a:lnTo>
                  <a:pt x="1459" y="126"/>
                </a:lnTo>
                <a:lnTo>
                  <a:pt x="1612" y="95"/>
                </a:lnTo>
                <a:lnTo>
                  <a:pt x="1733" y="59"/>
                </a:lnTo>
                <a:lnTo>
                  <a:pt x="1861" y="36"/>
                </a:lnTo>
                <a:lnTo>
                  <a:pt x="2205" y="0"/>
                </a:lnTo>
                <a:lnTo>
                  <a:pt x="2340" y="23"/>
                </a:lnTo>
                <a:lnTo>
                  <a:pt x="2412" y="75"/>
                </a:lnTo>
                <a:lnTo>
                  <a:pt x="2440" y="141"/>
                </a:lnTo>
                <a:lnTo>
                  <a:pt x="0" y="141"/>
                </a:lnTo>
                <a:close/>
              </a:path>
            </a:pathLst>
          </a:custGeom>
          <a:solidFill>
            <a:srgbClr val="ff9b9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49560" y="2092320"/>
            <a:ext cx="4240440" cy="149400"/>
          </a:xfrm>
          <a:custGeom>
            <a:avLst/>
            <a:gdLst/>
            <a:ahLst/>
            <a:rect l="l" t="t" r="r" b="b"/>
            <a:pathLst>
              <a:path w="1911" h="63">
                <a:moveTo>
                  <a:pt x="0" y="63"/>
                </a:moveTo>
                <a:cubicBezTo>
                  <a:pt x="16" y="61"/>
                  <a:pt x="29" y="55"/>
                  <a:pt x="45" y="50"/>
                </a:cubicBezTo>
                <a:cubicBezTo>
                  <a:pt x="56" y="46"/>
                  <a:pt x="70" y="40"/>
                  <a:pt x="81" y="36"/>
                </a:cubicBezTo>
                <a:cubicBezTo>
                  <a:pt x="123" y="23"/>
                  <a:pt x="167" y="10"/>
                  <a:pt x="210" y="0"/>
                </a:cubicBezTo>
                <a:cubicBezTo>
                  <a:pt x="321" y="2"/>
                  <a:pt x="425" y="4"/>
                  <a:pt x="531" y="8"/>
                </a:cubicBezTo>
                <a:cubicBezTo>
                  <a:pt x="609" y="17"/>
                  <a:pt x="624" y="23"/>
                  <a:pt x="678" y="25"/>
                </a:cubicBezTo>
                <a:cubicBezTo>
                  <a:pt x="707" y="29"/>
                  <a:pt x="737" y="30"/>
                  <a:pt x="765" y="36"/>
                </a:cubicBezTo>
                <a:cubicBezTo>
                  <a:pt x="788" y="41"/>
                  <a:pt x="819" y="46"/>
                  <a:pt x="843" y="47"/>
                </a:cubicBezTo>
                <a:cubicBezTo>
                  <a:pt x="876" y="51"/>
                  <a:pt x="879" y="56"/>
                  <a:pt x="903" y="57"/>
                </a:cubicBezTo>
                <a:cubicBezTo>
                  <a:pt x="909" y="55"/>
                  <a:pt x="990" y="53"/>
                  <a:pt x="990" y="53"/>
                </a:cubicBezTo>
                <a:cubicBezTo>
                  <a:pt x="1013" y="51"/>
                  <a:pt x="1040" y="47"/>
                  <a:pt x="1104" y="47"/>
                </a:cubicBezTo>
                <a:cubicBezTo>
                  <a:pt x="1200" y="50"/>
                  <a:pt x="1280" y="51"/>
                  <a:pt x="1377" y="53"/>
                </a:cubicBezTo>
                <a:cubicBezTo>
                  <a:pt x="1471" y="55"/>
                  <a:pt x="1569" y="57"/>
                  <a:pt x="1671" y="58"/>
                </a:cubicBezTo>
                <a:cubicBezTo>
                  <a:pt x="1800" y="59"/>
                  <a:pt x="1911" y="63"/>
                  <a:pt x="1899" y="63"/>
                </a:cubicBezTo>
                <a:cubicBezTo>
                  <a:pt x="870" y="63"/>
                  <a:pt x="0" y="63"/>
                  <a:pt x="0" y="63"/>
                </a:cubicBezTo>
                <a:close/>
              </a:path>
            </a:pathLst>
          </a:custGeom>
          <a:solidFill>
            <a:srgbClr val="ff9b9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05280" y="4589640"/>
            <a:ext cx="4305240" cy="179280"/>
          </a:xfrm>
          <a:custGeom>
            <a:avLst/>
            <a:gdLst/>
            <a:ahLst/>
            <a:rect l="l" t="t" r="r" b="b"/>
            <a:pathLst>
              <a:path w="3080" h="140">
                <a:moveTo>
                  <a:pt x="0" y="140"/>
                </a:moveTo>
                <a:lnTo>
                  <a:pt x="64" y="123"/>
                </a:lnTo>
                <a:lnTo>
                  <a:pt x="808" y="90"/>
                </a:lnTo>
                <a:lnTo>
                  <a:pt x="1171" y="42"/>
                </a:lnTo>
                <a:lnTo>
                  <a:pt x="1508" y="20"/>
                </a:lnTo>
                <a:lnTo>
                  <a:pt x="1578" y="9"/>
                </a:lnTo>
                <a:lnTo>
                  <a:pt x="2147" y="0"/>
                </a:lnTo>
                <a:lnTo>
                  <a:pt x="2789" y="86"/>
                </a:lnTo>
                <a:lnTo>
                  <a:pt x="3080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de800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08520" y="5467320"/>
            <a:ext cx="28800" cy="257040"/>
          </a:xfrm>
          <a:custGeom>
            <a:avLst/>
            <a:gdLst/>
            <a:ahLst/>
            <a:rect l="l" t="t" r="r" b="b"/>
            <a:pathLst>
              <a:path w="21" h="192">
                <a:moveTo>
                  <a:pt x="11" y="192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1" y="19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145280" y="5468760"/>
            <a:ext cx="28800" cy="257400"/>
          </a:xfrm>
          <a:custGeom>
            <a:avLst/>
            <a:gdLst/>
            <a:ahLst/>
            <a:rect l="l" t="t" r="r" b="b"/>
            <a:pathLst>
              <a:path w="21" h="192">
                <a:moveTo>
                  <a:pt x="11" y="192"/>
                </a:moveTo>
                <a:lnTo>
                  <a:pt x="21" y="192"/>
                </a:lnTo>
                <a:lnTo>
                  <a:pt x="21" y="0"/>
                </a:lnTo>
                <a:lnTo>
                  <a:pt x="0" y="0"/>
                </a:lnTo>
                <a:lnTo>
                  <a:pt x="0" y="192"/>
                </a:lnTo>
                <a:lnTo>
                  <a:pt x="11" y="192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762560" y="4595760"/>
            <a:ext cx="2055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figuration Mgm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281680" y="2419200"/>
            <a:ext cx="1443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884760" y="1620720"/>
            <a:ext cx="4422240" cy="318960"/>
            <a:chOff x="3884760" y="1620720"/>
            <a:chExt cx="4422240" cy="318960"/>
          </a:xfrm>
        </p:grpSpPr>
        <p:sp>
          <p:nvSpPr>
            <p:cNvPr id="819" name=""/>
            <p:cNvSpPr/>
            <p:nvPr/>
          </p:nvSpPr>
          <p:spPr>
            <a:xfrm>
              <a:off x="5720040" y="1621800"/>
              <a:ext cx="1441080" cy="317880"/>
            </a:xfrm>
            <a:prstGeom prst="rect">
              <a:avLst/>
            </a:prstGeom>
            <a:gradFill rotWithShape="0">
              <a:gsLst>
                <a:gs pos="0">
                  <a:srgbClr val="00c8b5"/>
                </a:gs>
                <a:gs pos="100000">
                  <a:srgbClr val="baef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62920" y="1620720"/>
              <a:ext cx="1144080" cy="317880"/>
            </a:xfrm>
            <a:prstGeom prst="rect">
              <a:avLst/>
            </a:prstGeom>
            <a:gradFill rotWithShape="0">
              <a:gsLst>
                <a:gs pos="0">
                  <a:srgbClr val="00c8b5"/>
                </a:gs>
                <a:gs pos="100000">
                  <a:srgbClr val="baef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884760" y="1620720"/>
              <a:ext cx="881640" cy="317880"/>
            </a:xfrm>
            <a:prstGeom prst="rect">
              <a:avLst/>
            </a:prstGeom>
            <a:gradFill rotWithShape="0">
              <a:gsLst>
                <a:gs pos="0">
                  <a:srgbClr val="00c8b5"/>
                </a:gs>
                <a:gs pos="100000">
                  <a:srgbClr val="baef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766400" y="1620720"/>
              <a:ext cx="955080" cy="317880"/>
            </a:xfrm>
            <a:prstGeom prst="rect">
              <a:avLst/>
            </a:prstGeom>
            <a:gradFill rotWithShape="0">
              <a:gsLst>
                <a:gs pos="0">
                  <a:srgbClr val="00c8b5"/>
                </a:gs>
                <a:gs pos="100000">
                  <a:srgbClr val="baef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3976560" y="1646280"/>
            <a:ext cx="787680" cy="293760"/>
          </a:xfrm>
          <a:custGeom>
            <a:avLst/>
            <a:gdLst/>
            <a:ahLst/>
            <a:rect l="l" t="t" r="r" b="b"/>
            <a:pathLst>
              <a:path w="582" h="218">
                <a:moveTo>
                  <a:pt x="582" y="0"/>
                </a:moveTo>
                <a:lnTo>
                  <a:pt x="582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819680" y="1646280"/>
            <a:ext cx="898560" cy="293760"/>
          </a:xfrm>
          <a:custGeom>
            <a:avLst/>
            <a:gdLst/>
            <a:ahLst/>
            <a:rect l="l" t="t" r="r" b="b"/>
            <a:pathLst>
              <a:path w="664" h="218">
                <a:moveTo>
                  <a:pt x="664" y="0"/>
                </a:moveTo>
                <a:lnTo>
                  <a:pt x="664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780160" y="1646280"/>
            <a:ext cx="1390680" cy="293760"/>
          </a:xfrm>
          <a:custGeom>
            <a:avLst/>
            <a:gdLst/>
            <a:ahLst/>
            <a:rect l="l" t="t" r="r" b="b"/>
            <a:pathLst>
              <a:path w="1028" h="218">
                <a:moveTo>
                  <a:pt x="1028" y="0"/>
                </a:moveTo>
                <a:lnTo>
                  <a:pt x="1028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29520" y="1646280"/>
            <a:ext cx="1028520" cy="293760"/>
          </a:xfrm>
          <a:custGeom>
            <a:avLst/>
            <a:gdLst/>
            <a:ahLst/>
            <a:rect l="l" t="t" r="r" b="b"/>
            <a:pathLst>
              <a:path w="761" h="218">
                <a:moveTo>
                  <a:pt x="761" y="0"/>
                </a:moveTo>
                <a:lnTo>
                  <a:pt x="761" y="218"/>
                </a:lnTo>
                <a:lnTo>
                  <a:pt x="0" y="2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787280" y="1681200"/>
            <a:ext cx="90612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labo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346160" y="1681200"/>
            <a:ext cx="79632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962160" y="1681200"/>
            <a:ext cx="73224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cep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938920" y="1681200"/>
            <a:ext cx="102492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721640" y="5454720"/>
            <a:ext cx="0" cy="27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ure and Iteration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755640" y="3884760"/>
            <a:ext cx="7552800" cy="1546200"/>
            <a:chOff x="755640" y="3884760"/>
            <a:chExt cx="7552800" cy="1546200"/>
          </a:xfrm>
        </p:grpSpPr>
        <p:sp>
          <p:nvSpPr>
            <p:cNvPr id="834" name=""/>
            <p:cNvSpPr/>
            <p:nvPr/>
          </p:nvSpPr>
          <p:spPr>
            <a:xfrm>
              <a:off x="755640" y="3889800"/>
              <a:ext cx="980640" cy="153648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55640" y="4432680"/>
              <a:ext cx="980640" cy="993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516040" y="3889800"/>
              <a:ext cx="978840" cy="153648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516040" y="4607280"/>
              <a:ext cx="978840" cy="799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11200" y="3889800"/>
              <a:ext cx="981000" cy="153648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11200" y="4965840"/>
              <a:ext cx="981000" cy="4604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689440" y="3889800"/>
              <a:ext cx="980640" cy="153648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689440" y="5332680"/>
              <a:ext cx="980640" cy="745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27440" y="3884760"/>
              <a:ext cx="981000" cy="153684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27440" y="5188320"/>
              <a:ext cx="981000" cy="2426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628560" y="2701800"/>
            <a:ext cx="1300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6920" bIns="16920" anchor="t">
            <a:noAutofit/>
          </a:bodyPr>
          <a:p>
            <a:pPr algn="ctr">
              <a:lnSpc>
                <a:spcPts val="1899"/>
              </a:lnSpc>
              <a:spcBef>
                <a:spcPts val="901"/>
              </a:spcBef>
              <a:tabLst>
                <a:tab algn="l" pos="0"/>
                <a:tab algn="l" pos="270000"/>
                <a:tab algn="l" pos="538200"/>
                <a:tab algn="l" pos="808200"/>
                <a:tab algn="l" pos="1077840"/>
                <a:tab algn="l" pos="1346040"/>
                <a:tab algn="l" pos="1616040"/>
                <a:tab algn="l" pos="1884240"/>
                <a:tab algn="l" pos="21542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 c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622600" y="2701800"/>
            <a:ext cx="984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6920" bIns="16920" anchor="t">
            <a:noAutofit/>
          </a:bodyPr>
          <a:p>
            <a:pPr algn="ctr">
              <a:lnSpc>
                <a:spcPts val="1899"/>
              </a:lnSpc>
              <a:spcBef>
                <a:spcPts val="901"/>
              </a:spcBef>
              <a:tabLst>
                <a:tab algn="l" pos="0"/>
                <a:tab algn="l" pos="270000"/>
                <a:tab algn="l" pos="538200"/>
                <a:tab algn="l" pos="808200"/>
                <a:tab algn="l" pos="1077840"/>
                <a:tab algn="l" pos="1346040"/>
                <a:tab algn="l" pos="1616040"/>
                <a:tab algn="l" pos="1884240"/>
                <a:tab algn="l" pos="21542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sig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00800" y="2701800"/>
            <a:ext cx="1863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6920" bIns="16920" anchor="t">
            <a:noAutofit/>
          </a:bodyPr>
          <a:p>
            <a:pPr algn="ctr">
              <a:lnSpc>
                <a:spcPts val="1899"/>
              </a:lnSpc>
              <a:spcBef>
                <a:spcPts val="901"/>
              </a:spcBef>
              <a:tabLst>
                <a:tab algn="l" pos="0"/>
                <a:tab algn="l" pos="270000"/>
                <a:tab algn="l" pos="538200"/>
                <a:tab algn="l" pos="808200"/>
                <a:tab algn="l" pos="1077840"/>
                <a:tab algn="l" pos="1346040"/>
                <a:tab algn="l" pos="1616040"/>
                <a:tab algn="l" pos="1884240"/>
                <a:tab algn="l" pos="21542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ploy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459560" y="2701800"/>
            <a:ext cx="892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6920" bIns="16920" anchor="t">
            <a:noAutofit/>
          </a:bodyPr>
          <a:p>
            <a:pPr algn="ctr">
              <a:lnSpc>
                <a:spcPts val="1899"/>
              </a:lnSpc>
              <a:spcBef>
                <a:spcPts val="901"/>
              </a:spcBef>
              <a:tabLst>
                <a:tab algn="l" pos="0"/>
                <a:tab algn="l" pos="270000"/>
                <a:tab algn="l" pos="538200"/>
                <a:tab algn="l" pos="808200"/>
                <a:tab algn="l" pos="1077840"/>
                <a:tab algn="l" pos="1346040"/>
                <a:tab algn="l" pos="1616040"/>
                <a:tab algn="l" pos="1884240"/>
                <a:tab algn="l" pos="21542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527040" y="1735200"/>
          <a:ext cx="1544760" cy="8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735200"/>
                    <a:ext cx="154476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"/>
          <p:cNvGraphicFramePr/>
          <p:nvPr/>
        </p:nvGraphicFramePr>
        <p:xfrm>
          <a:off x="2568600" y="1735200"/>
          <a:ext cx="1141560" cy="82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8600" y="1735200"/>
                    <a:ext cx="114156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4087800" y="1716120"/>
          <a:ext cx="1076400" cy="86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87800" y="1716120"/>
                    <a:ext cx="10764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"/>
          <p:cNvGraphicFramePr/>
          <p:nvPr/>
        </p:nvGraphicFramePr>
        <p:xfrm>
          <a:off x="7437600" y="1685880"/>
          <a:ext cx="1009440" cy="92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37600" y="1685880"/>
                    <a:ext cx="10094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6" name="" descr=""/>
          <p:cNvPicPr/>
          <p:nvPr/>
        </p:nvPicPr>
        <p:blipFill>
          <a:blip r:embed="rId9"/>
          <a:stretch/>
        </p:blipFill>
        <p:spPr>
          <a:xfrm>
            <a:off x="5746680" y="1701720"/>
            <a:ext cx="1106640" cy="892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3905280" y="2701800"/>
            <a:ext cx="1676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6920" bIns="16920" anchor="t">
            <a:noAutofit/>
          </a:bodyPr>
          <a:p>
            <a:pPr algn="ctr">
              <a:lnSpc>
                <a:spcPts val="1899"/>
              </a:lnSpc>
              <a:spcBef>
                <a:spcPts val="901"/>
              </a:spcBef>
              <a:tabLst>
                <a:tab algn="l" pos="0"/>
                <a:tab algn="l" pos="270000"/>
                <a:tab algn="l" pos="538200"/>
                <a:tab algn="l" pos="808200"/>
                <a:tab algn="l" pos="1077840"/>
                <a:tab algn="l" pos="1346040"/>
                <a:tab algn="l" pos="1616040"/>
                <a:tab algn="l" pos="1884240"/>
                <a:tab algn="l" pos="21542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57080" y="3884760"/>
            <a:ext cx="7553160" cy="1546200"/>
            <a:chOff x="757080" y="3884760"/>
            <a:chExt cx="7553160" cy="1546200"/>
          </a:xfrm>
        </p:grpSpPr>
        <p:sp>
          <p:nvSpPr>
            <p:cNvPr id="859" name=""/>
            <p:cNvSpPr/>
            <p:nvPr/>
          </p:nvSpPr>
          <p:spPr>
            <a:xfrm>
              <a:off x="757080" y="3889440"/>
              <a:ext cx="981000" cy="153684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57080" y="4110120"/>
              <a:ext cx="981000" cy="13161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517480" y="3889440"/>
              <a:ext cx="979560" cy="153684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517480" y="4143600"/>
              <a:ext cx="979560" cy="1263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113000" y="3889440"/>
              <a:ext cx="981000" cy="153684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13000" y="4373640"/>
              <a:ext cx="981000" cy="10526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690880" y="3889440"/>
              <a:ext cx="981360" cy="153684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90880" y="4986360"/>
              <a:ext cx="981360" cy="4208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29240" y="3884760"/>
              <a:ext cx="981000" cy="153648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329240" y="4659480"/>
              <a:ext cx="981000" cy="7714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757080" y="3884760"/>
            <a:ext cx="7553520" cy="1546200"/>
            <a:chOff x="757080" y="3884760"/>
            <a:chExt cx="7553520" cy="1546200"/>
          </a:xfrm>
        </p:grpSpPr>
        <p:sp>
          <p:nvSpPr>
            <p:cNvPr id="870" name=""/>
            <p:cNvSpPr/>
            <p:nvPr/>
          </p:nvSpPr>
          <p:spPr>
            <a:xfrm>
              <a:off x="757080" y="3889800"/>
              <a:ext cx="981360" cy="153648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57080" y="4110480"/>
              <a:ext cx="981360" cy="1315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517840" y="3889800"/>
              <a:ext cx="979560" cy="153648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517840" y="4143600"/>
              <a:ext cx="979560" cy="1263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113360" y="3889800"/>
              <a:ext cx="981000" cy="153648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13360" y="4065840"/>
              <a:ext cx="981000" cy="13604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691240" y="3889800"/>
              <a:ext cx="981000" cy="153648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691240" y="4561200"/>
              <a:ext cx="981000" cy="8460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29600" y="3884760"/>
              <a:ext cx="981000" cy="1536840"/>
            </a:xfrm>
            <a:prstGeom prst="rect">
              <a:avLst/>
            </a:prstGeom>
            <a:solidFill>
              <a:srgbClr val="66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29600" y="4351680"/>
              <a:ext cx="981000" cy="1079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3480" rIns="33480" tIns="16920" bIns="16920" anchor="t">
              <a:noAutofit/>
            </a:bodyPr>
            <a:p>
              <a:pPr algn="ctr">
                <a:lnSpc>
                  <a:spcPts val="27213"/>
                </a:lnSpc>
                <a:spcBef>
                  <a:spcPts val="27213"/>
                </a:spcBef>
                <a:spcAft>
                  <a:spcPts val="27213"/>
                </a:spcAft>
                <a:buClr>
                  <a:srgbClr val="808080"/>
                </a:buClr>
                <a:buSzPct val="75000"/>
                <a:buFont typeface="Wingdings" charset="2"/>
                <a:buChar char=""/>
                <a:tabLst>
                  <a:tab algn="l" pos="861840"/>
                  <a:tab algn="l" pos="1724040"/>
                  <a:tab algn="l" pos="2585880"/>
                  <a:tab algn="l" pos="3448080"/>
                  <a:tab algn="l" pos="4309920"/>
                  <a:tab algn="l" pos="5172120"/>
                  <a:tab algn="l" pos="6033960"/>
                  <a:tab algn="l" pos="6896160"/>
                  <a:tab algn="l" pos="7758000"/>
                  <a:tab algn="l" pos="8620200"/>
                  <a:tab algn="l" pos="9482040"/>
                  <a:tab algn="l" pos="10344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3919680" y="5649840"/>
            <a:ext cx="1299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" rIns="33480" tIns="16920" bIns="16920" anchor="t">
            <a:noAutofit/>
          </a:bodyPr>
          <a:p>
            <a:pPr algn="ctr">
              <a:lnSpc>
                <a:spcPts val="1899"/>
              </a:lnSpc>
              <a:spcBef>
                <a:spcPts val="901"/>
              </a:spcBef>
              <a:tabLst>
                <a:tab algn="l" pos="0"/>
                <a:tab algn="l" pos="270000"/>
                <a:tab algn="l" pos="538200"/>
                <a:tab algn="l" pos="808200"/>
                <a:tab algn="l" pos="1077840"/>
                <a:tab algn="l" pos="1346040"/>
                <a:tab algn="l" pos="1616040"/>
                <a:tab algn="l" pos="1884240"/>
                <a:tab algn="l" pos="21542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ural design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Arial"/>
              </a:rPr>
              <a:t>Identif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ffff66"/>
                </a:solidFill>
                <a:latin typeface="Arial"/>
              </a:rPr>
              <a:t>selec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000" spc="-1" strike="noStrike">
                <a:solidFill>
                  <a:srgbClr val="ffff66"/>
                </a:solidFill>
                <a:latin typeface="Arial"/>
              </a:rPr>
              <a:t>validat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architecturally significant” elem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everything is architec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 “business” cla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ortant  mechanis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ors and proce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yers and subsyst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fa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duce a Software Architecture Docu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Modeling a hous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0" name="MODEL" descr=""/>
          <p:cNvPicPr/>
          <p:nvPr/>
        </p:nvPicPr>
        <p:blipFill>
          <a:blip r:embed="rId1"/>
          <a:stretch/>
        </p:blipFill>
        <p:spPr>
          <a:xfrm>
            <a:off x="3565440" y="2935440"/>
            <a:ext cx="5259600" cy="3375000"/>
          </a:xfrm>
          <a:prstGeom prst="rect">
            <a:avLst/>
          </a:prstGeom>
          <a:ln w="0">
            <a:noFill/>
          </a:ln>
        </p:spPr>
      </p:pic>
      <p:pic>
        <p:nvPicPr>
          <p:cNvPr id="111" name="BLUEPRINT" descr=""/>
          <p:cNvPicPr/>
          <p:nvPr/>
        </p:nvPicPr>
        <p:blipFill>
          <a:blip r:embed="rId2"/>
          <a:stretch/>
        </p:blipFill>
        <p:spPr>
          <a:xfrm>
            <a:off x="439560" y="1214280"/>
            <a:ext cx="45324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ural design workflow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6240" indent="-42624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scenarios: </a:t>
            </a:r>
            <a:r>
              <a:rPr b="0" lang="en-US" sz="3000" spc="-1" strike="noStrike">
                <a:solidFill>
                  <a:srgbClr val="ffff66"/>
                </a:solidFill>
                <a:latin typeface="Arial"/>
              </a:rPr>
              <a:t>criticalit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000" spc="-1" strike="noStrike">
                <a:solidFill>
                  <a:srgbClr val="ffff66"/>
                </a:solidFill>
                <a:latin typeface="Arial"/>
              </a:rPr>
              <a:t>r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main </a:t>
            </a:r>
            <a:r>
              <a:rPr b="0" lang="en-US" sz="3000" spc="-1" strike="noStrike">
                <a:solidFill>
                  <a:srgbClr val="ffff66"/>
                </a:solidFill>
                <a:latin typeface="Arial"/>
              </a:rPr>
              <a:t>class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their respons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tribute behavior on clas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ructure in subsystems, layers,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e interfa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e distribution and concurre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lement architectural proto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rive tests from use ca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valuate architec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4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Ite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467480" y="914400"/>
            <a:ext cx="1676520" cy="368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case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467480" y="1981080"/>
            <a:ext cx="1676520" cy="368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cal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010280" y="3733920"/>
            <a:ext cx="2133720" cy="368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loyment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0" y="3052800"/>
            <a:ext cx="2286000" cy="368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315200" y="4191120"/>
            <a:ext cx="1676520" cy="368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Sources of architectur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378720" y="1979640"/>
            <a:ext cx="3727800" cy="3363480"/>
            <a:chOff x="378720" y="1979640"/>
            <a:chExt cx="3727800" cy="3363480"/>
          </a:xfrm>
        </p:grpSpPr>
        <p:sp>
          <p:nvSpPr>
            <p:cNvPr id="892" name=""/>
            <p:cNvSpPr/>
            <p:nvPr/>
          </p:nvSpPr>
          <p:spPr>
            <a:xfrm>
              <a:off x="1679400" y="3897360"/>
              <a:ext cx="960480" cy="963720"/>
            </a:xfrm>
            <a:prstGeom prst="ellipse">
              <a:avLst/>
            </a:prstGeom>
            <a:solidFill>
              <a:srgbClr val="dddddd"/>
            </a:solidFill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38080" y="2895480"/>
              <a:ext cx="924120" cy="1117800"/>
            </a:xfrm>
            <a:prstGeom prst="line">
              <a:avLst/>
            </a:prstGeom>
            <a:ln w="254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552400" y="3044880"/>
              <a:ext cx="895320" cy="81288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184480" y="2438280"/>
              <a:ext cx="1440" cy="1371600"/>
            </a:xfrm>
            <a:prstGeom prst="line">
              <a:avLst/>
            </a:prstGeom>
            <a:ln w="15228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8720" y="2514600"/>
              <a:ext cx="8161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The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688400" y="1979640"/>
              <a:ext cx="1098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Meth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910600" y="2581200"/>
              <a:ext cx="11959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Intu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37160" y="4943520"/>
              <a:ext cx="22442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Classical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4809240" y="1978200"/>
            <a:ext cx="3727800" cy="3364560"/>
            <a:chOff x="4809240" y="1978200"/>
            <a:chExt cx="3727800" cy="3364560"/>
          </a:xfrm>
        </p:grpSpPr>
        <p:sp>
          <p:nvSpPr>
            <p:cNvPr id="901" name=""/>
            <p:cNvSpPr/>
            <p:nvPr/>
          </p:nvSpPr>
          <p:spPr>
            <a:xfrm>
              <a:off x="6089760" y="3898800"/>
              <a:ext cx="961920" cy="961560"/>
            </a:xfrm>
            <a:prstGeom prst="ellipse">
              <a:avLst/>
            </a:prstGeom>
            <a:solidFill>
              <a:srgbClr val="dddddd"/>
            </a:solidFill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38560" y="4943160"/>
              <a:ext cx="30657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Unprecedented 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268960" y="2893680"/>
              <a:ext cx="923760" cy="11174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982920" y="3043080"/>
              <a:ext cx="895320" cy="812520"/>
            </a:xfrm>
            <a:prstGeom prst="line">
              <a:avLst/>
            </a:prstGeom>
            <a:ln w="1904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16800" y="2401560"/>
              <a:ext cx="0" cy="1406160"/>
            </a:xfrm>
            <a:prstGeom prst="line">
              <a:avLst/>
            </a:prstGeom>
            <a:ln w="15228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09240" y="2512800"/>
              <a:ext cx="8161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The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119280" y="1978200"/>
              <a:ext cx="1098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Meth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341120" y="2579400"/>
              <a:ext cx="11959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2000" spc="-1" strike="noStrike">
                  <a:solidFill>
                    <a:srgbClr val="dddddd"/>
                  </a:solidFill>
                  <a:latin typeface="Arial"/>
                </a:rPr>
                <a:t>Intu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Pattern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pattern is a solution to a problem in a contex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pattern codifies specific knowledge collected from experience in a dom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well-structured systems are full of patter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1137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io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1137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ign patter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1137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chitectural patter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Mechanism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6240" indent="-426240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crew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rak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Key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ip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ivet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Valv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earing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pring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ins, axles, shaft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ranks and r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upling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am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opes, belts, and chain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ulley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riction wheel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ngaging gear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oothed wheel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lywheel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evers and connecting rod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ick wheels and gear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26240" indent="-426240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atche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8511840" y="0"/>
            <a:ext cx="63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daVin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Design pattern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1920" indent="-42192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eational patter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85880" indent="-259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stract fact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85880" indent="-259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920" indent="-42192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ructural patter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85880" indent="-259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ap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85880" indent="-259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i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85880" indent="-259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x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920" indent="-42192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havioral patter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85880" indent="-259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ain of responsi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85880" indent="-259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diat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85880" indent="-259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sit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1920" indent="-42192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chanisms are the soul of an architec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997760" y="0"/>
            <a:ext cx="1144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cc33"/>
                </a:solidFill>
                <a:latin typeface="Arial"/>
              </a:rPr>
              <a:t>Design Patter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Gamma et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Modeling a design pattern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18" name="figure_28-4.illus" descr=""/>
          <p:cNvPicPr/>
          <p:nvPr/>
        </p:nvPicPr>
        <p:blipFill>
          <a:blip r:embed="rId1"/>
          <a:stretch/>
        </p:blipFill>
        <p:spPr>
          <a:xfrm>
            <a:off x="1595520" y="2119320"/>
            <a:ext cx="59529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Modeling a design pattern 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(cont.)</a:t>
            </a:r>
            <a:endParaRPr b="1" lang="en-US" sz="21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20" name="figure_28-5.illus" descr=""/>
          <p:cNvPicPr/>
          <p:nvPr/>
        </p:nvPicPr>
        <p:blipFill>
          <a:blip r:embed="rId1"/>
          <a:stretch/>
        </p:blipFill>
        <p:spPr>
          <a:xfrm>
            <a:off x="1662120" y="2281320"/>
            <a:ext cx="58197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Modeling a design pattern </a:t>
            </a:r>
            <a:r>
              <a:rPr b="1" lang="en-US" sz="2100" spc="-1" strike="noStrike">
                <a:solidFill>
                  <a:srgbClr val="ffff66"/>
                </a:solidFill>
                <a:latin typeface="Arial"/>
              </a:rPr>
              <a:t>(cont.)</a:t>
            </a:r>
            <a:endParaRPr b="1" lang="en-US" sz="21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22" name="figure_28-6.illus" descr=""/>
          <p:cNvPicPr/>
          <p:nvPr/>
        </p:nvPicPr>
        <p:blipFill>
          <a:blip r:embed="rId1"/>
          <a:stretch/>
        </p:blipFill>
        <p:spPr>
          <a:xfrm>
            <a:off x="1519200" y="1905120"/>
            <a:ext cx="61056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ural pattern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tribute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Layere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vent-drive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MV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rame-base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IR-centr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tc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Subsump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ipes and filter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Dispos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sitory-centr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lackbo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pre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ule-ba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645680" y="0"/>
            <a:ext cx="14965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cc33"/>
                </a:solidFill>
                <a:latin typeface="Arial"/>
              </a:rPr>
              <a:t>Software Archite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Shaw and Gar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cc33"/>
                </a:solidFill>
                <a:latin typeface="Arial"/>
              </a:rPr>
              <a:t>Buschmann et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cc33"/>
                </a:solidFill>
                <a:latin typeface="Arial"/>
              </a:rPr>
              <a:t>A System of Patter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Buschman et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Boo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Complex business syste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901560" y="0"/>
            <a:ext cx="2243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cc33"/>
                </a:solidFill>
                <a:latin typeface="Arial"/>
              </a:rPr>
              <a:t>Real-Life Object-oriented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Soren Laue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654120" y="568440"/>
            <a:ext cx="848988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Movements in civil architectur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ronze age/Egyptian (Imhotep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recian/Roman (Vitruviu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zantine/Romanesq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th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nerism (Michelangelo, Palladi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roq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gineering/Rational/National/Romant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t novea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0280" indent="-44028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dern movement (Wright, LeCorbusi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1795320"/>
            <a:ext cx="23774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Imitation of previous eff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Learning from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Integration of other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- Experi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Logical application architectur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228600" y="1752480"/>
            <a:ext cx="2127240" cy="2287440"/>
            <a:chOff x="228600" y="1752480"/>
            <a:chExt cx="2127240" cy="2287440"/>
          </a:xfrm>
        </p:grpSpPr>
        <p:sp>
          <p:nvSpPr>
            <p:cNvPr id="931" name=""/>
            <p:cNvSpPr/>
            <p:nvPr/>
          </p:nvSpPr>
          <p:spPr>
            <a:xfrm>
              <a:off x="228600" y="2784240"/>
              <a:ext cx="2066760" cy="1255680"/>
            </a:xfrm>
            <a:custGeom>
              <a:avLst/>
              <a:gdLst/>
              <a:ahLst/>
              <a:rect l="l" t="t" r="r" b="b"/>
              <a:pathLst>
                <a:path w="1302" h="791">
                  <a:moveTo>
                    <a:pt x="0" y="0"/>
                  </a:moveTo>
                  <a:lnTo>
                    <a:pt x="1301" y="152"/>
                  </a:lnTo>
                  <a:lnTo>
                    <a:pt x="1261" y="790"/>
                  </a:lnTo>
                  <a:lnTo>
                    <a:pt x="119" y="79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9120" y="1752480"/>
              <a:ext cx="2066400" cy="1274760"/>
            </a:xfrm>
            <a:custGeom>
              <a:avLst/>
              <a:gdLst/>
              <a:ahLst/>
              <a:rect l="l" t="t" r="r" b="b"/>
              <a:pathLst>
                <a:path w="1302" h="803">
                  <a:moveTo>
                    <a:pt x="0" y="649"/>
                  </a:moveTo>
                  <a:lnTo>
                    <a:pt x="1301" y="802"/>
                  </a:lnTo>
                  <a:lnTo>
                    <a:pt x="1261" y="69"/>
                  </a:lnTo>
                  <a:lnTo>
                    <a:pt x="132" y="0"/>
                  </a:lnTo>
                  <a:lnTo>
                    <a:pt x="0" y="649"/>
                  </a:lnTo>
                </a:path>
              </a:pathLst>
            </a:custGeom>
            <a:solidFill>
              <a:srgbClr val="c0c0c0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288080" y="3154320"/>
              <a:ext cx="1020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Rela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370520" y="1946160"/>
              <a:ext cx="9853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Graph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"/>
            <p:cNvGrpSpPr/>
            <p:nvPr/>
          </p:nvGrpSpPr>
          <p:grpSpPr>
            <a:xfrm>
              <a:off x="522000" y="2279520"/>
              <a:ext cx="716760" cy="1471680"/>
              <a:chOff x="522000" y="2279520"/>
              <a:chExt cx="716760" cy="1471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22000" y="2468520"/>
                <a:ext cx="171000" cy="1009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564480" y="2311560"/>
                <a:ext cx="128160" cy="13539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882000" y="2311560"/>
                <a:ext cx="20160" cy="13395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670680" y="2297160"/>
                <a:ext cx="568080" cy="14047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817920" y="2349360"/>
                <a:ext cx="231480" cy="1335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>
                <a:off x="650160" y="2487600"/>
                <a:ext cx="104400" cy="1127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42160" y="2367000"/>
                <a:ext cx="653760" cy="13842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H="1">
                <a:off x="692640" y="2279520"/>
                <a:ext cx="271080" cy="1252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514080" y="3262320"/>
              <a:ext cx="693000" cy="620640"/>
              <a:chOff x="514080" y="3262320"/>
              <a:chExt cx="693000" cy="620640"/>
            </a:xfrm>
          </p:grpSpPr>
          <p:sp>
            <p:nvSpPr>
              <p:cNvPr id="945" name=""/>
              <p:cNvSpPr/>
              <p:nvPr/>
            </p:nvSpPr>
            <p:spPr>
              <a:xfrm>
                <a:off x="713880" y="3262320"/>
                <a:ext cx="39168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13880" y="3262320"/>
                <a:ext cx="391680" cy="90360"/>
              </a:xfrm>
              <a:prstGeom prst="rect">
                <a:avLst/>
              </a:prstGeom>
              <a:solidFill>
                <a:srgbClr val="39393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13800" y="3579840"/>
                <a:ext cx="390240" cy="30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13800" y="3579840"/>
                <a:ext cx="390240" cy="91800"/>
              </a:xfrm>
              <a:prstGeom prst="rect">
                <a:avLst/>
              </a:prstGeom>
              <a:solidFill>
                <a:srgbClr val="39393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14080" y="3365280"/>
                <a:ext cx="390240" cy="30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4080" y="3365280"/>
                <a:ext cx="390240" cy="95400"/>
              </a:xfrm>
              <a:prstGeom prst="rect">
                <a:avLst/>
              </a:prstGeom>
              <a:solidFill>
                <a:srgbClr val="39393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815400" y="3473280"/>
                <a:ext cx="391680" cy="30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15400" y="3473280"/>
                <a:ext cx="391680" cy="93600"/>
              </a:xfrm>
              <a:prstGeom prst="rect">
                <a:avLst/>
              </a:prstGeom>
              <a:solidFill>
                <a:srgbClr val="39393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3880" y="3262320"/>
                <a:ext cx="39168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13880" y="3262320"/>
                <a:ext cx="391680" cy="90360"/>
              </a:xfrm>
              <a:prstGeom prst="rect">
                <a:avLst/>
              </a:prstGeom>
              <a:solidFill>
                <a:srgbClr val="39393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466560" y="2052360"/>
              <a:ext cx="778680" cy="484200"/>
              <a:chOff x="466560" y="2052360"/>
              <a:chExt cx="778680" cy="484200"/>
            </a:xfrm>
          </p:grpSpPr>
          <p:sp>
            <p:nvSpPr>
              <p:cNvPr id="956" name=""/>
              <p:cNvSpPr/>
              <p:nvPr/>
            </p:nvSpPr>
            <p:spPr>
              <a:xfrm>
                <a:off x="466560" y="2127240"/>
                <a:ext cx="491760" cy="409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66560" y="2127240"/>
                <a:ext cx="491760" cy="93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66560" y="2127240"/>
                <a:ext cx="88560" cy="9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99480" y="2293920"/>
                <a:ext cx="2026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99480" y="2340000"/>
                <a:ext cx="2026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05800" y="2293920"/>
                <a:ext cx="156960" cy="34920"/>
              </a:xfrm>
              <a:custGeom>
                <a:avLst/>
                <a:gdLst/>
                <a:ahLst/>
                <a:rect l="l" t="t" r="r" b="b"/>
                <a:pathLst>
                  <a:path w="99" h="22">
                    <a:moveTo>
                      <a:pt x="0" y="21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35" y="15"/>
                    </a:lnTo>
                    <a:lnTo>
                      <a:pt x="47" y="15"/>
                    </a:lnTo>
                    <a:lnTo>
                      <a:pt x="58" y="21"/>
                    </a:lnTo>
                    <a:lnTo>
                      <a:pt x="70" y="10"/>
                    </a:lnTo>
                    <a:lnTo>
                      <a:pt x="82" y="5"/>
                    </a:lnTo>
                    <a:lnTo>
                      <a:pt x="98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28120" y="2404800"/>
                <a:ext cx="367920" cy="79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53480" y="2052360"/>
                <a:ext cx="49176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53480" y="2052360"/>
                <a:ext cx="491760" cy="954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53480" y="2052360"/>
                <a:ext cx="86760" cy="95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986760" y="2216160"/>
                <a:ext cx="2012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986760" y="2263680"/>
                <a:ext cx="2012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88400" y="2216160"/>
                <a:ext cx="161640" cy="39600"/>
              </a:xfrm>
              <a:custGeom>
                <a:avLst/>
                <a:gdLst/>
                <a:ahLst/>
                <a:rect l="l" t="t" r="r" b="b"/>
                <a:pathLst>
                  <a:path w="102" h="25">
                    <a:moveTo>
                      <a:pt x="0" y="24"/>
                    </a:moveTo>
                    <a:lnTo>
                      <a:pt x="16" y="0"/>
                    </a:lnTo>
                    <a:lnTo>
                      <a:pt x="28" y="0"/>
                    </a:lnTo>
                    <a:lnTo>
                      <a:pt x="36" y="18"/>
                    </a:lnTo>
                    <a:lnTo>
                      <a:pt x="48" y="18"/>
                    </a:lnTo>
                    <a:lnTo>
                      <a:pt x="60" y="24"/>
                    </a:lnTo>
                    <a:lnTo>
                      <a:pt x="72" y="12"/>
                    </a:lnTo>
                    <a:lnTo>
                      <a:pt x="84" y="6"/>
                    </a:lnTo>
                    <a:lnTo>
                      <a:pt x="101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15400" y="2330280"/>
                <a:ext cx="366480" cy="81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3048120" y="1828800"/>
            <a:ext cx="2472840" cy="3513240"/>
            <a:chOff x="3048120" y="1828800"/>
            <a:chExt cx="2472840" cy="3513240"/>
          </a:xfrm>
        </p:grpSpPr>
        <p:sp>
          <p:nvSpPr>
            <p:cNvPr id="971" name=""/>
            <p:cNvSpPr/>
            <p:nvPr/>
          </p:nvSpPr>
          <p:spPr>
            <a:xfrm>
              <a:off x="3078000" y="2828880"/>
              <a:ext cx="2442960" cy="1565280"/>
            </a:xfrm>
            <a:custGeom>
              <a:avLst/>
              <a:gdLst/>
              <a:ahLst/>
              <a:rect l="l" t="t" r="r" b="b"/>
              <a:pathLst>
                <a:path w="1539" h="986">
                  <a:moveTo>
                    <a:pt x="0" y="0"/>
                  </a:moveTo>
                  <a:lnTo>
                    <a:pt x="1509" y="131"/>
                  </a:lnTo>
                  <a:lnTo>
                    <a:pt x="1509" y="985"/>
                  </a:lnTo>
                  <a:lnTo>
                    <a:pt x="1538" y="960"/>
                  </a:lnTo>
                  <a:lnTo>
                    <a:pt x="0" y="85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048120" y="4102200"/>
              <a:ext cx="2449440" cy="1239840"/>
            </a:xfrm>
            <a:custGeom>
              <a:avLst/>
              <a:gdLst/>
              <a:ahLst/>
              <a:rect l="l" t="t" r="r" b="b"/>
              <a:pathLst>
                <a:path w="1543" h="781">
                  <a:moveTo>
                    <a:pt x="0" y="0"/>
                  </a:moveTo>
                  <a:lnTo>
                    <a:pt x="1542" y="150"/>
                  </a:lnTo>
                  <a:lnTo>
                    <a:pt x="1494" y="780"/>
                  </a:lnTo>
                  <a:lnTo>
                    <a:pt x="141" y="780"/>
                  </a:lnTo>
                  <a:lnTo>
                    <a:pt x="0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073320" y="1828800"/>
              <a:ext cx="2447640" cy="1262160"/>
            </a:xfrm>
            <a:custGeom>
              <a:avLst/>
              <a:gdLst/>
              <a:ahLst/>
              <a:rect l="l" t="t" r="r" b="b"/>
              <a:pathLst>
                <a:path w="1542" h="795">
                  <a:moveTo>
                    <a:pt x="0" y="643"/>
                  </a:moveTo>
                  <a:lnTo>
                    <a:pt x="1541" y="794"/>
                  </a:lnTo>
                  <a:lnTo>
                    <a:pt x="1493" y="68"/>
                  </a:lnTo>
                  <a:lnTo>
                    <a:pt x="157" y="0"/>
                  </a:lnTo>
                  <a:lnTo>
                    <a:pt x="0" y="643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301280" y="4452840"/>
              <a:ext cx="1020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Relat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402800" y="2004840"/>
              <a:ext cx="9853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Graph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610880" y="3056040"/>
              <a:ext cx="9090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Busin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bj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3438360" y="2514600"/>
              <a:ext cx="118800" cy="1044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557520" y="2411280"/>
              <a:ext cx="239400" cy="1460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3917520" y="2411280"/>
              <a:ext cx="117000" cy="1043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flipV="1">
              <a:off x="4034880" y="2308320"/>
              <a:ext cx="240840" cy="1146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917880" y="2308320"/>
              <a:ext cx="477360" cy="1563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317760" y="3559320"/>
              <a:ext cx="360000" cy="1145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57520" y="3454560"/>
              <a:ext cx="360000" cy="1355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3557520" y="3454560"/>
              <a:ext cx="599760" cy="1460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3917520" y="3454560"/>
              <a:ext cx="239400" cy="1355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3917880" y="3871800"/>
              <a:ext cx="477360" cy="11480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263760" y="3435480"/>
              <a:ext cx="358560" cy="206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965400" y="3327480"/>
              <a:ext cx="358560" cy="206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706560" y="3738600"/>
              <a:ext cx="357120" cy="206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309920" y="3781440"/>
              <a:ext cx="358560" cy="206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3873240" y="3648240"/>
              <a:ext cx="0" cy="885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73240" y="3654360"/>
              <a:ext cx="6188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86320" y="3654360"/>
              <a:ext cx="0" cy="130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4135320" y="3540240"/>
              <a:ext cx="0" cy="108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622680" y="3494160"/>
              <a:ext cx="3441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3504960" y="4572000"/>
              <a:ext cx="693000" cy="620640"/>
              <a:chOff x="3504960" y="4572000"/>
              <a:chExt cx="693000" cy="620640"/>
            </a:xfrm>
          </p:grpSpPr>
          <p:sp>
            <p:nvSpPr>
              <p:cNvPr id="997" name=""/>
              <p:cNvSpPr/>
              <p:nvPr/>
            </p:nvSpPr>
            <p:spPr>
              <a:xfrm>
                <a:off x="3704760" y="4572000"/>
                <a:ext cx="39168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704760" y="4572000"/>
                <a:ext cx="391680" cy="90360"/>
              </a:xfrm>
              <a:prstGeom prst="rect">
                <a:avLst/>
              </a:prstGeom>
              <a:solidFill>
                <a:srgbClr val="39393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604680" y="4889520"/>
                <a:ext cx="390240" cy="30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604680" y="4889520"/>
                <a:ext cx="390240" cy="91800"/>
              </a:xfrm>
              <a:prstGeom prst="rect">
                <a:avLst/>
              </a:prstGeom>
              <a:solidFill>
                <a:srgbClr val="39393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504960" y="4674960"/>
                <a:ext cx="390240" cy="30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504960" y="4674960"/>
                <a:ext cx="390240" cy="95400"/>
              </a:xfrm>
              <a:prstGeom prst="rect">
                <a:avLst/>
              </a:prstGeom>
              <a:solidFill>
                <a:srgbClr val="39393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806280" y="4782960"/>
                <a:ext cx="391680" cy="30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806280" y="4782960"/>
                <a:ext cx="391680" cy="93600"/>
              </a:xfrm>
              <a:prstGeom prst="rect">
                <a:avLst/>
              </a:prstGeom>
              <a:solidFill>
                <a:srgbClr val="39393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704760" y="4572000"/>
                <a:ext cx="391680" cy="304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704760" y="4572000"/>
                <a:ext cx="391680" cy="90360"/>
              </a:xfrm>
              <a:prstGeom prst="rect">
                <a:avLst/>
              </a:prstGeom>
              <a:solidFill>
                <a:srgbClr val="39393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3487680" y="1954080"/>
              <a:ext cx="778680" cy="484200"/>
              <a:chOff x="3487680" y="1954080"/>
              <a:chExt cx="778680" cy="484200"/>
            </a:xfrm>
          </p:grpSpPr>
          <p:sp>
            <p:nvSpPr>
              <p:cNvPr id="1008" name=""/>
              <p:cNvSpPr/>
              <p:nvPr/>
            </p:nvSpPr>
            <p:spPr>
              <a:xfrm>
                <a:off x="3487680" y="2028960"/>
                <a:ext cx="491760" cy="409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487680" y="2028960"/>
                <a:ext cx="491760" cy="93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487680" y="2028960"/>
                <a:ext cx="88560" cy="93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720600" y="2195640"/>
                <a:ext cx="2026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720600" y="2241720"/>
                <a:ext cx="2026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526920" y="2195640"/>
                <a:ext cx="156960" cy="34920"/>
              </a:xfrm>
              <a:custGeom>
                <a:avLst/>
                <a:gdLst/>
                <a:ahLst/>
                <a:rect l="l" t="t" r="r" b="b"/>
                <a:pathLst>
                  <a:path w="99" h="22">
                    <a:moveTo>
                      <a:pt x="0" y="21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35" y="15"/>
                    </a:lnTo>
                    <a:lnTo>
                      <a:pt x="47" y="15"/>
                    </a:lnTo>
                    <a:lnTo>
                      <a:pt x="58" y="21"/>
                    </a:lnTo>
                    <a:lnTo>
                      <a:pt x="70" y="10"/>
                    </a:lnTo>
                    <a:lnTo>
                      <a:pt x="82" y="5"/>
                    </a:lnTo>
                    <a:lnTo>
                      <a:pt x="98" y="1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549240" y="2306520"/>
                <a:ext cx="367920" cy="79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774600" y="1954080"/>
                <a:ext cx="491760" cy="40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774600" y="1954080"/>
                <a:ext cx="491760" cy="954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774600" y="1954080"/>
                <a:ext cx="86760" cy="95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007880" y="2117880"/>
                <a:ext cx="2012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007880" y="2165400"/>
                <a:ext cx="2012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809520" y="2117880"/>
                <a:ext cx="161640" cy="39600"/>
              </a:xfrm>
              <a:custGeom>
                <a:avLst/>
                <a:gdLst/>
                <a:ahLst/>
                <a:rect l="l" t="t" r="r" b="b"/>
                <a:pathLst>
                  <a:path w="102" h="25">
                    <a:moveTo>
                      <a:pt x="0" y="24"/>
                    </a:moveTo>
                    <a:lnTo>
                      <a:pt x="16" y="0"/>
                    </a:lnTo>
                    <a:lnTo>
                      <a:pt x="28" y="0"/>
                    </a:lnTo>
                    <a:lnTo>
                      <a:pt x="36" y="18"/>
                    </a:lnTo>
                    <a:lnTo>
                      <a:pt x="48" y="18"/>
                    </a:lnTo>
                    <a:lnTo>
                      <a:pt x="60" y="24"/>
                    </a:lnTo>
                    <a:lnTo>
                      <a:pt x="72" y="12"/>
                    </a:lnTo>
                    <a:lnTo>
                      <a:pt x="84" y="6"/>
                    </a:lnTo>
                    <a:lnTo>
                      <a:pt x="101" y="1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836520" y="2232000"/>
                <a:ext cx="366480" cy="81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6268320" y="1828800"/>
            <a:ext cx="2553480" cy="3733560"/>
            <a:chOff x="6268320" y="1828800"/>
            <a:chExt cx="2553480" cy="3733560"/>
          </a:xfrm>
        </p:grpSpPr>
        <p:sp>
          <p:nvSpPr>
            <p:cNvPr id="1023" name=""/>
            <p:cNvSpPr/>
            <p:nvPr/>
          </p:nvSpPr>
          <p:spPr>
            <a:xfrm>
              <a:off x="7095960" y="3803760"/>
              <a:ext cx="836640" cy="90324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34120" y="3711600"/>
              <a:ext cx="497160" cy="4111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6324480" y="1828800"/>
              <a:ext cx="2434320" cy="2265480"/>
              <a:chOff x="6324480" y="1828800"/>
              <a:chExt cx="2434320" cy="2265480"/>
            </a:xfrm>
          </p:grpSpPr>
          <p:sp>
            <p:nvSpPr>
              <p:cNvPr id="1026" name=""/>
              <p:cNvSpPr/>
              <p:nvPr/>
            </p:nvSpPr>
            <p:spPr>
              <a:xfrm>
                <a:off x="6324480" y="3008160"/>
                <a:ext cx="2368800" cy="960480"/>
              </a:xfrm>
              <a:prstGeom prst="octagon">
                <a:avLst>
                  <a:gd name="adj" fmla="val 29282"/>
                </a:avLst>
              </a:prstGeom>
              <a:solidFill>
                <a:srgbClr val="eaeae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324480" y="1828800"/>
                <a:ext cx="2368800" cy="960480"/>
              </a:xfrm>
              <a:prstGeom prst="octagon">
                <a:avLst>
                  <a:gd name="adj" fmla="val 29282"/>
                </a:avLst>
              </a:prstGeom>
              <a:solidFill>
                <a:srgbClr val="dddddd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773480" y="1986120"/>
                <a:ext cx="98532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Times New Roman"/>
                  </a:rPr>
                  <a:t>Graphic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Times New Roman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Times New Roman"/>
                  </a:rPr>
                  <a:t>Interfa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799040" y="3127320"/>
                <a:ext cx="90900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Times New Roman"/>
                  </a:rPr>
                  <a:t>Busin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Times New Roman"/>
                  </a:rPr>
                  <a:t>Objec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Times New Roman"/>
                  </a:rPr>
                  <a:t>Mod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737400" y="2244600"/>
                <a:ext cx="711000" cy="660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913440" y="2209680"/>
                <a:ext cx="595440" cy="7365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4280" y="2146320"/>
                <a:ext cx="44280" cy="816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115040" y="2281320"/>
                <a:ext cx="446400" cy="6238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21400" y="2152800"/>
                <a:ext cx="193680" cy="765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6562800" y="2917800"/>
                <a:ext cx="866880" cy="525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7043760" y="2889360"/>
                <a:ext cx="280800" cy="8366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588080" y="2940120"/>
                <a:ext cx="113040" cy="842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7245360" y="2876400"/>
                <a:ext cx="316080" cy="5032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6676920" y="2905200"/>
                <a:ext cx="989280" cy="6015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0" name=""/>
              <p:cNvGrpSpPr/>
              <p:nvPr/>
            </p:nvGrpSpPr>
            <p:grpSpPr>
              <a:xfrm>
                <a:off x="7174080" y="2784600"/>
                <a:ext cx="663480" cy="234720"/>
                <a:chOff x="7174080" y="2784600"/>
                <a:chExt cx="663480" cy="23472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7285680" y="2784600"/>
                  <a:ext cx="438480" cy="234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174080" y="2967480"/>
                  <a:ext cx="663480" cy="51480"/>
                </a:xfrm>
                <a:prstGeom prst="rect">
                  <a:avLst/>
                </a:prstGeom>
                <a:solidFill>
                  <a:srgbClr val="39393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174080" y="2784600"/>
                  <a:ext cx="663480" cy="50040"/>
                </a:xfrm>
                <a:prstGeom prst="rect">
                  <a:avLst/>
                </a:prstGeom>
                <a:solidFill>
                  <a:srgbClr val="39393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4" name=""/>
              <p:cNvSpPr/>
              <p:nvPr/>
            </p:nvSpPr>
            <p:spPr>
              <a:xfrm>
                <a:off x="6588000" y="3451320"/>
                <a:ext cx="912960" cy="6080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308720" y="3343320"/>
                <a:ext cx="157320" cy="7509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7649640" y="3606840"/>
                <a:ext cx="95400" cy="3682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7535880" y="3726000"/>
                <a:ext cx="9360" cy="3682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8" name=""/>
              <p:cNvGrpSpPr/>
              <p:nvPr/>
            </p:nvGrpSpPr>
            <p:grpSpPr>
              <a:xfrm>
                <a:off x="6467400" y="3270240"/>
                <a:ext cx="1317240" cy="572760"/>
                <a:chOff x="6467400" y="3270240"/>
                <a:chExt cx="1317240" cy="57276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6467400" y="3363120"/>
                  <a:ext cx="337320" cy="179280"/>
                </a:xfrm>
                <a:prstGeom prst="rect">
                  <a:avLst/>
                </a:prstGeom>
                <a:solidFill>
                  <a:srgbClr val="ffff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124760" y="3270240"/>
                  <a:ext cx="337320" cy="180720"/>
                </a:xfrm>
                <a:prstGeom prst="rect">
                  <a:avLst/>
                </a:prstGeom>
                <a:solidFill>
                  <a:srgbClr val="ffff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881040" y="3627720"/>
                  <a:ext cx="337320" cy="179640"/>
                </a:xfrm>
                <a:prstGeom prst="rect">
                  <a:avLst/>
                </a:prstGeom>
                <a:solidFill>
                  <a:srgbClr val="ffff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447320" y="3663360"/>
                  <a:ext cx="337320" cy="179640"/>
                </a:xfrm>
                <a:prstGeom prst="rect">
                  <a:avLst/>
                </a:prstGeom>
                <a:solidFill>
                  <a:srgbClr val="ffff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V="1">
                  <a:off x="7039440" y="3547800"/>
                  <a:ext cx="0" cy="781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7039440" y="3554640"/>
                  <a:ext cx="5796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611840" y="3554640"/>
                  <a:ext cx="0" cy="11304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7283160" y="3456360"/>
                  <a:ext cx="0" cy="9144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803280" y="3414960"/>
                  <a:ext cx="3225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6708600" y="1962000"/>
                <a:ext cx="720720" cy="405000"/>
                <a:chOff x="6708600" y="1962000"/>
                <a:chExt cx="720720" cy="40500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6708600" y="2024640"/>
                  <a:ext cx="455040" cy="342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708600" y="2024640"/>
                  <a:ext cx="455040" cy="78120"/>
                </a:xfrm>
                <a:prstGeom prst="rect">
                  <a:avLst/>
                </a:prstGeom>
                <a:solidFill>
                  <a:srgbClr val="cccc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708600" y="2024640"/>
                  <a:ext cx="82080" cy="78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924240" y="2163960"/>
                  <a:ext cx="1875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924240" y="2202480"/>
                  <a:ext cx="1875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744960" y="2163960"/>
                  <a:ext cx="145440" cy="29160"/>
                </a:xfrm>
                <a:custGeom>
                  <a:avLst/>
                  <a:gdLst/>
                  <a:ahLst/>
                  <a:rect l="l" t="t" r="r" b="b"/>
                  <a:pathLst>
                    <a:path w="99" h="22">
                      <a:moveTo>
                        <a:pt x="0" y="21"/>
                      </a:moveTo>
                      <a:lnTo>
                        <a:pt x="15" y="0"/>
                      </a:lnTo>
                      <a:lnTo>
                        <a:pt x="27" y="0"/>
                      </a:lnTo>
                      <a:lnTo>
                        <a:pt x="35" y="15"/>
                      </a:lnTo>
                      <a:lnTo>
                        <a:pt x="47" y="15"/>
                      </a:lnTo>
                      <a:lnTo>
                        <a:pt x="58" y="21"/>
                      </a:lnTo>
                      <a:lnTo>
                        <a:pt x="70" y="10"/>
                      </a:lnTo>
                      <a:lnTo>
                        <a:pt x="82" y="5"/>
                      </a:lnTo>
                      <a:lnTo>
                        <a:pt x="98" y="1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765840" y="2256480"/>
                  <a:ext cx="340560" cy="66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974280" y="1962000"/>
                  <a:ext cx="455040" cy="342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974280" y="1962000"/>
                  <a:ext cx="455040" cy="79560"/>
                </a:xfrm>
                <a:prstGeom prst="rect">
                  <a:avLst/>
                </a:prstGeom>
                <a:solidFill>
                  <a:srgbClr val="cccc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974280" y="1962000"/>
                  <a:ext cx="80280" cy="79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7189920" y="2098800"/>
                  <a:ext cx="1864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7189920" y="2138760"/>
                  <a:ext cx="1864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7006680" y="2098800"/>
                  <a:ext cx="149760" cy="33120"/>
                </a:xfrm>
                <a:custGeom>
                  <a:avLst/>
                  <a:gdLst/>
                  <a:ahLst/>
                  <a:rect l="l" t="t" r="r" b="b"/>
                  <a:pathLst>
                    <a:path w="102" h="25">
                      <a:moveTo>
                        <a:pt x="0" y="24"/>
                      </a:moveTo>
                      <a:lnTo>
                        <a:pt x="16" y="0"/>
                      </a:lnTo>
                      <a:lnTo>
                        <a:pt x="28" y="0"/>
                      </a:lnTo>
                      <a:lnTo>
                        <a:pt x="36" y="18"/>
                      </a:lnTo>
                      <a:lnTo>
                        <a:pt x="48" y="18"/>
                      </a:lnTo>
                      <a:lnTo>
                        <a:pt x="60" y="24"/>
                      </a:lnTo>
                      <a:lnTo>
                        <a:pt x="72" y="12"/>
                      </a:lnTo>
                      <a:lnTo>
                        <a:pt x="84" y="6"/>
                      </a:lnTo>
                      <a:lnTo>
                        <a:pt x="101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7031520" y="2194200"/>
                  <a:ext cx="339120" cy="67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3" name=""/>
            <p:cNvGrpSpPr/>
            <p:nvPr/>
          </p:nvGrpSpPr>
          <p:grpSpPr>
            <a:xfrm>
              <a:off x="6394320" y="4509720"/>
              <a:ext cx="2427480" cy="1052640"/>
              <a:chOff x="6394320" y="4509720"/>
              <a:chExt cx="2427480" cy="1052640"/>
            </a:xfrm>
          </p:grpSpPr>
          <p:sp>
            <p:nvSpPr>
              <p:cNvPr id="1074" name=""/>
              <p:cNvSpPr/>
              <p:nvPr/>
            </p:nvSpPr>
            <p:spPr>
              <a:xfrm>
                <a:off x="6394320" y="4602960"/>
                <a:ext cx="2368800" cy="959400"/>
              </a:xfrm>
              <a:prstGeom prst="octagon">
                <a:avLst>
                  <a:gd name="adj" fmla="val 29282"/>
                </a:avLst>
              </a:prstGeom>
              <a:solidFill>
                <a:srgbClr val="b2b2b2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801560" y="4799520"/>
                <a:ext cx="102024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Times New Roman"/>
                  </a:rPr>
                  <a:t>Relatio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Times New Roman"/>
                  </a:rPr>
                  <a:t>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6858000" y="4517640"/>
                <a:ext cx="641520" cy="6015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7043400" y="4509720"/>
                <a:ext cx="562320" cy="8211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8" name=""/>
              <p:cNvGrpSpPr/>
              <p:nvPr/>
            </p:nvGrpSpPr>
            <p:grpSpPr>
              <a:xfrm>
                <a:off x="6858000" y="4984200"/>
                <a:ext cx="641160" cy="519480"/>
                <a:chOff x="6858000" y="4984200"/>
                <a:chExt cx="641160" cy="51948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7043040" y="4984200"/>
                  <a:ext cx="362520" cy="25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7043040" y="4984200"/>
                  <a:ext cx="362520" cy="75600"/>
                </a:xfrm>
                <a:prstGeom prst="rect">
                  <a:avLst/>
                </a:prstGeom>
                <a:solidFill>
                  <a:srgbClr val="39393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6950520" y="5249880"/>
                  <a:ext cx="361080" cy="253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6950520" y="5249880"/>
                  <a:ext cx="361080" cy="76680"/>
                </a:xfrm>
                <a:prstGeom prst="rect">
                  <a:avLst/>
                </a:prstGeom>
                <a:solidFill>
                  <a:srgbClr val="39393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6858000" y="5070240"/>
                  <a:ext cx="361080" cy="25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6858000" y="5070240"/>
                  <a:ext cx="361080" cy="79560"/>
                </a:xfrm>
                <a:prstGeom prst="rect">
                  <a:avLst/>
                </a:prstGeom>
                <a:solidFill>
                  <a:srgbClr val="39393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136640" y="5160600"/>
                  <a:ext cx="362520" cy="253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136640" y="5160600"/>
                  <a:ext cx="362520" cy="78120"/>
                </a:xfrm>
                <a:prstGeom prst="rect">
                  <a:avLst/>
                </a:prstGeom>
                <a:solidFill>
                  <a:srgbClr val="39393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043040" y="4984200"/>
                  <a:ext cx="362520" cy="25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043040" y="4984200"/>
                  <a:ext cx="362520" cy="75600"/>
                </a:xfrm>
                <a:prstGeom prst="rect">
                  <a:avLst/>
                </a:prstGeom>
                <a:solidFill>
                  <a:srgbClr val="39393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9" name=""/>
            <p:cNvSpPr/>
            <p:nvPr/>
          </p:nvSpPr>
          <p:spPr>
            <a:xfrm>
              <a:off x="7007040" y="3637800"/>
              <a:ext cx="733320" cy="147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3"/>
                  </a:moveTo>
                  <a:arcTo wR="10800" hR="10800" stAng="-5252" swAng="5405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3"/>
                  </a:moveTo>
                  <a:arcTo wR="10800" hR="10800" stAng="-5252" swAng="5405252"/>
                </a:path>
              </a:pathLst>
            </a:custGeom>
            <a:noFill/>
            <a:ln cap="rnd" w="1260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7319880" y="4446720"/>
              <a:ext cx="165240" cy="529920"/>
            </a:xfrm>
            <a:prstGeom prst="line">
              <a:avLst/>
            </a:prstGeom>
            <a:ln w="1260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7170840" y="3935520"/>
              <a:ext cx="684000" cy="658440"/>
              <a:chOff x="7170840" y="3935520"/>
              <a:chExt cx="684000" cy="658440"/>
            </a:xfrm>
          </p:grpSpPr>
          <p:sp>
            <p:nvSpPr>
              <p:cNvPr id="1092" name=""/>
              <p:cNvSpPr/>
              <p:nvPr/>
            </p:nvSpPr>
            <p:spPr>
              <a:xfrm>
                <a:off x="7178040" y="4541040"/>
                <a:ext cx="668880" cy="52920"/>
              </a:xfrm>
              <a:prstGeom prst="rect">
                <a:avLst/>
              </a:prstGeom>
              <a:solidFill>
                <a:srgbClr val="777777"/>
              </a:solidFill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170840" y="3935520"/>
                <a:ext cx="684000" cy="52920"/>
              </a:xfrm>
              <a:prstGeom prst="rect">
                <a:avLst/>
              </a:prstGeom>
              <a:solidFill>
                <a:srgbClr val="777777"/>
              </a:solidFill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244280" y="4086360"/>
                <a:ext cx="559440" cy="400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95" name=""/>
            <p:cNvSpPr/>
            <p:nvPr/>
          </p:nvSpPr>
          <p:spPr>
            <a:xfrm>
              <a:off x="6268320" y="3683160"/>
              <a:ext cx="1143360" cy="102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8" y="0"/>
                  </a:moveTo>
                  <a:arcTo wR="10800" hR="10800" stAng="-5407016" swAng="54070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8" y="0"/>
                  </a:moveTo>
                  <a:arcTo wR="10800" hR="10800" stAng="-5407016" swAng="5407016"/>
                </a:path>
              </a:pathLst>
            </a:custGeom>
            <a:noFill/>
            <a:ln cap="rnd" w="1260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350120" y="3619440"/>
              <a:ext cx="154080" cy="608040"/>
            </a:xfrm>
            <a:prstGeom prst="line">
              <a:avLst/>
            </a:prstGeom>
            <a:ln w="1260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524640" y="3485160"/>
              <a:ext cx="828360" cy="155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3"/>
                  </a:moveTo>
                  <a:arcTo wR="10800" hR="10800" stAng="-5459" swAng="52763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3"/>
                  </a:moveTo>
                  <a:arcTo wR="10800" hR="10800" stAng="-5459" swAng="5276354"/>
                </a:path>
              </a:pathLst>
            </a:custGeom>
            <a:noFill/>
            <a:ln cap="rnd" w="1260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Physical application architectur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65200" y="1457280"/>
            <a:ext cx="30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621400" y="1457280"/>
            <a:ext cx="2941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60440" y="1600200"/>
            <a:ext cx="8275680" cy="2521080"/>
          </a:xfrm>
          <a:custGeom>
            <a:avLst/>
            <a:gdLst/>
            <a:ahLst/>
            <a:rect l="l" t="t" r="r" b="b"/>
            <a:pathLst>
              <a:path w="5213" h="1588">
                <a:moveTo>
                  <a:pt x="0" y="1587"/>
                </a:moveTo>
                <a:lnTo>
                  <a:pt x="5212" y="698"/>
                </a:lnTo>
                <a:lnTo>
                  <a:pt x="5212" y="0"/>
                </a:lnTo>
                <a:lnTo>
                  <a:pt x="0" y="0"/>
                </a:lnTo>
                <a:lnTo>
                  <a:pt x="0" y="1587"/>
                </a:lnTo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0440" y="2708280"/>
            <a:ext cx="8275680" cy="2523960"/>
          </a:xfrm>
          <a:custGeom>
            <a:avLst/>
            <a:gdLst/>
            <a:ahLst/>
            <a:rect l="l" t="t" r="r" b="b"/>
            <a:pathLst>
              <a:path w="5213" h="1590">
                <a:moveTo>
                  <a:pt x="0" y="889"/>
                </a:moveTo>
                <a:lnTo>
                  <a:pt x="5212" y="0"/>
                </a:lnTo>
                <a:lnTo>
                  <a:pt x="5212" y="1589"/>
                </a:lnTo>
                <a:lnTo>
                  <a:pt x="0" y="1589"/>
                </a:lnTo>
                <a:lnTo>
                  <a:pt x="0" y="889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80880" y="5243400"/>
            <a:ext cx="8433000" cy="908280"/>
          </a:xfrm>
          <a:prstGeom prst="roundRect">
            <a:avLst>
              <a:gd name="adj" fmla="val 12495"/>
            </a:avLst>
          </a:prstGeom>
          <a:solidFill>
            <a:srgbClr val="eaea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44400" y="5560920"/>
            <a:ext cx="3218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Relational Database Server(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5938920" y="1714680"/>
            <a:ext cx="2690640" cy="4270320"/>
            <a:chOff x="5938920" y="1714680"/>
            <a:chExt cx="2690640" cy="4270320"/>
          </a:xfrm>
        </p:grpSpPr>
        <p:grpSp>
          <p:nvGrpSpPr>
            <p:cNvPr id="1106" name=""/>
            <p:cNvGrpSpPr/>
            <p:nvPr/>
          </p:nvGrpSpPr>
          <p:grpSpPr>
            <a:xfrm>
              <a:off x="5983200" y="5335560"/>
              <a:ext cx="446040" cy="361080"/>
              <a:chOff x="5983200" y="5335560"/>
              <a:chExt cx="446040" cy="361080"/>
            </a:xfrm>
          </p:grpSpPr>
          <p:grpSp>
            <p:nvGrpSpPr>
              <p:cNvPr id="1107" name=""/>
              <p:cNvGrpSpPr/>
              <p:nvPr/>
            </p:nvGrpSpPr>
            <p:grpSpPr>
              <a:xfrm>
                <a:off x="5983200" y="5621040"/>
                <a:ext cx="446040" cy="75600"/>
                <a:chOff x="5983200" y="5621040"/>
                <a:chExt cx="446040" cy="75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5983200" y="5635080"/>
                  <a:ext cx="446040" cy="6156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5983200" y="5658840"/>
                  <a:ext cx="446040" cy="21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5983200" y="5621040"/>
                  <a:ext cx="446040" cy="6300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5983200" y="5574960"/>
                <a:ext cx="446040" cy="77040"/>
                <a:chOff x="5983200" y="5574960"/>
                <a:chExt cx="446040" cy="7704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5983200" y="5590440"/>
                  <a:ext cx="446040" cy="6156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5983200" y="5612760"/>
                  <a:ext cx="446040" cy="201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983200" y="5574960"/>
                  <a:ext cx="446040" cy="6300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983200" y="5530680"/>
                <a:ext cx="446040" cy="77040"/>
                <a:chOff x="5983200" y="5530680"/>
                <a:chExt cx="446040" cy="7704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5983200" y="5541120"/>
                  <a:ext cx="446040" cy="6660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983200" y="5568120"/>
                  <a:ext cx="446040" cy="20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5983200" y="5530680"/>
                  <a:ext cx="446040" cy="644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983200" y="5482800"/>
                <a:ext cx="446040" cy="78840"/>
                <a:chOff x="5983200" y="5482800"/>
                <a:chExt cx="446040" cy="7884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983200" y="5496840"/>
                  <a:ext cx="446040" cy="6480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983200" y="5525280"/>
                  <a:ext cx="446040" cy="18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983200" y="5482800"/>
                  <a:ext cx="446040" cy="680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5983200" y="5439960"/>
                <a:ext cx="446040" cy="77040"/>
                <a:chOff x="5983200" y="5439960"/>
                <a:chExt cx="446040" cy="7704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5983200" y="5452200"/>
                  <a:ext cx="446040" cy="6480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983200" y="5481000"/>
                  <a:ext cx="446040" cy="219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5983200" y="5439960"/>
                  <a:ext cx="446040" cy="6480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5983200" y="5389200"/>
                <a:ext cx="446040" cy="78840"/>
                <a:chOff x="5983200" y="5389200"/>
                <a:chExt cx="446040" cy="7884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5983200" y="5400000"/>
                  <a:ext cx="446040" cy="680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5983200" y="5427000"/>
                  <a:ext cx="446040" cy="201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5983200" y="5389200"/>
                  <a:ext cx="446040" cy="601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5983200" y="5335560"/>
                <a:ext cx="446040" cy="78840"/>
                <a:chOff x="5983200" y="5335560"/>
                <a:chExt cx="446040" cy="7884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5983200" y="5351040"/>
                  <a:ext cx="446040" cy="6336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5983200" y="5376600"/>
                  <a:ext cx="446040" cy="201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5983200" y="5335560"/>
                  <a:ext cx="446040" cy="680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5" name=""/>
              <p:cNvSpPr/>
              <p:nvPr/>
            </p:nvSpPr>
            <p:spPr>
              <a:xfrm>
                <a:off x="6190920" y="5370120"/>
                <a:ext cx="31680" cy="20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6810480" y="5437080"/>
              <a:ext cx="722160" cy="547920"/>
              <a:chOff x="6810480" y="5437080"/>
              <a:chExt cx="722160" cy="54792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6810480" y="5864400"/>
                <a:ext cx="722160" cy="120600"/>
                <a:chOff x="6810480" y="5864400"/>
                <a:chExt cx="722160" cy="120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6810480" y="5884920"/>
                  <a:ext cx="722160" cy="10008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6810480" y="5923080"/>
                  <a:ext cx="722160" cy="331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6810480" y="5864400"/>
                  <a:ext cx="722160" cy="10476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1" name=""/>
              <p:cNvGrpSpPr/>
              <p:nvPr/>
            </p:nvGrpSpPr>
            <p:grpSpPr>
              <a:xfrm>
                <a:off x="6810480" y="5796000"/>
                <a:ext cx="722160" cy="120600"/>
                <a:chOff x="6810480" y="5796000"/>
                <a:chExt cx="722160" cy="12060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6810480" y="5818320"/>
                  <a:ext cx="722160" cy="9828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6810480" y="5851440"/>
                  <a:ext cx="722160" cy="36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6810480" y="5796000"/>
                  <a:ext cx="722160" cy="1015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6810480" y="5727600"/>
                <a:ext cx="722160" cy="123840"/>
                <a:chOff x="6810480" y="5727600"/>
                <a:chExt cx="722160" cy="12384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6810480" y="5746680"/>
                  <a:ext cx="722160" cy="10476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810480" y="5788080"/>
                  <a:ext cx="722160" cy="334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810480" y="5727600"/>
                  <a:ext cx="722160" cy="10476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6810480" y="5659560"/>
                <a:ext cx="722160" cy="123840"/>
                <a:chOff x="6810480" y="5659560"/>
                <a:chExt cx="722160" cy="12384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6810480" y="5681520"/>
                  <a:ext cx="722160" cy="10188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810480" y="5719680"/>
                  <a:ext cx="722160" cy="381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6810480" y="5659560"/>
                  <a:ext cx="722160" cy="10296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3" name=""/>
              <p:cNvGrpSpPr/>
              <p:nvPr/>
            </p:nvGrpSpPr>
            <p:grpSpPr>
              <a:xfrm>
                <a:off x="6810480" y="5595840"/>
                <a:ext cx="722160" cy="119160"/>
                <a:chOff x="6810480" y="5595840"/>
                <a:chExt cx="722160" cy="11916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6810480" y="5611680"/>
                  <a:ext cx="722160" cy="1033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810480" y="5654520"/>
                  <a:ext cx="722160" cy="334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6810480" y="5595840"/>
                  <a:ext cx="722160" cy="10188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6810480" y="5518080"/>
                <a:ext cx="722160" cy="123840"/>
                <a:chOff x="6810480" y="5518080"/>
                <a:chExt cx="722160" cy="12384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6810480" y="5532480"/>
                  <a:ext cx="722160" cy="1094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810480" y="5572080"/>
                  <a:ext cx="722160" cy="34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810480" y="5518080"/>
                  <a:ext cx="722160" cy="968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6810480" y="5437080"/>
                <a:ext cx="722160" cy="122400"/>
                <a:chOff x="6810480" y="5437080"/>
                <a:chExt cx="722160" cy="1224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6810480" y="5460840"/>
                  <a:ext cx="722160" cy="9864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6810480" y="5496120"/>
                  <a:ext cx="722160" cy="331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810480" y="5437080"/>
                  <a:ext cx="722160" cy="10656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7143840" y="5487840"/>
                <a:ext cx="57240" cy="334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>
              <a:off x="5989680" y="1714680"/>
              <a:ext cx="2547720" cy="78084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7" name="" descr=""/>
            <p:cNvPicPr/>
            <p:nvPr/>
          </p:nvPicPr>
          <p:blipFill>
            <a:blip r:embed="rId1"/>
            <a:stretch/>
          </p:blipFill>
          <p:spPr>
            <a:xfrm>
              <a:off x="6627960" y="1903320"/>
              <a:ext cx="43956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"/>
            <p:cNvSpPr/>
            <p:nvPr/>
          </p:nvSpPr>
          <p:spPr>
            <a:xfrm>
              <a:off x="5938920" y="1738440"/>
              <a:ext cx="823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Times New Roman"/>
                </a:rPr>
                <a:t>Client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223040" y="1909800"/>
              <a:ext cx="1136880" cy="390600"/>
            </a:xfrm>
            <a:prstGeom prst="roundRect">
              <a:avLst>
                <a:gd name="adj" fmla="val 12495"/>
              </a:avLst>
            </a:prstGeom>
            <a:solidFill>
              <a:srgbClr val="eaeaea"/>
            </a:solidFill>
            <a:ln w="1260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WWW 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7538760" y="2406600"/>
              <a:ext cx="183960" cy="706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989680" y="3125880"/>
              <a:ext cx="2639880" cy="199080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977080" y="3213000"/>
              <a:ext cx="8269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Times New Roman"/>
                </a:rPr>
                <a:t>W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Times New Roman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3" name="" descr=""/>
            <p:cNvPicPr/>
            <p:nvPr/>
          </p:nvPicPr>
          <p:blipFill>
            <a:blip r:embed="rId2"/>
            <a:stretch/>
          </p:blipFill>
          <p:spPr>
            <a:xfrm>
              <a:off x="6173640" y="3919680"/>
              <a:ext cx="530280" cy="100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4" name=""/>
            <p:cNvGrpSpPr/>
            <p:nvPr/>
          </p:nvGrpSpPr>
          <p:grpSpPr>
            <a:xfrm>
              <a:off x="6718320" y="3321000"/>
              <a:ext cx="1735200" cy="490680"/>
              <a:chOff x="6718320" y="3321000"/>
              <a:chExt cx="1735200" cy="490680"/>
            </a:xfrm>
          </p:grpSpPr>
          <p:sp>
            <p:nvSpPr>
              <p:cNvPr id="1175" name=""/>
              <p:cNvSpPr/>
              <p:nvPr/>
            </p:nvSpPr>
            <p:spPr>
              <a:xfrm>
                <a:off x="6718320" y="3321000"/>
                <a:ext cx="540000" cy="490680"/>
              </a:xfrm>
              <a:prstGeom prst="roundRect">
                <a:avLst>
                  <a:gd name="adj" fmla="val 12495"/>
                </a:avLst>
              </a:prstGeom>
              <a:solidFill>
                <a:srgbClr val="eaeaea"/>
              </a:solidFill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HTM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CG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361280" y="3321000"/>
                <a:ext cx="539640" cy="490680"/>
              </a:xfrm>
              <a:prstGeom prst="roundRect">
                <a:avLst>
                  <a:gd name="adj" fmla="val 12495"/>
                </a:avLst>
              </a:prstGeom>
              <a:solidFill>
                <a:srgbClr val="eaeaea"/>
              </a:solidFill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AS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006040" y="3321000"/>
                <a:ext cx="447480" cy="490680"/>
              </a:xfrm>
              <a:custGeom>
                <a:avLst/>
                <a:gdLst>
                  <a:gd name="textAreaLeft" fmla="*/ 16200 w 447480"/>
                  <a:gd name="textAreaRight" fmla="*/ 431280 w 447480"/>
                  <a:gd name="textAreaTop" fmla="*/ 16200 h 490680"/>
                  <a:gd name="textAreaBottom" fmla="*/ 474480 h 490680"/>
                </a:gdLst>
                <a:ahLst/>
                <a:rect l="textAreaLeft" t="textAreaTop" r="textAreaRight" b="textAreaBottom"/>
                <a:pathLst>
                  <a:path w="21600" h="23684">
                    <a:moveTo>
                      <a:pt x="2699" y="0"/>
                    </a:moveTo>
                    <a:arcTo wR="2699" hR="2699" stAng="16200000" swAng="-5400000"/>
                    <a:lnTo>
                      <a:pt x="0" y="20985"/>
                    </a:lnTo>
                    <a:arcTo wR="2699" hR="2699" stAng="10800000" swAng="-5400000"/>
                    <a:lnTo>
                      <a:pt x="18901" y="23684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eaeaea"/>
              </a:solidFill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Ja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7072200" y="3936960"/>
              <a:ext cx="1181160" cy="490680"/>
            </a:xfrm>
            <a:prstGeom prst="roundRect">
              <a:avLst>
                <a:gd name="adj" fmla="val 12495"/>
              </a:avLst>
            </a:prstGeom>
            <a:solidFill>
              <a:srgbClr val="eaeaea"/>
            </a:solidFill>
            <a:ln w="1260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Business 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072200" y="4541760"/>
              <a:ext cx="1181160" cy="490680"/>
            </a:xfrm>
            <a:prstGeom prst="roundRect">
              <a:avLst>
                <a:gd name="adj" fmla="val 12495"/>
              </a:avLst>
            </a:prstGeom>
            <a:solidFill>
              <a:srgbClr val="eaeaea"/>
            </a:solidFill>
            <a:ln w="1260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Business 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Eng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rot="10800000">
              <a:off x="7264440" y="3819960"/>
              <a:ext cx="920520" cy="20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126"/>
                </a:path>
              </a:pathLst>
            </a:custGeom>
            <a:noFill/>
            <a:ln cap="rnd" w="255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565200" y="1601640"/>
            <a:ext cx="7526520" cy="4397400"/>
            <a:chOff x="565200" y="1601640"/>
            <a:chExt cx="7526520" cy="4397400"/>
          </a:xfrm>
        </p:grpSpPr>
        <p:grpSp>
          <p:nvGrpSpPr>
            <p:cNvPr id="1182" name=""/>
            <p:cNvGrpSpPr/>
            <p:nvPr/>
          </p:nvGrpSpPr>
          <p:grpSpPr>
            <a:xfrm>
              <a:off x="565200" y="1714680"/>
              <a:ext cx="2457360" cy="1990440"/>
              <a:chOff x="565200" y="1714680"/>
              <a:chExt cx="2457360" cy="1990440"/>
            </a:xfrm>
          </p:grpSpPr>
          <p:sp>
            <p:nvSpPr>
              <p:cNvPr id="1183" name=""/>
              <p:cNvSpPr/>
              <p:nvPr/>
            </p:nvSpPr>
            <p:spPr>
              <a:xfrm>
                <a:off x="565200" y="1714680"/>
                <a:ext cx="2457360" cy="1990440"/>
              </a:xfrm>
              <a:prstGeom prst="roundRect">
                <a:avLst>
                  <a:gd name="adj" fmla="val 12495"/>
                </a:avLst>
              </a:prstGeom>
              <a:solidFill>
                <a:srgbClr val="00000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662120" y="1909800"/>
                <a:ext cx="1181160" cy="390600"/>
              </a:xfrm>
              <a:prstGeom prst="roundRect">
                <a:avLst>
                  <a:gd name="adj" fmla="val 12495"/>
                </a:avLst>
              </a:prstGeom>
              <a:solidFill>
                <a:srgbClr val="eaeaea"/>
              </a:solidFill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Applic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662120" y="2413080"/>
                <a:ext cx="1181160" cy="490320"/>
              </a:xfrm>
              <a:prstGeom prst="roundRect">
                <a:avLst>
                  <a:gd name="adj" fmla="val 12495"/>
                </a:avLst>
              </a:prstGeom>
              <a:solidFill>
                <a:srgbClr val="eaeaea"/>
              </a:solidFill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Business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Servic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5560" y="2103480"/>
                <a:ext cx="79380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>
                <a:off x="622440" y="1738440"/>
                <a:ext cx="8236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8080"/>
                    </a:solidFill>
                    <a:latin typeface="Times New Roman"/>
                  </a:rPr>
                  <a:t>Client 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662120" y="3017880"/>
                <a:ext cx="1181160" cy="490320"/>
              </a:xfrm>
              <a:prstGeom prst="roundRect">
                <a:avLst>
                  <a:gd name="adj" fmla="val 12495"/>
                </a:avLst>
              </a:prstGeom>
              <a:solidFill>
                <a:srgbClr val="eaeaea"/>
              </a:solidFill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Business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Eng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9" name=""/>
            <p:cNvSpPr/>
            <p:nvPr/>
          </p:nvSpPr>
          <p:spPr>
            <a:xfrm rot="10800000">
              <a:off x="2024280" y="1601280"/>
              <a:ext cx="6067440" cy="423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798" swAng="5399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798" swAng="5399219"/>
                </a:path>
              </a:pathLst>
            </a:custGeom>
            <a:noFill/>
            <a:ln cap="rnd" w="255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0" name=""/>
            <p:cNvGrpSpPr/>
            <p:nvPr/>
          </p:nvGrpSpPr>
          <p:grpSpPr>
            <a:xfrm>
              <a:off x="5338800" y="5923080"/>
              <a:ext cx="447480" cy="75960"/>
              <a:chOff x="5338800" y="5923080"/>
              <a:chExt cx="447480" cy="75960"/>
            </a:xfrm>
          </p:grpSpPr>
          <p:sp>
            <p:nvSpPr>
              <p:cNvPr id="1191" name=""/>
              <p:cNvSpPr/>
              <p:nvPr/>
            </p:nvSpPr>
            <p:spPr>
              <a:xfrm>
                <a:off x="5338800" y="5937120"/>
                <a:ext cx="447480" cy="61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338800" y="5962680"/>
                <a:ext cx="447480" cy="2052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338800" y="5923080"/>
                <a:ext cx="447480" cy="633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5338800" y="5877000"/>
              <a:ext cx="447480" cy="75600"/>
              <a:chOff x="5338800" y="5877000"/>
              <a:chExt cx="447480" cy="75600"/>
            </a:xfrm>
          </p:grpSpPr>
          <p:sp>
            <p:nvSpPr>
              <p:cNvPr id="1195" name=""/>
              <p:cNvSpPr/>
              <p:nvPr/>
            </p:nvSpPr>
            <p:spPr>
              <a:xfrm>
                <a:off x="5338800" y="5892480"/>
                <a:ext cx="447480" cy="601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338800" y="5916240"/>
                <a:ext cx="447480" cy="201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338800" y="5877000"/>
                <a:ext cx="447480" cy="630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5338800" y="5832360"/>
              <a:ext cx="447480" cy="77760"/>
              <a:chOff x="5338800" y="5832360"/>
              <a:chExt cx="447480" cy="77760"/>
            </a:xfrm>
          </p:grpSpPr>
          <p:sp>
            <p:nvSpPr>
              <p:cNvPr id="1199" name=""/>
              <p:cNvSpPr/>
              <p:nvPr/>
            </p:nvSpPr>
            <p:spPr>
              <a:xfrm>
                <a:off x="5338800" y="5845320"/>
                <a:ext cx="447480" cy="6480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338800" y="5872320"/>
                <a:ext cx="447480" cy="2052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338800" y="5832360"/>
                <a:ext cx="447480" cy="65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5338800" y="5786280"/>
              <a:ext cx="447480" cy="78120"/>
              <a:chOff x="5338800" y="5786280"/>
              <a:chExt cx="447480" cy="78120"/>
            </a:xfrm>
          </p:grpSpPr>
          <p:sp>
            <p:nvSpPr>
              <p:cNvPr id="1203" name=""/>
              <p:cNvSpPr/>
              <p:nvPr/>
            </p:nvSpPr>
            <p:spPr>
              <a:xfrm>
                <a:off x="5338800" y="5800680"/>
                <a:ext cx="447480" cy="637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338800" y="5829480"/>
                <a:ext cx="447480" cy="1872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338800" y="5786280"/>
                <a:ext cx="447480" cy="669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5338800" y="5743440"/>
              <a:ext cx="447480" cy="76320"/>
              <a:chOff x="5338800" y="5743440"/>
              <a:chExt cx="447480" cy="76320"/>
            </a:xfrm>
          </p:grpSpPr>
          <p:sp>
            <p:nvSpPr>
              <p:cNvPr id="1207" name=""/>
              <p:cNvSpPr/>
              <p:nvPr/>
            </p:nvSpPr>
            <p:spPr>
              <a:xfrm>
                <a:off x="5338800" y="5756400"/>
                <a:ext cx="447480" cy="633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338800" y="5784840"/>
                <a:ext cx="447480" cy="2052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338800" y="5743440"/>
                <a:ext cx="447480" cy="637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5338800" y="5692680"/>
              <a:ext cx="447480" cy="79560"/>
              <a:chOff x="5338800" y="5692680"/>
              <a:chExt cx="447480" cy="79560"/>
            </a:xfrm>
          </p:grpSpPr>
          <p:sp>
            <p:nvSpPr>
              <p:cNvPr id="1211" name=""/>
              <p:cNvSpPr/>
              <p:nvPr/>
            </p:nvSpPr>
            <p:spPr>
              <a:xfrm>
                <a:off x="5338800" y="5702400"/>
                <a:ext cx="447480" cy="698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338800" y="5729400"/>
                <a:ext cx="447480" cy="2052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338800" y="5692680"/>
                <a:ext cx="447480" cy="5868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5338800" y="5638680"/>
              <a:ext cx="447480" cy="77760"/>
              <a:chOff x="5338800" y="5638680"/>
              <a:chExt cx="447480" cy="77760"/>
            </a:xfrm>
          </p:grpSpPr>
          <p:sp>
            <p:nvSpPr>
              <p:cNvPr id="1215" name=""/>
              <p:cNvSpPr/>
              <p:nvPr/>
            </p:nvSpPr>
            <p:spPr>
              <a:xfrm>
                <a:off x="5338800" y="5654520"/>
                <a:ext cx="447480" cy="61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338800" y="5680080"/>
                <a:ext cx="447480" cy="2052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338800" y="5638680"/>
                <a:ext cx="447480" cy="669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>
              <a:off x="5548320" y="5672160"/>
              <a:ext cx="31680" cy="205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3162240" y="1273320"/>
            <a:ext cx="3733560" cy="4260600"/>
            <a:chOff x="3162240" y="1273320"/>
            <a:chExt cx="3733560" cy="4260600"/>
          </a:xfrm>
        </p:grpSpPr>
        <p:sp>
          <p:nvSpPr>
            <p:cNvPr id="1220" name=""/>
            <p:cNvSpPr/>
            <p:nvPr/>
          </p:nvSpPr>
          <p:spPr>
            <a:xfrm>
              <a:off x="3616920" y="1273320"/>
              <a:ext cx="1949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hinner client, thicker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230640" y="1714680"/>
              <a:ext cx="2549520" cy="116352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89320" y="1731960"/>
              <a:ext cx="814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Times New Roman"/>
                </a:rPr>
                <a:t>Clien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419720" y="1857240"/>
              <a:ext cx="1182600" cy="427320"/>
            </a:xfrm>
            <a:prstGeom prst="roundRect">
              <a:avLst>
                <a:gd name="adj" fmla="val 12495"/>
              </a:avLst>
            </a:prstGeom>
            <a:solidFill>
              <a:srgbClr val="eaeaea"/>
            </a:solidFill>
            <a:ln w="1260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4"/>
            <a:stretch/>
          </p:blipFill>
          <p:spPr>
            <a:xfrm>
              <a:off x="3238560" y="2073240"/>
              <a:ext cx="7938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4505760" y="4121640"/>
              <a:ext cx="2390040" cy="141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22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2266"/>
                </a:path>
              </a:pathLst>
            </a:custGeom>
            <a:noFill/>
            <a:ln cap="rnd" w="255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225960" y="3421080"/>
              <a:ext cx="2639880" cy="1673280"/>
            </a:xfrm>
            <a:prstGeom prst="roundRect">
              <a:avLst>
                <a:gd name="adj" fmla="val 12495"/>
              </a:avLst>
            </a:prstGeom>
            <a:solidFill>
              <a:srgbClr val="0000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7" name="" descr=""/>
            <p:cNvPicPr/>
            <p:nvPr/>
          </p:nvPicPr>
          <p:blipFill>
            <a:blip r:embed="rId5"/>
            <a:stretch/>
          </p:blipFill>
          <p:spPr>
            <a:xfrm>
              <a:off x="3392640" y="4038480"/>
              <a:ext cx="52992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>
              <a:off x="4308480" y="3949560"/>
              <a:ext cx="1181160" cy="490680"/>
            </a:xfrm>
            <a:prstGeom prst="roundRect">
              <a:avLst>
                <a:gd name="adj" fmla="val 12495"/>
              </a:avLst>
            </a:prstGeom>
            <a:solidFill>
              <a:srgbClr val="eaeaea"/>
            </a:solidFill>
            <a:ln w="1260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Business 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308480" y="4537080"/>
              <a:ext cx="1181160" cy="490680"/>
            </a:xfrm>
            <a:prstGeom prst="roundRect">
              <a:avLst>
                <a:gd name="adj" fmla="val 12495"/>
              </a:avLst>
            </a:prstGeom>
            <a:solidFill>
              <a:srgbClr val="eaeaea"/>
            </a:solidFill>
            <a:ln w="1260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Business 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Eng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162240" y="3457440"/>
              <a:ext cx="12589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iness Object 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062240" y="2378160"/>
              <a:ext cx="530280" cy="430200"/>
            </a:xfrm>
            <a:prstGeom prst="roundRect">
              <a:avLst>
                <a:gd name="adj" fmla="val 12495"/>
              </a:avLst>
            </a:prstGeom>
            <a:solidFill>
              <a:srgbClr val="eaeaea"/>
            </a:solidFill>
            <a:ln w="1260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ADO/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633920" y="2373480"/>
              <a:ext cx="530280" cy="430200"/>
            </a:xfrm>
            <a:prstGeom prst="roundRect">
              <a:avLst>
                <a:gd name="adj" fmla="val 12495"/>
              </a:avLst>
            </a:prstGeom>
            <a:solidFill>
              <a:srgbClr val="eaeaea"/>
            </a:solidFill>
            <a:ln w="1260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COR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227560" y="2373480"/>
              <a:ext cx="530280" cy="430200"/>
            </a:xfrm>
            <a:prstGeom prst="roundRect">
              <a:avLst>
                <a:gd name="adj" fmla="val 12495"/>
              </a:avLst>
            </a:prstGeom>
            <a:solidFill>
              <a:srgbClr val="eaeaea"/>
            </a:solidFill>
            <a:ln w="1260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Bea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336920" y="3456000"/>
              <a:ext cx="530280" cy="430200"/>
            </a:xfrm>
            <a:prstGeom prst="roundRect">
              <a:avLst>
                <a:gd name="adj" fmla="val 12495"/>
              </a:avLst>
            </a:prstGeom>
            <a:solidFill>
              <a:srgbClr val="eaeaea"/>
            </a:solidFill>
            <a:ln w="1260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960800" y="3451320"/>
              <a:ext cx="530280" cy="430200"/>
            </a:xfrm>
            <a:prstGeom prst="roundRect">
              <a:avLst>
                <a:gd name="adj" fmla="val 12495"/>
              </a:avLst>
            </a:prstGeom>
            <a:solidFill>
              <a:srgbClr val="eaeaea"/>
            </a:solidFill>
            <a:ln w="1260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Bea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4355640" y="2840040"/>
              <a:ext cx="166680" cy="5824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Complex Internet system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557840" y="0"/>
            <a:ext cx="1586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cc33"/>
                </a:solidFill>
                <a:latin typeface="Arial"/>
              </a:rPr>
              <a:t>The Second W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Paul Dreyfus, Netsca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133720" y="1447920"/>
            <a:ext cx="914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286000" y="1600200"/>
            <a:ext cx="605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429000" y="2590920"/>
            <a:ext cx="914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578400" y="2743200"/>
            <a:ext cx="658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648320" y="3657600"/>
            <a:ext cx="914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572360" y="3809880"/>
            <a:ext cx="1011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124080" y="1828800"/>
            <a:ext cx="83844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47920" y="54100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448640" y="5562720"/>
            <a:ext cx="9525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fill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048120" y="54100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042360" y="5562720"/>
            <a:ext cx="8445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724280" y="54100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695120" y="5562720"/>
            <a:ext cx="868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324480" y="5410080"/>
            <a:ext cx="914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347880" y="5562720"/>
            <a:ext cx="73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DB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419720" y="2895480"/>
            <a:ext cx="83808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2057400" y="4495320"/>
            <a:ext cx="304812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3581280" y="4495320"/>
            <a:ext cx="152424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 flipV="1">
            <a:off x="5105160" y="4495320"/>
            <a:ext cx="15228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5105520" y="4495320"/>
            <a:ext cx="182880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54720" y="1523880"/>
            <a:ext cx="2872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Dynamic HTML, JavaScript,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plug-ins, source code enha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796280" y="2666880"/>
            <a:ext cx="2305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Java, C, C++, JavaScript, C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861880" y="3809880"/>
            <a:ext cx="31683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Java, C, C++, JavaBeans, CORBA, D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541280" y="5562720"/>
            <a:ext cx="14389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Native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Who are the architects?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ftware develop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-active, goal orien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dership, author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chitecture te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just a top level desig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eed to ensure feasi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the project manag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t “joined at the hip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a technology expe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rpose of the system, “fit”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a lone scient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munica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Software architecture team charter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0920" indent="-430920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ng the architecture  of the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0920" indent="-430920">
              <a:lnSpc>
                <a:spcPct val="7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intaining the architectural integrity of the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0920" indent="-430920">
              <a:lnSpc>
                <a:spcPct val="7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sessing technical risks related to the software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0920" indent="-430920">
              <a:lnSpc>
                <a:spcPct val="7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posing the order and contents of the successive iteration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0920" indent="-430920">
              <a:lnSpc>
                <a:spcPct val="7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sulting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0920" indent="-430920">
              <a:lnSpc>
                <a:spcPct val="7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sisting marketing for future product defin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0920" indent="-430920">
              <a:lnSpc>
                <a:spcPct val="7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cilitating communications between project tea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Architecture is making decision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066680" y="2209680"/>
            <a:ext cx="7162920" cy="1981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00200" y="2289240"/>
            <a:ext cx="75484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rmAutofit fontScale="87000"/>
          </a:bodyPr>
          <a:p>
            <a:pPr marL="403200" indent="-403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ife of a software architect is a long (and sometimes painful) succession of suboptimal decisions made partly in the dar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Futures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L: Architecture Description Langua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ML, UniCon, LILEAnna, P++, LEAP, Wright, µRap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ndardization of concep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EEE Working Group on Archite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OSE Working Group on System Archite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ystematic capture of architectural patter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References (Architecture)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4640" indent="-40464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Len Bass, Paul Clements &amp; Rick Kazman,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Software Architecture in Practice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, Addison-Wesley, 1998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rank Buschmann, Régine Meunier, Hans Rohnert, Peter Sommerlad, and Michael Stahl,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Pattern-Oriented Software Architecture - A System of Patterns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,  Wiley and Sons, 1996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hristine Hofmeister, Robert Nord, Dilip Soni,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Applied Software Architecture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, Addison-Wesley 1999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Eric Gamma, John Vlissides, Richard Helm, Ralph Johnson,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Design Patterns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, Addison-Wesley 1995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hilippe Kruchten, “The 4+1 View Model of Architecture,”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IEEE Software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,  12  (6), November 1995, IEEE.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912960" indent="-354240">
              <a:spcBef>
                <a:spcPts val="349"/>
              </a:spcBef>
              <a:buClr>
                <a:srgbClr val="ffffff"/>
              </a:buClr>
              <a:buFont typeface="Arial"/>
              <a:buChar char="­"/>
              <a:tabLst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rational.com/support/techpapers/ieee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Eberhardt Rechtin,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Systems Architecting: Creating and Building Complex Systems,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Englewood Cliffs NJ, Prentice-Hall, 1991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References (Architecture)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Eberhardt Rechtin &amp; Mark Maier,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The Art of System Architecting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, CRC Press, 1997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commended Practice for Architectural Descrip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Draft 2.0 of IEEE P1471, May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pithecanthropus.com/~awg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Mary Shaw, and David Garlan,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Software Architecture—Perspectives on an Emerging Discipline,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Upper Saddle River, NJ, Prentice-Hall, 1996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Bernard I. Witt, F. Terry Baker, and Everett W. Merritt,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Software Architecture and Design—Principles, Models, and Methods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, New York NY, Van Nostrand Reinhold, 1995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he World-wide Institute of Software Architec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wwisa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Kinds of civil architecture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35600" indent="-43560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11800" indent="-26856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uses, flats and apartments, gardens, education, hospitals, relig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5600" indent="-43560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mer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11800" indent="-26856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hops and stores, restaurants, hotels, office buildings, banks, airpor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5600" indent="-43560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11800" indent="-26856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dustrial buildings, laboratories, farm build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5600" indent="-435600">
              <a:spcBef>
                <a:spcPts val="1874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i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11800" indent="-268560">
              <a:spcBef>
                <a:spcPts val="6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ort, theaters and cinemas, museu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81840" y="63360"/>
            <a:ext cx="2161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cc33"/>
                </a:solidFill>
                <a:latin typeface="Arial"/>
              </a:rPr>
              <a:t>Neufert Architect’s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cc33"/>
                </a:solidFill>
                <a:latin typeface="Arial"/>
              </a:rPr>
              <a:t>The Handbook of Building 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References (UML)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Grady Booch, James Rumbaugh, Ivar Jacobson,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The Unified Modeling Language User Guide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, Addison-Wesley, 1999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05a"/>
            </a:gs>
            <a:gs pos="100000">
              <a:srgbClr val="022d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13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References (Process)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7240" indent="-41724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Barry Boehm, “A spiral model of software development and enhancement,”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IEEE Computer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, May 1998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7240" indent="-41724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Barry Boehm, “Anchoring the software process,”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IEEE Software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, July 1996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7240" indent="-41724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Grady Booch,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Object Solutions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, Addison-Wesley, 1995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7240" indent="-41724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hilippe Kruchten, “A Rational Development Process,”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CrossTalk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, July 1996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257040">
              <a:spcBef>
                <a:spcPts val="34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rational.com/support/techpapers/devprcs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7240" indent="-41724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hilippe Kruchten,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The Rational Unified Process - An Introduction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, Addison-Wesley, 1999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7240" indent="-41724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Rational Unified Process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5.0, Rational, Cupertino, CA, 1998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7240" indent="-417240">
              <a:spcBef>
                <a:spcPts val="1188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Walker Royce,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Software Project Management: a Unified Framework,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Addison-Wesley, 1998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7240" indent="-41724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he Software Program Manager’s Networ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25704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spmn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724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24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0T20:57:29Z</dcterms:created>
  <dc:creator>Grady Booch</dc:creator>
  <dc:description/>
  <dc:language>en-US</dc:language>
  <cp:lastModifiedBy>Veronica Herreria</cp:lastModifiedBy>
  <cp:lastPrinted>1998-10-13T03:42:18Z</cp:lastPrinted>
  <dcterms:modified xsi:type="dcterms:W3CDTF">1999-03-16T00:19:36Z</dcterms:modified>
  <cp:revision>64</cp:revision>
  <dc:subject/>
  <dc:title>Software Architecture</dc:title>
</cp:coreProperties>
</file>