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68560" y="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65160" y="687240"/>
            <a:ext cx="489600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09720" y="4589280"/>
            <a:ext cx="50068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17892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68560" y="917892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BCBD2C3-7EB6-4533-94CA-1A9CA45BBFBE}" type="slidenum"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68560" y="917892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1FFAE96-8336-4AAE-840C-E0560D983635}" type="slidenum"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17892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68560" y="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089-92C2-4918-A59F-EEBAF645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E4F-F0DD-40C6-BD0D-AABCE91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A89-DD2B-453A-9FA2-AAC1C70A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916-1D79-478B-92DC-82F387D8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BF2-6993-437B-9651-D345705B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266-A2CB-45D2-BECB-1E438E2E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AFE-7BB5-413B-892E-5502ECD8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0A7-A8AF-47EC-88E4-A7D8605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730-D13C-4030-B142-E31AA545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FB0-289A-4725-B1D5-2BCBF71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3CA-CC3B-491B-B8B5-9187B90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2D0-0F11-4680-996F-56D5657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1EFE-AFBC-4ED2-BA5D-1D092BDF0142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56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09800" y="1495440"/>
            <a:ext cx="7124400" cy="282888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Orientação à Objetos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(Parte II)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60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E8C-75B6-4C36-A866-EDAA053F0C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11200" y="177948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++, as 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class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ermitem ao programador definir novos tipos de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lasse é semelhante a uma estrutura, e é usada para permitir a criação de obje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classes podem ser declaradas pelas palavras-chave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STRUCT, UNION 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instância de estrutura ou união é dita uma variável; uma instância de classe é dita um objeto. Ou seja,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um objeto é uma variável do tipo 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funções declaradas internamente à classe são chamadas de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funções-membr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podem operar em qualquer das variáveis definidas n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1800" y="126036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Penguin"/>
              </a:rPr>
              <a:t>Declaração de Clas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0CF-4F2C-4AA5-9E3A-2A8FD8957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1663560"/>
            <a:ext cx="8305920" cy="407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programa que utiliza uma interface controladora de um motor elétrico provavelmente definiria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lass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ot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tribut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sta classe seriam: temperatura, velocidade, tensão aplic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tes provavelmente seriam representados na classe por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tip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com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loa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unções-membr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sta classe seriam funções para alterar a velocidade, ler a temperatura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10C-6835-4F6A-BA83-F622C0385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27320"/>
            <a:ext cx="3657600" cy="514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1- Encapsul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590400" y="2057400"/>
            <a:ext cx="6172200" cy="495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Definição de Classe 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 &lt;Nome da classe&gt; 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Objetos ou Instânc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Métodos e 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ssociação e Agrega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strutores e Destrut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5120" y="2521080"/>
            <a:ext cx="5075280" cy="35938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77640" y="1665360"/>
            <a:ext cx="8445240" cy="46656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66"/>
                </a:solidFill>
                <a:latin typeface="Arial"/>
              </a:rPr>
              <a:t>Forma geral de declaração de uma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lasse</a:t>
            </a:r>
            <a:r>
              <a:rPr b="1" lang="pt-BR" sz="30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647640" y="2543040"/>
            <a:ext cx="510552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class </a:t>
            </a: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nome-da-classe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 {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dados e funções privada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public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dados e funções publica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} </a:t>
            </a: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lista de objetos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7F-15BA-4B04-A50D-E13280FBD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24480" y="121932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69880" y="961920"/>
            <a:ext cx="5735520" cy="3642840"/>
            <a:chOff x="569880" y="961920"/>
            <a:chExt cx="5735520" cy="3642840"/>
          </a:xfrm>
        </p:grpSpPr>
        <p:grpSp>
          <p:nvGrpSpPr>
            <p:cNvPr id="133" name=""/>
            <p:cNvGrpSpPr/>
            <p:nvPr/>
          </p:nvGrpSpPr>
          <p:grpSpPr>
            <a:xfrm>
              <a:off x="569880" y="1225440"/>
              <a:ext cx="5011560" cy="3346200"/>
              <a:chOff x="569880" y="1225440"/>
              <a:chExt cx="5011560" cy="3346200"/>
            </a:xfrm>
          </p:grpSpPr>
          <p:sp>
            <p:nvSpPr>
              <p:cNvPr id="134" name=""/>
              <p:cNvSpPr/>
              <p:nvPr/>
            </p:nvSpPr>
            <p:spPr>
              <a:xfrm>
                <a:off x="569880" y="1225440"/>
                <a:ext cx="5011560" cy="3346200"/>
              </a:xfrm>
              <a:prstGeom prst="rect">
                <a:avLst/>
              </a:prstGeom>
              <a:gradFill rotWithShape="0">
                <a:gsLst>
                  <a:gs pos="0">
                    <a:srgbClr val="ffffdf"/>
                  </a:gs>
                  <a:gs pos="100000">
                    <a:srgbClr val="fff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0840" y="1847520"/>
                <a:ext cx="33336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V="1">
              <a:off x="4171680" y="1562040"/>
              <a:ext cx="2133720" cy="87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1720" y="961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1720" y="1525680"/>
              <a:ext cx="182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lass fila 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2600" y="1525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8280" y="2090880"/>
              <a:ext cx="1677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q[10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8680" y="2090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8280" y="2368440"/>
              <a:ext cx="228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sloc, rloc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6720" y="2368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58640" y="2646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58640" y="292428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public: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2080" y="2924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58640" y="3203640"/>
              <a:ext cx="243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void init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7200" y="32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58280" y="348156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void qput(int 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9840" y="34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58640" y="3759120"/>
              <a:ext cx="243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qget 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7200" y="3759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8280" y="40370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63200" y="4037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3520" y="436104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69880" y="5181480"/>
            <a:ext cx="2732040" cy="6858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214960"/>
            <a:ext cx="1733400" cy="58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14440" y="5065560"/>
            <a:ext cx="160992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495000" y="49100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1868400" y="51991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2309400" y="54878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2768400" y="56307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050840" y="57736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52200" y="59151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82520" y="60595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2997000" y="62024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882520" y="63435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6651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3960" y="531504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la a, b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286160" y="483876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ria duas variáveis com os membros definidos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4DB-6A29-44F4-8F7F-03945401B7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40080" y="5111640"/>
            <a:ext cx="4705200" cy="14605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829880"/>
            <a:ext cx="8229600" cy="310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ntes de usar realmente uma classe, todos os seus membros têm de ser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a declaração de fila usamos protótipos para definir as funções-mem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Quando se codifica a função membro, deve-se indicar a qual class esta função pertence. Para isso usa-se 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perador ::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chamad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perador de escopo de re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3402000" y="5083200"/>
            <a:ext cx="44323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void fila::qput (int i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361800" y="1127160"/>
            <a:ext cx="554040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Penguin"/>
              </a:rPr>
              <a:t>Declaração de Funções-membr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49A-2C7C-4B44-A613-86CB975D6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3080" y="1003320"/>
            <a:ext cx="8356320" cy="95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Um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objeto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 ou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instância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 de uma classe é a criação de uma “variável” ou objeto da classe.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Objetos ou Instânci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55680" y="21528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12840" indent="-3128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 Estática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93440" indent="-2444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a de método ou atribu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42440" indent="-3909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&lt;objeto&gt;.&lt;nome do método&gt;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3657600"/>
            <a:ext cx="7772400" cy="2717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30920" indent="-4309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 Dinâmica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bjetos criados em temp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vem ser destruídos após o us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perador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e 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a de método ou atribu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21200" indent="-2649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&lt;objeto&gt; -&gt; &lt;nome do método&gt;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A89-C726-4B3B-8C98-794CBBC705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13120" y="4368960"/>
            <a:ext cx="2782800" cy="14983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chamar uma função membro de uma parte do programa que não faz parte da </a:t>
            </a:r>
            <a:r>
              <a:rPr b="1" i="1" lang="pt-BR" sz="2800" spc="-1" strike="noStrike">
                <a:solidFill>
                  <a:srgbClr val="ffcc66"/>
                </a:solidFill>
                <a:latin typeface="Arial"/>
              </a:rPr>
              <a:t>clas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vemos usar o nome do objeto e o operador po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exemplo a declaração chama a funçã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init(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ara o objet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 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a a, b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.init(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67B-CC63-465F-86F3-B143C49219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324480" y="194328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Inicializa os membr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98520" y="1797120"/>
            <a:ext cx="3259080" cy="3689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152800"/>
            <a:ext cx="2590560" cy="1199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48080" y="2437920"/>
            <a:ext cx="276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622080" y="16858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3617640" y="26733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1339560" y="29512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23880" y="43610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876240" y="3652920"/>
            <a:ext cx="2171880" cy="147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28840" y="4132440"/>
            <a:ext cx="246708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1852200" y="59151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2882520" y="60595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2997000" y="62024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2882520" y="63435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96800" y="6651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209680"/>
            <a:ext cx="222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.sloc=0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.sloc=0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1009800" y="3905280"/>
            <a:ext cx="247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.qput(2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.qput(2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6058080" y="3809880"/>
            <a:ext cx="26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Armazenar valores na fi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B5F-2F4F-4283-9107-ADCEDD56C2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74840" y="1015920"/>
            <a:ext cx="6935760" cy="53085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62040" y="1130400"/>
            <a:ext cx="6670800" cy="50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5EB-9763-40FC-B635-3A3B337E9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7680" y="571680"/>
            <a:ext cx="8591400" cy="581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"/>
          <p:cNvSpPr/>
          <p:nvPr/>
        </p:nvSpPr>
        <p:spPr>
          <a:xfrm>
            <a:off x="808200" y="579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11040" y="831960"/>
          <a:ext cx="8388360" cy="5302080"/>
        </p:xfrm>
        <a:graphic>
          <a:graphicData uri="http://schemas.openxmlformats.org/drawingml/2006/table">
            <a:tbl>
              <a:tblPr/>
              <a:tblGrid>
                <a:gridCol w="1984320"/>
                <a:gridCol w="6404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do que é encontrado no mundo real. É uma denominação dada a uma abstração, segundo suas similaridades e diferenç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ção de objetos similares em suas funções e operaçõe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classe e Subcl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objetos pertencem a classes de objetos, estas podem incluir subconjuntos chamados de subclasse, sendo a classe maior a superclasse. (Ex.: Sistemas e programas; Extrato bancário e débito/crédito 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ção e Generaliz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objetos de classes únicas sem subclasses são os primeiros, já em segundo lugar vêm as diversas superclasses. (Letras/Números ocidentais e grafia escrita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uma característica do objeto (Extensão de nome de arquivo; Salário mínimo; Banco de dados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ânc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definido no momento (TAB001.TXT ; 130,00 ; João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envio de um atributo a um objeto que resulta na alteração de seu comportament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808200" y="56833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95400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019-76F0-466D-B3A1-EB4F215D2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74840" y="768240"/>
            <a:ext cx="6935760" cy="55562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3040" y="930240"/>
            <a:ext cx="8119800" cy="5245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2E0-7439-40B7-8123-6DA3A7F787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74840" y="787320"/>
            <a:ext cx="8250120" cy="55371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3320" y="911160"/>
            <a:ext cx="8086680" cy="5224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753160" y="2305080"/>
            <a:ext cx="266688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uma variável (instância) do tipo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Fil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OBJETO, porque a classe Fila descreve uma estrutura que o caracteriza e métodos que o manipulam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962000" y="1714680"/>
            <a:ext cx="3695760" cy="9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8D5-D1D5-4868-8286-3316E4F9F0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39880" y="1066680"/>
            <a:ext cx="4876920" cy="50929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Objetos ou Instânci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92160" y="1120680"/>
            <a:ext cx="47214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void main(void)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double l=0,t=1,r=1,b=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map NovoMapa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NovoMapa.zoom(l,t,r,b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ifmap *Arquivo = new ifmap(“mapa1”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delete m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Arquivo-&gt;read(new map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5695920" y="160020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370"/>
              <a:gd name="adj5" fmla="val 59375"/>
              <a:gd name="adj6" fmla="val -115666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Instância Estátic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6064200" y="248292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8273"/>
              <a:gd name="adj5" fmla="val 113541"/>
              <a:gd name="adj6" fmla="val -163134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Instância Dinâmic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190440" y="208296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1245"/>
              <a:gd name="adj5" fmla="val 84375"/>
              <a:gd name="adj6" fmla="val 233638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Chamada de Método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4908600" y="3460680"/>
            <a:ext cx="1378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6291"/>
              <a:gd name="adj5" fmla="val 72916"/>
              <a:gd name="adj6" fmla="val -120277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Eliminação do “Lixo”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177840" y="439416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2833"/>
              <a:gd name="adj5" fmla="val 116666"/>
              <a:gd name="adj6" fmla="val 206453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Chamada de Método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5765760" y="5587920"/>
            <a:ext cx="2413080" cy="647640"/>
          </a:xfrm>
          <a:prstGeom prst="wedgeRectCallout">
            <a:avLst>
              <a:gd name="adj1" fmla="val -71120"/>
              <a:gd name="adj2" fmla="val -97550"/>
            </a:avLst>
          </a:prstGeom>
          <a:solidFill>
            <a:srgbClr val="ffffcc"/>
          </a:solidFill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10199"/>
                </a:solidFill>
                <a:latin typeface="Arial"/>
              </a:rPr>
              <a:t>A própria função deve cuidar do “Lixo”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062-ACF9-4359-93B7-4AE022AFA2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03440" y="1073160"/>
            <a:ext cx="7812000" cy="5194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Métod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4240" y="1168560"/>
            <a:ext cx="8182080" cy="5033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76240" y="5543640"/>
            <a:ext cx="2533680" cy="59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5200560" y="5048280"/>
            <a:ext cx="2286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éto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504960" y="5429160"/>
            <a:ext cx="1638360" cy="34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BB6-2F6F-44F7-B2B1-185588BE7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50800" y="2463840"/>
            <a:ext cx="5011920" cy="32511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04720" y="100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xemplo de mensagem, utilizando a 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classe fila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a fila_atu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sagem ao obje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a_atual.get(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Mensagem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5D9-0C7B-40C1-9D28-1344A20CE4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44440" y="1324080"/>
            <a:ext cx="8640720" cy="5106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rivad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ó podem ser acessados pelos métodos da class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s que não serão chamados fora d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822-DB9C-42CA-BA44-7396238D70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4440" y="1324080"/>
            <a:ext cx="8640720" cy="4685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úblic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N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evem ser usados para 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chamados em qualquer parte do progra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s que serão chamados fora d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C36-CDCF-44EF-BEF4-663B21C937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44440" y="1324080"/>
            <a:ext cx="8640720" cy="5176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rotegid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Só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vistos pela própria classe ou heranç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chamados em qualquer parte do progra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lasses que possuirão herança, contudo      desenvolvidas pelo mesmo gru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B46-5684-497B-90E8-A97670D61C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4840" y="2025720"/>
            <a:ext cx="5011560" cy="38224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028880" y="3714840"/>
            <a:ext cx="1942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Visibilidad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0" r="52511" b="0"/>
          <a:stretch/>
        </p:blipFill>
        <p:spPr>
          <a:xfrm>
            <a:off x="641520" y="1743120"/>
            <a:ext cx="4979880" cy="43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6AA-4E6E-4500-9FBF-C46BDE7773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8280" y="3720960"/>
            <a:ext cx="4965840" cy="2908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139680" y="606600"/>
            <a:ext cx="9004320" cy="344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Constr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 chamado na criação do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o automaticamen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ralmente usado para inicializar variáveis/ alocar memóri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státicas: Chamado n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clar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nâmicas: Chamadas pel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819000" y="3754440"/>
            <a:ext cx="37368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class &lt;nome&gt;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(parâmetro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::&lt;nome&gt;(parâmetros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2062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Construtores e Destrutor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956-9919-4121-9D02-4C208D1BD5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76520"/>
            <a:ext cx="8667720" cy="3752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808200" y="579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9200" y="1822320"/>
          <a:ext cx="8407440" cy="3475080"/>
        </p:xfrm>
        <a:graphic>
          <a:graphicData uri="http://schemas.openxmlformats.org/drawingml/2006/table">
            <a:tbl>
              <a:tblPr/>
              <a:tblGrid>
                <a:gridCol w="2089080"/>
                <a:gridCol w="631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a evolução, através de uma função, de um objeto em outr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ou instância comunicada entre superclasses e subclasses, que são transmitidas automaticamente. (Parâmetros de uma função, conjunto dos números-primo, tempo de gestação em mamíferos 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morfi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a resposta de diferentes objetos a mesma mensagem.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ps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exclusivo de alguns objetos. ( Impressora default para os departamentos administrativos; Limite de crédito para novos clientes ; desconto promocional para idosos, variáveis internas de uma função 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08200" y="56833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>
            <a:off x="973080" y="2476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6DC-168C-495A-BA83-391BE39137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03320" y="3645000"/>
            <a:ext cx="4889520" cy="2692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101520" y="733320"/>
            <a:ext cx="9004320" cy="307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Destr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Último método chamado antes da destruição do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o automaticamen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ralmente usado para liberar memória/ fechar arquiv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státicas: Chamado n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im de um esco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nâmicas: Chamadas pel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1420560" y="3711600"/>
            <a:ext cx="38833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class &lt;nome&gt;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~&lt;nome&gt;(parâmetro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::~&lt;nome&gt;(parâmetros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Construtores e Destrutor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5391000"/>
            <a:ext cx="4572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26F-F4B8-45BF-B108-0E7A31201B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98400" y="654120"/>
            <a:ext cx="7804080" cy="5975280"/>
            <a:chOff x="698400" y="654120"/>
            <a:chExt cx="7804080" cy="5975280"/>
          </a:xfrm>
        </p:grpSpPr>
        <p:sp>
          <p:nvSpPr>
            <p:cNvPr id="252" name=""/>
            <p:cNvSpPr/>
            <p:nvPr/>
          </p:nvSpPr>
          <p:spPr>
            <a:xfrm>
              <a:off x="698400" y="654120"/>
              <a:ext cx="7804080" cy="5975280"/>
            </a:xfrm>
            <a:prstGeom prst="rect">
              <a:avLst/>
            </a:prstGeom>
            <a:gradFill rotWithShape="0">
              <a:gsLst>
                <a:gs pos="0">
                  <a:srgbClr val="ffffdf"/>
                </a:gs>
                <a:gs pos="100000">
                  <a:srgbClr val="ffffd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4057560"/>
              <a:ext cx="4076640" cy="343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5429160"/>
              <a:ext cx="4076640" cy="343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858600" y="685800"/>
              <a:ext cx="7406280" cy="5936400"/>
              <a:chOff x="858600" y="685800"/>
              <a:chExt cx="7406280" cy="5936400"/>
            </a:xfrm>
          </p:grpSpPr>
          <p:sp>
            <p:nvSpPr>
              <p:cNvPr id="256" name=""/>
              <p:cNvSpPr/>
              <p:nvPr/>
            </p:nvSpPr>
            <p:spPr>
              <a:xfrm>
                <a:off x="886680" y="68580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Programa de exe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24080" y="685800"/>
                <a:ext cx="3902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mplo para ilustrar conceitos de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36640" y="685800"/>
                <a:ext cx="97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lasse,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42120" y="6858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37440" y="91296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03200" y="912960"/>
                <a:ext cx="85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objetos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82680" y="912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04360" y="912960"/>
                <a:ext cx="244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e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03440" y="912960"/>
                <a:ext cx="4024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apresentando construtor/de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52800" y="912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8600" y="1141560"/>
                <a:ext cx="560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Original do livro TURBO C++  SCHILDT pg 371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52800" y="114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7040" y="1368360"/>
                <a:ext cx="2561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#include &lt;iostream.h&gt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47800" y="13683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87760" y="1596960"/>
                <a:ext cx="3048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criacao da classe fil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44600" y="1596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41040" y="18241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76000" y="1824120"/>
                <a:ext cx="1220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lass fil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4520" y="18241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4104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3180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708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41040" y="22795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76720" y="2279520"/>
                <a:ext cx="170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q[10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66280" y="227952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0]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43200" y="22795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41040" y="2506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22080" y="2506680"/>
                <a:ext cx="73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52160" y="2506680"/>
                <a:ext cx="1829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sloc, rloc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000" y="2506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41040" y="27352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0640" y="2735280"/>
                <a:ext cx="85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public: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401560" y="27352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4104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3180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11760" y="2962440"/>
                <a:ext cx="134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9524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0348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8400" y="2962440"/>
                <a:ext cx="1585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con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1496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4104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3180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09600" y="3191040"/>
                <a:ext cx="146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~fila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1908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0348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44920" y="3191040"/>
                <a:ext cx="146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de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9112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4104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3180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75400" y="341784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void qput(int i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4008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4104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3180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4560" y="3646440"/>
                <a:ext cx="1829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qget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9240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41040" y="38736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9640" y="3873600"/>
                <a:ext cx="244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0920" y="38736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88480" y="4100400"/>
                <a:ext cx="37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esta eh a funcao construtor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65240" y="41004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1880" y="432900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::fila (void)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52440" y="43290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41040" y="45561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64880" y="45561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6680" y="478476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rloc = sloc = 0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76280" y="47847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8480" y="5011560"/>
                <a:ext cx="341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out &lt;&lt; "fila inicializad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17920" y="501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\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37800" y="501156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n"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14720" y="501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41040" y="5238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4880" y="5238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85600" y="5467320"/>
                <a:ext cx="1585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esta eh a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00920" y="546732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uncao destrutor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65240" y="5467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09720" y="569448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::~fila (void)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280" y="5694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41040" y="59230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64880" y="59230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87760" y="6149880"/>
                <a:ext cx="3048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out &lt;&lt; "fila destruid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44600" y="61498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\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6640" y="614988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n"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1400" y="61498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41040" y="6378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64880" y="6378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359-9B1A-4955-9F94-62FF8FA291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98400" y="654120"/>
            <a:ext cx="7804080" cy="5975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049400" y="873000"/>
            <a:ext cx="8353440" cy="539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06F-1207-45C8-B8CC-A73CF09A30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98400" y="958680"/>
            <a:ext cx="6966000" cy="50612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57240" y="1112760"/>
            <a:ext cx="8605800" cy="47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EF4-28E1-4807-B7A3-981448A261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68280" y="2324160"/>
            <a:ext cx="4718160" cy="30988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530280" y="2387520"/>
            <a:ext cx="463860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class data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b02a00"/>
                </a:solidFill>
                <a:latin typeface="Arial Black"/>
              </a:rPr>
              <a:t>class sigmatrix **d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int   data_number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data(int matrix_number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502240" y="1882800"/>
          <a:ext cx="241956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1882800"/>
                    <a:ext cx="2419560" cy="463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Associação e Agregaçã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01520" y="733320"/>
            <a:ext cx="9004320" cy="1246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Associ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corre quando uma classe é parte de outras 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F8A-3E13-4BC4-B673-3E63635371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1225440" y="2540160"/>
          <a:ext cx="63802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2540160"/>
                    <a:ext cx="6380280" cy="281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Associação e Agregaçã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101520" y="733320"/>
            <a:ext cx="9004320" cy="1612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Agreg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corre quando uma classe contém parte de outr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550-FA78-4956-9FCA-28DACA4522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101520" y="733320"/>
            <a:ext cx="9004320" cy="391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Declar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lass &lt;Nome da classe&gt;:[public]&lt;classe pai&gt;{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 de méto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ea protegid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strutores e destrut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Herança múltip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902120" y="2127240"/>
          <a:ext cx="397512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2120" y="2127240"/>
                    <a:ext cx="39751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1F2-4802-4E64-98F4-F273A20EF2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5760" y="1244520"/>
            <a:ext cx="5830920" cy="51372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-304920" y="13982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Mamifero:public Anim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querMama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mífero( ):Animal( 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Mamífero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am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Respir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Elefante:public Mamifer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efante( ):Mamífero( 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~Elefante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oid LevantarTromba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nd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1481040"/>
            <a:ext cx="2336760" cy="3935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3"/>
                </a:solidFill>
                <a:latin typeface="Arial"/>
              </a:rPr>
              <a:t>A principal vantagem d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HERANÇA</a:t>
            </a:r>
            <a:r>
              <a:rPr b="1" lang="pt-BR" sz="2000" spc="-1" strike="noStrike">
                <a:solidFill>
                  <a:srgbClr val="ffffe3"/>
                </a:solidFill>
                <a:latin typeface="Arial"/>
              </a:rPr>
              <a:t> em linguagens OO está no reaproveitamento de código que ela proporciona, pela declaração de classes herdeiras mais específicas ao problema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Herança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ED0-1433-4423-9C61-3DA1C14AF6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79400" y="1663560"/>
            <a:ext cx="6688080" cy="46231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34880" y="1817280"/>
            <a:ext cx="718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 Antropoide:public Mamifer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tropoide( ):Mamifero( ) {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~Antropoide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And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Procri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 Homem: public Antropoid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mem( ):Antropoide( ) {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~Homem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oid Fala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9000" y="228600"/>
            <a:ext cx="68961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Herança (cont.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228-68B2-40FB-A594-E685596E40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" y="1041480"/>
            <a:ext cx="8640720" cy="529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há visibilidade da classe pa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métodos da classe pai s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ivado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e po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r um dos métodos dest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ass &lt;Nome da classe&gt;:&lt;classe pai&gt;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en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dos méto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métodos da classe pai ser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úblic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ass &lt;Nome da classe&gt;: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ublic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&lt;classe pai&gt;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D93-103F-490F-8974-C3D56610595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0520" y="2822400"/>
            <a:ext cx="77724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Gerar programas que seja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legíveis e de fácil compreens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reutilizáve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de fácil manuten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obtidos de forma produti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1682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bjetivo da programação OO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de50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4EA-63F5-45E6-AB1E-DC6EE5E36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Área Protegid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301680" y="1079640"/>
            <a:ext cx="8640720" cy="295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tributo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tegi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Só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podem ser vistos pela própria classe ou hera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Classes que possuirão herança, contudo      desenvolvidas  pelo mesmo gru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ntax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2F7-1215-44D8-8CD5-62D76766C9A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3080" y="1231920"/>
          <a:ext cx="455148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231920"/>
                    <a:ext cx="4551480" cy="4317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800600" y="1066680"/>
          <a:ext cx="4184640" cy="518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066680"/>
                    <a:ext cx="418464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V="1">
            <a:off x="4711680" y="1168200"/>
            <a:ext cx="0" cy="518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1460520"/>
            <a:ext cx="3200400" cy="4724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562360" y="1295280"/>
            <a:ext cx="2717640" cy="4889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4478400" y="4459320"/>
            <a:ext cx="1619280" cy="660240"/>
          </a:xfrm>
          <a:prstGeom prst="borderCallout2">
            <a:avLst>
              <a:gd name="adj1" fmla="val 18750"/>
              <a:gd name="adj2" fmla="val -8333"/>
              <a:gd name="adj3" fmla="val 17305"/>
              <a:gd name="adj4" fmla="val 110587"/>
              <a:gd name="adj5" fmla="val 171152"/>
              <a:gd name="adj6" fmla="val 116472"/>
            </a:avLst>
          </a:prstGeom>
          <a:solidFill>
            <a:srgbClr val="ffffcc"/>
          </a:solidFill>
          <a:ln w="22320">
            <a:solidFill>
              <a:srgbClr val="ff33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Duplicação da classe pai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181080" y="76320"/>
            <a:ext cx="8756640" cy="799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Herança Múltipl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A88-9FEF-40C3-8906-1AB846208B6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3880" y="4026960"/>
            <a:ext cx="7542360" cy="2830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622440" indent="-6224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Vantag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neralização de algorit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pans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7360" y="228600"/>
            <a:ext cx="8756640" cy="673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Polimorfism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552600" y="1295280"/>
            <a:ext cx="8076960" cy="253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C++ 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OLIMORFISM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é implementado pelo uso d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brecarga de funçõ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++, duas ou mais funções podem compartilhar o mesmo nome, contanto que as suas declarações de parâmetros sejam diferentes.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A77-4AF8-48CE-A10E-719DA644AB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12640" y="1244520"/>
            <a:ext cx="8231400" cy="40705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390680" y="4438440"/>
            <a:ext cx="3427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5626080"/>
            <a:ext cx="405756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ee602"/>
                </a:solidFill>
                <a:latin typeface="Arial"/>
              </a:rPr>
              <a:t>Sobrecarga de operad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1504800" y="24768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Polimorfism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23960" y="1433520"/>
            <a:ext cx="8120160" cy="37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0BB-F609-48D4-BCD0-6748EA4882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93560" y="996840"/>
            <a:ext cx="7069320" cy="53467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476280" y="57240"/>
            <a:ext cx="81532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Polimorfismo (cont.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19280" y="105732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33520" y="876240"/>
            <a:ext cx="3371760" cy="62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685960"/>
            <a:ext cx="424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5467320" y="2444760"/>
            <a:ext cx="3676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ee602"/>
                </a:solidFill>
                <a:latin typeface="Arial"/>
              </a:rPr>
              <a:t>Sobrecarga d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095360" y="1371600"/>
            <a:ext cx="1523880" cy="1123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19680" y="2838600"/>
            <a:ext cx="799920" cy="171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22F-C384-49FA-9A87-EF04F9E076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2538360"/>
            <a:ext cx="5905800" cy="387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lgumas mais familiar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ject Pasca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utras menos familiar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iff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1730520"/>
            <a:ext cx="844236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3880" indent="-4438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Linguagens de Programação Orientadas a Objet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58D-B5D5-41DB-9136-CD7F60EEA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odas as palavras-chaves de C são também palavras-chaves de C++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s de Palavras-chaves adiciona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las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overload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public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Três importantes facilidades que C++ incorpora a 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Sobrecarga de fun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Sobrecarga de ope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137484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onceitos Básic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D06-5FEB-46C5-8315-864CD20041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sassociar o tipo de dado d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1374840"/>
            <a:ext cx="464508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Abstração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3352680"/>
            <a:ext cx="3981600" cy="3183840"/>
            <a:chOff x="380880" y="3352680"/>
            <a:chExt cx="3981600" cy="3183840"/>
          </a:xfrm>
        </p:grpSpPr>
        <p:sp>
          <p:nvSpPr>
            <p:cNvPr id="85" name=""/>
            <p:cNvSpPr/>
            <p:nvPr/>
          </p:nvSpPr>
          <p:spPr>
            <a:xfrm>
              <a:off x="380880" y="3943440"/>
              <a:ext cx="3981600" cy="2133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9800" y="4038480"/>
              <a:ext cx="78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t?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57680" y="4019400"/>
              <a:ext cx="12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loat?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7160" y="4629240"/>
              <a:ext cx="1086120" cy="99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05040" y="4610160"/>
              <a:ext cx="1085760" cy="990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400" y="55627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ushint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0000" y="558180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usfloat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57440" y="607680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ush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4160" y="394344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467000" y="3981600"/>
              <a:ext cx="8762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62320" y="3352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762440" y="3924360"/>
            <a:ext cx="398160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5391000" y="40194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0006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oat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5238720" y="4610160"/>
            <a:ext cx="108576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591080"/>
            <a:ext cx="108576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5543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int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6991200" y="5562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float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039000" y="605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op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39243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47840" y="3962520"/>
            <a:ext cx="8766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6743880" y="33336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2B4-71BC-4880-80F6-36B72A427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sassociar o tipo de dado d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1374840"/>
            <a:ext cx="464508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Abstração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80391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lex_a = complex_b   +   complex_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5600880" y="3219480"/>
            <a:ext cx="475920" cy="819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41148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ompilador usaria automaticamente uma operação definida anteriormente para adição de números complex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3886200"/>
            <a:ext cx="380880" cy="324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66760" y="5481720"/>
            <a:ext cx="8496360" cy="113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bs.: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Todas as linguagens de computador suportam quantidades limitadas de abstração de dados. Ex.: uso do mesmo sinal de adição para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int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ou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float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610-C8C3-4BE7-B7C9-7D427F279F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1200" y="198900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Fornecem uma maneira de unir em uma única unidade variáveis e funções que operam com e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rnar variáveis que guardam uma pilha e rotinas que manipulam a pilha num único objeto permite que elas sejam vista como um mecanismo de pilh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É possível definir funções e variáveis conhecidas e acessíveis de fora desse objeto e quais são priv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17600"/>
            <a:ext cx="31399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enguin"/>
              </a:rPr>
              <a:t>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366-E64F-4033-9D0F-369E9118A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3-10-20T11:11:42Z</dcterms:modified>
  <cp:revision>451</cp:revision>
  <dc:subject/>
  <dc:title>Reconhecimento de voz</dc:title>
</cp:coreProperties>
</file>