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FC7-5378-4F35-AE6C-E44AA375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57E-210E-4D42-8AF7-5910497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6E9-1A20-441D-A361-23DC6AD9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BDB-7725-4FDE-8C7C-1EF84AFF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5DAE-4CDA-4420-985C-7EF8036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884-6ED6-46BE-B4AE-0C1C681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60A1-4C73-41F6-AEC2-B48ABAE2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52F2-A5E0-48FE-82FA-408E395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C540-BE51-46E6-9C3B-842A761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8A7A-5AB9-4847-85D2-E5ECF850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3C46-1406-45A0-B43D-628CFE6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39E-4F85-463B-8005-14775E83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2D36-F197-4CF6-88CD-2706DE3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C1C-B2F9-40BF-ACE0-AD76C88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FF9-EE4A-446D-BAD0-E8B68F6C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FF21-CC53-4EC1-B3CA-DF9EE7E6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830E-C2E6-4B90-855D-EFE9A620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880-BB14-4A94-88DD-099B06F9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DA6-CE80-4494-A852-BF86DB47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033-DF7A-4E85-B53B-459E0C64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CFC-4BAE-4306-B2B0-0EA4557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377-A914-4A69-87E5-762E11F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583-81EA-4BAC-BDA2-1AC45D9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251-DA38-485F-92FA-A65B5FE0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B76B-453B-4BE1-9A38-C30E05AAC480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27A3-996D-4D59-8D3D-CA2B4083AF0E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19040" y="1495440"/>
            <a:ext cx="843912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Estruturas de Dados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III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101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6FE-4CE7-4C85-BE7F-5CB44D82A6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8480" y="1322280"/>
            <a:ext cx="8115480" cy="49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66"/>
                </a:solidFill>
                <a:latin typeface="Arial Black"/>
              </a:rPr>
              <a:t>Hash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6400" indent="-53496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 para referência direta dos registros em uma tabela através de transformações aritméticas das chaves em endereços da tabel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 Black"/>
              </a:rPr>
              <a:t>Exempl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m serviço de telecomunicações mantém um arquivo com 100 clientes assinantes, cada um tendo um identificador único de 2 dígito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egistroAssinante cliente[100]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liente[i]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- registro do cliente cujo identificador é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3529080" y="8524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F90-D04C-4ABE-8CE9-C7BA238BB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3548160" y="7192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531720" y="1409760"/>
            <a:ext cx="8363160" cy="521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rmalmente as tabelas têm tamanho maior do que o número real de itens. A perda de espaço de memória é compensada com a velocidade de acess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a prática se os identificadores dos clientes tiverem 7 dígitos, seria necessário um vetor com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0 milhões de registro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! Neste caso, a perda de espaço seria inaceitáve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e os identificadores têm 7 dígitos, mas há no máximo 1000 clientes do serviço, é necessário um vetor de 1000 registros no máximo. Para isso, pode-se, por exemplo, utilizar somente os três últimos dígitos do identificador para determinar a posição do registro no vet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078-4C47-4F0E-83CD-58EA490AB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25960" y="1828800"/>
            <a:ext cx="2377800" cy="470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546360" y="768240"/>
            <a:ext cx="208764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3141720" y="1889280"/>
            <a:ext cx="24447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496700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842100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97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6589397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9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99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245640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...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2166840"/>
            <a:ext cx="208764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D56-6CB8-4886-8975-958B2F2015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308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552840" y="6382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8800" y="1349280"/>
            <a:ext cx="8545680" cy="5435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função que transforma uma chave em um índice de uma tabela é chamad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unção de hash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unção de hash (do exemplo): h(chave) = </a:t>
            </a:r>
            <a:r>
              <a:rPr b="1" lang="pt-BR" sz="2400" spc="-1" strike="noStrike">
                <a:solidFill>
                  <a:srgbClr val="ffcc00"/>
                </a:solidFill>
                <a:latin typeface="Courier New"/>
              </a:rPr>
              <a:t>chave%1000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blem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se h(c1) == h(c2) para duas chaves c1 e c2? Diz-se que houv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lis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étodos para lidar com colisõe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hashing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aplicar função de hashing secundária até que uma posição vazia seja encontrada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Encadeament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criar lista ligada de todos os itens cujas chaves transformadas pela função de hash dão o mesmo val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295-02B1-4488-848C-E378B89DF7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7524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74680" y="1897200"/>
            <a:ext cx="854532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ma boa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unção d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hash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 é aquela que minimiza as colisões e distribui os registros uniformemente na tabela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F97-4772-4D2D-B0FA-FCD38FDE5B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4-04-07T18:20:24Z</dcterms:modified>
  <cp:revision>293</cp:revision>
  <dc:subject/>
  <dc:title>Técnicas de Programação</dc:title>
</cp:coreProperties>
</file>