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E8E-5175-4360-B487-7922B3BB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3AF-CDDB-47DC-A348-69C8E2A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DBE-3281-43EC-A42B-B73AB4E6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675-3DEA-4B08-B355-9A048876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D587-168F-462A-970E-45C46B22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1B8-4B37-46CB-9DC8-5BED72F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30C6-D898-4752-90C4-7DE348C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6D4F-DF2A-4494-A190-4CB14D39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4BE-3FF3-4D4E-BAAC-00105471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455-A57C-43E3-BD6C-43B758E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2566-D557-448A-8ECA-9D25F4C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71F-F31E-4EC3-B855-3EA68638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A1A5-CC39-4929-9E4C-26ECA5B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E09F-03FC-4637-9BEC-7A6AABB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B925-8846-4E90-BDCD-9E4DC27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274F-36DC-40DD-A8E8-9376C177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9356-38BE-408F-A311-437C5AF3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413-4ADD-4B8A-9C86-96EC2169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8D4-C901-41AA-A78A-0F77412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FD2-D8C7-4DA5-85E0-6043876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50D-30AD-4D23-B93E-7775F34D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131-342D-44E5-B871-BB7F4DCB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883-78F1-4D91-BAB7-3419E6DB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C5E-C526-4382-8D1A-6C9F418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653-4089-42E8-A042-51899D977737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D3C-F097-4AAB-9DD7-108AF2190D3F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14240" y="1495440"/>
            <a:ext cx="771552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Estruturas de Dados II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101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6DF-4D97-424E-B2A7-8D9DFB11C6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8748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169920" y="150804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Notação: </a:t>
            </a: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Tv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7240" y="2420640"/>
            <a:ext cx="8229600" cy="1028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é um nó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ntão a notaç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v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indica a subárvore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com raiz e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0000" y="3430440"/>
            <a:ext cx="6263640" cy="3038760"/>
            <a:chOff x="1440000" y="3430440"/>
            <a:chExt cx="6263640" cy="3038760"/>
          </a:xfrm>
        </p:grpSpPr>
        <p:sp>
          <p:nvSpPr>
            <p:cNvPr id="164" name=""/>
            <p:cNvSpPr/>
            <p:nvPr/>
          </p:nvSpPr>
          <p:spPr>
            <a:xfrm flipH="1">
              <a:off x="3091680" y="3925800"/>
              <a:ext cx="1152360" cy="927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5240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96224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40120" y="3927600"/>
              <a:ext cx="1152000" cy="925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852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97480" y="5187960"/>
              <a:ext cx="1020240" cy="819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0000" y="585936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9080" y="585936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87480" y="461016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46200" y="34304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6560" y="585936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05080" y="461016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29160" y="585936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14A-4ABB-4BBF-AC04-8130819FB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3529080" y="8524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169920" y="1508040"/>
            <a:ext cx="897408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49280" indent="-4492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Árvore Transversal - Ordem de Acess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00200" y="2089080"/>
            <a:ext cx="8229600" cy="102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0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rdenad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a b c d e f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ré-ordenad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d b a c f e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1887480"/>
                <a:tab algn="l" pos="224460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ós-ordenad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a c b e g f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0000" y="3541680"/>
            <a:ext cx="6263640" cy="3038400"/>
            <a:chOff x="1440000" y="3541680"/>
            <a:chExt cx="6263640" cy="3038400"/>
          </a:xfrm>
        </p:grpSpPr>
        <p:sp>
          <p:nvSpPr>
            <p:cNvPr id="182" name=""/>
            <p:cNvSpPr/>
            <p:nvPr/>
          </p:nvSpPr>
          <p:spPr>
            <a:xfrm flipH="1">
              <a:off x="3091680" y="4036680"/>
              <a:ext cx="1152360" cy="92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65240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96224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0120" y="4038480"/>
              <a:ext cx="1152000" cy="924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852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7480" y="5298840"/>
              <a:ext cx="1020240" cy="81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000" y="597024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59080" y="597024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87480" y="4721040"/>
              <a:ext cx="47412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200" y="354168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06560" y="59702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05080" y="47210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29160" y="5970240"/>
              <a:ext cx="47448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25560" dir="162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B08-F1F6-481A-B9A7-F9CF3E1C3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1320" y="1874520"/>
            <a:ext cx="8613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rma ordenad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visita-se a subárvore da esquerda, a raiz e, em seguida, a subárvore da dire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rma préordenad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visita-se a raiz, a subárvore da esquerda e, em seguida, a subárvore da dire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Forma pós-ordenad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 visita-se a subárvore da esquerda, a subárvore da direita e, depois, a ra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241200" y="1023840"/>
            <a:ext cx="865980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Árvore Transversal - Ordem de Aces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A19-3B62-492F-8F65-E42A7998E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69920" y="128592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7240" y="2163600"/>
            <a:ext cx="8229600" cy="427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árvore 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é um conjunto finito de elementos denominado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ó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értices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u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olh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, tais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-369720" algn="just">
              <a:lnSpc>
                <a:spcPct val="9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Se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T = 0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 árvore é dita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vazia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-369720" algn="just">
              <a:lnSpc>
                <a:spcPct val="9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Há um nó especial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r,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denominado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raiz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de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0" algn="just">
              <a:lnSpc>
                <a:spcPct val="90000"/>
              </a:lnSpc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0080" indent="-369720" algn="just">
              <a:lnSpc>
                <a:spcPct val="9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s demais nós constituem um único conjunto vazio ou são divididos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em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m        (m </a:t>
            </a:r>
            <a:r>
              <a:rPr b="1" lang="pt-BR" sz="2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1) conjuntos distintos não vazios (subárvores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de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50A-2E24-47D1-89A7-9B1BC4F9A5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608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96720" y="118728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Terminologi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909720" y="1747800"/>
            <a:ext cx="7954920" cy="4149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pai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ó ao qual um nó está ligado (diretamente)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filh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cada um dos nós derivados de um nó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ancestra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os nós acima de um dado nó, em direção a raiz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descendent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todos os nós abaixo de um dado nó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s irmão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ós com o mesmo pai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Grau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úmero de sub-árvores de um nó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ó terminal (folha)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ó sem filho ou com grau zero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Níve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úmero de arcos entre um nó e a raiz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Altura da árvor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– nível mais alto (profundidade)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266760" indent="-266760" algn="just">
              <a:lnSpc>
                <a:spcPct val="11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Times New Roman"/>
              </a:rPr>
              <a:t>Floresta</a:t>
            </a:r>
            <a:r>
              <a:rPr b="1" lang="pt-BR" sz="2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– conjunto de árvores disjuntas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FEB-404D-4A51-A48B-13BF541FB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2268360"/>
            <a:ext cx="8039160" cy="298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lação de hierarqui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(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mposiçã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rgan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iretó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eças de um conju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pressão aritm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rmazenamento de dados com acesso rápido (árvore binária de pesqui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720" y="1601640"/>
            <a:ext cx="874728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Aplicações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AF4-C860-41E2-AF98-7E7B73F455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6720" y="160164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6720" indent="-4867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 de Aplicação: Árvore de Jog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92120" y="2495520"/>
            <a:ext cx="6472080" cy="3790800"/>
            <a:chOff x="1392120" y="2495520"/>
            <a:chExt cx="6472080" cy="3790800"/>
          </a:xfrm>
        </p:grpSpPr>
        <p:sp>
          <p:nvSpPr>
            <p:cNvPr id="118" name=""/>
            <p:cNvSpPr/>
            <p:nvPr/>
          </p:nvSpPr>
          <p:spPr>
            <a:xfrm>
              <a:off x="1392120" y="2495520"/>
              <a:ext cx="6472080" cy="379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rcRect l="13370" t="0" r="13607" b="0"/>
            <a:stretch/>
          </p:blipFill>
          <p:spPr>
            <a:xfrm>
              <a:off x="1688760" y="2679480"/>
              <a:ext cx="5880240" cy="342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AAB-1946-44B9-A192-F1B33B898C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48920" y="2084400"/>
            <a:ext cx="8196120" cy="4324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950760" indent="-498240" algn="just">
              <a:buClr>
                <a:srgbClr val="ffff66"/>
              </a:buClr>
              <a:buSzPct val="85000"/>
              <a:buFont typeface="Wingdings" charset="2"/>
              <a:buChar char="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Conjunto finito de elementos denomin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nó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ou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vértices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, tal que:</a:t>
            </a: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88240" indent="-424440" algn="just"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 = 0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a árvore é dit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vazi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; 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buNone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88240" indent="-424440" algn="just"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iste um nó especia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aiz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de T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buNone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88240" indent="-424440" algn="just"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s nós restantes podem ser divididos em dois subconjuntos disjuntos,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r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Trd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(sub-árvores esquerda e direita de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, respectivamente), as quais, por sua vez, também são árvores biná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1400040"/>
            <a:ext cx="8747280" cy="538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Árvore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108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3529080" y="81756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707-E013-468C-95B5-FD74D07C1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6720" y="160164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Árvore Binár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529080" y="8748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170000" y="3075120"/>
            <a:ext cx="1714320" cy="61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sub-árvore esquerd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08200" y="2428920"/>
            <a:ext cx="5189760" cy="3532680"/>
            <a:chOff x="2608200" y="2428920"/>
            <a:chExt cx="5189760" cy="3532680"/>
          </a:xfrm>
        </p:grpSpPr>
        <p:sp>
          <p:nvSpPr>
            <p:cNvPr id="131" name=""/>
            <p:cNvSpPr/>
            <p:nvPr/>
          </p:nvSpPr>
          <p:spPr>
            <a:xfrm>
              <a:off x="2608200" y="3332160"/>
              <a:ext cx="1095480" cy="961920"/>
            </a:xfrm>
            <a:prstGeom prst="ellipse">
              <a:avLst/>
            </a:prstGeom>
            <a:solidFill>
              <a:srgbClr val="dbf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1600" y="3486240"/>
              <a:ext cx="2771640" cy="2200320"/>
            </a:xfrm>
            <a:prstGeom prst="ellipse">
              <a:avLst/>
            </a:prstGeom>
            <a:solidFill>
              <a:srgbClr val="dbf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38800" y="2886120"/>
              <a:ext cx="828360" cy="81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51560" y="3998880"/>
              <a:ext cx="600120" cy="80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663800" y="4035600"/>
              <a:ext cx="571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47640" y="2890800"/>
              <a:ext cx="72396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1880" y="2428920"/>
              <a:ext cx="53964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8120" y="4694400"/>
              <a:ext cx="54000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26040" y="4664160"/>
              <a:ext cx="53964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29280" y="3576600"/>
              <a:ext cx="53964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9640" y="3556080"/>
              <a:ext cx="540000" cy="53964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228840" y="4123800"/>
              <a:ext cx="1038240" cy="1505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65640" y="5103720"/>
              <a:ext cx="179064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284720" y="5198760"/>
              <a:ext cx="133200" cy="4381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600440" y="2676600"/>
              <a:ext cx="7905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5480" y="2514600"/>
              <a:ext cx="57132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Arial"/>
                </a:rPr>
                <a:t>raiz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3680" y="5656320"/>
              <a:ext cx="99072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Arial"/>
                </a:rPr>
                <a:t>folh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83280" y="3330720"/>
              <a:ext cx="1714680" cy="6102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00"/>
                  </a:solidFill>
                  <a:latin typeface="Arial"/>
                </a:rPr>
                <a:t>sub-árvore direit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0E6-995F-474B-BAEC-3F18F57AA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47760" y="2019240"/>
            <a:ext cx="8229600" cy="6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Redes de comunicaçã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" y="1509840"/>
            <a:ext cx="810900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22280" indent="-422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de Aplicação de Árvore Binár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58920" y="2573280"/>
            <a:ext cx="6516720" cy="3706560"/>
            <a:chOff x="1258920" y="2573280"/>
            <a:chExt cx="6516720" cy="3706560"/>
          </a:xfrm>
        </p:grpSpPr>
        <p:sp>
          <p:nvSpPr>
            <p:cNvPr id="152" name=""/>
            <p:cNvSpPr/>
            <p:nvPr/>
          </p:nvSpPr>
          <p:spPr>
            <a:xfrm>
              <a:off x="1258920" y="2671560"/>
              <a:ext cx="6516720" cy="360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60520" y="2573280"/>
              <a:ext cx="5973840" cy="361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529080" y="79704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051-CEF2-44AD-9660-BD8691CD72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7760" y="17204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Operações associadas ao TAD árvore binária padr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finir uma árvore vaz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riar um nó ra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Verificar se árvore vazia ou n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riar um filho à direita de um dado n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riar um filho à esquerda de um dado 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Verificar qual o nível de um dado 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6400" indent="-449280" algn="just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tornar o pai de um dado 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529080" y="8748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Árvore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B0B-E1B2-48CD-BCC8-6E859D5056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4-11-16T15:44:03Z</dcterms:modified>
  <cp:revision>298</cp:revision>
  <dc:subject/>
  <dc:title>Reconhecimento de voz</dc:title>
</cp:coreProperties>
</file>