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2752-5632-4040-A925-8DB10053A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FCA3-2679-47D4-839C-8FCDDFAE4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383E-9156-4877-8D51-FF5FE6958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ECF4-B5F6-474C-94EB-BF46A6D0A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AC38F-D77F-430B-8631-F36F9885B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E66DD-1A69-4B2B-B04B-35384B085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ED82E-DD17-457D-9B37-D2F970B6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4DD1B-DFBC-42C8-95E4-D342F4054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F8781-8872-4470-AAB3-03CE5B1D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AADA0-4D13-431D-856B-979EDE5E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428F1-437B-496D-B510-CA6AB574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4087-4213-4D9B-AFE0-91C5F52B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FA44F-8582-46E0-A3B7-F6FF9C050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967CF-159E-42EA-88B9-A277010CD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05A6E-C054-43F6-ACD9-F40BFC36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D0E28-12FD-4988-84EF-3340AD78D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1272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95160" y="170316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3028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1272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95160" y="406980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6BF9-FB0E-4CDE-BC1E-A88C110D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CD32-8EDF-4394-8B98-9F49418E9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8AAB-098C-465E-9CCE-49301E290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0169-9271-48F9-8F1D-3FA2B3928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4065-1343-45A2-B1BE-67D6700AF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480-E8E8-441A-965D-83BFB0C6A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7320" y="406980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C6957-DB2D-4951-8948-8811D44A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028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7320" y="170316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0280" y="406980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7F4A-E9BD-44DC-BE3E-3C42E62D3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530280" y="1703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0" y="3981600"/>
            <a:ext cx="3400560" cy="2863800"/>
          </a:xfrm>
          <a:custGeom>
            <a:avLst/>
            <a:gdLst/>
            <a:ahLst/>
            <a:rect l="l" t="t" r="r" b="b"/>
            <a:pathLst>
              <a:path w="2135" h="1804">
                <a:moveTo>
                  <a:pt x="329" y="66"/>
                </a:moveTo>
                <a:lnTo>
                  <a:pt x="161" y="30"/>
                </a:lnTo>
                <a:lnTo>
                  <a:pt x="0" y="0"/>
                </a:lnTo>
                <a:lnTo>
                  <a:pt x="0" y="12"/>
                </a:lnTo>
                <a:lnTo>
                  <a:pt x="161" y="42"/>
                </a:lnTo>
                <a:lnTo>
                  <a:pt x="323" y="78"/>
                </a:lnTo>
                <a:lnTo>
                  <a:pt x="556" y="150"/>
                </a:lnTo>
                <a:lnTo>
                  <a:pt x="777" y="245"/>
                </a:lnTo>
                <a:lnTo>
                  <a:pt x="993" y="365"/>
                </a:lnTo>
                <a:lnTo>
                  <a:pt x="1196" y="503"/>
                </a:lnTo>
                <a:lnTo>
                  <a:pt x="1381" y="653"/>
                </a:lnTo>
                <a:lnTo>
                  <a:pt x="1555" y="827"/>
                </a:lnTo>
                <a:lnTo>
                  <a:pt x="1710" y="1019"/>
                </a:lnTo>
                <a:lnTo>
                  <a:pt x="1854" y="1229"/>
                </a:lnTo>
                <a:lnTo>
                  <a:pt x="1937" y="1366"/>
                </a:lnTo>
                <a:lnTo>
                  <a:pt x="2009" y="1510"/>
                </a:lnTo>
                <a:lnTo>
                  <a:pt x="2069" y="1654"/>
                </a:lnTo>
                <a:lnTo>
                  <a:pt x="2123" y="1804"/>
                </a:lnTo>
                <a:lnTo>
                  <a:pt x="2135" y="1804"/>
                </a:lnTo>
                <a:lnTo>
                  <a:pt x="2081" y="1654"/>
                </a:lnTo>
                <a:lnTo>
                  <a:pt x="2021" y="1510"/>
                </a:lnTo>
                <a:lnTo>
                  <a:pt x="1949" y="1366"/>
                </a:lnTo>
                <a:lnTo>
                  <a:pt x="1866" y="1223"/>
                </a:lnTo>
                <a:lnTo>
                  <a:pt x="1722" y="1013"/>
                </a:lnTo>
                <a:lnTo>
                  <a:pt x="1561" y="821"/>
                </a:lnTo>
                <a:lnTo>
                  <a:pt x="1387" y="647"/>
                </a:lnTo>
                <a:lnTo>
                  <a:pt x="1202" y="491"/>
                </a:lnTo>
                <a:lnTo>
                  <a:pt x="999" y="353"/>
                </a:lnTo>
                <a:lnTo>
                  <a:pt x="783" y="239"/>
                </a:lnTo>
                <a:lnTo>
                  <a:pt x="562" y="138"/>
                </a:lnTo>
                <a:lnTo>
                  <a:pt x="329" y="66"/>
                </a:lnTo>
                <a:lnTo>
                  <a:pt x="329" y="66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cc9900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"/>
          <p:cNvSpPr/>
          <p:nvPr/>
        </p:nvSpPr>
        <p:spPr>
          <a:xfrm>
            <a:off x="0" y="4341960"/>
            <a:ext cx="2770200" cy="2503440"/>
          </a:xfrm>
          <a:custGeom>
            <a:avLst/>
            <a:gdLst/>
            <a:ahLst/>
            <a:rect l="l" t="t" r="r" b="b"/>
            <a:pathLst>
              <a:path w="1745" h="1577">
                <a:moveTo>
                  <a:pt x="1640" y="1377"/>
                </a:moveTo>
                <a:lnTo>
                  <a:pt x="1692" y="1479"/>
                </a:lnTo>
                <a:lnTo>
                  <a:pt x="1732" y="1577"/>
                </a:lnTo>
                <a:lnTo>
                  <a:pt x="1745" y="1577"/>
                </a:lnTo>
                <a:lnTo>
                  <a:pt x="1703" y="1469"/>
                </a:lnTo>
                <a:lnTo>
                  <a:pt x="1649" y="1367"/>
                </a:lnTo>
                <a:lnTo>
                  <a:pt x="1535" y="1157"/>
                </a:lnTo>
                <a:lnTo>
                  <a:pt x="1395" y="951"/>
                </a:lnTo>
                <a:lnTo>
                  <a:pt x="1236" y="756"/>
                </a:lnTo>
                <a:lnTo>
                  <a:pt x="1061" y="582"/>
                </a:lnTo>
                <a:lnTo>
                  <a:pt x="876" y="426"/>
                </a:lnTo>
                <a:lnTo>
                  <a:pt x="672" y="294"/>
                </a:lnTo>
                <a:lnTo>
                  <a:pt x="455" y="174"/>
                </a:lnTo>
                <a:lnTo>
                  <a:pt x="234" y="78"/>
                </a:lnTo>
                <a:lnTo>
                  <a:pt x="0" y="0"/>
                </a:lnTo>
                <a:lnTo>
                  <a:pt x="0" y="12"/>
                </a:lnTo>
                <a:lnTo>
                  <a:pt x="222" y="89"/>
                </a:lnTo>
                <a:lnTo>
                  <a:pt x="446" y="185"/>
                </a:lnTo>
                <a:lnTo>
                  <a:pt x="662" y="305"/>
                </a:lnTo>
                <a:lnTo>
                  <a:pt x="866" y="437"/>
                </a:lnTo>
                <a:lnTo>
                  <a:pt x="1052" y="593"/>
                </a:lnTo>
                <a:lnTo>
                  <a:pt x="1226" y="767"/>
                </a:lnTo>
                <a:lnTo>
                  <a:pt x="1385" y="960"/>
                </a:lnTo>
                <a:lnTo>
                  <a:pt x="1526" y="1167"/>
                </a:lnTo>
                <a:lnTo>
                  <a:pt x="1640" y="1377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fffcc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"/>
          <p:cNvSpPr/>
          <p:nvPr/>
        </p:nvSpPr>
        <p:spPr>
          <a:xfrm>
            <a:off x="0" y="4038480"/>
            <a:ext cx="2770200" cy="2806920"/>
          </a:xfrm>
          <a:custGeom>
            <a:avLst/>
            <a:gdLst/>
            <a:ahLst/>
            <a:rect l="l" t="t" r="r" b="b"/>
            <a:pathLst>
              <a:path w="1745" h="1768">
                <a:moveTo>
                  <a:pt x="0" y="0"/>
                </a:moveTo>
                <a:lnTo>
                  <a:pt x="0" y="12"/>
                </a:lnTo>
                <a:lnTo>
                  <a:pt x="210" y="88"/>
                </a:lnTo>
                <a:lnTo>
                  <a:pt x="426" y="190"/>
                </a:lnTo>
                <a:lnTo>
                  <a:pt x="630" y="304"/>
                </a:lnTo>
                <a:lnTo>
                  <a:pt x="818" y="442"/>
                </a:lnTo>
                <a:lnTo>
                  <a:pt x="998" y="592"/>
                </a:lnTo>
                <a:lnTo>
                  <a:pt x="1164" y="766"/>
                </a:lnTo>
                <a:lnTo>
                  <a:pt x="1310" y="942"/>
                </a:lnTo>
                <a:lnTo>
                  <a:pt x="1454" y="1146"/>
                </a:lnTo>
                <a:lnTo>
                  <a:pt x="1536" y="1298"/>
                </a:lnTo>
                <a:lnTo>
                  <a:pt x="1614" y="1456"/>
                </a:lnTo>
                <a:lnTo>
                  <a:pt x="1682" y="1616"/>
                </a:lnTo>
                <a:lnTo>
                  <a:pt x="1733" y="1768"/>
                </a:lnTo>
                <a:lnTo>
                  <a:pt x="1745" y="1768"/>
                </a:lnTo>
                <a:lnTo>
                  <a:pt x="1691" y="1606"/>
                </a:lnTo>
                <a:lnTo>
                  <a:pt x="1623" y="1445"/>
                </a:lnTo>
                <a:lnTo>
                  <a:pt x="1547" y="1288"/>
                </a:lnTo>
                <a:lnTo>
                  <a:pt x="1463" y="1136"/>
                </a:lnTo>
                <a:lnTo>
                  <a:pt x="1320" y="932"/>
                </a:lnTo>
                <a:lnTo>
                  <a:pt x="1173" y="755"/>
                </a:lnTo>
                <a:lnTo>
                  <a:pt x="1008" y="581"/>
                </a:lnTo>
                <a:lnTo>
                  <a:pt x="827" y="431"/>
                </a:lnTo>
                <a:lnTo>
                  <a:pt x="642" y="293"/>
                </a:lnTo>
                <a:lnTo>
                  <a:pt x="437" y="179"/>
                </a:lnTo>
                <a:lnTo>
                  <a:pt x="222" y="78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50000">
                <a:srgbClr val="fde503">
                  <a:alpha val="29019"/>
                </a:srgbClr>
              </a:gs>
              <a:gs pos="100000">
                <a:srgbClr val="00000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"/>
          <p:cNvSpPr/>
          <p:nvPr/>
        </p:nvSpPr>
        <p:spPr>
          <a:xfrm>
            <a:off x="1711440" y="5305320"/>
            <a:ext cx="136440" cy="13680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fffcc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"/>
          <p:cNvSpPr/>
          <p:nvPr/>
        </p:nvSpPr>
        <p:spPr>
          <a:xfrm>
            <a:off x="2438280" y="6165720"/>
            <a:ext cx="146160" cy="14616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fde503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"/>
          <p:cNvSpPr/>
          <p:nvPr/>
        </p:nvSpPr>
        <p:spPr>
          <a:xfrm>
            <a:off x="1123920" y="4554360"/>
            <a:ext cx="192240" cy="192240"/>
          </a:xfrm>
          <a:prstGeom prst="ellipse">
            <a:avLst/>
          </a:prstGeom>
          <a:blipFill rotWithShape="0">
            <a:blip r:embed="rId2">
              <a:alphaModFix amt="54000"/>
            </a:blip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45684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5768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1000" spc="-1" strike="noStrike">
                <a:solidFill>
                  <a:srgbClr val="ffffff"/>
                </a:solidFill>
                <a:latin typeface="Arial"/>
              </a:rPr>
              <a:t>DSC/CCT/UFCG – Técnicas de Programação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795720" y="634824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2800" spc="-1" strike="noStrike">
                <a:solidFill>
                  <a:srgbClr val="ffffff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63453-C27D-4FD0-947D-09A58D0519E8}" type="slidenum">
              <a:rPr b="1" lang="pt-BR" sz="2800" spc="-1" strike="noStrike">
                <a:solidFill>
                  <a:srgbClr val="ffffff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" name=""/>
          <p:cNvSpPr/>
          <p:nvPr/>
        </p:nvSpPr>
        <p:spPr>
          <a:xfrm>
            <a:off x="1862280" y="4713120"/>
            <a:ext cx="191880" cy="19224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cc9900">
                  <a:alpha val="54117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9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5BE51-8A24-499B-B45C-8B4666D4EC8C}" type="slidenum">
              <a:rPr b="0" lang="pt-BR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692280" y="257040"/>
            <a:ext cx="7804080" cy="1067040"/>
            <a:chOff x="692280" y="257040"/>
            <a:chExt cx="7804080" cy="1067040"/>
          </a:xfrm>
        </p:grpSpPr>
        <p:sp>
          <p:nvSpPr>
            <p:cNvPr id="97" name=""/>
            <p:cNvSpPr/>
            <p:nvPr/>
          </p:nvSpPr>
          <p:spPr>
            <a:xfrm>
              <a:off x="723960" y="25704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000000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92280" y="282600"/>
              <a:ext cx="7772400" cy="104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5400" spc="-1" strike="noStrike">
                  <a:solidFill>
                    <a:srgbClr val="ffff99"/>
                  </a:solidFill>
                  <a:latin typeface="Penguin"/>
                </a:rPr>
                <a:t>Técnicas de Programação</a:t>
              </a:r>
              <a:endParaRPr b="0" lang="en-US" sz="5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1009800" y="1495440"/>
            <a:ext cx="7124400" cy="20001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Linguagem </a:t>
            </a:r>
            <a:r>
              <a:rPr b="1" lang="pt-BR" sz="6000" spc="-1" strike="noStrike">
                <a:solidFill>
                  <a:srgbClr val="ff9900"/>
                </a:solidFill>
                <a:latin typeface="Penguin"/>
              </a:rPr>
              <a:t>C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ffff01"/>
                </a:solidFill>
                <a:latin typeface="Penguin"/>
              </a:rPr>
              <a:t>Estruturas de Dados</a:t>
            </a:r>
            <a:r>
              <a:rPr b="1" lang="pt-BR" sz="6000" spc="-1" strike="noStrike">
                <a:solidFill>
                  <a:srgbClr val="ffff01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362240" y="4921200"/>
            <a:ext cx="6419160" cy="1076400"/>
            <a:chOff x="1362240" y="4921200"/>
            <a:chExt cx="6419160" cy="1076400"/>
          </a:xfrm>
        </p:grpSpPr>
        <p:sp>
          <p:nvSpPr>
            <p:cNvPr id="101" name=""/>
            <p:cNvSpPr/>
            <p:nvPr/>
          </p:nvSpPr>
          <p:spPr>
            <a:xfrm>
              <a:off x="1380960" y="492120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Profs.:</a:t>
              </a:r>
              <a:r>
                <a:rPr b="1" lang="pt-BR" sz="2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000000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362240" y="4930920"/>
              <a:ext cx="6400440" cy="10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600" spc="-1" strike="noStrike">
                  <a:solidFill>
                    <a:srgbClr val="ffffff"/>
                  </a:solidFill>
                  <a:latin typeface="Arial"/>
                </a:rPr>
                <a:t>Profs.: 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eana Macêdo Fechine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r>
                <a:rPr b="1" i="1" lang="pt-BR" sz="2600" spc="-1" strike="noStrike">
                  <a:solidFill>
                    <a:srgbClr val="ffffcc"/>
                  </a:solidFill>
                  <a:latin typeface="Arial"/>
                </a:rPr>
                <a:t>José Eustáquio Rangel</a:t>
              </a:r>
              <a:endParaRPr b="0" lang="en-US" sz="26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61CF-6E2E-4549-B837-BE5EA57A27F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577800" y="2606760"/>
            <a:ext cx="8229600" cy="1193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lvl="1" marL="861840" indent="-45468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Refere-se ao conceit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pos de dad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não levando em consideração o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hardware</a:t>
            </a:r>
            <a:r>
              <a:rPr b="1" i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tilizad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2880" y="1631880"/>
            <a:ext cx="671364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7160" indent="-4971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Tipos Abstratos de Dado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2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3" name=""/>
          <p:cNvSpPr/>
          <p:nvPr/>
        </p:nvSpPr>
        <p:spPr>
          <a:xfrm>
            <a:off x="3189240" y="952560"/>
            <a:ext cx="27637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B6E-CE7C-40C7-98A1-FF26FB2EA2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711360" y="2419200"/>
            <a:ext cx="8229600" cy="140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6400" indent="-536400" algn="just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Conjunto de valores e seqüência de operações sobre e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6" name=""/>
          <p:cNvSpPr/>
          <p:nvPr/>
        </p:nvSpPr>
        <p:spPr>
          <a:xfrm>
            <a:off x="2389320" y="952560"/>
            <a:ext cx="436716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 - TAD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85760" y="1549440"/>
            <a:ext cx="297324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7960" indent="-5079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Definição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8" name=""/>
          <p:cNvSpPr/>
          <p:nvPr/>
        </p:nvSpPr>
        <p:spPr>
          <a:xfrm>
            <a:off x="914400" y="3755880"/>
            <a:ext cx="82296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9" name=""/>
          <p:cNvSpPr/>
          <p:nvPr/>
        </p:nvSpPr>
        <p:spPr>
          <a:xfrm>
            <a:off x="711360" y="3786120"/>
            <a:ext cx="8229600" cy="1152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6400" indent="-536400" algn="just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Característica essencial: separação entr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conceit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implementaç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0" name=""/>
          <p:cNvSpPr/>
          <p:nvPr/>
        </p:nvSpPr>
        <p:spPr>
          <a:xfrm>
            <a:off x="711360" y="5030640"/>
            <a:ext cx="8229600" cy="1409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6400" indent="-536400" algn="just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 implementação de um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AD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consiste da seleção de um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D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para representá-lo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550CB-AB2F-49D9-8EE5-5E3EC147934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2" name=""/>
          <p:cNvSpPr/>
          <p:nvPr/>
        </p:nvSpPr>
        <p:spPr>
          <a:xfrm>
            <a:off x="2389320" y="952560"/>
            <a:ext cx="436716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 - TAD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3" name=""/>
          <p:cNvSpPr/>
          <p:nvPr/>
        </p:nvSpPr>
        <p:spPr>
          <a:xfrm>
            <a:off x="487440" y="1892160"/>
            <a:ext cx="297324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7160" indent="-4971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xemplo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755880"/>
            <a:ext cx="45482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2739960"/>
            <a:ext cx="3265200" cy="2790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1001880" indent="-466920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ist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01880" indent="-466920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ilh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01880" indent="-466920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ila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01880" indent="-466920">
              <a:lnSpc>
                <a:spcPct val="120000"/>
              </a:lnSpc>
              <a:spcBef>
                <a:spcPts val="1049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Árvore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D4DD0-6E04-469B-827F-0473CBEF23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973080" y="9828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389320" y="652320"/>
            <a:ext cx="4367160" cy="4352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8" name=""/>
          <p:cNvSpPr/>
          <p:nvPr/>
        </p:nvSpPr>
        <p:spPr>
          <a:xfrm>
            <a:off x="914400" y="3755880"/>
            <a:ext cx="45482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9" name=""/>
          <p:cNvSpPr/>
          <p:nvPr/>
        </p:nvSpPr>
        <p:spPr>
          <a:xfrm>
            <a:off x="192240" y="1249200"/>
            <a:ext cx="8524800" cy="542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ffcc00"/>
                </a:solidFill>
                <a:latin typeface="Penguin"/>
                <a:ea typeface="Arial"/>
              </a:rPr>
              <a:t>Lista linear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lvl="1" marL="903240" indent="-44604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Seqüência ordenada de elementos, no sentido de sua posição relativa -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,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, ...,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Arial"/>
              </a:rPr>
              <a:t>,  tal que: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2" marL="1521000" indent="-438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Existem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elementos na seqüência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521000" indent="-438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- primeiro elemento da seqüência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521000" indent="-438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- último elemento da seqüência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521000" indent="-438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Para tod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, entr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n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, s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i &lt; j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, então o element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antecede o element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;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521000" indent="-438480" algn="just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90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Cas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i = j - 1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,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i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é o antecessor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j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é o sucessor d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  <a:ea typeface="Arial"/>
              </a:rPr>
              <a:t>E</a:t>
            </a:r>
            <a:r>
              <a:rPr b="1" lang="pt-BR" sz="2400" spc="-1" strike="noStrike" baseline="-25000">
                <a:solidFill>
                  <a:srgbClr val="ffffff"/>
                </a:solidFill>
                <a:latin typeface="Arial"/>
              </a:rPr>
              <a:t>i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517920" y="1450800"/>
            <a:ext cx="3686040" cy="682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72CB-7746-427A-B83E-7DDCA0A3433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2" name=""/>
          <p:cNvSpPr/>
          <p:nvPr/>
        </p:nvSpPr>
        <p:spPr>
          <a:xfrm>
            <a:off x="2389320" y="952560"/>
            <a:ext cx="436716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3" name=""/>
          <p:cNvSpPr/>
          <p:nvPr/>
        </p:nvSpPr>
        <p:spPr>
          <a:xfrm>
            <a:off x="914400" y="3755880"/>
            <a:ext cx="45482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4" name=""/>
          <p:cNvSpPr/>
          <p:nvPr/>
        </p:nvSpPr>
        <p:spPr>
          <a:xfrm>
            <a:off x="243000" y="1638360"/>
            <a:ext cx="8645400" cy="4800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ffcc00"/>
                </a:solidFill>
                <a:latin typeface="Penguin"/>
                <a:ea typeface="Arial"/>
              </a:rPr>
              <a:t>Operações em list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busc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inserçã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remoção de um element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ordenação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 dos elementos da lista segundo uma determinad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chave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acesso ao último (ou ao primeiro) elemento da lista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9EB9-5B71-43F1-BD5A-92E8836E0E3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973080" y="12708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6" name=""/>
          <p:cNvSpPr/>
          <p:nvPr/>
        </p:nvSpPr>
        <p:spPr>
          <a:xfrm>
            <a:off x="2389320" y="876240"/>
            <a:ext cx="4367160" cy="569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7" name=""/>
          <p:cNvSpPr/>
          <p:nvPr/>
        </p:nvSpPr>
        <p:spPr>
          <a:xfrm>
            <a:off x="914400" y="3755880"/>
            <a:ext cx="4548240" cy="27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2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8" name=""/>
          <p:cNvSpPr/>
          <p:nvPr/>
        </p:nvSpPr>
        <p:spPr>
          <a:xfrm>
            <a:off x="303120" y="1452600"/>
            <a:ext cx="8645760" cy="3741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spcBef>
                <a:spcPts val="2500"/>
              </a:spcBef>
              <a:buClr>
                <a:srgbClr val="ffcc00"/>
              </a:buClr>
              <a:buSzPct val="10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  <a:ea typeface="Arial"/>
              </a:rPr>
              <a:t> </a:t>
            </a:r>
            <a:r>
              <a:rPr b="1" lang="pt-BR" sz="4000" spc="-1" strike="noStrike">
                <a:solidFill>
                  <a:srgbClr val="ffcc00"/>
                </a:solidFill>
                <a:latin typeface="Penguin"/>
                <a:ea typeface="Arial"/>
              </a:rPr>
              <a:t>Armazenamento dos Elementos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em posiçõe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contíguas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 da memória - list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seqüencial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1081080" indent="-450720" algn="just">
              <a:lnSpc>
                <a:spcPct val="100000"/>
              </a:lnSpc>
              <a:spcBef>
                <a:spcPts val="1749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em posições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aleatórias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 da memória - list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  <a:ea typeface="Arial"/>
              </a:rPr>
              <a:t>encadeada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5222880"/>
            <a:ext cx="2033640" cy="825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Aloca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de Memór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0" name=""/>
          <p:cNvSpPr/>
          <p:nvPr/>
        </p:nvSpPr>
        <p:spPr>
          <a:xfrm>
            <a:off x="3498840" y="4889520"/>
            <a:ext cx="162000" cy="1509840"/>
          </a:xfrm>
          <a:custGeom>
            <a:avLst/>
            <a:gdLst>
              <a:gd name="textAreaLeft" fmla="*/ 103680 w 162000"/>
              <a:gd name="textAreaRight" fmla="*/ 162360 w 162000"/>
              <a:gd name="textAreaTop" fmla="*/ 39240 h 1509840"/>
              <a:gd name="textAreaBottom" fmla="*/ 1470600 h 15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1" name=""/>
          <p:cNvSpPr/>
          <p:nvPr/>
        </p:nvSpPr>
        <p:spPr>
          <a:xfrm>
            <a:off x="3846600" y="5035680"/>
            <a:ext cx="5196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Estátic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:  momento de compila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2" name=""/>
          <p:cNvSpPr/>
          <p:nvPr/>
        </p:nvSpPr>
        <p:spPr>
          <a:xfrm>
            <a:off x="3831120" y="5756400"/>
            <a:ext cx="5007240" cy="459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Dinâmica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: momento de execu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5D6-AE28-49DE-B1B3-E2246884519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65080" y="1235160"/>
            <a:ext cx="6894720" cy="524664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9880" y="1293840"/>
            <a:ext cx="6730920" cy="511488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stdio.h&gt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conio.h&gt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#include &lt;stdlib.h&gt;</a:t>
            </a:r>
            <a:br>
              <a:rPr sz="2000"/>
            </a:br>
            <a:br>
              <a:rPr sz="2000"/>
            </a:b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cálculo da media e variancia de "d" numeros reais*/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void main ( void )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{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nt      i, d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loat   *n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float   m, v;</a:t>
            </a:r>
            <a:br>
              <a:rPr sz="2000"/>
            </a:b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 alocação dinâmica de memória*/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“Entre com o número de elementos:”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scanf ("%d", &amp;d 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 = (float *) calloc (d, sizeof(float) 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if ( n == NULL ) {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printf("Memoria insuficiente ! \n"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exit(1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7800" y="185760"/>
            <a:ext cx="2786400" cy="63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486720" indent="-4867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xemplo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6" name=""/>
          <p:cNvSpPr/>
          <p:nvPr/>
        </p:nvSpPr>
        <p:spPr>
          <a:xfrm>
            <a:off x="3754440" y="1352520"/>
            <a:ext cx="4943520" cy="1008720"/>
          </a:xfrm>
          <a:prstGeom prst="rect">
            <a:avLst/>
          </a:prstGeom>
          <a:gradFill rotWithShape="0">
            <a:gsLst>
              <a:gs pos="0">
                <a:srgbClr val="ccecff"/>
              </a:gs>
              <a:gs pos="100000">
                <a:srgbClr val="ccec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9900"/>
                </a:solidFill>
                <a:latin typeface="Arial"/>
              </a:rPr>
              <a:t>A função </a:t>
            </a:r>
            <a:r>
              <a:rPr b="1" i="1" lang="pt-BR" sz="2000" spc="-1" strike="noStrike">
                <a:solidFill>
                  <a:srgbClr val="b02a00"/>
                </a:solidFill>
                <a:latin typeface="Arial"/>
              </a:rPr>
              <a:t>calloc()</a:t>
            </a:r>
            <a:r>
              <a:rPr b="1" lang="pt-BR" sz="2000" spc="-1" strike="noStrike">
                <a:solidFill>
                  <a:srgbClr val="ff9900"/>
                </a:solidFill>
                <a:latin typeface="Arial"/>
              </a:rPr>
              <a:t> aloca memória suficiente para uma matriz de </a:t>
            </a:r>
            <a:r>
              <a:rPr b="1" i="1" lang="pt-BR" sz="2000" spc="-1" strike="noStrike">
                <a:solidFill>
                  <a:srgbClr val="b02a00"/>
                </a:solidFill>
                <a:latin typeface="Arial"/>
              </a:rPr>
              <a:t>d</a:t>
            </a:r>
            <a:r>
              <a:rPr b="1" lang="pt-BR" sz="2000" spc="-1" strike="noStrike">
                <a:solidFill>
                  <a:srgbClr val="b02a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ff9900"/>
                </a:solidFill>
                <a:latin typeface="Arial"/>
              </a:rPr>
              <a:t>objetos de tamanho</a:t>
            </a:r>
            <a:r>
              <a:rPr b="1" lang="pt-BR" sz="2000" spc="-1" strike="noStrike">
                <a:solidFill>
                  <a:srgbClr val="ff9900"/>
                </a:solidFill>
                <a:latin typeface="Courier New"/>
              </a:rPr>
              <a:t> </a:t>
            </a:r>
            <a:r>
              <a:rPr b="1" i="1" lang="pt-BR" sz="2000" spc="-1" strike="noStrike">
                <a:solidFill>
                  <a:srgbClr val="b02a00"/>
                </a:solidFill>
                <a:latin typeface="Arial"/>
              </a:rPr>
              <a:t>float</a:t>
            </a:r>
            <a:r>
              <a:rPr b="1" lang="pt-BR" sz="2000" spc="-1" strike="noStrike">
                <a:solidFill>
                  <a:srgbClr val="ff99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7" name=""/>
          <p:cNvSpPr/>
          <p:nvPr/>
        </p:nvSpPr>
        <p:spPr>
          <a:xfrm>
            <a:off x="2471760" y="4857840"/>
            <a:ext cx="3151080" cy="51732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1068480" y="1849320"/>
            <a:ext cx="2520720" cy="443160"/>
          </a:xfrm>
          <a:prstGeom prst="ellipse">
            <a:avLst/>
          </a:prstGeom>
          <a:noFill/>
          <a:ln w="28440">
            <a:solidFill>
              <a:srgbClr val="cc3300"/>
            </a:solidFill>
            <a:miter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 flipH="1" flipV="1" rot="4182600">
            <a:off x="4549320" y="1454040"/>
            <a:ext cx="3580560" cy="5038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cc3300"/>
            </a:solidFill>
            <a:miter/>
            <a:tailEnd len="lg" type="triangle" w="lg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14F7-D02F-44CD-A553-A8ACD7D7202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404640" y="1066680"/>
            <a:ext cx="6788160" cy="530388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ff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0040" y="1152360"/>
            <a:ext cx="6593040" cy="51451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txBody>
          <a:bodyPr anchor="ctr" anchorCtr="1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 leitura dos valores */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for(i = 0; i &lt; d; i++){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printf(“Digite o valor do elemento n[%d]:”, i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 scanf("%f", &amp;n[i]);</a:t>
            </a:r>
            <a:r>
              <a:rPr b="1" i="1" lang="pt-BR" sz="1500" spc="-1" strike="noStrike">
                <a:solidFill>
                  <a:srgbClr val="000000"/>
                </a:solidFill>
                <a:latin typeface="Arial"/>
              </a:rPr>
              <a:t>         </a:t>
            </a:r>
            <a:br>
              <a:rPr sz="15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 </a:t>
            </a:r>
            <a:br>
              <a:rPr sz="2000"/>
            </a:b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 cálculo da média e da variância */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m = 0.0;          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v = 0.0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for ( i = 0; i &lt; d; i++ ) m += n[i]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m /= d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for ( i = 0; i &lt; d; i++ ) v += (n[i]-m)*(n[i]-m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v /= d;</a:t>
            </a:r>
            <a:br>
              <a:rPr sz="2000"/>
            </a:b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 liberação da memória alocada dinamicamente */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free ( n );</a:t>
            </a:r>
            <a:br>
              <a:rPr sz="2000"/>
            </a:br>
            <a:r>
              <a:rPr b="1" i="1" lang="pt-BR" sz="2000" spc="-1" strike="noStrike">
                <a:solidFill>
                  <a:srgbClr val="010199"/>
                </a:solidFill>
                <a:latin typeface="Arial"/>
              </a:rPr>
              <a:t>/* impressão do resultado */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   printf("Media = %f  Variancia = %f  \n", m, v);</a:t>
            </a:r>
            <a:br>
              <a:rPr sz="2000"/>
            </a:b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7800" y="185760"/>
            <a:ext cx="3861000" cy="638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507960" indent="-50796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xemplo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99"/>
                </a:solidFill>
                <a:latin typeface="Arial"/>
              </a:rPr>
              <a:t>(cont.)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559A-5661-4E84-9897-5E3F3DF78EF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 flipH="1">
            <a:off x="8458200" y="296064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301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8458200" y="350676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301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084320" y="2382480"/>
            <a:ext cx="7596000" cy="3459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ist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ática Seqüen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ista Estática Singularmente Encade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ista Estática Duplamente Encadea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ist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Dinâ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Lista Circu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7" name=""/>
          <p:cNvSpPr/>
          <p:nvPr/>
        </p:nvSpPr>
        <p:spPr>
          <a:xfrm>
            <a:off x="3697200" y="84312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8" name=""/>
          <p:cNvSpPr/>
          <p:nvPr/>
        </p:nvSpPr>
        <p:spPr>
          <a:xfrm>
            <a:off x="615960" y="1330200"/>
            <a:ext cx="322272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497160" indent="-4971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Categoria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8458200" y="350676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8458200" y="296064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8458200" y="350676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8458200" y="296064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8458200" y="296244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8458200" y="3506760"/>
            <a:ext cx="573120" cy="477720"/>
          </a:xfrm>
          <a:custGeom>
            <a:avLst/>
            <a:gdLst>
              <a:gd name="textAreaLeft" fmla="*/ 89640 w 573120"/>
              <a:gd name="textAreaRight" fmla="*/ 501840 w 573120"/>
              <a:gd name="textAreaTop" fmla="*/ 119520 h 477720"/>
              <a:gd name="textAreaBottom" fmla="*/ 358560 h 477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2E80-274D-4B21-9F28-A3FE64E9DE8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" dur="1" fill="hold">
                                    <p:stCondLst>
                                      <p:cond evt="end">
                                        <p:tn val="5"/>
                                      </p:cond>
                                    </p:stCondLst>
                                  </p:cTn>
                                  <p:tgtEl>
                                    <p:spTgt spid="17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" dur="1" fill="hold">
                                    <p:stCondLst>
                                      <p:cond evt="end">
                                        <p:tn val="9"/>
                                      </p:cond>
                                    </p:stCondLst>
                                  </p:cTn>
                                  <p:tgtEl>
                                    <p:spTgt spid="17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" dur="1" fill="hold">
                                    <p:stCondLst>
                                      <p:cond evt="end">
                                        <p:tn val="14"/>
                                      </p:cond>
                                    </p:stCondLst>
                                  </p:cTn>
                                  <p:tgtEl>
                                    <p:spTgt spid="1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1" dur="1" fill="hold">
                                    <p:stCondLst>
                                      <p:cond evt="end">
                                        <p:tn val="18"/>
                                      </p:cond>
                                    </p:stCondLst>
                                  </p:cTn>
                                  <p:tgtEl>
                                    <p:spTgt spid="1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6" dur="1" fill="hold">
                                    <p:stCondLst>
                                      <p:cond evt="end">
                                        <p:tn val="23"/>
                                      </p:cond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0" dur="1" fill="hold">
                                    <p:stCondLst>
                                      <p:cond evt="end">
                                        <p:tn val="27"/>
                                      </p:cond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" dur="1" fill="hold"/>
                                  <p:tgtEl>
                                    <p:spTgt spid="1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41" dur="1" fill="hold"/>
                                  <p:tgtEl>
                                    <p:spTgt spid="18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596520" y="2843280"/>
            <a:ext cx="7743960" cy="1549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507960" indent="-50796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abelecimento de regras de precedência entre seus elementos (o sucessor de um elemento ocupa posição física subseqüente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7" name=""/>
          <p:cNvSpPr/>
          <p:nvPr/>
        </p:nvSpPr>
        <p:spPr>
          <a:xfrm>
            <a:off x="3724200" y="95256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88" name=""/>
          <p:cNvSpPr/>
          <p:nvPr/>
        </p:nvSpPr>
        <p:spPr>
          <a:xfrm>
            <a:off x="417600" y="1630440"/>
            <a:ext cx="628632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5120" indent="-46512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Lista Estática Seqüencial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492120" y="4970520"/>
            <a:ext cx="8151840" cy="649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646B-E05D-40C2-8874-A8E18F7691C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3332160" y="952560"/>
            <a:ext cx="24782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fcc00"/>
                </a:solidFill>
                <a:latin typeface="Penguin"/>
              </a:rPr>
              <a:t>Objetiv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485640" y="2019240"/>
            <a:ext cx="8229600" cy="2156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cc"/>
                </a:solidFill>
                <a:latin typeface="Arial"/>
              </a:rPr>
              <a:t>Introduzir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s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Estruturas de Dados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suais em C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 seus Algoritmos;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 algn="just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Apresentar conceitos relativos às estruturas de dados estudada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6014C-D188-4134-8632-E8388A743D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964800" y="1755720"/>
            <a:ext cx="7869240" cy="1757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11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Uso: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rmazenamento de quantidades 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  <a:ea typeface="Times New Roman"/>
              </a:rPr>
              <a:t>reduzida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ou </a:t>
            </a:r>
            <a:r>
              <a:rPr b="1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fixa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de elementos (tamanho fix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3080" y="266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2" name=""/>
          <p:cNvSpPr/>
          <p:nvPr/>
        </p:nvSpPr>
        <p:spPr>
          <a:xfrm>
            <a:off x="330120" y="1122480"/>
            <a:ext cx="6286680" cy="6807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5120" indent="-465120">
              <a:lnSpc>
                <a:spcPct val="5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Lista Estática Seqüencial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FBFC0-642F-4BD1-A3C2-20CCFDBC928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97308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4" name=""/>
          <p:cNvSpPr/>
          <p:nvPr/>
        </p:nvSpPr>
        <p:spPr>
          <a:xfrm>
            <a:off x="330120" y="855720"/>
            <a:ext cx="6286680" cy="68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465120" indent="-465120">
              <a:lnSpc>
                <a:spcPct val="5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Lista Estática Seqüencial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5" name=""/>
          <p:cNvSpPr/>
          <p:nvPr/>
        </p:nvSpPr>
        <p:spPr>
          <a:xfrm>
            <a:off x="853920" y="1665360"/>
            <a:ext cx="8047080" cy="4208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3360" indent="-513360" algn="just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Vantagens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Acesso direto a elemento da lista através de índices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Tempo de acesso constante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513360" indent="-51336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13360" indent="-513360" algn="just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Desvantagen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Movimentação de toda a lista quando da inserção ou recuperação de um element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1116720" indent="-43128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5000"/>
              <a:buFont typeface="Wingdings" charset="2"/>
              <a:buChar char="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  <a:ea typeface="Times New Roman"/>
              </a:rPr>
              <a:t>Pré-definição do tamanho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131F-A9ED-47AF-868D-B1CF0EBC5B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993600" y="2615760"/>
            <a:ext cx="7755120" cy="32590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4960" indent="-53496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lementos da lista sã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registr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com um dos componentes destinado a guardar o endereço do registro sucesso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496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34960" indent="-53496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Us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aponta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724200" y="95256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List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9" name=""/>
          <p:cNvSpPr/>
          <p:nvPr/>
        </p:nvSpPr>
        <p:spPr>
          <a:xfrm>
            <a:off x="392040" y="1630440"/>
            <a:ext cx="592452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449280" indent="-44928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Lista Estática Encadeada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09480" y="4925880"/>
            <a:ext cx="6089760" cy="108612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6700680" y="4915080"/>
            <a:ext cx="1783080" cy="11919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14520" y="6018120"/>
            <a:ext cx="6102360" cy="88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5428-07DC-428B-8394-B54344CD262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964800" y="1755720"/>
            <a:ext cx="7869240" cy="1757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4960" indent="-534960" algn="just">
              <a:lnSpc>
                <a:spcPct val="110000"/>
              </a:lnSpc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Uso: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armazenamento de quantidades 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  <a:ea typeface="Times New Roman"/>
              </a:rPr>
              <a:t>reduzida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ou </a:t>
            </a:r>
            <a:r>
              <a:rPr b="1" lang="pt-BR" sz="2800" spc="-1" strike="noStrike">
                <a:solidFill>
                  <a:srgbClr val="ff9966"/>
                </a:solidFill>
                <a:latin typeface="Arial"/>
                <a:ea typeface="Times New Roman"/>
              </a:rPr>
              <a:t>fixa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  <a:ea typeface="Times New Roman"/>
              </a:rPr>
              <a:t> de elementos (tamanho fix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73080" y="266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5" name=""/>
          <p:cNvSpPr/>
          <p:nvPr/>
        </p:nvSpPr>
        <p:spPr>
          <a:xfrm>
            <a:off x="330120" y="1122480"/>
            <a:ext cx="6286680" cy="482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9000"/>
          </a:bodyPr>
          <a:p>
            <a:pPr marL="422280" indent="-422280">
              <a:lnSpc>
                <a:spcPct val="5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Lista Estática Encadead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F8D2-E080-4D92-A027-0D05A42964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7308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7" name=""/>
          <p:cNvSpPr/>
          <p:nvPr/>
        </p:nvSpPr>
        <p:spPr>
          <a:xfrm>
            <a:off x="330120" y="905040"/>
            <a:ext cx="6286680" cy="422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470520" indent="-470520">
              <a:lnSpc>
                <a:spcPct val="5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Lista Estática Encadeada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8" name=""/>
          <p:cNvSpPr/>
          <p:nvPr/>
        </p:nvSpPr>
        <p:spPr>
          <a:xfrm>
            <a:off x="871560" y="1393920"/>
            <a:ext cx="8047080" cy="2063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8920" indent="-358920" algn="just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Vantagens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363600" algn="just">
              <a:lnSpc>
                <a:spcPct val="100000"/>
              </a:lnSpc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ão há necessidade de movimentação de todos os elementos no ato da inserção ou recuperação de um elemento (única alteração: o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pontado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9" name=""/>
          <p:cNvSpPr/>
          <p:nvPr/>
        </p:nvSpPr>
        <p:spPr>
          <a:xfrm>
            <a:off x="871560" y="3627360"/>
            <a:ext cx="8047080" cy="2292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58920" indent="-358920" algn="just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Desvantagens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36360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Necessidade de definição de um tamanho máxim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36360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umento do tempo de execução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901800" indent="-363600" algn="just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locação de maior espaço de memória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4E2A-81CA-412F-9355-965AE5AAFD2D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49440" y="2124000"/>
            <a:ext cx="830088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Disciplinas de acesso: forma (regra) como são acessados os elementos de uma lista linear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446040" y="2389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2" name=""/>
          <p:cNvSpPr/>
          <p:nvPr/>
        </p:nvSpPr>
        <p:spPr>
          <a:xfrm>
            <a:off x="453960" y="337032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631800" y="3121200"/>
            <a:ext cx="8301240" cy="15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erificam se as inserções, as remoções e os acessos de consulta são realizados no primeiro ou no último elemento das listas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4" name=""/>
          <p:cNvSpPr/>
          <p:nvPr/>
        </p:nvSpPr>
        <p:spPr>
          <a:xfrm>
            <a:off x="658800" y="4519440"/>
            <a:ext cx="8300880" cy="8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Podem ser classificadas em </a:t>
            </a:r>
            <a:r>
              <a:rPr b="1" lang="pt-BR" sz="2400" spc="-1" strike="noStrike">
                <a:solidFill>
                  <a:srgbClr val="ffcc00"/>
                </a:solidFill>
                <a:latin typeface="Arial Black"/>
              </a:rPr>
              <a:t>pilha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lang="pt-BR" sz="2400" spc="-1" strike="noStrike">
                <a:solidFill>
                  <a:srgbClr val="ffcc00"/>
                </a:solidFill>
                <a:latin typeface="Arial Black"/>
              </a:rPr>
              <a:t>fila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ou, ainda, em </a:t>
            </a:r>
            <a:r>
              <a:rPr b="1" lang="pt-BR" sz="2400" spc="-1" strike="noStrike">
                <a:solidFill>
                  <a:srgbClr val="ffcc00"/>
                </a:solidFill>
                <a:latin typeface="Arial Black"/>
              </a:rPr>
              <a:t>filas dupla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5" name=""/>
          <p:cNvSpPr/>
          <p:nvPr/>
        </p:nvSpPr>
        <p:spPr>
          <a:xfrm>
            <a:off x="463680" y="4735440"/>
            <a:ext cx="2286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6" name=""/>
          <p:cNvSpPr/>
          <p:nvPr/>
        </p:nvSpPr>
        <p:spPr>
          <a:xfrm>
            <a:off x="446040" y="2070000"/>
            <a:ext cx="0" cy="324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7" name=""/>
          <p:cNvSpPr/>
          <p:nvPr/>
        </p:nvSpPr>
        <p:spPr>
          <a:xfrm>
            <a:off x="101520" y="1438200"/>
            <a:ext cx="8534520" cy="422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411840" indent="-411840">
              <a:lnSpc>
                <a:spcPct val="5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fcc00"/>
                </a:solidFill>
                <a:latin typeface="Penguin"/>
              </a:rPr>
              <a:t>Listas Lineares com disciplinas de acesso</a:t>
            </a:r>
            <a:endParaRPr b="0" lang="en-US" sz="3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973080" y="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49619-7938-4F5A-96FF-E9F8B4EAC2F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0" name=""/>
          <p:cNvSpPr/>
          <p:nvPr/>
        </p:nvSpPr>
        <p:spPr>
          <a:xfrm>
            <a:off x="3902040" y="95256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1" name=""/>
          <p:cNvSpPr/>
          <p:nvPr/>
        </p:nvSpPr>
        <p:spPr>
          <a:xfrm>
            <a:off x="169920" y="1508040"/>
            <a:ext cx="412416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Definição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687240" y="2386080"/>
            <a:ext cx="8229600" cy="1541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4960" indent="-53496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ista linear na qual a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</a:rPr>
              <a:t>inserçã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é feita numa extremidade e a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remoção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na extremidade oposta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463760" y="4179960"/>
            <a:ext cx="6310080" cy="2293920"/>
            <a:chOff x="1463760" y="4179960"/>
            <a:chExt cx="6310080" cy="2293920"/>
          </a:xfrm>
        </p:grpSpPr>
        <p:sp>
          <p:nvSpPr>
            <p:cNvPr id="224" name=""/>
            <p:cNvSpPr/>
            <p:nvPr/>
          </p:nvSpPr>
          <p:spPr>
            <a:xfrm>
              <a:off x="1463760" y="4179960"/>
              <a:ext cx="6310080" cy="22939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2871720" y="5591160"/>
              <a:ext cx="101520" cy="406080"/>
            </a:xfrm>
            <a:prstGeom prst="downArrow">
              <a:avLst>
                <a:gd name="adj1" fmla="val 50000"/>
                <a:gd name="adj2" fmla="val 10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701720" y="5583960"/>
              <a:ext cx="1682640" cy="612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88604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0652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2880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01720" y="5126040"/>
              <a:ext cx="1682640" cy="576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000160" y="4687920"/>
              <a:ext cx="101520" cy="405720"/>
            </a:xfrm>
            <a:prstGeom prst="downArrow">
              <a:avLst>
                <a:gd name="adj1" fmla="val 50000"/>
                <a:gd name="adj2" fmla="val 99911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54640" y="5591160"/>
              <a:ext cx="101520" cy="406080"/>
            </a:xfrm>
            <a:prstGeom prst="downArrow">
              <a:avLst>
                <a:gd name="adj1" fmla="val 50000"/>
                <a:gd name="adj2" fmla="val 10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3691080" y="5583960"/>
              <a:ext cx="1682640" cy="612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7504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9588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6" name=""/>
            <p:cNvSpPr/>
            <p:nvPr/>
          </p:nvSpPr>
          <p:spPr>
            <a:xfrm flipV="1">
              <a:off x="3691080" y="5126040"/>
              <a:ext cx="1682640" cy="576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989520" y="4687920"/>
              <a:ext cx="101520" cy="405720"/>
            </a:xfrm>
            <a:prstGeom prst="downArrow">
              <a:avLst>
                <a:gd name="adj1" fmla="val 50000"/>
                <a:gd name="adj2" fmla="val 99911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8" name=""/>
            <p:cNvSpPr/>
            <p:nvPr/>
          </p:nvSpPr>
          <p:spPr>
            <a:xfrm flipV="1">
              <a:off x="6823080" y="5591160"/>
              <a:ext cx="101520" cy="406080"/>
            </a:xfrm>
            <a:prstGeom prst="downArrow">
              <a:avLst>
                <a:gd name="adj1" fmla="val 50000"/>
                <a:gd name="adj2" fmla="val 100000"/>
              </a:avLst>
            </a:prstGeom>
            <a:gradFill rotWithShape="0">
              <a:gsLst>
                <a:gs pos="0">
                  <a:srgbClr val="ff9900"/>
                </a:gs>
                <a:gs pos="100000">
                  <a:srgbClr val="ff99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39" name=""/>
            <p:cNvSpPr/>
            <p:nvPr/>
          </p:nvSpPr>
          <p:spPr>
            <a:xfrm flipV="1">
              <a:off x="5653080" y="5583960"/>
              <a:ext cx="1682640" cy="612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83704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5788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680160" y="5133960"/>
              <a:ext cx="395280" cy="43128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cc99"/>
                </a:gs>
              </a:gsLst>
              <a:lin ang="5400000"/>
            </a:gra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800" spc="-1" strike="noStrike">
                  <a:solidFill>
                    <a:srgbClr val="00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3" name=""/>
            <p:cNvSpPr/>
            <p:nvPr/>
          </p:nvSpPr>
          <p:spPr>
            <a:xfrm flipV="1">
              <a:off x="5653080" y="5126040"/>
              <a:ext cx="1682640" cy="5760"/>
            </a:xfrm>
            <a:prstGeom prst="lin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1040" bIns="-41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951520" y="4687920"/>
              <a:ext cx="101520" cy="405720"/>
            </a:xfrm>
            <a:prstGeom prst="downArrow">
              <a:avLst>
                <a:gd name="adj1" fmla="val 50000"/>
                <a:gd name="adj2" fmla="val 99911"/>
              </a:avLst>
            </a:prstGeom>
            <a:gradFill rotWithShape="0">
              <a:gsLst>
                <a:gs pos="0">
                  <a:srgbClr val="cc3300"/>
                </a:gs>
                <a:gs pos="100000">
                  <a:srgbClr val="cc3300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01720" y="4346280"/>
              <a:ext cx="73044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55720" y="5978520"/>
              <a:ext cx="54000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84600" y="4346280"/>
              <a:ext cx="73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270320" y="5978520"/>
              <a:ext cx="53964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640480" y="4346280"/>
              <a:ext cx="73008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início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94480" y="5978520"/>
              <a:ext cx="539640" cy="29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"/>
                </a:rPr>
                <a:t>fim</a:t>
              </a:r>
              <a:endParaRPr b="0" lang="en-US" sz="20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210C-C3C7-4DB3-B43A-2F84D8BBC07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2" name=""/>
          <p:cNvSpPr/>
          <p:nvPr/>
        </p:nvSpPr>
        <p:spPr>
          <a:xfrm>
            <a:off x="3902040" y="68580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3" name=""/>
          <p:cNvSpPr/>
          <p:nvPr/>
        </p:nvSpPr>
        <p:spPr>
          <a:xfrm>
            <a:off x="298440" y="1490760"/>
            <a:ext cx="598644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9720" indent="-4597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xemplos de aplicação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54" name=""/>
          <p:cNvSpPr/>
          <p:nvPr/>
        </p:nvSpPr>
        <p:spPr>
          <a:xfrm>
            <a:off x="531720" y="2274840"/>
            <a:ext cx="8259840" cy="119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cc"/>
                </a:solidFill>
                <a:latin typeface="Arial"/>
              </a:rPr>
              <a:t>Buffer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para comunicação assíncrona entre dois equipamentos (especialmente quando um deles é mais lento que o outro - computador-impressora)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grpSp>
        <p:nvGrpSpPr>
          <p:cNvPr id="255" name=""/>
          <p:cNvGrpSpPr/>
          <p:nvPr/>
        </p:nvGrpSpPr>
        <p:grpSpPr>
          <a:xfrm>
            <a:off x="993600" y="3927600"/>
            <a:ext cx="7032960" cy="1446120"/>
            <a:chOff x="993600" y="3927600"/>
            <a:chExt cx="7032960" cy="1446120"/>
          </a:xfrm>
        </p:grpSpPr>
        <p:sp>
          <p:nvSpPr>
            <p:cNvPr id="256" name=""/>
            <p:cNvSpPr/>
            <p:nvPr/>
          </p:nvSpPr>
          <p:spPr>
            <a:xfrm>
              <a:off x="993600" y="3927600"/>
              <a:ext cx="7032960" cy="14461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 Narrow"/>
              </a:endParaRPr>
            </a:p>
          </p:txBody>
        </p:sp>
        <p:pic>
          <p:nvPicPr>
            <p:cNvPr id="257" name="" descr=""/>
            <p:cNvPicPr/>
            <p:nvPr/>
          </p:nvPicPr>
          <p:blipFill>
            <a:blip r:embed="rId1"/>
            <a:stretch/>
          </p:blipFill>
          <p:spPr>
            <a:xfrm>
              <a:off x="1123920" y="4092480"/>
              <a:ext cx="6642000" cy="1139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8" name=""/>
          <p:cNvSpPr/>
          <p:nvPr/>
        </p:nvSpPr>
        <p:spPr>
          <a:xfrm>
            <a:off x="515880" y="5437080"/>
            <a:ext cx="8412120" cy="825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4600" indent="-444600" algn="just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scalonamento de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jobs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: fila de processos aguardando os recursos do sistema operacional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F11CE-D84A-4462-8C6F-236E5352EAE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0" name=""/>
          <p:cNvSpPr/>
          <p:nvPr/>
        </p:nvSpPr>
        <p:spPr>
          <a:xfrm>
            <a:off x="3902040" y="95256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1" name=""/>
          <p:cNvSpPr/>
          <p:nvPr/>
        </p:nvSpPr>
        <p:spPr>
          <a:xfrm>
            <a:off x="201600" y="1565280"/>
            <a:ext cx="610704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3360" indent="-513360">
              <a:lnSpc>
                <a:spcPct val="70000"/>
              </a:lnSpc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Operações Associada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2" name=""/>
          <p:cNvSpPr/>
          <p:nvPr/>
        </p:nvSpPr>
        <p:spPr>
          <a:xfrm>
            <a:off x="365040" y="2371680"/>
            <a:ext cx="8229600" cy="3692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Criar (F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 u="sng">
                <a:solidFill>
                  <a:srgbClr val="ffcc66"/>
                </a:solidFill>
                <a:uFillTx/>
                <a:latin typeface="Arial"/>
              </a:rPr>
              <a:t>cri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uma fil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vazia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serir (x, F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inser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x ao final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Vazia (F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test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s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está vazia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rimeiro (F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acess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o elemento inicial da fila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100000"/>
              </a:lnSpc>
              <a:spcBef>
                <a:spcPts val="2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Eliminar (F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elimin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o elemento inicial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F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54EF-EB25-41B6-BFEB-109749C947D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900000" y="2120400"/>
            <a:ext cx="7780320" cy="4102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ção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      Conteúdo da Fi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store(A)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store(B)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A 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store(C)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           A  B 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retrieve(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volve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A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B  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store(D)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B  C 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retrieve(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volve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B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C 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qretrieve()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devolve 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C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               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5" name=""/>
          <p:cNvSpPr/>
          <p:nvPr/>
        </p:nvSpPr>
        <p:spPr>
          <a:xfrm>
            <a:off x="3902040" y="95256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6" name=""/>
          <p:cNvSpPr/>
          <p:nvPr/>
        </p:nvSpPr>
        <p:spPr>
          <a:xfrm>
            <a:off x="914400" y="2625840"/>
            <a:ext cx="768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4824000" y="2063880"/>
            <a:ext cx="12600" cy="3617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8" name=""/>
          <p:cNvSpPr/>
          <p:nvPr/>
        </p:nvSpPr>
        <p:spPr>
          <a:xfrm>
            <a:off x="860400" y="5705640"/>
            <a:ext cx="768528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69" name=""/>
          <p:cNvSpPr/>
          <p:nvPr/>
        </p:nvSpPr>
        <p:spPr>
          <a:xfrm>
            <a:off x="939960" y="2076480"/>
            <a:ext cx="768492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34EE9-0E1F-4D6B-B6C9-543FE456BD2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7440" y="1171440"/>
            <a:ext cx="8734320" cy="477684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A representação de dados em um computador considera cada um dos seguintes aspectos:</a:t>
            </a:r>
            <a:r>
              <a:rPr b="1" lang="pt-B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SzPct val="75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 Narrow"/>
            </a:endParaRPr>
          </a:p>
          <a:p>
            <a:pPr lvl="1" marL="627120" indent="-447840"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modelo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pt-BR" sz="2600" spc="-1" strike="noStrike">
                <a:solidFill>
                  <a:srgbClr val="ffcc66"/>
                </a:solidFill>
                <a:latin typeface="Arial"/>
              </a:rPr>
              <a:t>objetos matemáticos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) adotado para o 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problema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pt-BR" sz="2600" spc="-1" strike="noStrike">
                <a:solidFill>
                  <a:srgbClr val="d9fc6a"/>
                </a:solidFill>
                <a:latin typeface="Arial"/>
              </a:rPr>
              <a:t>objetos do mundo real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);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627120" indent="-447840"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conjunto de operações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definidas no </a:t>
            </a:r>
            <a:r>
              <a:rPr b="1" lang="pt-BR" sz="2600" spc="-1" strike="noStrike">
                <a:solidFill>
                  <a:srgbClr val="ffffff"/>
                </a:solidFill>
                <a:latin typeface="Arial"/>
              </a:rPr>
              <a:t>modelo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;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627120" indent="-447840"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o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modo de armazenamento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(representação) dos objetos matemáticos;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lvl="1" marL="627120" indent="-447840" algn="just">
              <a:lnSpc>
                <a:spcPct val="100000"/>
              </a:lnSpc>
              <a:buClr>
                <a:srgbClr val="ffffcc"/>
              </a:buClr>
              <a:buSzPct val="7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os </a:t>
            </a:r>
            <a:r>
              <a:rPr b="1" i="1" lang="pt-BR" sz="2600" spc="-1" strike="noStrike">
                <a:solidFill>
                  <a:srgbClr val="ffffff"/>
                </a:solidFill>
                <a:latin typeface="Arial"/>
              </a:rPr>
              <a:t>algoritmos</a:t>
            </a: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 usados para executar as operações sobre os objetos matemáticos. </a:t>
            </a:r>
            <a:endParaRPr b="0" lang="en-US" sz="26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07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FC82-EB4D-41EE-BC0A-70D8102BA61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343320" y="876240"/>
            <a:ext cx="5257800" cy="5533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71" name=""/>
          <p:cNvSpPr/>
          <p:nvPr/>
        </p:nvSpPr>
        <p:spPr>
          <a:xfrm>
            <a:off x="0" y="1506600"/>
            <a:ext cx="3225960" cy="642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Índice da próxima posição de armazenamento livre.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100400"/>
            <a:ext cx="3124080" cy="642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cc"/>
                </a:solidFill>
                <a:latin typeface="Arial"/>
              </a:rPr>
              <a:t>Índice do próximo item a ser recuperado</a:t>
            </a:r>
            <a:endParaRPr b="0" lang="en-US" sz="1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3" name=""/>
          <p:cNvSpPr/>
          <p:nvPr/>
        </p:nvSpPr>
        <p:spPr>
          <a:xfrm>
            <a:off x="249120" y="50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4" name=""/>
          <p:cNvSpPr/>
          <p:nvPr/>
        </p:nvSpPr>
        <p:spPr>
          <a:xfrm>
            <a:off x="612720" y="63504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5" name=""/>
          <p:cNvSpPr/>
          <p:nvPr/>
        </p:nvSpPr>
        <p:spPr>
          <a:xfrm rot="20865000">
            <a:off x="-514080" y="1373760"/>
            <a:ext cx="5867280" cy="685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  <a:headEnd len="lg" type="triangle" w="lg"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6" name=""/>
          <p:cNvSpPr/>
          <p:nvPr/>
        </p:nvSpPr>
        <p:spPr>
          <a:xfrm flipV="1" rot="20171400">
            <a:off x="-2462400" y="2594880"/>
            <a:ext cx="8130240" cy="156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ffff00"/>
            </a:solidFill>
            <a:miter/>
            <a:headEnd len="lg" type="triangle" w="lg"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FA39-B81D-4D91-BF49-AD68443FF7D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49360" y="1989000"/>
            <a:ext cx="8134200" cy="34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Exempl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ffffcc"/>
                </a:solidFill>
                <a:latin typeface="Penguin"/>
                <a:ea typeface="Times New Roman"/>
              </a:rPr>
              <a:t>Implementação de rotinas básicas para manipulação de FILAS.</a:t>
            </a:r>
            <a:r>
              <a:rPr b="0" lang="pt-BR" sz="3200" spc="-1" strike="noStrike">
                <a:solidFill>
                  <a:srgbClr val="ffffcc"/>
                </a:solidFill>
                <a:latin typeface="Pengui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Penguin"/>
              </a:rPr>
              <a:t>Exercício</a:t>
            </a:r>
            <a:r>
              <a:rPr b="1" lang="pt-BR" sz="3200" spc="-1" strike="noStrike">
                <a:solidFill>
                  <a:srgbClr val="ffffcc"/>
                </a:solidFill>
                <a:latin typeface="Penguin"/>
              </a:rPr>
              <a:t>: </a:t>
            </a:r>
            <a:r>
              <a:rPr b="1" lang="pt-BR" sz="2400" spc="-1" strike="noStrike">
                <a:solidFill>
                  <a:srgbClr val="ffffcc"/>
                </a:solidFill>
                <a:latin typeface="Courier New"/>
              </a:rPr>
              <a:t>descrever cada uma das funções (rotinas básicas para manipulação de FILAS) do programa em anex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8" name=""/>
          <p:cNvSpPr/>
          <p:nvPr/>
        </p:nvSpPr>
        <p:spPr>
          <a:xfrm>
            <a:off x="249120" y="50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9" name=""/>
          <p:cNvSpPr/>
          <p:nvPr/>
        </p:nvSpPr>
        <p:spPr>
          <a:xfrm>
            <a:off x="612720" y="63504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718-184F-479E-90F9-A5CFE3B267D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777600" y="541080"/>
            <a:ext cx="8039160" cy="608796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/* PROGRAMA PRINCIPAL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main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Tipo_Fila Fila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t Valor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&gt;&gt;&gt; ROTINAS DE MANIPULACAO DE FILAS &lt;&lt;&lt;\n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icializa_fila(&amp;Fil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vazia_fila(Fila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Fila vazi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insere_fila(&amp;Fila,2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2 inserido na fil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insere_fila(&amp;Fila,4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4 inserido na fil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insere_fila(&amp;Fila,6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6 inserido na fil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19040" y="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2990-1038-42F1-ACDE-AE5B94E0E6A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1101240" y="845640"/>
            <a:ext cx="7277400" cy="553572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=&gt; Elementos da fila... [inicio ao fim]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lista_fila(Fil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acha_fila(Fila,4,&amp;Valo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O valor 4 foi achado na posicao %d\n",Val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!acha_fila(Fila,5,&amp;Valo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O valor 5 nao foi achado na fil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retira_fila(&amp;Fila,&amp;Valo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%d retirado da fila\n",Val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retira_fila(&amp;Fila,&amp;Valo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%d retirado da fila\n",Val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retira_fila(&amp;Fila,&amp;Valor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Valor %d retirado da fila\n",Val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Pressione uma tecla para continuar...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19040" y="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9920D-E8EC-40F1-A37B-BE971429F71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796680" y="1131840"/>
            <a:ext cx="7581960" cy="2773440"/>
          </a:xfrm>
          <a:prstGeom prst="rect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=&gt; Elementos da fila... [inicio ao fim]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lista_fila(Fila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f (vazia_fila(Fila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=&gt; Fila vazia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Pressione uma tecla para terminar o programa...\n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19040" y="285840"/>
            <a:ext cx="20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159A-6341-42FC-A407-B0438186B12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562040" y="3181320"/>
            <a:ext cx="3067200" cy="2781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7" name=""/>
          <p:cNvSpPr/>
          <p:nvPr/>
        </p:nvSpPr>
        <p:spPr>
          <a:xfrm>
            <a:off x="682560" y="1646280"/>
            <a:ext cx="8134560" cy="262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Exercíci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ffffcc"/>
                </a:solidFill>
                <a:latin typeface="Penguin"/>
                <a:ea typeface="Times New Roman"/>
              </a:rPr>
              <a:t>Altere o programa anterior de modo que ao final do mesmo a FILA contenha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a) 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	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  </a:t>
            </a:r>
            <a:r>
              <a:rPr b="0" lang="pt-BR" sz="3200" spc="-1" strike="noStrike">
                <a:solidFill>
                  <a:srgbClr val="000000"/>
                </a:solidFill>
                <a:latin typeface="Penguin"/>
              </a:rPr>
              <a:t>b) 2     e     6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8" name=""/>
          <p:cNvSpPr/>
          <p:nvPr/>
        </p:nvSpPr>
        <p:spPr>
          <a:xfrm>
            <a:off x="249120" y="50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9" name=""/>
          <p:cNvSpPr/>
          <p:nvPr/>
        </p:nvSpPr>
        <p:spPr>
          <a:xfrm>
            <a:off x="612720" y="635040"/>
            <a:ext cx="13399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Fil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0" name=""/>
          <p:cNvSpPr/>
          <p:nvPr/>
        </p:nvSpPr>
        <p:spPr>
          <a:xfrm>
            <a:off x="2438280" y="501012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1" name=""/>
          <p:cNvSpPr/>
          <p:nvPr/>
        </p:nvSpPr>
        <p:spPr>
          <a:xfrm>
            <a:off x="4000680" y="5010120"/>
            <a:ext cx="0" cy="3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2" name=""/>
          <p:cNvSpPr/>
          <p:nvPr/>
        </p:nvSpPr>
        <p:spPr>
          <a:xfrm>
            <a:off x="1866960" y="53341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início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3" name=""/>
          <p:cNvSpPr/>
          <p:nvPr/>
        </p:nvSpPr>
        <p:spPr>
          <a:xfrm>
            <a:off x="3448080" y="52959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fim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5539-06D2-4205-9FD3-1E1A6E940AA3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5" name=""/>
          <p:cNvSpPr/>
          <p:nvPr/>
        </p:nvSpPr>
        <p:spPr>
          <a:xfrm>
            <a:off x="3724200" y="95256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6" name=""/>
          <p:cNvSpPr/>
          <p:nvPr/>
        </p:nvSpPr>
        <p:spPr>
          <a:xfrm>
            <a:off x="169920" y="1508040"/>
            <a:ext cx="412416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Definição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687240" y="2386080"/>
            <a:ext cx="8229600" cy="38304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529560" indent="-52956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Listas nas quais a </a:t>
            </a:r>
            <a:r>
              <a:rPr b="1" lang="pt-BR" sz="2800" spc="-1" strike="noStrike" u="sng">
                <a:solidFill>
                  <a:srgbClr val="ffcccc"/>
                </a:solidFill>
                <a:uFillTx/>
                <a:latin typeface="Arial"/>
              </a:rPr>
              <a:t>inser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</a:rPr>
              <a:t>ç</a:t>
            </a:r>
            <a:r>
              <a:rPr b="1" lang="pt-BR" sz="2800" spc="-1" strike="noStrike" u="sng">
                <a:solidFill>
                  <a:srgbClr val="ffcccc"/>
                </a:solidFill>
                <a:uFillTx/>
                <a:latin typeface="Arial"/>
              </a:rPr>
              <a:t>ã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de um novo item ou a </a:t>
            </a:r>
            <a:r>
              <a:rPr b="1" lang="pt-BR" sz="2800" spc="-1" strike="noStrike" u="sng">
                <a:solidFill>
                  <a:srgbClr val="ffcc66"/>
                </a:solidFill>
                <a:uFillTx/>
                <a:latin typeface="Arial"/>
              </a:rPr>
              <a:t>remo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ç</a:t>
            </a:r>
            <a:r>
              <a:rPr b="1" lang="pt-BR" sz="2800" spc="-1" strike="noStrike" u="sng">
                <a:solidFill>
                  <a:srgbClr val="ffcc66"/>
                </a:solidFill>
                <a:uFillTx/>
                <a:latin typeface="Arial"/>
              </a:rPr>
              <a:t>ã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de um item já existente se dá em uma </a:t>
            </a:r>
            <a:r>
              <a:rPr b="1" lang="pt-BR" sz="2800" spc="-1" strike="noStrike" u="sng">
                <a:solidFill>
                  <a:srgbClr val="ffffcc"/>
                </a:solidFill>
                <a:uFillTx/>
                <a:latin typeface="Arial"/>
              </a:rPr>
              <a:t>única extremidad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no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opo 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29560" indent="0" algn="just">
              <a:spcBef>
                <a:spcPts val="349"/>
              </a:spcBef>
              <a:buNone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529560" indent="-52956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=(a(1), a(2), ..., a(n)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na qua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000" indent="-282960" algn="just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(1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lemento da base da pilh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000" indent="-282960" algn="just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(n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elemento topo da pilha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000" indent="-282960" algn="just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"/>
              <a:tabLst>
                <a:tab algn="l" pos="1887480"/>
                <a:tab algn="l" pos="224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(i+1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acima d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a(i)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76707-3D71-4B65-BA16-D5BD940F507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1978200" y="2128680"/>
            <a:ext cx="5054400" cy="39229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986120" y="2427120"/>
            <a:ext cx="4886280" cy="336096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1" name=""/>
          <p:cNvSpPr/>
          <p:nvPr/>
        </p:nvSpPr>
        <p:spPr>
          <a:xfrm>
            <a:off x="3724200" y="95256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F68E-E86E-4C74-9780-2B40E1BC7953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365040" y="2215800"/>
            <a:ext cx="8229600" cy="4203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Criar (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 u="sng">
                <a:solidFill>
                  <a:srgbClr val="ffcc66"/>
                </a:solidFill>
                <a:uFillTx/>
                <a:latin typeface="Arial"/>
              </a:rPr>
              <a:t>cri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uma pilha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vaz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serir (x, 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inser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x no top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</a:rPr>
              <a:t>empilh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: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ush(x,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Vazia (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test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s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está vaz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Topo (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acess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o elemento do topo da pilha (sem eliminar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 algn="just">
              <a:lnSpc>
                <a:spcPct val="9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 algn="just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Eliminar (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- </a:t>
            </a:r>
            <a:r>
              <a:rPr b="1" lang="pt-BR" sz="2800" spc="-1" strike="noStrike">
                <a:solidFill>
                  <a:srgbClr val="ffcc66"/>
                </a:solidFill>
                <a:latin typeface="Arial"/>
              </a:rPr>
              <a:t>elimin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o elemento do topo de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lang="pt-BR" sz="2800" spc="-1" strike="noStrike">
                <a:solidFill>
                  <a:srgbClr val="ffcccc"/>
                </a:solidFill>
                <a:latin typeface="Arial"/>
              </a:rPr>
              <a:t>desempilha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: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pop(P)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973080" y="540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4" name=""/>
          <p:cNvSpPr/>
          <p:nvPr/>
        </p:nvSpPr>
        <p:spPr>
          <a:xfrm>
            <a:off x="3724200" y="84132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5" name=""/>
          <p:cNvSpPr/>
          <p:nvPr/>
        </p:nvSpPr>
        <p:spPr>
          <a:xfrm>
            <a:off x="214200" y="1374840"/>
            <a:ext cx="610740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513360" indent="-5133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Operações Associada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8254-A2BE-481C-9E30-548A558D352D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973080" y="540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7" name=""/>
          <p:cNvSpPr/>
          <p:nvPr/>
        </p:nvSpPr>
        <p:spPr>
          <a:xfrm>
            <a:off x="3724200" y="84132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8" name=""/>
          <p:cNvSpPr/>
          <p:nvPr/>
        </p:nvSpPr>
        <p:spPr>
          <a:xfrm>
            <a:off x="264960" y="1549440"/>
            <a:ext cx="7140600" cy="5144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459720" indent="-45972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Aplicação imediata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09" name=""/>
          <p:cNvSpPr/>
          <p:nvPr/>
        </p:nvSpPr>
        <p:spPr>
          <a:xfrm>
            <a:off x="701640" y="2335320"/>
            <a:ext cx="8151840" cy="35035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Reordenação de um conjunto de dados, tal que o primeiro e o último elementos devam ser trocados de posição e todos os elementos entre o primeiro e último devam, também, ser relativamente trocados.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55680" indent="-355680" algn="just">
              <a:lnSpc>
                <a:spcPct val="100000"/>
              </a:lnSpc>
              <a:spcBef>
                <a:spcPts val="751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 Narrow"/>
            </a:endParaRPr>
          </a:p>
          <a:p>
            <a:pPr marL="355680" indent="-355680" algn="just">
              <a:lnSpc>
                <a:spcPct val="100000"/>
              </a:lnSpc>
              <a:spcBef>
                <a:spcPts val="15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xemplo: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349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Inserindo-se {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1 2 3 4 5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},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3496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a saída será  {</a:t>
            </a:r>
            <a:r>
              <a:rPr b="1" lang="pt-BR" sz="2400" spc="-1" strike="noStrike">
                <a:solidFill>
                  <a:srgbClr val="ff9900"/>
                </a:solidFill>
                <a:latin typeface="Arial"/>
              </a:rPr>
              <a:t>5 4 3 2 1</a:t>
            </a:r>
            <a:r>
              <a:rPr b="1" lang="pt-BR" sz="2400" spc="-1" strike="noStrike">
                <a:solidFill>
                  <a:srgbClr val="ffffdf"/>
                </a:solidFill>
                <a:latin typeface="Arial"/>
              </a:rPr>
              <a:t>}.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E7AB-CBAA-412D-A129-CB1675D3D0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579600" y="1661760"/>
            <a:ext cx="8229600" cy="4530600"/>
          </a:xfrm>
          <a:prstGeom prst="rect">
            <a:avLst/>
          </a:prstGeom>
          <a:noFill/>
          <a:ln w="0">
            <a:noFill/>
          </a:ln>
          <a:effectLst>
            <a:outerShdw dist="28496" dir="2002552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9018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01800" indent="-444600" algn="just"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Fornecer ferramentas que facilitarão a resolução de problem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018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01800" indent="-444600" algn="just"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Identificar e desenvolver entidades e operações matemáticas úteis e determinar a classe de problemas que podem ser resolvidos através destas entidades e operaçõe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9018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901800" indent="-444600" algn="just"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99"/>
                </a:solidFill>
                <a:latin typeface="Arial"/>
              </a:rPr>
              <a:t>Organizar os dados de forma a facilitar a resolução de problemas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61960" y="1239840"/>
            <a:ext cx="5389560" cy="690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Objetivo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0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9BC5-0914-4FE4-A92C-0B1E72142F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73080" y="540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1" name=""/>
          <p:cNvSpPr/>
          <p:nvPr/>
        </p:nvSpPr>
        <p:spPr>
          <a:xfrm>
            <a:off x="3724200" y="84132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2" name=""/>
          <p:cNvSpPr/>
          <p:nvPr/>
        </p:nvSpPr>
        <p:spPr>
          <a:xfrm>
            <a:off x="189000" y="1552680"/>
            <a:ext cx="8435880" cy="628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4000"/>
          </a:bodyPr>
          <a:p>
            <a:pPr marL="395640" indent="-395640">
              <a:lnSpc>
                <a:spcPct val="8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fcc00"/>
                </a:solidFill>
                <a:latin typeface="Penguin"/>
              </a:rPr>
              <a:t>Resolução de um problema clássico: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3" name=""/>
          <p:cNvSpPr/>
          <p:nvPr/>
        </p:nvSpPr>
        <p:spPr>
          <a:xfrm>
            <a:off x="749160" y="2289240"/>
            <a:ext cx="7683480" cy="9471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onversão de um número decimal para a base binária.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1501920" y="3963960"/>
            <a:ext cx="5848200" cy="24732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5" name=""/>
          <p:cNvSpPr/>
          <p:nvPr/>
        </p:nvSpPr>
        <p:spPr>
          <a:xfrm>
            <a:off x="812880" y="3241800"/>
            <a:ext cx="6022800" cy="57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Exemplo: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35)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10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= (100011)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F21D-D3B1-4AD0-AC42-96DE2A141C1A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973080" y="5400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7" name=""/>
          <p:cNvSpPr/>
          <p:nvPr/>
        </p:nvSpPr>
        <p:spPr>
          <a:xfrm>
            <a:off x="3724200" y="739800"/>
            <a:ext cx="169560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622520" y="2049480"/>
            <a:ext cx="6242040" cy="45385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19" name=""/>
          <p:cNvSpPr/>
          <p:nvPr/>
        </p:nvSpPr>
        <p:spPr>
          <a:xfrm>
            <a:off x="343080" y="1349280"/>
            <a:ext cx="6022800" cy="579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Exemplo: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(35)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10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= (100011)</a:t>
            </a:r>
            <a:r>
              <a:rPr b="1" lang="pt-BR" sz="28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2913-20F8-43A6-83CA-7490421C10A7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49360" y="1798560"/>
            <a:ext cx="81342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fde503"/>
                </a:solidFill>
                <a:latin typeface="Penguin"/>
              </a:rPr>
              <a:t>Exemplo</a:t>
            </a:r>
            <a:r>
              <a:rPr b="0" lang="pt-BR" sz="2400" spc="-1" strike="noStrike">
                <a:solidFill>
                  <a:srgbClr val="ffffcc"/>
                </a:solidFill>
                <a:latin typeface="Arial"/>
              </a:rPr>
              <a:t>: </a:t>
            </a:r>
            <a:r>
              <a:rPr b="0" lang="pt-BR" sz="3200" spc="-1" strike="noStrike">
                <a:solidFill>
                  <a:srgbClr val="ffffcc"/>
                </a:solidFill>
                <a:latin typeface="Penguin"/>
                <a:ea typeface="Times New Roman"/>
              </a:rPr>
              <a:t>Implementação de rotinas básicas para manipulação de PILHAS.</a:t>
            </a:r>
            <a:r>
              <a:rPr b="0" lang="pt-BR" sz="3200" spc="-1" strike="noStrike">
                <a:solidFill>
                  <a:srgbClr val="ffffcc"/>
                </a:solidFill>
                <a:latin typeface="Pengui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Courier New"/>
                <a:ea typeface="Courier New"/>
              </a:rPr>
              <a:t> 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cc"/>
              </a:buClr>
              <a:buSzPct val="4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cc00"/>
                </a:solidFill>
                <a:latin typeface="Penguin"/>
              </a:rPr>
              <a:t>Exercício</a:t>
            </a:r>
            <a:r>
              <a:rPr b="1" lang="pt-BR" sz="3200" spc="-1" strike="noStrike">
                <a:solidFill>
                  <a:srgbClr val="ffffcc"/>
                </a:solidFill>
                <a:latin typeface="Penguin"/>
              </a:rPr>
              <a:t>: </a:t>
            </a:r>
            <a:r>
              <a:rPr b="1" lang="pt-BR" sz="2400" spc="-1" strike="noStrike">
                <a:solidFill>
                  <a:srgbClr val="ffffcc"/>
                </a:solidFill>
                <a:latin typeface="Courier New"/>
              </a:rPr>
              <a:t>descrever cada uma das funções (rotinas básicas para manipulação de PILHAS) do programa em anexo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1" name=""/>
          <p:cNvSpPr/>
          <p:nvPr/>
        </p:nvSpPr>
        <p:spPr>
          <a:xfrm>
            <a:off x="249120" y="5076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2" name=""/>
          <p:cNvSpPr/>
          <p:nvPr/>
        </p:nvSpPr>
        <p:spPr>
          <a:xfrm>
            <a:off x="612720" y="635040"/>
            <a:ext cx="200664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6000"/>
          </a:bodyPr>
          <a:p>
            <a:pPr marL="191880" indent="-191880"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Pilha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458-DCDD-4A38-8B9E-ABCBDC5401F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314360" y="533520"/>
            <a:ext cx="7277040" cy="61092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/********************************************************************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EXEMPLO DE APLICACAO: PROGRAMA PRINCIPA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Conversão de um número decimal para a base binária, utilizando PILHA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*********************************************************************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 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void main(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t x,num,den, resto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Tipo_Pilha P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icializa_pilha(&amp;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Digite um numero na base decimal: 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scanf("%d",&amp;num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O numero %d na base 10 equivale a ",num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4" name=""/>
          <p:cNvSpPr/>
          <p:nvPr/>
        </p:nvSpPr>
        <p:spPr>
          <a:xfrm>
            <a:off x="419040" y="0"/>
            <a:ext cx="228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 1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DDBB7-4209-40BD-BF15-2020082C9C1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"/>
          <p:cNvSpPr/>
          <p:nvPr/>
        </p:nvSpPr>
        <p:spPr>
          <a:xfrm>
            <a:off x="2419200" y="249120"/>
            <a:ext cx="6210360" cy="670716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while( (num !=0) &amp;&amp; (cheia_pilha(P) != 1) )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resto = num%2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den = num/2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num = den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sere_pilha(&amp;P,resto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while(vazia_pilha(P) != 1)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retira_pilha(&amp;P,&amp;x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%d",x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 na base 2\n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6" name=""/>
          <p:cNvSpPr/>
          <p:nvPr/>
        </p:nvSpPr>
        <p:spPr>
          <a:xfrm>
            <a:off x="419040" y="0"/>
            <a:ext cx="228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 1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A53C-CFA9-4883-906F-EF501C30B608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1123920" y="530280"/>
            <a:ext cx="7486560" cy="610920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/*****************************************************************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EXEMPLO DE APLICACAO: PROGRAMA PRINCIPAL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O programa ilustra a possibilidade para reverter uma                         certa sequencia de valores numericos inseridos ate                             que seja digitado o valor 999. 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******************************************************************/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void main()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t num, x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Tipo_Pilha P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clrscr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icializa_pilha(&amp;P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Armazene um numero (finalize digitando 999): 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scanf("%d",&amp;num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0"/>
            <a:ext cx="228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 2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37866-B9BF-4F2F-BDAB-664C3509D8C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2552760" y="228600"/>
            <a:ext cx="5848200" cy="6707160"/>
          </a:xfrm>
          <a:prstGeom prst="rect">
            <a:avLst/>
          </a:prstGeom>
          <a:solidFill>
            <a:srgbClr val="ffffcc"/>
          </a:solidFill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while( (num !=999) &amp;&amp; (cheia_pilha(P) != 1))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insere_pilha(&amp;P,num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Armazene um numero: 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scanf("%d",&amp;num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Sequencia LIFO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while(vazia_pilha(P) != 1) {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retira_pilha(&amp;P,&amp;x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%d",x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  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printf("\n"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getch();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30" name=""/>
          <p:cNvSpPr/>
          <p:nvPr/>
        </p:nvSpPr>
        <p:spPr>
          <a:xfrm>
            <a:off x="419040" y="0"/>
            <a:ext cx="2282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fde503"/>
                </a:solidFill>
                <a:latin typeface="Penguin"/>
              </a:rPr>
              <a:t>Exemplo 2:</a:t>
            </a:r>
            <a:endParaRPr b="0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D18A-645F-4AED-98D0-727908E6A50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98560" y="2328840"/>
            <a:ext cx="7120080" cy="38736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Vetore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e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matriz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 a0, a1, a2, a3;</a:t>
            </a:r>
            <a:r>
              <a:rPr b="1" i="1" lang="pt-B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2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301"/>
                </a:solidFill>
                <a:latin typeface="Arial"/>
              </a:rPr>
              <a:t>/* melhor: int a[4] 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Estruturas de C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struct</a:t>
            </a: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1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 x,y,z;</a:t>
            </a:r>
            <a:r>
              <a:rPr b="1" i="1" lang="pt-B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1" i="1" lang="pt-BR" sz="2800" spc="-1" strike="noStrike">
                <a:solidFill>
                  <a:srgbClr val="fff301"/>
                </a:solidFill>
                <a:latin typeface="Arial"/>
              </a:rPr>
              <a:t>/* melhor: struct {int x,y,z;} Ponto3D;*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91960" y="995400"/>
            <a:ext cx="8382240" cy="11602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 algn="just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xemplos de Estruturas de Dados Elementare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8AD-A2C1-4CA1-A949-7F62D45169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529920" y="2030040"/>
            <a:ext cx="6599160" cy="41115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Pilh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Fil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Filas com prioridade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Listas encadead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Listas encadeadas circulare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Árvores binári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Árvores genéricas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08840" indent="-439920"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Graf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1080" y="1352520"/>
            <a:ext cx="8618400" cy="690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34960" indent="-53496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8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struturas de Dados mais Complexas</a:t>
            </a:r>
            <a:endParaRPr b="0" lang="en-US" sz="4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6" name=""/>
          <p:cNvSpPr/>
          <p:nvPr/>
        </p:nvSpPr>
        <p:spPr>
          <a:xfrm>
            <a:off x="998640" y="165240"/>
            <a:ext cx="714672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A448-6872-401F-92BA-B21E7704C3E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529920" y="1914480"/>
            <a:ext cx="5389560" cy="6904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9000"/>
          </a:bodyPr>
          <a:p>
            <a:pPr marL="475920" indent="-475920">
              <a:lnSpc>
                <a:spcPct val="90000"/>
              </a:lnSpc>
              <a:spcBef>
                <a:spcPts val="1001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strutura de Dados</a:t>
            </a:r>
            <a:r>
              <a:rPr b="0" lang="pt-BR" sz="4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19" name=""/>
          <p:cNvSpPr/>
          <p:nvPr/>
        </p:nvSpPr>
        <p:spPr>
          <a:xfrm>
            <a:off x="3189240" y="952560"/>
            <a:ext cx="27637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0" name=""/>
          <p:cNvSpPr/>
          <p:nvPr/>
        </p:nvSpPr>
        <p:spPr>
          <a:xfrm>
            <a:off x="1168560" y="2824200"/>
            <a:ext cx="5665680" cy="2381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ipos de Dados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Estruturas de Dados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534960" indent="-53496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Tipos Abstratos de Dados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16E-80AB-4962-8027-732158E41DA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29920" y="1703520"/>
            <a:ext cx="4730760" cy="82368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9000"/>
          </a:bodyPr>
          <a:p>
            <a:pPr marL="529560" indent="-5295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Tipos de Dado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3" name=""/>
          <p:cNvSpPr/>
          <p:nvPr/>
        </p:nvSpPr>
        <p:spPr>
          <a:xfrm>
            <a:off x="1031760" y="2673360"/>
            <a:ext cx="7758360" cy="1395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44600" indent="-444600" algn="just">
              <a:lnSpc>
                <a:spcPct val="100000"/>
              </a:lnSpc>
              <a:spcBef>
                <a:spcPts val="700"/>
              </a:spcBef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99"/>
                </a:solidFill>
                <a:latin typeface="Arial"/>
              </a:rPr>
              <a:t>Conjunto de valores possíveis de serem assumidos por uma variável e seqüência de operações sobre tais valores.</a:t>
            </a:r>
            <a:endParaRPr b="0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>
            <a:off x="3189240" y="952560"/>
            <a:ext cx="27637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5" name=""/>
          <p:cNvSpPr/>
          <p:nvPr/>
        </p:nvSpPr>
        <p:spPr>
          <a:xfrm>
            <a:off x="1496880" y="4516560"/>
            <a:ext cx="7204320" cy="11912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buClr>
                <a:srgbClr val="ffff99"/>
              </a:buClr>
              <a:buFont typeface="Wingdings" charset="2"/>
              <a:buChar char=""/>
              <a:tabLst>
                <a:tab algn="l" pos="197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Exemplo:</a:t>
            </a:r>
            <a:r>
              <a:rPr b="1" lang="pt-BR" sz="24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ariável do tipo </a:t>
            </a:r>
            <a:r>
              <a:rPr b="1" i="1" lang="pt-BR" sz="2400" spc="-1" strike="noStrike">
                <a:solidFill>
                  <a:srgbClr val="ffffff"/>
                </a:solidFill>
                <a:latin typeface="Arial"/>
              </a:rPr>
              <a:t>boolean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1976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valores possíveis: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TRU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 e </a:t>
            </a:r>
            <a:r>
              <a:rPr b="1" lang="pt-BR" sz="2400" spc="-1" strike="noStrike">
                <a:solidFill>
                  <a:srgbClr val="ffffff"/>
                </a:solidFill>
                <a:latin typeface="Arial"/>
              </a:rPr>
              <a:t>FALSE</a:t>
            </a: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0314-5983-47B9-A5EE-3A87AE89D59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00cc"/>
            </a:gs>
            <a:gs pos="100000">
              <a:srgbClr val="0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77800" y="2606760"/>
            <a:ext cx="8229600" cy="19778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lvl="1" marL="968400" indent="-511200" algn="just">
              <a:spcBef>
                <a:spcPts val="700"/>
              </a:spcBef>
              <a:buClr>
                <a:srgbClr val="ffffcc"/>
              </a:buClr>
              <a:buSzPct val="90000"/>
              <a:buFont typeface="Wingdings" charset="2"/>
              <a:buChar char="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Forma de representação de um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po de dado abstrato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a qual pode conter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pos básic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int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real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char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 e/ou 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tipos estruturados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 (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array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, </a:t>
            </a:r>
            <a:r>
              <a:rPr b="1" i="1" lang="pt-BR" sz="2800" spc="-1" strike="noStrike">
                <a:solidFill>
                  <a:srgbClr val="ffffff"/>
                </a:solidFill>
                <a:latin typeface="Arial"/>
              </a:rPr>
              <a:t>record</a:t>
            </a: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) de uma LP.</a:t>
            </a:r>
            <a:r>
              <a:rPr b="1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880" y="1631880"/>
            <a:ext cx="5740560" cy="82404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524160" indent="-524160">
              <a:lnSpc>
                <a:spcPct val="80000"/>
              </a:lnSpc>
              <a:spcBef>
                <a:spcPts val="1500"/>
              </a:spcBef>
              <a:buClr>
                <a:srgbClr val="ffcc00"/>
              </a:buClr>
              <a:buSzPct val="75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fde503"/>
                </a:solidFill>
                <a:latin typeface="Penguin"/>
              </a:rPr>
              <a:t>Estruturas de Dados</a:t>
            </a:r>
            <a:r>
              <a:rPr b="0" lang="pt-BR" sz="6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8" name=""/>
          <p:cNvSpPr/>
          <p:nvPr/>
        </p:nvSpPr>
        <p:spPr>
          <a:xfrm>
            <a:off x="973080" y="165240"/>
            <a:ext cx="7147080" cy="56196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ffff00"/>
                </a:solidFill>
                <a:latin typeface="Penguin"/>
              </a:rPr>
              <a:t>Estruturas de Dados – </a:t>
            </a:r>
            <a:r>
              <a:rPr b="1" lang="pt-BR" sz="4800" spc="-1" strike="noStrike">
                <a:solidFill>
                  <a:srgbClr val="ffcc00"/>
                </a:solidFill>
                <a:latin typeface="Penguin"/>
              </a:rPr>
              <a:t>C</a:t>
            </a:r>
            <a:endParaRPr b="0" lang="en-US" sz="48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29" name=""/>
          <p:cNvSpPr/>
          <p:nvPr/>
        </p:nvSpPr>
        <p:spPr>
          <a:xfrm>
            <a:off x="3189240" y="952560"/>
            <a:ext cx="2763720" cy="434880"/>
          </a:xfrm>
          <a:prstGeom prst="rect">
            <a:avLst/>
          </a:prstGeom>
          <a:noFill/>
          <a:ln w="0">
            <a:noFill/>
          </a:ln>
          <a:effectLst>
            <a:outerShdw dist="28496" dir="1777448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55000"/>
          </a:bodyPr>
          <a:p>
            <a:pPr marL="188640" indent="-18864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fde503"/>
                </a:solidFill>
                <a:latin typeface="Penguin"/>
              </a:rPr>
              <a:t>Conceitos</a:t>
            </a:r>
            <a:endParaRPr b="0" lang="en-US" sz="44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DSC/CCT/UFCG - Técnicas de Programação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FCB4-EAA8-4F87-93CD-79844F91FC6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06:02Z</dcterms:created>
  <dc:creator>Joseana/Eustáquio</dc:creator>
  <dc:description/>
  <dc:language>en-US</dc:language>
  <cp:lastModifiedBy>Particular</cp:lastModifiedBy>
  <cp:lastPrinted>2002-02-17T19:14:27Z</cp:lastPrinted>
  <dcterms:modified xsi:type="dcterms:W3CDTF">2004-11-16T13:42:07Z</dcterms:modified>
  <cp:revision>308</cp:revision>
  <dc:subject/>
  <dc:title>Técnicas de Programação</dc:title>
</cp:coreProperties>
</file>