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3F5-F2A5-4286-A183-A4A2E752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B33-DFE6-4F2A-B646-06D26658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A51-7D49-4BB0-8298-C6997782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EBA-A2C7-4115-BFB3-91931EE0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59BB-30F0-4F6B-B24B-13663A1F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D615-E0D9-48CD-A5B0-E4DDAE3B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F18E-6F5A-4C3A-A030-BF073A89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9DEA-9654-482E-861B-5B0141D4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6D55-305B-45DE-9E8F-2E318B7C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78FC-81AB-4D54-A604-61E99F9C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A30A-D180-4469-BCB5-F316E9A1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813-2E48-4CD5-AAB0-EF5E32EB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3D65-7E1A-4530-B1F5-2E2184B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1A60-3103-4F84-B7F3-CE5ED84E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6DA2-D5DC-44A0-BFFF-240C9247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8E80-7E4A-4347-9ECE-06F46447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A886-17D8-4E0F-B44D-13F881CD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5DC-D79F-4312-9E9E-06639344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2C2-1762-4396-8912-4F40E5EA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E4A-61C6-446D-AA00-10145C2D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330-D319-4828-B38A-956B7A87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78A-9B84-43E9-A1D3-32DB7427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1D1-F951-4914-8257-EEF11031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999-D307-45A9-B2D6-E9534C10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7936-184C-4A41-BA54-505760EE031B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2373-55DB-4C6D-A75C-C9DE655C2965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057400" y="4473720"/>
            <a:ext cx="5029200" cy="93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fs.: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eana Macêdo Fech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é Eustáquio Rang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009800" y="1751040"/>
            <a:ext cx="7124400" cy="20001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54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1"/>
                </a:solidFill>
                <a:latin typeface="Penguin"/>
              </a:rPr>
              <a:t>Ordenação e Busca</a:t>
            </a:r>
            <a:r>
              <a:rPr b="1" lang="pt-BR" sz="54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1"/>
                </a:solidFill>
                <a:latin typeface="Tahoma"/>
              </a:rPr>
              <a:t>(Informações adicionai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3CC-1B2D-491C-B5F6-1A120C90CC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87520" y="1855800"/>
            <a:ext cx="8007120" cy="4269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tiliza a abordagem “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dividir e conquista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imeiro verifica o elemento central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 o elemento é maior que a chave, ele testa o elemento central da primeira metade; caso contrário, ele testa o elemento central da segunda metade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se procedimento é repetido até que o elemento seja encontrado ou que não haja mais elementos a testa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Busca Binár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5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12F-2624-45E4-8984-E8E8214158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87520" y="1749600"/>
            <a:ext cx="8007120" cy="466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ncontrar o número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na matriz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 2 3 4 5 6 7 8 9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ste do elemento central (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5&gt;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usca: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ste do elemento central (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3&lt;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usca: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esse momento o elemento é encontrad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272880" y="895320"/>
            <a:ext cx="8434440" cy="1109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Exemplo: Busca Binár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5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AC4-4994-471D-B35B-E4A3005E6C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87520" y="2035080"/>
            <a:ext cx="8007120" cy="396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úmero de comparações no pior caso: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log</a:t>
            </a:r>
            <a:r>
              <a:rPr b="1" i="1" lang="pt-BR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ara o caso médio o número de comparações é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um pouco meno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úmero de comparações no melhor caso: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Busca Binár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6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165-F7CB-461E-A929-BA8DCC4748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87520" y="2001960"/>
            <a:ext cx="8007120" cy="2022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Implementar os algoritmos de Busca Seqüencial e Busca Binária em uma matriz de caractere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379440" y="1128600"/>
            <a:ext cx="843444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Exercíci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6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6B4-55AC-42B0-85E9-4DBA4F60F3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1880" y="1854360"/>
            <a:ext cx="8007480" cy="3722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Ordenação de </a:t>
            </a:r>
            <a:r>
              <a:rPr b="1" i="1" lang="pt-BR" sz="2800" spc="-1" strike="noStrike">
                <a:solidFill>
                  <a:srgbClr val="ffcc00"/>
                </a:solidFill>
                <a:latin typeface="Arial"/>
              </a:rPr>
              <a:t>String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aneira fácil – criação de uma matriz de ponteiros e caracteres para as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string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possibilitando uma indexação fácil, e mantendo a base do algoritmo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uicksort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alterad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rdenando outras estruturas de dad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04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367-7A06-4AE4-8598-CDD6D5B6D7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45960" y="0"/>
            <a:ext cx="7635960" cy="582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Ordenação de Seqüência de Caracter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665280"/>
            <a:ext cx="4491360" cy="5721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7743600" y="43228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0" y="787320"/>
            <a:ext cx="55404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/* Programa - Ordenação de Strings */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include &lt;stdio.h&gt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include &lt;stdlib.h&gt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include &lt;conio.h&gt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define N 5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define TAM 10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Courier New"/>
              </a:rPr>
              <a:t>void quick_string(char item[][TAM], int count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Courier New"/>
              </a:rPr>
              <a:t>void qs_string(char item[][TAM], int left, int right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void main(void)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nt i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char s[N][TAM]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clrscr(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for(i=0;i&lt;N;i++)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rintf("digite a string[%d]:",i+1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gets(s[i]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Courier New"/>
              </a:rPr>
              <a:t>quick_string(s, N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Strings ordenadas:"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for(i=0;i&lt;N;i++)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%s", s[i]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getche(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574560" y="2368440"/>
            <a:ext cx="22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screva o que faz o programa ao lad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37D-2F3E-428A-AE81-6CAEBE1BB8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45960" y="0"/>
            <a:ext cx="7635960" cy="582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Ordenação de Seqüência de Caracter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465360" y="682560"/>
            <a:ext cx="5048280" cy="5900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7743600" y="43228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603600" y="717480"/>
            <a:ext cx="48052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/* Uma quicksort para strings */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void quick_string(char item[][TAM], int count)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qs_string(item, 0, count-1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void qs_string(char item[][TAM], int left, int right)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register int i, j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char *x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char temp[10]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=left; j=right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x=item[(left+right)/2]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do 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while(strcmp(item[i],x)&lt;0 &amp;&amp; i&lt;right) i++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while(strcmp(item[j],x)&gt;0 &amp;&amp; j&gt;left) j--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f(i&lt;=j) 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trcpy(temp,item[i]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trcpy(item[i],item[j]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trcpy(item[j],temp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++; j--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while(i&lt;=j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f(left&lt;j) qs_string(item, left, j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f(i&lt;right) qs_string(item, i, right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574560" y="1616040"/>
            <a:ext cx="22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screva o que faz a função ao lad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747880" y="4141800"/>
            <a:ext cx="1735200" cy="287280"/>
          </a:xfrm>
          <a:prstGeom prst="line">
            <a:avLst/>
          </a:prstGeom>
          <a:ln w="93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502080"/>
            <a:ext cx="256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strcmp(s1,s2) - retorna 0 se s1=s2, número negativo se s1&lt;s2 e um número positivo se s1&gt;s2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022480" y="4778280"/>
            <a:ext cx="2398680" cy="766800"/>
          </a:xfrm>
          <a:prstGeom prst="line">
            <a:avLst/>
          </a:prstGeom>
          <a:ln w="93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69720" y="551988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strcpy(s1,s2) – copia s2 em s1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B5A-69CC-4568-A628-268E1C27D5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1880" y="1854360"/>
            <a:ext cx="8007480" cy="2810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Tipos de arquivos em disco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33520" algn="just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 acesso seqüenci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33520" algn="just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 acesso randômico (aleatório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rdenação de Arquivos em Disc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2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832-5775-4FC2-A738-E9D17BED24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1880" y="1854360"/>
            <a:ext cx="8007480" cy="4094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Narrow"/>
            </a:endParaRPr>
          </a:p>
          <a:p>
            <a:pPr lvl="1" marL="5335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 o arquivo em disco é pequeno o bastante, ele deve ser lido na memória, desta forma as rotinas de ordenação de vetores apresentadas anteriormente podem ordenar esses arquivos mais eficientemente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3352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335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o entanto, muitos arquivos em disco são muito grandes para serem ordenados facilmente na memória e requerem técnicas especiai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rdenação de Arquivos em Disc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3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CA0-10FA-4B62-91C8-BFE53C0E23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79520" y="1496880"/>
            <a:ext cx="8007120" cy="5022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Vantagens (acesso aleatório – seqüencia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ão de fácil manutenção. Pode-se atualizar informações sem a necessidade de copiar toda a list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odem ser tratados como um grande vetor (matriz) no disco. O que simplifica bastante a ordenaçã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Ob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: Tratar um arquivo de acesso aleatório como uma matriz significa que você pode usar a base da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quicksort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com poucas modificações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rdenação de Arquivos em Disc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3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4FE-A764-42C9-B5DF-C5D9E8BE5E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1623960"/>
            <a:ext cx="8007120" cy="4624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ncontrar informações em uma matriz desordenada requer uma pesquisa seqüencial, começando no primeiro elemento e parando quando o elemento procurado ou o final da matriz é encontrad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se método deve ser usado em dados desordenados, mas também podem ser aplicados a dados ordenados. Se os dados foram ordenados, pode-se usar uma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esquisa binári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o que ajuda a localizar o dado mais rapidamente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Métodos de Busc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4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951-7A35-48FF-A11B-208F5E3CF0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87520" y="1803240"/>
            <a:ext cx="8007120" cy="4109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ácil de ser codificad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sta em média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1/2 n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lemen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elhor cas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testa um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únic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lement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ior cas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testa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lemen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Busca Seqüencia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4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735-3BE1-4178-8462-B8ECE58DAA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/Eustáquio</dc:creator>
  <dc:description/>
  <dc:language>en-US</dc:language>
  <cp:lastModifiedBy>Particular</cp:lastModifiedBy>
  <cp:lastPrinted>2002-02-17T19:14:27Z</cp:lastPrinted>
  <dcterms:modified xsi:type="dcterms:W3CDTF">2003-10-16T16:51:39Z</dcterms:modified>
  <cp:revision>416</cp:revision>
  <dc:subject/>
  <dc:title>Técnicas de Programação</dc:title>
</cp:coreProperties>
</file>