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52C1-E4B0-410B-A9C7-8CDA25833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0280" y="40698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548E-3D22-4B17-A3DD-890AA42C3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3028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732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B469-8925-4DC9-BDAB-5DE2233B5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2720" y="17031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95160" y="17031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30280" y="40698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2720" y="40698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95160" y="40698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81B2-8FED-49D6-87E7-3384EBE7B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2DAD0-023A-4EA3-AD34-308CC5127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530280" y="1703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3D464-EE6A-4A22-8453-54D911B94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88D1E-0319-4670-9A21-53C5FA086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EF951-661E-45E1-884E-F6A925885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A0204-B2EE-46EA-9007-F1ADBDA22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7D9BC-0A7C-46C5-ACC7-B674DD4C4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028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A5336-EE71-4AF6-B8BC-B4B6B709D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530280" y="1703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73BC-3535-40E0-B7EB-0F06F6449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4732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11587-2807-41F2-98ED-93DE1C938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0280" y="40698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47EF3-D5DD-4FF7-BC14-4CCC65286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30280" y="40698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F4ADA-2328-447D-A231-41E1554CE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3028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4732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43E01-A04C-461B-ABE7-CC4CB50E4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12720" y="17031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95160" y="17031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30280" y="40698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12720" y="40698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95160" y="40698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57533-DCD3-479E-930B-890A9B97E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AA25-7E48-4683-B950-161967321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4D92-84AE-4D1D-B37E-4FB7D3F55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E86C-99CA-4F45-A451-A1C43A111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92A6-4B52-4A8D-81CF-1C4194F55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028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0A15-4525-451F-8352-233F053C0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732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2375-CB65-4F2E-9068-32E02547C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0280" y="40698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3252-4882-4CE7-B448-AFB4D79A7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0280" y="1703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3981600"/>
            <a:ext cx="3400560" cy="2863800"/>
          </a:xfrm>
          <a:custGeom>
            <a:avLst/>
            <a:gdLst/>
            <a:ahLst/>
            <a:rect l="l" t="t" r="r" b="b"/>
            <a:pathLst>
              <a:path w="2135" h="1804">
                <a:moveTo>
                  <a:pt x="329" y="66"/>
                </a:moveTo>
                <a:lnTo>
                  <a:pt x="161" y="30"/>
                </a:lnTo>
                <a:lnTo>
                  <a:pt x="0" y="0"/>
                </a:lnTo>
                <a:lnTo>
                  <a:pt x="0" y="12"/>
                </a:lnTo>
                <a:lnTo>
                  <a:pt x="161" y="42"/>
                </a:lnTo>
                <a:lnTo>
                  <a:pt x="323" y="78"/>
                </a:lnTo>
                <a:lnTo>
                  <a:pt x="556" y="150"/>
                </a:lnTo>
                <a:lnTo>
                  <a:pt x="777" y="245"/>
                </a:lnTo>
                <a:lnTo>
                  <a:pt x="993" y="365"/>
                </a:lnTo>
                <a:lnTo>
                  <a:pt x="1196" y="503"/>
                </a:lnTo>
                <a:lnTo>
                  <a:pt x="1381" y="653"/>
                </a:lnTo>
                <a:lnTo>
                  <a:pt x="1555" y="827"/>
                </a:lnTo>
                <a:lnTo>
                  <a:pt x="1710" y="1019"/>
                </a:lnTo>
                <a:lnTo>
                  <a:pt x="1854" y="1229"/>
                </a:lnTo>
                <a:lnTo>
                  <a:pt x="1937" y="1366"/>
                </a:lnTo>
                <a:lnTo>
                  <a:pt x="2009" y="1510"/>
                </a:lnTo>
                <a:lnTo>
                  <a:pt x="2069" y="1654"/>
                </a:lnTo>
                <a:lnTo>
                  <a:pt x="2123" y="1804"/>
                </a:lnTo>
                <a:lnTo>
                  <a:pt x="2135" y="1804"/>
                </a:lnTo>
                <a:lnTo>
                  <a:pt x="2081" y="1654"/>
                </a:lnTo>
                <a:lnTo>
                  <a:pt x="2021" y="1510"/>
                </a:lnTo>
                <a:lnTo>
                  <a:pt x="1949" y="1366"/>
                </a:lnTo>
                <a:lnTo>
                  <a:pt x="1866" y="1223"/>
                </a:lnTo>
                <a:lnTo>
                  <a:pt x="1722" y="1013"/>
                </a:lnTo>
                <a:lnTo>
                  <a:pt x="1561" y="821"/>
                </a:lnTo>
                <a:lnTo>
                  <a:pt x="1387" y="647"/>
                </a:lnTo>
                <a:lnTo>
                  <a:pt x="1202" y="491"/>
                </a:lnTo>
                <a:lnTo>
                  <a:pt x="999" y="353"/>
                </a:lnTo>
                <a:lnTo>
                  <a:pt x="783" y="239"/>
                </a:lnTo>
                <a:lnTo>
                  <a:pt x="562" y="138"/>
                </a:lnTo>
                <a:lnTo>
                  <a:pt x="329" y="66"/>
                </a:lnTo>
                <a:lnTo>
                  <a:pt x="329" y="66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cc9900">
                  <a:alpha val="29019"/>
                </a:srgbClr>
              </a:gs>
              <a:gs pos="100000">
                <a:srgbClr val="00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"/>
          <p:cNvSpPr/>
          <p:nvPr/>
        </p:nvSpPr>
        <p:spPr>
          <a:xfrm>
            <a:off x="0" y="4341960"/>
            <a:ext cx="2770200" cy="2503440"/>
          </a:xfrm>
          <a:custGeom>
            <a:avLst/>
            <a:gdLst/>
            <a:ahLst/>
            <a:rect l="l" t="t" r="r" b="b"/>
            <a:pathLst>
              <a:path w="1745" h="1577">
                <a:moveTo>
                  <a:pt x="1640" y="1377"/>
                </a:moveTo>
                <a:lnTo>
                  <a:pt x="1692" y="1479"/>
                </a:lnTo>
                <a:lnTo>
                  <a:pt x="1732" y="1577"/>
                </a:lnTo>
                <a:lnTo>
                  <a:pt x="1745" y="1577"/>
                </a:lnTo>
                <a:lnTo>
                  <a:pt x="1703" y="1469"/>
                </a:lnTo>
                <a:lnTo>
                  <a:pt x="1649" y="1367"/>
                </a:lnTo>
                <a:lnTo>
                  <a:pt x="1535" y="1157"/>
                </a:lnTo>
                <a:lnTo>
                  <a:pt x="1395" y="951"/>
                </a:lnTo>
                <a:lnTo>
                  <a:pt x="1236" y="756"/>
                </a:lnTo>
                <a:lnTo>
                  <a:pt x="1061" y="582"/>
                </a:lnTo>
                <a:lnTo>
                  <a:pt x="876" y="426"/>
                </a:lnTo>
                <a:lnTo>
                  <a:pt x="672" y="294"/>
                </a:lnTo>
                <a:lnTo>
                  <a:pt x="455" y="174"/>
                </a:lnTo>
                <a:lnTo>
                  <a:pt x="234" y="78"/>
                </a:lnTo>
                <a:lnTo>
                  <a:pt x="0" y="0"/>
                </a:lnTo>
                <a:lnTo>
                  <a:pt x="0" y="12"/>
                </a:lnTo>
                <a:lnTo>
                  <a:pt x="222" y="89"/>
                </a:lnTo>
                <a:lnTo>
                  <a:pt x="446" y="185"/>
                </a:lnTo>
                <a:lnTo>
                  <a:pt x="662" y="305"/>
                </a:lnTo>
                <a:lnTo>
                  <a:pt x="866" y="437"/>
                </a:lnTo>
                <a:lnTo>
                  <a:pt x="1052" y="593"/>
                </a:lnTo>
                <a:lnTo>
                  <a:pt x="1226" y="767"/>
                </a:lnTo>
                <a:lnTo>
                  <a:pt x="1385" y="960"/>
                </a:lnTo>
                <a:lnTo>
                  <a:pt x="1526" y="1167"/>
                </a:lnTo>
                <a:lnTo>
                  <a:pt x="1640" y="1377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ffffcc">
                  <a:alpha val="29019"/>
                </a:srgbClr>
              </a:gs>
              <a:gs pos="100000">
                <a:srgbClr val="00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"/>
          <p:cNvSpPr/>
          <p:nvPr/>
        </p:nvSpPr>
        <p:spPr>
          <a:xfrm>
            <a:off x="0" y="4038480"/>
            <a:ext cx="2770200" cy="2806920"/>
          </a:xfrm>
          <a:custGeom>
            <a:avLst/>
            <a:gdLst/>
            <a:ahLst/>
            <a:rect l="l" t="t" r="r" b="b"/>
            <a:pathLst>
              <a:path w="1745" h="1768">
                <a:moveTo>
                  <a:pt x="0" y="0"/>
                </a:moveTo>
                <a:lnTo>
                  <a:pt x="0" y="12"/>
                </a:lnTo>
                <a:lnTo>
                  <a:pt x="210" y="88"/>
                </a:lnTo>
                <a:lnTo>
                  <a:pt x="426" y="190"/>
                </a:lnTo>
                <a:lnTo>
                  <a:pt x="630" y="304"/>
                </a:lnTo>
                <a:lnTo>
                  <a:pt x="818" y="442"/>
                </a:lnTo>
                <a:lnTo>
                  <a:pt x="998" y="592"/>
                </a:lnTo>
                <a:lnTo>
                  <a:pt x="1164" y="766"/>
                </a:lnTo>
                <a:lnTo>
                  <a:pt x="1310" y="942"/>
                </a:lnTo>
                <a:lnTo>
                  <a:pt x="1454" y="1146"/>
                </a:lnTo>
                <a:lnTo>
                  <a:pt x="1536" y="1298"/>
                </a:lnTo>
                <a:lnTo>
                  <a:pt x="1614" y="1456"/>
                </a:lnTo>
                <a:lnTo>
                  <a:pt x="1682" y="1616"/>
                </a:lnTo>
                <a:lnTo>
                  <a:pt x="1733" y="1768"/>
                </a:lnTo>
                <a:lnTo>
                  <a:pt x="1745" y="1768"/>
                </a:lnTo>
                <a:lnTo>
                  <a:pt x="1691" y="1606"/>
                </a:lnTo>
                <a:lnTo>
                  <a:pt x="1623" y="1445"/>
                </a:lnTo>
                <a:lnTo>
                  <a:pt x="1547" y="1288"/>
                </a:lnTo>
                <a:lnTo>
                  <a:pt x="1463" y="1136"/>
                </a:lnTo>
                <a:lnTo>
                  <a:pt x="1320" y="932"/>
                </a:lnTo>
                <a:lnTo>
                  <a:pt x="1173" y="755"/>
                </a:lnTo>
                <a:lnTo>
                  <a:pt x="1008" y="581"/>
                </a:lnTo>
                <a:lnTo>
                  <a:pt x="827" y="431"/>
                </a:lnTo>
                <a:lnTo>
                  <a:pt x="642" y="293"/>
                </a:lnTo>
                <a:lnTo>
                  <a:pt x="437" y="179"/>
                </a:lnTo>
                <a:lnTo>
                  <a:pt x="222" y="7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fde503">
                  <a:alpha val="29019"/>
                </a:srgbClr>
              </a:gs>
              <a:gs pos="100000">
                <a:srgbClr val="00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"/>
          <p:cNvSpPr/>
          <p:nvPr/>
        </p:nvSpPr>
        <p:spPr>
          <a:xfrm>
            <a:off x="1711440" y="5305320"/>
            <a:ext cx="136440" cy="13680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cc">
                  <a:alpha val="54117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"/>
          <p:cNvSpPr/>
          <p:nvPr/>
        </p:nvSpPr>
        <p:spPr>
          <a:xfrm>
            <a:off x="2438280" y="6165720"/>
            <a:ext cx="146160" cy="1461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de503">
                  <a:alpha val="54117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"/>
          <p:cNvSpPr/>
          <p:nvPr/>
        </p:nvSpPr>
        <p:spPr>
          <a:xfrm>
            <a:off x="1123920" y="4554360"/>
            <a:ext cx="192240" cy="192240"/>
          </a:xfrm>
          <a:prstGeom prst="ellipse">
            <a:avLst/>
          </a:prstGeom>
          <a:blipFill rotWithShape="0">
            <a:blip r:embed="rId2">
              <a:alphaModFix amt="54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56840" y="634824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5768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000" spc="-1" strike="noStrike">
                <a:solidFill>
                  <a:srgbClr val="ffffff"/>
                </a:solidFill>
                <a:latin typeface="Arial"/>
              </a:rPr>
              <a:t>DSC/CCT/UFCG – Técnicas de Programação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795720" y="634824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2800" spc="-1" strike="noStrike">
                <a:solidFill>
                  <a:srgbClr val="ffffff"/>
                </a:solidFill>
                <a:latin typeface="Pengui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CA584-E1DC-4E11-9F6C-A8C965C0B070}" type="slidenum">
              <a:rPr b="1" lang="pt-BR" sz="2800" spc="-1" strike="noStrike">
                <a:solidFill>
                  <a:srgbClr val="ffffff"/>
                </a:solidFill>
                <a:latin typeface="Pengui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"/>
          <p:cNvSpPr/>
          <p:nvPr/>
        </p:nvSpPr>
        <p:spPr>
          <a:xfrm>
            <a:off x="1862280" y="4713120"/>
            <a:ext cx="191880" cy="1922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cc9900">
                  <a:alpha val="54117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9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09D77-0F03-4FF9-9B34-1EF1F199FE1C}" type="slidenum">
              <a:rPr b="0" lang="pt-B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692280" y="257040"/>
            <a:ext cx="7804080" cy="1067040"/>
            <a:chOff x="692280" y="257040"/>
            <a:chExt cx="7804080" cy="1067040"/>
          </a:xfrm>
        </p:grpSpPr>
        <p:sp>
          <p:nvSpPr>
            <p:cNvPr id="97" name=""/>
            <p:cNvSpPr/>
            <p:nvPr/>
          </p:nvSpPr>
          <p:spPr>
            <a:xfrm>
              <a:off x="723960" y="257040"/>
              <a:ext cx="777240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400" spc="-1" strike="noStrike">
                  <a:solidFill>
                    <a:srgbClr val="000000"/>
                  </a:solidFill>
                  <a:latin typeface="Penguin"/>
                </a:rPr>
                <a:t>Técnicas de Programação</a:t>
              </a:r>
              <a:endParaRPr b="0" lang="en-US" sz="4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92280" y="282600"/>
              <a:ext cx="777240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400" spc="-1" strike="noStrike">
                  <a:solidFill>
                    <a:srgbClr val="ffff99"/>
                  </a:solidFill>
                  <a:latin typeface="Penguin"/>
                </a:rPr>
                <a:t>Técnicas de Programação</a:t>
              </a:r>
              <a:endParaRPr b="0" lang="en-US" sz="4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2057400" y="4473720"/>
            <a:ext cx="5029200" cy="9396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90720" indent="-990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Profs.: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pt-BR" sz="2400" spc="-1" strike="noStrike">
                <a:solidFill>
                  <a:srgbClr val="ffffcc"/>
                </a:solidFill>
                <a:latin typeface="Arial"/>
              </a:rPr>
              <a:t>Joseana Macêdo Fechin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990720" indent="-990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i="1" lang="pt-BR" sz="2400" spc="-1" strike="noStrike">
                <a:solidFill>
                  <a:srgbClr val="ffffcc"/>
                </a:solidFill>
                <a:latin typeface="Arial"/>
              </a:rPr>
              <a:t>José Eustáquio Range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0" name=""/>
          <p:cNvSpPr/>
          <p:nvPr/>
        </p:nvSpPr>
        <p:spPr>
          <a:xfrm>
            <a:off x="1009800" y="1751040"/>
            <a:ext cx="7124400" cy="2000160"/>
          </a:xfrm>
          <a:prstGeom prst="rect">
            <a:avLst/>
          </a:prstGeom>
          <a:noFill/>
          <a:ln w="0">
            <a:noFill/>
          </a:ln>
          <a:effectLst>
            <a:outerShdw dist="45929" dir="1957112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ffff01"/>
                </a:solidFill>
                <a:latin typeface="Penguin"/>
              </a:rPr>
              <a:t>Linguagem </a:t>
            </a:r>
            <a:r>
              <a:rPr b="1" lang="pt-BR" sz="5400" spc="-1" strike="noStrike">
                <a:solidFill>
                  <a:srgbClr val="ff9900"/>
                </a:solidFill>
                <a:latin typeface="Penguin"/>
              </a:rPr>
              <a:t>C</a:t>
            </a:r>
            <a:endParaRPr b="0" lang="en-US" sz="54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8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ffff01"/>
                </a:solidFill>
                <a:latin typeface="Penguin"/>
              </a:rPr>
              <a:t>Ordenação</a:t>
            </a:r>
            <a:r>
              <a:rPr b="1" lang="pt-BR" sz="5400" spc="-1" strike="noStrike">
                <a:solidFill>
                  <a:srgbClr val="ffff01"/>
                </a:solidFill>
                <a:latin typeface="Tahoma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A6D2-52BB-4981-9BAA-A3E205E19E1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52280" y="1028880"/>
            <a:ext cx="2766960" cy="10936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44600" indent="-44460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cc00"/>
                </a:solidFill>
                <a:latin typeface="Penguin"/>
              </a:rPr>
              <a:t>Ordenação Oscilante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1000080" y="0"/>
            <a:ext cx="7174080" cy="577440"/>
            <a:chOff x="1000080" y="0"/>
            <a:chExt cx="7174080" cy="577440"/>
          </a:xfrm>
        </p:grpSpPr>
        <p:sp>
          <p:nvSpPr>
            <p:cNvPr id="218" name=""/>
            <p:cNvSpPr/>
            <p:nvPr/>
          </p:nvSpPr>
          <p:spPr>
            <a:xfrm>
              <a:off x="1027080" y="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000080" y="1548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Ordenação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2976480" y="692280"/>
            <a:ext cx="5889240" cy="5816520"/>
            <a:chOff x="2976480" y="692280"/>
            <a:chExt cx="5889240" cy="5816520"/>
          </a:xfrm>
        </p:grpSpPr>
        <p:sp>
          <p:nvSpPr>
            <p:cNvPr id="221" name=""/>
            <p:cNvSpPr/>
            <p:nvPr/>
          </p:nvSpPr>
          <p:spPr>
            <a:xfrm>
              <a:off x="2976480" y="692280"/>
              <a:ext cx="5700960" cy="58165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099960" y="757080"/>
              <a:ext cx="2774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/* A ordenação oscilante. 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799240" y="757080"/>
              <a:ext cx="320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*/ 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103800" y="714240"/>
              <a:ext cx="46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65840" y="958680"/>
              <a:ext cx="107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12200" y="1160640"/>
              <a:ext cx="3627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void shaker(char *item, int count)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611760" y="1116000"/>
              <a:ext cx="46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162960" y="1360440"/>
              <a:ext cx="214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{ 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368880" y="1360440"/>
              <a:ext cx="107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114720" y="1562040"/>
              <a:ext cx="1920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register int a; 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991400" y="1562040"/>
              <a:ext cx="107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115080" y="1763640"/>
              <a:ext cx="1707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int exchange; 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788000" y="1763640"/>
              <a:ext cx="107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115800" y="1965240"/>
              <a:ext cx="1067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char t; 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176360" y="1920960"/>
              <a:ext cx="46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62960" y="2166840"/>
              <a:ext cx="214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57720" y="2166840"/>
              <a:ext cx="534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do { 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871800" y="2122560"/>
              <a:ext cx="46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154680" y="2367000"/>
              <a:ext cx="534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23760" y="2367000"/>
              <a:ext cx="1387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exchange = 0;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987800" y="2324160"/>
              <a:ext cx="46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154680" y="2568600"/>
              <a:ext cx="534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623760" y="2568600"/>
              <a:ext cx="1174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for(a=count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788000" y="2568600"/>
              <a:ext cx="107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-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871160" y="2568600"/>
              <a:ext cx="854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1; a&gt;0; 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699880" y="2568600"/>
              <a:ext cx="214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--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896440" y="2568600"/>
              <a:ext cx="427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a) {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310440" y="2568600"/>
              <a:ext cx="107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408360" y="2525760"/>
              <a:ext cx="46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47120" y="2770200"/>
              <a:ext cx="854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        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955680" y="2770200"/>
              <a:ext cx="960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if(item[a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89880" y="2770200"/>
              <a:ext cx="107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-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957560" y="2770200"/>
              <a:ext cx="1494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1]&gt;item[a]) { 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408360" y="2725560"/>
              <a:ext cx="46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142080" y="2971800"/>
              <a:ext cx="1067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          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161600" y="2971800"/>
              <a:ext cx="854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t=item[a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991400" y="2971800"/>
              <a:ext cx="107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-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085360" y="2971800"/>
              <a:ext cx="427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1]; 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495760" y="2927520"/>
              <a:ext cx="46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142080" y="3171960"/>
              <a:ext cx="1067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          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166640" y="3171960"/>
              <a:ext cx="640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item[a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788000" y="3171960"/>
              <a:ext cx="107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-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861080" y="3171960"/>
              <a:ext cx="1280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1]=item[a]; 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103800" y="3129120"/>
              <a:ext cx="46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142080" y="3373560"/>
              <a:ext cx="1067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          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154040" y="3373560"/>
              <a:ext cx="1174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item[a]=t; 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296320" y="3373560"/>
              <a:ext cx="107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087080" y="3575160"/>
              <a:ext cx="1174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exchange=1;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49520" y="3532320"/>
              <a:ext cx="46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645720" y="3776760"/>
              <a:ext cx="214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846600" y="3776760"/>
              <a:ext cx="320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} 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152600" y="3732120"/>
              <a:ext cx="46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149640" y="3978360"/>
              <a:ext cx="747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} 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867840" y="3978360"/>
              <a:ext cx="427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281840" y="3978360"/>
              <a:ext cx="107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379760" y="3933720"/>
              <a:ext cx="46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113280" y="4178160"/>
              <a:ext cx="2774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for(a=1; a&lt;count; ++a) {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796720" y="4178160"/>
              <a:ext cx="427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208920" y="4178160"/>
              <a:ext cx="107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306840" y="4135320"/>
              <a:ext cx="46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154680" y="4379760"/>
              <a:ext cx="534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652560" y="4379760"/>
              <a:ext cx="960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if(item[a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86400" y="4379760"/>
              <a:ext cx="107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-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656960" y="4379760"/>
              <a:ext cx="1387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1]&gt;item[a]) {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002280" y="4336920"/>
              <a:ext cx="46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149640" y="4581360"/>
              <a:ext cx="747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       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856680" y="4581360"/>
              <a:ext cx="854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t=item[a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688280" y="4581360"/>
              <a:ext cx="107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-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782960" y="4581360"/>
              <a:ext cx="320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1];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089320" y="4538520"/>
              <a:ext cx="46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149640" y="4782960"/>
              <a:ext cx="747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       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861720" y="4782960"/>
              <a:ext cx="640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item[a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484880" y="4782960"/>
              <a:ext cx="107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-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560120" y="4782960"/>
              <a:ext cx="1174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1]=item[a];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698800" y="4738680"/>
              <a:ext cx="46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149640" y="4984920"/>
              <a:ext cx="747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       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851640" y="4984920"/>
              <a:ext cx="1067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item[a]=t;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885920" y="4940280"/>
              <a:ext cx="46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149640" y="5184720"/>
              <a:ext cx="747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       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825360" y="5184720"/>
              <a:ext cx="1174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exchange=1;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987800" y="5141880"/>
              <a:ext cx="46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154680" y="5386320"/>
              <a:ext cx="534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673800" y="5386320"/>
              <a:ext cx="107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769920" y="5343480"/>
              <a:ext cx="46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162960" y="5587920"/>
              <a:ext cx="214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368880" y="5587920"/>
              <a:ext cx="107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466800" y="5543640"/>
              <a:ext cx="46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165840" y="5789520"/>
              <a:ext cx="107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210840" y="5789520"/>
              <a:ext cx="5654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} while(exchange); /*ordena até que não existam mais 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144600" y="5989680"/>
              <a:ext cx="960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trocas*/ 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074840" y="5946840"/>
              <a:ext cx="46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162960" y="6191280"/>
              <a:ext cx="214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} 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365280" y="6148440"/>
              <a:ext cx="46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252360" y="2509920"/>
            <a:ext cx="2782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Modificação na Ordenação Bolha – inversão da direção da leitura da matriz entre passos subseqüentes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E9E9-C61F-4DA6-8DE1-6D5FFB3BCD6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"/>
          <p:cNvGrpSpPr/>
          <p:nvPr/>
        </p:nvGrpSpPr>
        <p:grpSpPr>
          <a:xfrm>
            <a:off x="984240" y="66600"/>
            <a:ext cx="7174080" cy="577440"/>
            <a:chOff x="984240" y="66600"/>
            <a:chExt cx="7174080" cy="577440"/>
          </a:xfrm>
        </p:grpSpPr>
        <p:sp>
          <p:nvSpPr>
            <p:cNvPr id="316" name=""/>
            <p:cNvSpPr/>
            <p:nvPr/>
          </p:nvSpPr>
          <p:spPr>
            <a:xfrm>
              <a:off x="1011240" y="666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984240" y="8208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Ordenação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465120" y="2139840"/>
            <a:ext cx="7999560" cy="34052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 algn="just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Seleção do elemento de menor valor e troca pelo primeiro elemento.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58920" indent="-35892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 Narrow"/>
            </a:endParaRPr>
          </a:p>
          <a:p>
            <a:pPr marL="358920" indent="-358920" algn="just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Para os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n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- 1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elementos restantes, determinação do elemento de menor chave e troca pelo segundo elemento e assim sucessivamente.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58920" indent="-35892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 Narrow"/>
            </a:endParaRPr>
          </a:p>
          <a:p>
            <a:pPr marL="358920" indent="-358920" algn="just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As trocas continuam até os dois últimos elementos.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9" name=""/>
          <p:cNvSpPr/>
          <p:nvPr/>
        </p:nvSpPr>
        <p:spPr>
          <a:xfrm>
            <a:off x="382680" y="1166760"/>
            <a:ext cx="6110280" cy="50652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42880" indent="-54288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cc00"/>
                </a:solidFill>
                <a:latin typeface="Penguin"/>
              </a:rPr>
              <a:t>Ordenação por Seleção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1EC0-DE2B-4100-A50C-1ED815CF466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"/>
          <p:cNvGrpSpPr/>
          <p:nvPr/>
        </p:nvGrpSpPr>
        <p:grpSpPr>
          <a:xfrm>
            <a:off x="984240" y="66600"/>
            <a:ext cx="7174080" cy="577440"/>
            <a:chOff x="984240" y="66600"/>
            <a:chExt cx="7174080" cy="577440"/>
          </a:xfrm>
        </p:grpSpPr>
        <p:sp>
          <p:nvSpPr>
            <p:cNvPr id="321" name=""/>
            <p:cNvSpPr/>
            <p:nvPr/>
          </p:nvSpPr>
          <p:spPr>
            <a:xfrm>
              <a:off x="1011240" y="666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984240" y="8208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Ordenação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692280" y="1041480"/>
            <a:ext cx="6148080" cy="5061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44600" indent="-44460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cc00"/>
                </a:solidFill>
                <a:latin typeface="Penguin"/>
              </a:rPr>
              <a:t>Ordenação por Seleção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1184400" y="2138400"/>
            <a:ext cx="5437080" cy="3106440"/>
            <a:chOff x="1184400" y="2138400"/>
            <a:chExt cx="5437080" cy="3106440"/>
          </a:xfrm>
        </p:grpSpPr>
        <p:sp>
          <p:nvSpPr>
            <p:cNvPr id="325" name=""/>
            <p:cNvSpPr/>
            <p:nvPr/>
          </p:nvSpPr>
          <p:spPr>
            <a:xfrm>
              <a:off x="1184400" y="2138400"/>
              <a:ext cx="5437080" cy="310644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301760" y="2274840"/>
              <a:ext cx="5200560" cy="268452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cc00"/>
                  </a:solidFill>
                  <a:latin typeface="Arial"/>
                </a:rPr>
                <a:t>Passos para ordenação: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cc00"/>
                  </a:solidFill>
                  <a:latin typeface="Arial"/>
                </a:rPr>
                <a:t>Inicial </a:t>
              </a:r>
              <a:r>
                <a:rPr b="1" lang="pt-BR" sz="2400" spc="-1" strike="noStrike">
                  <a:solidFill>
                    <a:srgbClr val="ffcc00"/>
                  </a:solidFill>
                  <a:latin typeface="Arial"/>
                </a:rPr>
                <a:t>	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cc00"/>
                  </a:solidFill>
                  <a:latin typeface="Arial"/>
                </a:rPr>
                <a:t>Passo 1</a:t>
              </a:r>
              <a:r>
                <a:rPr b="1" lang="pt-BR" sz="2400" spc="-1" strike="noStrike">
                  <a:solidFill>
                    <a:srgbClr val="ffcc00"/>
                  </a:solidFill>
                  <a:latin typeface="Arial"/>
                </a:rPr>
                <a:t>	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cc00"/>
                  </a:solidFill>
                  <a:latin typeface="Arial"/>
                </a:rPr>
                <a:t>Passo 2</a:t>
              </a:r>
              <a:r>
                <a:rPr b="1" lang="pt-BR" sz="2400" spc="-1" strike="noStrike">
                  <a:solidFill>
                    <a:srgbClr val="ffcc00"/>
                  </a:solidFill>
                  <a:latin typeface="Arial"/>
                </a:rPr>
                <a:t>	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cc00"/>
                  </a:solidFill>
                  <a:latin typeface="Arial"/>
                </a:rPr>
                <a:t>Passo 3</a:t>
              </a:r>
              <a:r>
                <a:rPr b="1" lang="pt-BR" sz="2400" spc="-1" strike="noStrike">
                  <a:solidFill>
                    <a:srgbClr val="ffcc00"/>
                  </a:solidFill>
                  <a:latin typeface="Arial"/>
                </a:rPr>
                <a:t>	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8598-68FD-4C99-A512-DD214EADD9E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"/>
          <p:cNvGrpSpPr/>
          <p:nvPr/>
        </p:nvGrpSpPr>
        <p:grpSpPr>
          <a:xfrm>
            <a:off x="984240" y="66600"/>
            <a:ext cx="7174080" cy="577440"/>
            <a:chOff x="984240" y="66600"/>
            <a:chExt cx="7174080" cy="577440"/>
          </a:xfrm>
        </p:grpSpPr>
        <p:sp>
          <p:nvSpPr>
            <p:cNvPr id="328" name=""/>
            <p:cNvSpPr/>
            <p:nvPr/>
          </p:nvSpPr>
          <p:spPr>
            <a:xfrm>
              <a:off x="1011240" y="666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984240" y="8208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Ordenação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406440" y="671400"/>
            <a:ext cx="7170840" cy="4492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44600" indent="-44460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cc00"/>
                </a:solidFill>
                <a:latin typeface="Penguin"/>
              </a:rPr>
              <a:t>Ordenação por Seleção Simples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960480" y="1376280"/>
            <a:ext cx="7056360" cy="5189760"/>
            <a:chOff x="960480" y="1376280"/>
            <a:chExt cx="7056360" cy="5189760"/>
          </a:xfrm>
        </p:grpSpPr>
        <p:sp>
          <p:nvSpPr>
            <p:cNvPr id="332" name=""/>
            <p:cNvSpPr/>
            <p:nvPr/>
          </p:nvSpPr>
          <p:spPr>
            <a:xfrm>
              <a:off x="960480" y="1376280"/>
              <a:ext cx="4476600" cy="518976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pic>
          <p:nvPicPr>
            <p:cNvPr id="333" name="" descr=""/>
            <p:cNvPicPr/>
            <p:nvPr/>
          </p:nvPicPr>
          <p:blipFill>
            <a:blip r:embed="rId1"/>
            <a:stretch/>
          </p:blipFill>
          <p:spPr>
            <a:xfrm>
              <a:off x="1104840" y="1442880"/>
              <a:ext cx="6912000" cy="510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3773-57D2-4B4F-A525-58D7F00EF41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480960" y="1731960"/>
            <a:ext cx="8229600" cy="45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984240" y="66600"/>
            <a:ext cx="7174080" cy="577440"/>
            <a:chOff x="984240" y="66600"/>
            <a:chExt cx="7174080" cy="577440"/>
          </a:xfrm>
        </p:grpSpPr>
        <p:sp>
          <p:nvSpPr>
            <p:cNvPr id="336" name=""/>
            <p:cNvSpPr/>
            <p:nvPr/>
          </p:nvSpPr>
          <p:spPr>
            <a:xfrm>
              <a:off x="1011240" y="666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984240" y="8208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Ordenação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482760" y="1928880"/>
            <a:ext cx="812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9" name=""/>
          <p:cNvSpPr/>
          <p:nvPr/>
        </p:nvSpPr>
        <p:spPr>
          <a:xfrm>
            <a:off x="846000" y="1946160"/>
            <a:ext cx="8078760" cy="41673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Número de comparações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½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pt-BR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58920" indent="-35892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marL="358920" indent="-35892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Número de trocas para o melhor caso: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3(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– 1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58920" indent="-35892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marL="358920" indent="-35892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Número de trocas para o caso médio: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ln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901800" indent="-363600">
              <a:lnSpc>
                <a:spcPct val="100000"/>
              </a:lnSpc>
              <a:spcBef>
                <a:spcPts val="1250"/>
              </a:spcBef>
              <a:buClr>
                <a:srgbClr val="ffff9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Arial"/>
              </a:rPr>
              <a:t>y - constante de </a:t>
            </a:r>
            <a:r>
              <a:rPr b="1" i="1" lang="pt-BR" sz="2000" spc="-1" strike="noStrike">
                <a:solidFill>
                  <a:srgbClr val="ffff99"/>
                </a:solidFill>
                <a:latin typeface="Arial"/>
              </a:rPr>
              <a:t>Euler</a:t>
            </a:r>
            <a:r>
              <a:rPr b="1" lang="pt-BR" sz="2000" spc="-1" strike="noStrike">
                <a:solidFill>
                  <a:srgbClr val="ffff99"/>
                </a:solidFill>
                <a:latin typeface="Arial"/>
              </a:rPr>
              <a:t>  (y </a:t>
            </a:r>
            <a:r>
              <a:rPr b="1" lang="pt-BR" sz="2000" spc="-1" strike="noStrike">
                <a:solidFill>
                  <a:srgbClr val="ffff99"/>
                </a:solidFill>
                <a:latin typeface="Symbol"/>
                <a:ea typeface="Symbol"/>
              </a:rPr>
              <a:t></a:t>
            </a:r>
            <a:r>
              <a:rPr b="1" lang="pt-BR" sz="2000" spc="-1" strike="noStrike">
                <a:solidFill>
                  <a:srgbClr val="ffff99"/>
                </a:solidFill>
                <a:latin typeface="Arial"/>
              </a:rPr>
              <a:t> 0,577216)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58920" indent="-358920">
              <a:lnSpc>
                <a:spcPct val="100000"/>
              </a:lnSpc>
              <a:spcBef>
                <a:spcPts val="1250"/>
              </a:spcBef>
              <a:buClr>
                <a:srgbClr val="ffff9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58920" indent="-35892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Número de trocas para o pior caso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¼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pt-BR" sz="24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+ 3(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n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- 1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58920" indent="-35892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marL="358920" indent="-3589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0" name=""/>
          <p:cNvSpPr/>
          <p:nvPr/>
        </p:nvSpPr>
        <p:spPr>
          <a:xfrm>
            <a:off x="357120" y="1227240"/>
            <a:ext cx="7170840" cy="4492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44600" indent="-44460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cc00"/>
                </a:solidFill>
                <a:latin typeface="Penguin"/>
              </a:rPr>
              <a:t>Ordenação por Seleção Simples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0393-C0FE-40B8-85B3-A07E75A314E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257040" y="1036800"/>
            <a:ext cx="5913720" cy="39024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44600" indent="-44460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cc00"/>
                </a:solidFill>
                <a:latin typeface="Penguin"/>
              </a:rPr>
              <a:t>Ordenação por Inserção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2" name=""/>
          <p:cNvSpPr/>
          <p:nvPr/>
        </p:nvSpPr>
        <p:spPr>
          <a:xfrm>
            <a:off x="480960" y="1731960"/>
            <a:ext cx="8229600" cy="45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984240" y="66600"/>
            <a:ext cx="7174080" cy="577440"/>
            <a:chOff x="984240" y="66600"/>
            <a:chExt cx="7174080" cy="577440"/>
          </a:xfrm>
        </p:grpSpPr>
        <p:sp>
          <p:nvSpPr>
            <p:cNvPr id="344" name=""/>
            <p:cNvSpPr/>
            <p:nvPr/>
          </p:nvSpPr>
          <p:spPr>
            <a:xfrm>
              <a:off x="1011240" y="666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984240" y="8208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Ordenação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482760" y="1928880"/>
            <a:ext cx="812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7" name=""/>
          <p:cNvSpPr/>
          <p:nvPr/>
        </p:nvSpPr>
        <p:spPr>
          <a:xfrm>
            <a:off x="406440" y="1712880"/>
            <a:ext cx="8262720" cy="49341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Mais rápido dentre os outros métodos considerados básicos (Bolha e Seleção Direta)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 algn="just">
              <a:lnSpc>
                <a:spcPct val="100000"/>
              </a:lnSpc>
              <a:spcBef>
                <a:spcPts val="624"/>
              </a:spcBef>
              <a:buClr>
                <a:srgbClr val="ffffcc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lvl="1" marL="1081080" indent="-457200" algn="just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Ordenação dos 2 primeiros membros da matriz;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 Narrow"/>
            </a:endParaRPr>
          </a:p>
          <a:p>
            <a:pPr lvl="1" marL="1081080" indent="-457200" algn="just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Inserção do 3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°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membro na sua posição ordenada com relação aos 2 primeiros;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 Narrow"/>
            </a:endParaRPr>
          </a:p>
          <a:p>
            <a:pPr lvl="1" marL="1081080" indent="-457200" algn="just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Inserção do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°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elemento na lista dos 3 elementos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 Narrow"/>
            </a:endParaRPr>
          </a:p>
          <a:p>
            <a:pPr lvl="1" marL="1081080" indent="-457200" algn="just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Prosseguimento até a ordenação de todos os elementos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F98A-F42E-4F4A-B9D3-6799AC23963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"/>
          <p:cNvGrpSpPr/>
          <p:nvPr/>
        </p:nvGrpSpPr>
        <p:grpSpPr>
          <a:xfrm>
            <a:off x="984240" y="66600"/>
            <a:ext cx="7174080" cy="577440"/>
            <a:chOff x="984240" y="66600"/>
            <a:chExt cx="7174080" cy="577440"/>
          </a:xfrm>
        </p:grpSpPr>
        <p:sp>
          <p:nvSpPr>
            <p:cNvPr id="349" name=""/>
            <p:cNvSpPr/>
            <p:nvPr/>
          </p:nvSpPr>
          <p:spPr>
            <a:xfrm>
              <a:off x="1011240" y="666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984240" y="8208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Ordenação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728640" y="1176480"/>
            <a:ext cx="5592960" cy="5061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44600" indent="-44460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cc00"/>
                </a:solidFill>
                <a:latin typeface="Penguin"/>
              </a:rPr>
              <a:t>Ordenação por Inserção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1208160" y="2151000"/>
            <a:ext cx="5437080" cy="3106440"/>
            <a:chOff x="1208160" y="2151000"/>
            <a:chExt cx="5437080" cy="3106440"/>
          </a:xfrm>
        </p:grpSpPr>
        <p:sp>
          <p:nvSpPr>
            <p:cNvPr id="353" name=""/>
            <p:cNvSpPr/>
            <p:nvPr/>
          </p:nvSpPr>
          <p:spPr>
            <a:xfrm>
              <a:off x="1208160" y="2151000"/>
              <a:ext cx="5437080" cy="310644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325520" y="2287440"/>
              <a:ext cx="5200560" cy="268452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cc00"/>
                  </a:solidFill>
                  <a:latin typeface="Arial"/>
                </a:rPr>
                <a:t>Passos para ordenação: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cc00"/>
                  </a:solidFill>
                  <a:latin typeface="Arial"/>
                </a:rPr>
                <a:t>Inicial </a:t>
              </a:r>
              <a:r>
                <a:rPr b="1" lang="pt-BR" sz="2400" spc="-1" strike="noStrike">
                  <a:solidFill>
                    <a:srgbClr val="ffcc00"/>
                  </a:solidFill>
                  <a:latin typeface="Arial"/>
                </a:rPr>
                <a:t>	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cc00"/>
                  </a:solidFill>
                  <a:latin typeface="Arial"/>
                </a:rPr>
                <a:t>Passo 1</a:t>
              </a:r>
              <a:r>
                <a:rPr b="1" lang="pt-BR" sz="2400" spc="-1" strike="noStrike">
                  <a:solidFill>
                    <a:srgbClr val="ffcc00"/>
                  </a:solidFill>
                  <a:latin typeface="Arial"/>
                </a:rPr>
                <a:t>	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cc00"/>
                  </a:solidFill>
                  <a:latin typeface="Arial"/>
                </a:rPr>
                <a:t>Passo 2</a:t>
              </a:r>
              <a:r>
                <a:rPr b="1" lang="pt-BR" sz="2400" spc="-1" strike="noStrike">
                  <a:solidFill>
                    <a:srgbClr val="ffcc00"/>
                  </a:solidFill>
                  <a:latin typeface="Arial"/>
                </a:rPr>
                <a:t>	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cc00"/>
                  </a:solidFill>
                  <a:latin typeface="Arial"/>
                </a:rPr>
                <a:t>Passo 3</a:t>
              </a:r>
              <a:r>
                <a:rPr b="1" lang="pt-BR" sz="2400" spc="-1" strike="noStrike">
                  <a:solidFill>
                    <a:srgbClr val="ffcc00"/>
                  </a:solidFill>
                  <a:latin typeface="Arial"/>
                </a:rPr>
                <a:t>	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B79F-2359-4E79-9AAE-4741C4476FF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" name=""/>
          <p:cNvGrpSpPr/>
          <p:nvPr/>
        </p:nvGrpSpPr>
        <p:grpSpPr>
          <a:xfrm>
            <a:off x="984240" y="66600"/>
            <a:ext cx="7174080" cy="577440"/>
            <a:chOff x="984240" y="66600"/>
            <a:chExt cx="7174080" cy="577440"/>
          </a:xfrm>
        </p:grpSpPr>
        <p:sp>
          <p:nvSpPr>
            <p:cNvPr id="356" name=""/>
            <p:cNvSpPr/>
            <p:nvPr/>
          </p:nvSpPr>
          <p:spPr>
            <a:xfrm>
              <a:off x="1011240" y="666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984240" y="8208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Ordenação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1133640" y="1836720"/>
            <a:ext cx="10085400" cy="3970080"/>
            <a:chOff x="1133640" y="1836720"/>
            <a:chExt cx="10085400" cy="3970080"/>
          </a:xfrm>
        </p:grpSpPr>
        <p:sp>
          <p:nvSpPr>
            <p:cNvPr id="359" name=""/>
            <p:cNvSpPr/>
            <p:nvPr/>
          </p:nvSpPr>
          <p:spPr>
            <a:xfrm>
              <a:off x="1133640" y="1836720"/>
              <a:ext cx="5937120" cy="397008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pic>
          <p:nvPicPr>
            <p:cNvPr id="360" name="" descr=""/>
            <p:cNvPicPr/>
            <p:nvPr/>
          </p:nvPicPr>
          <p:blipFill>
            <a:blip r:embed="rId1"/>
            <a:stretch/>
          </p:blipFill>
          <p:spPr>
            <a:xfrm>
              <a:off x="1324080" y="2101680"/>
              <a:ext cx="9894960" cy="3510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1" name=""/>
          <p:cNvSpPr/>
          <p:nvPr/>
        </p:nvSpPr>
        <p:spPr>
          <a:xfrm>
            <a:off x="581040" y="855720"/>
            <a:ext cx="5592600" cy="50652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44600" indent="-44460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cc00"/>
                </a:solidFill>
                <a:latin typeface="Penguin"/>
              </a:rPr>
              <a:t>Ordenação por Inserção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AEF1-2E7C-4FED-908E-E1A8F1292A6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480960" y="1731960"/>
            <a:ext cx="8229600" cy="45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3" name=""/>
          <p:cNvSpPr/>
          <p:nvPr/>
        </p:nvSpPr>
        <p:spPr>
          <a:xfrm>
            <a:off x="482760" y="1928880"/>
            <a:ext cx="812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4" name=""/>
          <p:cNvSpPr/>
          <p:nvPr/>
        </p:nvSpPr>
        <p:spPr>
          <a:xfrm>
            <a:off x="349200" y="2097000"/>
            <a:ext cx="8412120" cy="35182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Número de comparações: </a:t>
            </a:r>
            <a:r>
              <a:rPr b="1" lang="pt-BR" sz="2400" spc="-1" strike="noStrike">
                <a:solidFill>
                  <a:srgbClr val="ffcc99"/>
                </a:solidFill>
                <a:latin typeface="Arial"/>
              </a:rPr>
              <a:t>lista em ordem: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n - 1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     </a:t>
            </a:r>
            <a:r>
              <a:rPr b="1" lang="pt-BR" sz="2400" spc="-1" strike="noStrike">
                <a:solidFill>
                  <a:srgbClr val="ffcc66"/>
                </a:solidFill>
                <a:latin typeface="Arial"/>
              </a:rPr>
              <a:t>fora de ordem: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½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(n</a:t>
            </a:r>
            <a:r>
              <a:rPr b="1" lang="pt-BR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+ n ) - 1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Número de trocas para o melhor caso: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2(n – 1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Número de trocas para o caso médio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¼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(n</a:t>
            </a:r>
            <a:r>
              <a:rPr b="1" lang="pt-BR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+ 9n -10)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Número de trocas para o pior caso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½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(n</a:t>
            </a:r>
            <a:r>
              <a:rPr b="1" lang="pt-BR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+3n - 4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1163520" y="246240"/>
            <a:ext cx="7174080" cy="577440"/>
            <a:chOff x="1163520" y="246240"/>
            <a:chExt cx="7174080" cy="577440"/>
          </a:xfrm>
        </p:grpSpPr>
        <p:sp>
          <p:nvSpPr>
            <p:cNvPr id="366" name=""/>
            <p:cNvSpPr/>
            <p:nvPr/>
          </p:nvSpPr>
          <p:spPr>
            <a:xfrm>
              <a:off x="1190520" y="24624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163520" y="26172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Ordenação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743040" y="1235160"/>
            <a:ext cx="5592600" cy="5061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44600" indent="-44460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cc00"/>
                </a:solidFill>
                <a:latin typeface="Penguin"/>
              </a:rPr>
              <a:t>Ordenação por Inserção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0539-F0A5-48A0-9294-686069A8769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480960" y="1731960"/>
            <a:ext cx="8229600" cy="45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0" name=""/>
          <p:cNvSpPr/>
          <p:nvPr/>
        </p:nvSpPr>
        <p:spPr>
          <a:xfrm>
            <a:off x="482760" y="1928880"/>
            <a:ext cx="812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1" name=""/>
          <p:cNvSpPr/>
          <p:nvPr/>
        </p:nvSpPr>
        <p:spPr>
          <a:xfrm>
            <a:off x="754200" y="1793880"/>
            <a:ext cx="7995960" cy="44269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ffcc00"/>
              </a:buClr>
              <a:buSzPct val="9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pt-BR" sz="4000" spc="-1" strike="noStrike">
                <a:solidFill>
                  <a:srgbClr val="ffcc00"/>
                </a:solidFill>
                <a:latin typeface="Penguin"/>
              </a:rPr>
              <a:t>Vantagens: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9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 Narrow"/>
            </a:endParaRPr>
          </a:p>
          <a:p>
            <a:pPr lvl="1" marL="803160" indent="-34596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Se comporta naturalmente (menor carga de trabalho quando a matriz já está ordenada e o máximo quando a matriz está ordenada no sentido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inverso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803160" indent="-345960">
              <a:lnSpc>
                <a:spcPct val="100000"/>
              </a:lnSpc>
              <a:spcBef>
                <a:spcPts val="624"/>
              </a:spcBef>
              <a:buClr>
                <a:srgbClr val="ffffcc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lvl="1" marL="803160" indent="-34596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Não rearranja elementos de mesma chave (uma lista ordenada por duas chaves permanece ordenada para ambas as chaves após a ordenação)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985680" y="247680"/>
            <a:ext cx="7174080" cy="577440"/>
            <a:chOff x="985680" y="247680"/>
            <a:chExt cx="7174080" cy="577440"/>
          </a:xfrm>
        </p:grpSpPr>
        <p:sp>
          <p:nvSpPr>
            <p:cNvPr id="373" name=""/>
            <p:cNvSpPr/>
            <p:nvPr/>
          </p:nvSpPr>
          <p:spPr>
            <a:xfrm>
              <a:off x="1012680" y="24768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985680" y="26316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Ordenação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1801800" y="1001880"/>
            <a:ext cx="5592600" cy="5061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44600" indent="-44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cc00"/>
                </a:solidFill>
                <a:latin typeface="Penguin"/>
              </a:rPr>
              <a:t>Ordenação por Inserção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A72D-57E2-4386-82ED-14AD0AA499A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984240" y="66600"/>
            <a:ext cx="7174080" cy="577440"/>
            <a:chOff x="984240" y="66600"/>
            <a:chExt cx="7174080" cy="577440"/>
          </a:xfrm>
        </p:grpSpPr>
        <p:sp>
          <p:nvSpPr>
            <p:cNvPr id="102" name=""/>
            <p:cNvSpPr/>
            <p:nvPr/>
          </p:nvSpPr>
          <p:spPr>
            <a:xfrm>
              <a:off x="1011240" y="666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84240" y="8208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Ordenação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614520" y="1155600"/>
            <a:ext cx="7949880" cy="5151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 algn="just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Arranjo de séries de informações similares numa ordem </a:t>
            </a:r>
            <a:r>
              <a:rPr b="1" lang="pt-BR" sz="2400" spc="-1" strike="noStrike">
                <a:solidFill>
                  <a:srgbClr val="ffcc99"/>
                </a:solidFill>
                <a:latin typeface="Arial"/>
              </a:rPr>
              <a:t>crescente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ou </a:t>
            </a:r>
            <a:r>
              <a:rPr b="1" lang="pt-BR" sz="2400" spc="-1" strike="noStrike">
                <a:solidFill>
                  <a:srgbClr val="ffcc66"/>
                </a:solidFill>
                <a:latin typeface="Arial"/>
              </a:rPr>
              <a:t>decrescente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53880" indent="-353880" algn="just">
              <a:lnSpc>
                <a:spcPct val="100000"/>
              </a:lnSpc>
              <a:spcBef>
                <a:spcPts val="751"/>
              </a:spcBef>
              <a:buClr>
                <a:srgbClr val="ffffcc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marL="353880" indent="-353880" algn="just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Especificamente, dada uma lista ordenada </a:t>
            </a:r>
            <a:r>
              <a:rPr b="1" i="1" lang="pt-BR" sz="2400" spc="-1" strike="noStrike">
                <a:solidFill>
                  <a:srgbClr val="ffcc66"/>
                </a:solidFill>
                <a:latin typeface="Arial"/>
              </a:rPr>
              <a:t>L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de </a:t>
            </a:r>
            <a:r>
              <a:rPr b="1" i="1" lang="pt-BR" sz="2400" spc="-1" strike="noStrike">
                <a:solidFill>
                  <a:srgbClr val="ffcc66"/>
                </a:solidFill>
                <a:latin typeface="Arial"/>
              </a:rPr>
              <a:t>n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elementos, então </a:t>
            </a:r>
            <a:r>
              <a:rPr b="1" i="1" lang="pt-BR" sz="2400" spc="-1" strike="noStrike">
                <a:solidFill>
                  <a:srgbClr val="ffcc66"/>
                </a:solidFill>
                <a:latin typeface="Arial"/>
              </a:rPr>
              <a:t>L1 &lt;= L2 &lt;= ... Ln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53880" indent="-353880" algn="just">
              <a:lnSpc>
                <a:spcPct val="100000"/>
              </a:lnSpc>
              <a:spcBef>
                <a:spcPts val="751"/>
              </a:spcBef>
              <a:buClr>
                <a:srgbClr val="ffcc66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marL="353880" indent="-353880" algn="just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Categorias gerais de algoritmos de ordenação: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1073160" indent="-539640" algn="just">
              <a:lnSpc>
                <a:spcPct val="100000"/>
              </a:lnSpc>
              <a:spcBef>
                <a:spcPts val="1375"/>
              </a:spcBef>
              <a:buClr>
                <a:srgbClr val="ffff99"/>
              </a:buClr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cc99"/>
                </a:solidFill>
                <a:latin typeface="Arial"/>
              </a:rPr>
              <a:t>algoritmos que ordenam matrizes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 (na memória e em arquivos de acesso aleatório em disco);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lvl="1" marL="1073160" indent="-539640" algn="just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cc66"/>
                </a:solidFill>
                <a:latin typeface="Arial"/>
              </a:rPr>
              <a:t>algoritmos que ordenam arquivos seqüenciais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 (em disco ou fita).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53880" indent="-353880" algn="just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1435-4995-441B-A867-C2D7FC60181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490680" y="121716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ffcc00"/>
              </a:buClr>
              <a:buSzPct val="9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00"/>
                </a:solidFill>
                <a:latin typeface="Penguin"/>
              </a:rPr>
              <a:t>Ordenações Melhor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Todos os algoritmos vistos (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Bolha, Seleção e Inserção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) tinham um grave defeito – tempo de processamento da ordem de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 n</a:t>
            </a:r>
            <a:r>
              <a:rPr b="1" lang="pt-BR" sz="2400" spc="-1" strike="noStrike" baseline="30000">
                <a:solidFill>
                  <a:srgbClr val="ffcc00"/>
                </a:solidFill>
                <a:latin typeface="Arial"/>
              </a:rPr>
              <a:t>2 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– ordenações lentas para um grande número de d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Solução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: outras formas de ordenação. Exemplos: Ordenações </a:t>
            </a:r>
            <a:r>
              <a:rPr b="1" i="1" lang="pt-BR" sz="2400" spc="-1" strike="noStrike">
                <a:solidFill>
                  <a:srgbClr val="ffcc00"/>
                </a:solidFill>
                <a:latin typeface="Arial"/>
              </a:rPr>
              <a:t>Shell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e </a:t>
            </a:r>
            <a:r>
              <a:rPr b="1" i="1" lang="pt-BR" sz="2400" spc="-1" strike="noStrike">
                <a:solidFill>
                  <a:srgbClr val="ffcc00"/>
                </a:solidFill>
                <a:latin typeface="Arial"/>
              </a:rPr>
              <a:t>Quicksort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(normalmente é considerada a melhor rotina de ordenação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985680" y="247680"/>
            <a:ext cx="7174080" cy="577440"/>
            <a:chOff x="985680" y="247680"/>
            <a:chExt cx="7174080" cy="577440"/>
          </a:xfrm>
        </p:grpSpPr>
        <p:sp>
          <p:nvSpPr>
            <p:cNvPr id="378" name=""/>
            <p:cNvSpPr/>
            <p:nvPr/>
          </p:nvSpPr>
          <p:spPr>
            <a:xfrm>
              <a:off x="1012680" y="24768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985680" y="26316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Ordenação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4E56-F43D-429E-B1F3-30098766DF9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"/>
          <p:cNvGrpSpPr/>
          <p:nvPr/>
        </p:nvGrpSpPr>
        <p:grpSpPr>
          <a:xfrm>
            <a:off x="984240" y="66600"/>
            <a:ext cx="7174080" cy="577440"/>
            <a:chOff x="984240" y="66600"/>
            <a:chExt cx="7174080" cy="577440"/>
          </a:xfrm>
        </p:grpSpPr>
        <p:sp>
          <p:nvSpPr>
            <p:cNvPr id="381" name=""/>
            <p:cNvSpPr/>
            <p:nvPr/>
          </p:nvSpPr>
          <p:spPr>
            <a:xfrm>
              <a:off x="1011240" y="666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984240" y="8208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Ordenações Melhore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898560" y="2314440"/>
            <a:ext cx="7470720" cy="20718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 algn="just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Método de operação freqüentemente descrito como o empilhamento de conchas do mar;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 algn="just">
              <a:lnSpc>
                <a:spcPct val="100000"/>
              </a:lnSpc>
              <a:spcBef>
                <a:spcPts val="876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 algn="just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Deriva-se da ordenação por inserção e baseia-se na redução dos incrementos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4" name=""/>
          <p:cNvSpPr/>
          <p:nvPr/>
        </p:nvSpPr>
        <p:spPr>
          <a:xfrm>
            <a:off x="581040" y="1222200"/>
            <a:ext cx="5592600" cy="50652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44600" indent="-44460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cc00"/>
                </a:solidFill>
                <a:latin typeface="Penguin"/>
              </a:rPr>
              <a:t>Ordenação Shell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857F-374C-4E04-A269-F9A3AEC1C46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"/>
          <p:cNvGrpSpPr/>
          <p:nvPr/>
        </p:nvGrpSpPr>
        <p:grpSpPr>
          <a:xfrm>
            <a:off x="984240" y="66600"/>
            <a:ext cx="7174080" cy="577440"/>
            <a:chOff x="984240" y="66600"/>
            <a:chExt cx="7174080" cy="577440"/>
          </a:xfrm>
        </p:grpSpPr>
        <p:sp>
          <p:nvSpPr>
            <p:cNvPr id="386" name=""/>
            <p:cNvSpPr/>
            <p:nvPr/>
          </p:nvSpPr>
          <p:spPr>
            <a:xfrm>
              <a:off x="1011240" y="666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984240" y="8208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Ordenações Melhore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801720" y="1906560"/>
            <a:ext cx="7761240" cy="43228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 algn="just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Inicialmente o vetor é considerado composto de vários segmentos onde cada um reúne os elementos que estão a uma 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  <a:ea typeface="Times New Roman"/>
              </a:rPr>
              <a:t>distância d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 um do outro.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 algn="just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Cada segmento é, então, ordenado.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 algn="just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Depois, 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  <a:ea typeface="Times New Roman"/>
              </a:rPr>
              <a:t>reduz-se d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 e o processo se repete para segmentos onde o intervalo entre os elementos é menor.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 algn="just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E assim sucessivamente, 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  <a:ea typeface="Times New Roman"/>
              </a:rPr>
              <a:t>até d = 1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, que é o valor 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  <a:ea typeface="Times New Roman"/>
              </a:rPr>
              <a:t>obrigatório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 para o intervalo na última passada.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9" name=""/>
          <p:cNvSpPr/>
          <p:nvPr/>
        </p:nvSpPr>
        <p:spPr>
          <a:xfrm>
            <a:off x="619200" y="988920"/>
            <a:ext cx="5592600" cy="50652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44600" indent="-44460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cc00"/>
                </a:solidFill>
                <a:latin typeface="Penguin"/>
              </a:rPr>
              <a:t>Ordenação Shell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7309-5180-4E1A-9E96-85BFDBC7982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"/>
          <p:cNvGrpSpPr/>
          <p:nvPr/>
        </p:nvGrpSpPr>
        <p:grpSpPr>
          <a:xfrm>
            <a:off x="984240" y="66600"/>
            <a:ext cx="7174080" cy="577440"/>
            <a:chOff x="984240" y="66600"/>
            <a:chExt cx="7174080" cy="577440"/>
          </a:xfrm>
        </p:grpSpPr>
        <p:sp>
          <p:nvSpPr>
            <p:cNvPr id="391" name=""/>
            <p:cNvSpPr/>
            <p:nvPr/>
          </p:nvSpPr>
          <p:spPr>
            <a:xfrm>
              <a:off x="1011240" y="666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984240" y="8208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Ordenações Melhore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393" name=""/>
          <p:cNvSpPr/>
          <p:nvPr/>
        </p:nvSpPr>
        <p:spPr>
          <a:xfrm>
            <a:off x="893880" y="1806480"/>
            <a:ext cx="7564320" cy="410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SzPct val="7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  <a:ea typeface="Times New Roman"/>
              </a:rPr>
              <a:t>Exemplo: seqüência para d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 algn="just">
              <a:lnSpc>
                <a:spcPct val="100000"/>
              </a:lnSpc>
              <a:spcBef>
                <a:spcPts val="876"/>
              </a:spcBef>
              <a:buClr>
                <a:srgbClr val="ffffcc"/>
              </a:buClr>
              <a:buSzPct val="7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SzPct val="7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Todos os elementos que estão a três posições afastados um do outro são ordenados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 algn="just">
              <a:lnSpc>
                <a:spcPct val="100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SzPct val="7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Todos os elementos que estão duas posições afastados são ordenados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 algn="just">
              <a:lnSpc>
                <a:spcPct val="100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SzPct val="7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Finalmente, todos os elementos adjacentes  são ordenados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4" name=""/>
          <p:cNvSpPr/>
          <p:nvPr/>
        </p:nvSpPr>
        <p:spPr>
          <a:xfrm>
            <a:off x="581040" y="855720"/>
            <a:ext cx="5592600" cy="50652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44600" indent="-44460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cc00"/>
                </a:solidFill>
                <a:latin typeface="Penguin"/>
              </a:rPr>
              <a:t>Ordenação Shell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AE71-7F80-4C24-8520-6BE71E41525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"/>
          <p:cNvGrpSpPr/>
          <p:nvPr/>
        </p:nvGrpSpPr>
        <p:grpSpPr>
          <a:xfrm>
            <a:off x="1182600" y="0"/>
            <a:ext cx="7174080" cy="577440"/>
            <a:chOff x="1182600" y="0"/>
            <a:chExt cx="7174080" cy="577440"/>
          </a:xfrm>
        </p:grpSpPr>
        <p:sp>
          <p:nvSpPr>
            <p:cNvPr id="396" name=""/>
            <p:cNvSpPr/>
            <p:nvPr/>
          </p:nvSpPr>
          <p:spPr>
            <a:xfrm>
              <a:off x="1209600" y="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182600" y="1548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Ordenações Melhore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550800" y="779400"/>
            <a:ext cx="5592960" cy="50652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44600" indent="-44460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cc00"/>
                </a:solidFill>
                <a:latin typeface="Penguin"/>
              </a:rPr>
              <a:t>Ordenação Shell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1515960" y="2351160"/>
            <a:ext cx="5972400" cy="3914640"/>
            <a:chOff x="1515960" y="2351160"/>
            <a:chExt cx="5972400" cy="3914640"/>
          </a:xfrm>
        </p:grpSpPr>
        <p:pic>
          <p:nvPicPr>
            <p:cNvPr id="400" name="" descr=""/>
            <p:cNvPicPr/>
            <p:nvPr/>
          </p:nvPicPr>
          <p:blipFill>
            <a:blip r:embed="rId1"/>
            <a:stretch/>
          </p:blipFill>
          <p:spPr>
            <a:xfrm>
              <a:off x="1515960" y="2351160"/>
              <a:ext cx="5972400" cy="3914640"/>
            </a:xfrm>
            <a:prstGeom prst="rect">
              <a:avLst/>
            </a:prstGeom>
            <a:ln w="25560">
              <a:solidFill>
                <a:srgbClr val="000000"/>
              </a:solidFill>
              <a:miter/>
            </a:ln>
          </p:spPr>
        </p:pic>
        <p:sp>
          <p:nvSpPr>
            <p:cNvPr id="401" name=""/>
            <p:cNvSpPr/>
            <p:nvPr/>
          </p:nvSpPr>
          <p:spPr>
            <a:xfrm>
              <a:off x="5370480" y="4753080"/>
              <a:ext cx="1330200" cy="29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483160" y="4705200"/>
              <a:ext cx="124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Times New Roman"/>
                </a:rPr>
                <a:t>e        d</a:t>
              </a:r>
              <a:r>
                <a:rPr b="1" lang="pt-BR" sz="24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698400" y="1671480"/>
            <a:ext cx="77788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SzPct val="7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Exemplo: ordenação do vetor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  <a:ea typeface="Times New Roman"/>
              </a:rPr>
              <a:t> fdacbe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D633-D401-4A79-9F25-DA1516AC57A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642960" y="1488960"/>
            <a:ext cx="7485120" cy="40737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984240" y="66600"/>
            <a:ext cx="7174080" cy="577440"/>
            <a:chOff x="984240" y="66600"/>
            <a:chExt cx="7174080" cy="577440"/>
          </a:xfrm>
        </p:grpSpPr>
        <p:sp>
          <p:nvSpPr>
            <p:cNvPr id="406" name=""/>
            <p:cNvSpPr/>
            <p:nvPr/>
          </p:nvSpPr>
          <p:spPr>
            <a:xfrm>
              <a:off x="1011240" y="666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984240" y="8208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Ordenações Melhore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408" name=""/>
          <p:cNvSpPr/>
          <p:nvPr/>
        </p:nvSpPr>
        <p:spPr>
          <a:xfrm>
            <a:off x="581040" y="771480"/>
            <a:ext cx="5592600" cy="50652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44600" indent="-44460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cc00"/>
                </a:solidFill>
                <a:latin typeface="Penguin"/>
              </a:rPr>
              <a:t>Ordenação Shell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9" name=""/>
          <p:cNvSpPr/>
          <p:nvPr/>
        </p:nvSpPr>
        <p:spPr>
          <a:xfrm>
            <a:off x="0" y="5773680"/>
            <a:ext cx="9144000" cy="6426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cc00"/>
                </a:solidFill>
                <a:latin typeface="Arial"/>
              </a:rPr>
              <a:t>Obs.:</a:t>
            </a:r>
            <a:r>
              <a:rPr b="0" lang="pt-BR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ffffcc"/>
                </a:solidFill>
                <a:latin typeface="Arial"/>
                <a:ea typeface="Times New Roman"/>
              </a:rPr>
              <a:t>seqüência recomendada para  incrementos decrescentes:  </a:t>
            </a:r>
            <a:r>
              <a:rPr b="1" lang="pt-BR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9, 5, 3, 2, 1</a:t>
            </a:r>
            <a:r>
              <a:rPr b="0" lang="pt-BR" sz="1800" spc="-1" strike="noStrike">
                <a:solidFill>
                  <a:srgbClr val="ffffcc"/>
                </a:solidFill>
                <a:latin typeface="Arial"/>
                <a:ea typeface="Times New Roman"/>
              </a:rPr>
              <a:t>. A seqüência exata para os incrementos pode mudar. Única regra – último incremento=1.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766800" y="1676520"/>
            <a:ext cx="8335800" cy="3592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9687-783C-44BA-A6B3-D47D09FE281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581040" y="855720"/>
            <a:ext cx="5592600" cy="50652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44600" indent="-44460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cc00"/>
                </a:solidFill>
                <a:latin typeface="Penguin"/>
              </a:rPr>
              <a:t>Ordenação Shell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412" name=""/>
          <p:cNvGrpSpPr/>
          <p:nvPr/>
        </p:nvGrpSpPr>
        <p:grpSpPr>
          <a:xfrm>
            <a:off x="984240" y="66600"/>
            <a:ext cx="7174080" cy="577440"/>
            <a:chOff x="984240" y="66600"/>
            <a:chExt cx="7174080" cy="577440"/>
          </a:xfrm>
        </p:grpSpPr>
        <p:sp>
          <p:nvSpPr>
            <p:cNvPr id="413" name=""/>
            <p:cNvSpPr/>
            <p:nvPr/>
          </p:nvSpPr>
          <p:spPr>
            <a:xfrm>
              <a:off x="1011240" y="666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984240" y="8208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Ordenações Melhore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547560" y="1390680"/>
            <a:ext cx="8151840" cy="50544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 algn="just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SzPct val="7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Versões um pouco diferentes da ordenação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Shell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empregam elementos especiais de matriz - sentinelas, que não fazem parte da matriz a ser ordenada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58920" indent="-358920" algn="just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SzPct val="7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Sentinelas guardam valores especiais de terminação, que indicam o menor e o maior elemento possível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58920" indent="-358920" algn="just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SzPct val="7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As verificações dos limites são desnecessárias. O uso de sentinelas requer um conhecimento específico dos dados, o que limita a generalização da função ordenação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58920" indent="-35892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Tempo de execução é proporcional a </a:t>
            </a:r>
            <a:r>
              <a:rPr b="1" i="1" lang="pt-BR" sz="2400" spc="-1" strike="noStrike">
                <a:solidFill>
                  <a:srgbClr val="ffcc00"/>
                </a:solidFill>
                <a:latin typeface="Arial"/>
              </a:rPr>
              <a:t>n</a:t>
            </a:r>
            <a:r>
              <a:rPr b="1" lang="pt-BR" sz="2400" spc="-1" strike="noStrike" baseline="30000">
                <a:solidFill>
                  <a:srgbClr val="ffcc00"/>
                </a:solidFill>
                <a:latin typeface="Arial"/>
              </a:rPr>
              <a:t>1,2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E147-B075-4992-9EF7-15A504D4F48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581040" y="855720"/>
            <a:ext cx="5592600" cy="50652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44600" indent="-44460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cc00"/>
                </a:solidFill>
                <a:latin typeface="Penguin"/>
              </a:rPr>
              <a:t>Ordenação Shell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984240" y="66600"/>
            <a:ext cx="7174080" cy="577440"/>
            <a:chOff x="984240" y="66600"/>
            <a:chExt cx="7174080" cy="577440"/>
          </a:xfrm>
        </p:grpSpPr>
        <p:sp>
          <p:nvSpPr>
            <p:cNvPr id="418" name=""/>
            <p:cNvSpPr/>
            <p:nvPr/>
          </p:nvSpPr>
          <p:spPr>
            <a:xfrm>
              <a:off x="1011240" y="666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984240" y="8208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Ordenações Melhore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pic>
        <p:nvPicPr>
          <p:cNvPr id="420" name="" descr=""/>
          <p:cNvPicPr/>
          <p:nvPr/>
        </p:nvPicPr>
        <p:blipFill>
          <a:blip r:embed="rId1"/>
          <a:srcRect l="0" t="0" r="60209" b="9655"/>
          <a:stretch/>
        </p:blipFill>
        <p:spPr>
          <a:xfrm>
            <a:off x="479520" y="2317680"/>
            <a:ext cx="6292800" cy="3090960"/>
          </a:xfrm>
          <a:prstGeom prst="rect">
            <a:avLst/>
          </a:prstGeom>
          <a:ln w="25560">
            <a:solidFill>
              <a:srgbClr val="001f3e"/>
            </a:solidFill>
            <a:miter/>
          </a:ln>
        </p:spPr>
      </p:pic>
      <p:sp>
        <p:nvSpPr>
          <p:cNvPr id="421" name=""/>
          <p:cNvSpPr/>
          <p:nvPr/>
        </p:nvSpPr>
        <p:spPr>
          <a:xfrm>
            <a:off x="6959520" y="258444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Ordenação Shel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2" name=""/>
          <p:cNvSpPr/>
          <p:nvPr/>
        </p:nvSpPr>
        <p:spPr>
          <a:xfrm>
            <a:off x="6975360" y="3881520"/>
            <a:ext cx="216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Ordenações anteriore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4052880" y="3059280"/>
            <a:ext cx="2906640" cy="544320"/>
          </a:xfrm>
          <a:prstGeom prst="line">
            <a:avLst/>
          </a:prstGeom>
          <a:ln w="25560">
            <a:solidFill>
              <a:srgbClr val="fc3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4" name=""/>
          <p:cNvSpPr/>
          <p:nvPr/>
        </p:nvSpPr>
        <p:spPr>
          <a:xfrm flipH="1" flipV="1">
            <a:off x="2885760" y="3819600"/>
            <a:ext cx="4049640" cy="490320"/>
          </a:xfrm>
          <a:prstGeom prst="line">
            <a:avLst/>
          </a:prstGeom>
          <a:ln w="25560">
            <a:solidFill>
              <a:srgbClr val="fc3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3894-0CE6-4771-986E-76F943F5D05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5" name=""/>
          <p:cNvGrpSpPr/>
          <p:nvPr/>
        </p:nvGrpSpPr>
        <p:grpSpPr>
          <a:xfrm>
            <a:off x="984240" y="66600"/>
            <a:ext cx="7174080" cy="577440"/>
            <a:chOff x="984240" y="66600"/>
            <a:chExt cx="7174080" cy="577440"/>
          </a:xfrm>
        </p:grpSpPr>
        <p:sp>
          <p:nvSpPr>
            <p:cNvPr id="426" name=""/>
            <p:cNvSpPr/>
            <p:nvPr/>
          </p:nvSpPr>
          <p:spPr>
            <a:xfrm>
              <a:off x="1011240" y="666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984240" y="8208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Ordenações Melhore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947880" y="1517760"/>
            <a:ext cx="7740360" cy="46886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 algn="just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SzPct val="7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Superior às demais ordenações (considerada o melhor algoritmo de ordenação de propósito geral atualmente disponível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 algn="just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SzPct val="7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Baseia-se no método de ordenação por trocas e na idéia de partiçõe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 algn="just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SzPct val="7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Seleção de um valor (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comparador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) e partição da matriz em duas seções, com todos os elementos maiores ou iguais ao valor da partição de um lado e os menores do outro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 algn="just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SzPct val="7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O processo é repetido para cada seção restante até que a matriz esteja ordenada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9" name=""/>
          <p:cNvSpPr/>
          <p:nvPr/>
        </p:nvSpPr>
        <p:spPr>
          <a:xfrm>
            <a:off x="666720" y="855720"/>
            <a:ext cx="5592960" cy="50652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44600" indent="-44460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cc00"/>
                </a:solidFill>
                <a:latin typeface="Penguin"/>
              </a:rPr>
              <a:t>Ordenação QuickSort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6AF8-850B-405D-9AF2-7F894FD0A0C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644400" y="3440160"/>
            <a:ext cx="7139160" cy="14526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1" name=""/>
          <p:cNvSpPr/>
          <p:nvPr/>
        </p:nvSpPr>
        <p:spPr>
          <a:xfrm>
            <a:off x="611280" y="1746360"/>
            <a:ext cx="7999200" cy="48938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 algn="just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Se o método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Quicksort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 fosse utilizado na matriz 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fedacb 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e, usando o valor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 d 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para a partição, o primeiro passo de rearranjo da matriz seria: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  <a:ea typeface="Courier New"/>
              </a:rPr>
              <a:t>Inicial</a:t>
            </a:r>
            <a:r>
              <a:rPr b="1" lang="pt-BR" sz="2400" spc="-1" strike="noStrike">
                <a:solidFill>
                  <a:srgbClr val="990000"/>
                </a:solidFill>
                <a:latin typeface="Arial"/>
                <a:ea typeface="Courier New"/>
              </a:rPr>
              <a:t>  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Courier New"/>
              </a:rPr>
              <a:t>  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Courier New"/>
              </a:rPr>
              <a:t>f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Courier New"/>
              </a:rPr>
              <a:t>e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Courier New"/>
              </a:rPr>
              <a:t>d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Courier New"/>
              </a:rPr>
              <a:t>c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Courier New"/>
              </a:rPr>
              <a:t>b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  <a:ea typeface="Courier New"/>
              </a:rPr>
              <a:t>Passo 1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Courier New"/>
              </a:rPr>
              <a:t>   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Courier New"/>
              </a:rPr>
              <a:t>b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Courier New"/>
              </a:rPr>
              <a:t>c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Courier New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Courier New"/>
              </a:rPr>
              <a:t>d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Courier New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Courier New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 algn="just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  <a:ea typeface="Courier New"/>
              </a:rPr>
              <a:t>O processo é repetido para cada seção (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  <a:ea typeface="Courier New"/>
              </a:rPr>
              <a:t>bca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  <a:ea typeface="Courier New"/>
              </a:rPr>
              <a:t> e 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  <a:ea typeface="Courier New"/>
              </a:rPr>
              <a:t>def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  <a:ea typeface="Courier New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 algn="just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  <a:ea typeface="Courier New"/>
              </a:rPr>
              <a:t>O processo é recursivo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2" name=""/>
          <p:cNvSpPr/>
          <p:nvPr/>
        </p:nvSpPr>
        <p:spPr>
          <a:xfrm>
            <a:off x="196920" y="853920"/>
            <a:ext cx="5592600" cy="50652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44600" indent="-44460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cc00"/>
                </a:solidFill>
                <a:latin typeface="Penguin"/>
              </a:rPr>
              <a:t>Ordenação QuickSort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984240" y="66600"/>
            <a:ext cx="7174080" cy="577440"/>
            <a:chOff x="984240" y="66600"/>
            <a:chExt cx="7174080" cy="577440"/>
          </a:xfrm>
        </p:grpSpPr>
        <p:sp>
          <p:nvSpPr>
            <p:cNvPr id="434" name=""/>
            <p:cNvSpPr/>
            <p:nvPr/>
          </p:nvSpPr>
          <p:spPr>
            <a:xfrm>
              <a:off x="1011240" y="666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984240" y="8208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Ordenações Melhore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490C-045C-41A1-A2E3-6BDF46C3D4C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984240" y="66600"/>
            <a:ext cx="7174080" cy="577440"/>
            <a:chOff x="984240" y="66600"/>
            <a:chExt cx="7174080" cy="577440"/>
          </a:xfrm>
        </p:grpSpPr>
        <p:sp>
          <p:nvSpPr>
            <p:cNvPr id="106" name=""/>
            <p:cNvSpPr/>
            <p:nvPr/>
          </p:nvSpPr>
          <p:spPr>
            <a:xfrm>
              <a:off x="1011240" y="666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84240" y="8208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Ordenação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1581120" y="2906640"/>
            <a:ext cx="3203640" cy="24667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01800" indent="-444600">
              <a:lnSpc>
                <a:spcPct val="100000"/>
              </a:lnSpc>
              <a:spcBef>
                <a:spcPts val="1749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Troca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901800" indent="-444600">
              <a:lnSpc>
                <a:spcPct val="100000"/>
              </a:lnSpc>
              <a:spcBef>
                <a:spcPts val="1749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Seleção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901800" indent="-444600">
              <a:lnSpc>
                <a:spcPct val="100000"/>
              </a:lnSpc>
              <a:spcBef>
                <a:spcPts val="1749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Inserção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901800" indent="-444600">
              <a:lnSpc>
                <a:spcPct val="100000"/>
              </a:lnSpc>
              <a:spcBef>
                <a:spcPts val="1749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9" name=""/>
          <p:cNvSpPr/>
          <p:nvPr/>
        </p:nvSpPr>
        <p:spPr>
          <a:xfrm>
            <a:off x="1741320" y="1241280"/>
            <a:ext cx="5559480" cy="115920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cc00"/>
                </a:solidFill>
                <a:latin typeface="Penguin"/>
              </a:rPr>
              <a:t>Métodos Gerais para a</a:t>
            </a:r>
            <a:br>
              <a:rPr sz="4000"/>
            </a:br>
            <a:r>
              <a:rPr b="1" lang="pt-PT" sz="4000" spc="-1" strike="noStrike">
                <a:solidFill>
                  <a:srgbClr val="ffcc00"/>
                </a:solidFill>
                <a:latin typeface="Penguin"/>
              </a:rPr>
              <a:t>Ordenação de Matrizes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6BA7-A0D7-40FD-8038-EAFA347D392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547560" y="1906560"/>
            <a:ext cx="7999560" cy="41367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 algn="just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O valor central pode ser escolhido aleatoriamente ou selecionado através da média de um pequeno conjunto de valores retirado da matriz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Ordenação ótima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 – deve ser selecionado um valor que esteja precisamente no centro da faixa de valores (</a:t>
            </a:r>
            <a:r>
              <a:rPr b="1" lang="pt-BR" sz="2400" spc="-1" strike="noStrike" u="sng">
                <a:solidFill>
                  <a:srgbClr val="ffffcc"/>
                </a:solidFill>
                <a:uFillTx/>
                <a:latin typeface="Arial"/>
              </a:rPr>
              <a:t>tarefa difícil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Pior caso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 - o valor escolhido está em uma extremidade e, mesmo nesse caso, o </a:t>
            </a:r>
            <a:r>
              <a:rPr b="1" i="1" lang="pt-BR" sz="2400" spc="-1" strike="noStrike">
                <a:solidFill>
                  <a:srgbClr val="ffff99"/>
                </a:solidFill>
                <a:latin typeface="Arial"/>
              </a:rPr>
              <a:t>quicksort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 seleciona o elemento central da matriz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7" name=""/>
          <p:cNvSpPr/>
          <p:nvPr/>
        </p:nvSpPr>
        <p:spPr>
          <a:xfrm>
            <a:off x="196920" y="853920"/>
            <a:ext cx="5592600" cy="50652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44600" indent="-44460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cc00"/>
                </a:solidFill>
                <a:latin typeface="Penguin"/>
              </a:rPr>
              <a:t>Ordenação QuickSort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984240" y="66600"/>
            <a:ext cx="7174080" cy="577440"/>
            <a:chOff x="984240" y="66600"/>
            <a:chExt cx="7174080" cy="577440"/>
          </a:xfrm>
        </p:grpSpPr>
        <p:sp>
          <p:nvSpPr>
            <p:cNvPr id="439" name=""/>
            <p:cNvSpPr/>
            <p:nvPr/>
          </p:nvSpPr>
          <p:spPr>
            <a:xfrm>
              <a:off x="1011240" y="666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984240" y="8208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Ordenações Melhore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2F1E-77C1-4353-BD46-6DD85EACA8A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3322800" y="231840"/>
            <a:ext cx="5510160" cy="632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2" name=""/>
          <p:cNvSpPr/>
          <p:nvPr/>
        </p:nvSpPr>
        <p:spPr>
          <a:xfrm>
            <a:off x="228600" y="1611360"/>
            <a:ext cx="2862360" cy="107460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44600" indent="-44460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cc00"/>
                </a:solidFill>
                <a:latin typeface="Penguin"/>
              </a:rPr>
              <a:t>Ordenação QuickSort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1"/>
          <a:srcRect l="0" t="0" r="27904" b="0"/>
          <a:stretch/>
        </p:blipFill>
        <p:spPr>
          <a:xfrm>
            <a:off x="3613320" y="328680"/>
            <a:ext cx="4824360" cy="617688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/>
          <p:nvPr/>
        </p:nvSpPr>
        <p:spPr>
          <a:xfrm>
            <a:off x="3873600" y="3603600"/>
            <a:ext cx="2760480" cy="322200"/>
          </a:xfrm>
          <a:prstGeom prst="ellipse">
            <a:avLst/>
          </a:prstGeom>
          <a:noFill/>
          <a:ln w="9360">
            <a:solidFill>
              <a:srgbClr val="fc3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E5B7-52EB-4E05-99C8-CB5E820871A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480960" y="1731960"/>
            <a:ext cx="8229600" cy="45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6" name=""/>
          <p:cNvSpPr/>
          <p:nvPr/>
        </p:nvSpPr>
        <p:spPr>
          <a:xfrm>
            <a:off x="482760" y="1928880"/>
            <a:ext cx="812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7" name=""/>
          <p:cNvSpPr/>
          <p:nvPr/>
        </p:nvSpPr>
        <p:spPr>
          <a:xfrm>
            <a:off x="399960" y="2523960"/>
            <a:ext cx="8412120" cy="16221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Número médio de comparações: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log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Número médio de trocas (aproximadamente): </a:t>
            </a:r>
            <a:r>
              <a:rPr b="1" lang="pt-BR" sz="24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pt-BR" sz="24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log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984240" y="66600"/>
            <a:ext cx="7174080" cy="577440"/>
            <a:chOff x="984240" y="66600"/>
            <a:chExt cx="7174080" cy="577440"/>
          </a:xfrm>
        </p:grpSpPr>
        <p:sp>
          <p:nvSpPr>
            <p:cNvPr id="449" name=""/>
            <p:cNvSpPr/>
            <p:nvPr/>
          </p:nvSpPr>
          <p:spPr>
            <a:xfrm>
              <a:off x="1011240" y="666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984240" y="8208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Ordenações Melhore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331920" y="1479600"/>
            <a:ext cx="5592600" cy="50652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44600" indent="-44460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cc00"/>
                </a:solidFill>
                <a:latin typeface="Penguin"/>
              </a:rPr>
              <a:t>Ordenação QuickSort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38E7-C9CC-4D00-9C24-5AFCFE6FB02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2" name=""/>
          <p:cNvGrpSpPr/>
          <p:nvPr/>
        </p:nvGrpSpPr>
        <p:grpSpPr>
          <a:xfrm>
            <a:off x="1163520" y="246240"/>
            <a:ext cx="7174080" cy="577440"/>
            <a:chOff x="1163520" y="246240"/>
            <a:chExt cx="7174080" cy="577440"/>
          </a:xfrm>
        </p:grpSpPr>
        <p:sp>
          <p:nvSpPr>
            <p:cNvPr id="453" name=""/>
            <p:cNvSpPr/>
            <p:nvPr/>
          </p:nvSpPr>
          <p:spPr>
            <a:xfrm>
              <a:off x="1190520" y="24624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163520" y="26172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28496" dir="17774481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Formas Melhores de Ordenação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09760" y="1568520"/>
            <a:ext cx="6148080" cy="50652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42880" indent="-542880" algn="ctr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cc00"/>
                </a:solidFill>
                <a:latin typeface="Penguin"/>
              </a:rPr>
              <a:t>Escolha de uma Ordenação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6" name=""/>
          <p:cNvSpPr/>
          <p:nvPr/>
        </p:nvSpPr>
        <p:spPr>
          <a:xfrm>
            <a:off x="758880" y="2392200"/>
            <a:ext cx="7548480" cy="2478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7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Quicksort 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é a melhor ordenação em virtude de sua velocidade.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 algn="just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SzPct val="7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Quando listas muito pequenas de dados devem ser ordenadas (menos que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), o tempo extra das chamadas recursivas da </a:t>
            </a:r>
            <a:r>
              <a:rPr b="1" i="1" lang="pt-BR" sz="2400" spc="-1" strike="noStrike">
                <a:solidFill>
                  <a:srgbClr val="ffff99"/>
                </a:solidFill>
                <a:latin typeface="Arial"/>
              </a:rPr>
              <a:t>quicksort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 pode não compensar. Sugestão: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ordenação bolha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8517-3466-4C85-A0AD-55BF9D1E663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1530360" y="322200"/>
            <a:ext cx="6148440" cy="50652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42880" indent="-542880" algn="ctr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cc00"/>
                </a:solidFill>
                <a:latin typeface="Penguin"/>
              </a:rPr>
              <a:t>Escolha de uma Ordenação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8" name=""/>
          <p:cNvSpPr/>
          <p:nvPr/>
        </p:nvSpPr>
        <p:spPr>
          <a:xfrm>
            <a:off x="471600" y="1317600"/>
            <a:ext cx="8321400" cy="50544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Muito embora a maioria dos compiladores forneça a função </a:t>
            </a:r>
            <a:r>
              <a:rPr b="1" i="1" lang="pt-BR" sz="2400" spc="-1" strike="noStrike">
                <a:solidFill>
                  <a:srgbClr val="ffcc00"/>
                </a:solidFill>
                <a:latin typeface="Arial"/>
              </a:rPr>
              <a:t>qsort( ) 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como parte da biblioteca padrão, é importante lembrar que: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 algn="just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SzPct val="7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Você não pode aplicar uma função generalizada como </a:t>
            </a:r>
            <a:r>
              <a:rPr b="1" i="1" lang="pt-BR" sz="2400" spc="-1" strike="noStrike">
                <a:solidFill>
                  <a:srgbClr val="ffcc00"/>
                </a:solidFill>
                <a:latin typeface="Arial"/>
              </a:rPr>
              <a:t>qsort( )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a todas as situações.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 algn="just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SzPct val="7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Pelo fato de </a:t>
            </a:r>
            <a:r>
              <a:rPr b="1" i="1" lang="pt-BR" sz="2400" spc="-1" strike="noStrike">
                <a:solidFill>
                  <a:srgbClr val="ffcc00"/>
                </a:solidFill>
                <a:latin typeface="Arial"/>
              </a:rPr>
              <a:t>qsort( )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ser parametrizada para operar em uma variedade de dados, ela roda mais lentamente que uma ordenação semelhante que opera sobre apenas um tipo de dado.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 algn="just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SzPct val="7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Embora o algoritmo </a:t>
            </a:r>
            <a:r>
              <a:rPr b="1" i="1" lang="pt-BR" sz="2400" spc="-1" strike="noStrike">
                <a:solidFill>
                  <a:srgbClr val="ffcc00"/>
                </a:solidFill>
                <a:latin typeface="Arial"/>
              </a:rPr>
              <a:t>quicksort( )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(usado por </a:t>
            </a:r>
            <a:r>
              <a:rPr b="1" i="1" lang="pt-BR" sz="2400" spc="-1" strike="noStrike">
                <a:solidFill>
                  <a:srgbClr val="ffcc00"/>
                </a:solidFill>
                <a:latin typeface="Arial"/>
              </a:rPr>
              <a:t>qsort( )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) seja muito eficiente no caso geral, ele pode não ser a melhor ordenação para situações especiais.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B35C-83D8-484D-B9BD-00B6A3195B8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984240" y="66600"/>
            <a:ext cx="7174080" cy="577440"/>
            <a:chOff x="984240" y="66600"/>
            <a:chExt cx="7174080" cy="577440"/>
          </a:xfrm>
        </p:grpSpPr>
        <p:sp>
          <p:nvSpPr>
            <p:cNvPr id="111" name=""/>
            <p:cNvSpPr/>
            <p:nvPr/>
          </p:nvSpPr>
          <p:spPr>
            <a:xfrm>
              <a:off x="1011240" y="666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984240" y="8208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Ordenação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660240" y="2463840"/>
            <a:ext cx="8007480" cy="29815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 Narrow"/>
            </a:endParaRPr>
          </a:p>
          <a:p>
            <a:pPr marL="353880" indent="-353880" algn="just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Velocidade de ordenação das informações no melhor caso, no caso médio e no pior caso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53880" indent="-353880" algn="just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Comportamento do algoritmo (natural ou não natural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53880" indent="-353880" algn="just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Capacidade de rearranjo de elementos com </a:t>
            </a:r>
            <a:r>
              <a:rPr b="1" lang="pt-BR" sz="2400" spc="-1" strike="noStrike" u="sng">
                <a:solidFill>
                  <a:srgbClr val="ffffcc"/>
                </a:solidFill>
                <a:uFillTx/>
                <a:latin typeface="Arial"/>
              </a:rPr>
              <a:t>chaves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iguai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4" name=""/>
          <p:cNvSpPr/>
          <p:nvPr/>
        </p:nvSpPr>
        <p:spPr>
          <a:xfrm>
            <a:off x="325440" y="1109520"/>
            <a:ext cx="8434440" cy="11098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36400" indent="-53640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cc00"/>
                </a:solidFill>
                <a:latin typeface="Penguin"/>
              </a:rPr>
              <a:t>Critérios Gerais para a Avaliação de um algoritmo de ordenação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9992-E7AB-4FE9-9FC7-4E55B5E9539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"/>
          <p:cNvGrpSpPr/>
          <p:nvPr/>
        </p:nvGrpSpPr>
        <p:grpSpPr>
          <a:xfrm>
            <a:off x="984240" y="66600"/>
            <a:ext cx="7174080" cy="577440"/>
            <a:chOff x="984240" y="66600"/>
            <a:chExt cx="7174080" cy="577440"/>
          </a:xfrm>
        </p:grpSpPr>
        <p:sp>
          <p:nvSpPr>
            <p:cNvPr id="116" name=""/>
            <p:cNvSpPr/>
            <p:nvPr/>
          </p:nvSpPr>
          <p:spPr>
            <a:xfrm>
              <a:off x="1011240" y="666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84240" y="8208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Ordenação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574560" y="1609560"/>
            <a:ext cx="8035920" cy="45133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 algn="just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Método mais conhecido (e mais difamado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58920" indent="-358920" algn="just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Simples, porém é uma das piores formas de ordenação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58920" indent="-358920" algn="just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Ordenação por trocas (repetidas comparações e, se necessário, troca de elementos adjacentes)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58920" indent="-358920" algn="just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Elementos são como </a:t>
            </a:r>
            <a:r>
              <a:rPr b="1" lang="pt-BR" sz="2400" spc="-1" strike="noStrike" u="sng">
                <a:solidFill>
                  <a:srgbClr val="ffcc66"/>
                </a:solidFill>
                <a:uFillTx/>
                <a:latin typeface="Arial"/>
              </a:rPr>
              <a:t>bolha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58920" indent="-358920" algn="just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Princípio do </a:t>
            </a:r>
            <a:r>
              <a:rPr b="1" i="1" lang="pt-BR" sz="2400" spc="-1" strike="noStrike">
                <a:solidFill>
                  <a:srgbClr val="ffffcc"/>
                </a:solidFill>
                <a:latin typeface="Arial"/>
              </a:rPr>
              <a:t>Bubble sort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- troca de valores entre posições consecutivas, fazendo com que os valores mais altos ( ou mais baixos ) "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borbulhem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" para o final do arranjo (daí o nome </a:t>
            </a:r>
            <a:r>
              <a:rPr b="1" i="1" lang="pt-BR" sz="2400" spc="-1" strike="noStrike">
                <a:solidFill>
                  <a:srgbClr val="ffffcc"/>
                </a:solidFill>
                <a:latin typeface="Arial"/>
              </a:rPr>
              <a:t>Bubble sort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).</a:t>
            </a: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9" name=""/>
          <p:cNvSpPr/>
          <p:nvPr/>
        </p:nvSpPr>
        <p:spPr>
          <a:xfrm>
            <a:off x="366840" y="784080"/>
            <a:ext cx="8273880" cy="45720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42880" indent="-542880" algn="just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cc00"/>
                </a:solidFill>
                <a:latin typeface="Penguin"/>
              </a:rPr>
              <a:t>Ordenação Bolha (</a:t>
            </a:r>
            <a:r>
              <a:rPr b="1" i="1" lang="pt-PT" sz="4000" spc="-1" strike="noStrike">
                <a:solidFill>
                  <a:srgbClr val="ffffcc"/>
                </a:solidFill>
                <a:latin typeface="Penguin"/>
              </a:rPr>
              <a:t>Bubble Sort</a:t>
            </a:r>
            <a:r>
              <a:rPr b="1" lang="pt-PT" sz="4000" spc="-1" strike="noStrike">
                <a:solidFill>
                  <a:srgbClr val="ffcc00"/>
                </a:solidFill>
                <a:latin typeface="Penguin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C59B-A382-4919-87E6-514A233121B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27120" y="1047600"/>
            <a:ext cx="7927920" cy="39060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cc00"/>
                </a:solidFill>
                <a:latin typeface="Penguin"/>
              </a:rPr>
              <a:t> </a:t>
            </a:r>
            <a:r>
              <a:rPr b="1" lang="pt-PT" sz="3200" spc="-1" strike="noStrike">
                <a:solidFill>
                  <a:srgbClr val="ffcc00"/>
                </a:solidFill>
                <a:latin typeface="Penguin"/>
              </a:rPr>
              <a:t>Ordenação Bolha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1" name=""/>
          <p:cNvSpPr/>
          <p:nvPr/>
        </p:nvSpPr>
        <p:spPr>
          <a:xfrm>
            <a:off x="480960" y="1731960"/>
            <a:ext cx="8229600" cy="45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984240" y="0"/>
            <a:ext cx="7174080" cy="577440"/>
            <a:chOff x="984240" y="0"/>
            <a:chExt cx="7174080" cy="577440"/>
          </a:xfrm>
        </p:grpSpPr>
        <p:sp>
          <p:nvSpPr>
            <p:cNvPr id="123" name=""/>
            <p:cNvSpPr/>
            <p:nvPr/>
          </p:nvSpPr>
          <p:spPr>
            <a:xfrm>
              <a:off x="1011240" y="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984240" y="1548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Ordenação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482760" y="1928880"/>
            <a:ext cx="812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917640" y="1855800"/>
            <a:ext cx="5437080" cy="3106440"/>
            <a:chOff x="917640" y="1855800"/>
            <a:chExt cx="5437080" cy="3106440"/>
          </a:xfrm>
        </p:grpSpPr>
        <p:sp>
          <p:nvSpPr>
            <p:cNvPr id="127" name=""/>
            <p:cNvSpPr/>
            <p:nvPr/>
          </p:nvSpPr>
          <p:spPr>
            <a:xfrm>
              <a:off x="917640" y="1855800"/>
              <a:ext cx="5437080" cy="310644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035000" y="1992240"/>
              <a:ext cx="5200560" cy="286956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cc00"/>
                  </a:solidFill>
                  <a:latin typeface="Arial"/>
                </a:rPr>
                <a:t>Passos para ordenação: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cc00"/>
                  </a:solidFill>
                  <a:latin typeface="Arial"/>
                </a:rPr>
                <a:t>Inicial </a:t>
              </a:r>
              <a:r>
                <a:rPr b="1" lang="pt-BR" sz="2400" spc="-1" strike="noStrike">
                  <a:solidFill>
                    <a:srgbClr val="ffcc00"/>
                  </a:solidFill>
                  <a:latin typeface="Arial"/>
                </a:rPr>
                <a:t>	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cc00"/>
                  </a:solidFill>
                  <a:latin typeface="Arial"/>
                </a:rPr>
                <a:t>Passo 1</a:t>
              </a:r>
              <a:r>
                <a:rPr b="1" lang="pt-BR" sz="2400" spc="-1" strike="noStrike">
                  <a:solidFill>
                    <a:srgbClr val="ffcc00"/>
                  </a:solidFill>
                  <a:latin typeface="Arial"/>
                </a:rPr>
                <a:t>	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cc00"/>
                  </a:solidFill>
                  <a:latin typeface="Arial"/>
                </a:rPr>
                <a:t>Passo 2</a:t>
              </a:r>
              <a:r>
                <a:rPr b="1" lang="pt-BR" sz="2400" spc="-1" strike="noStrike">
                  <a:solidFill>
                    <a:srgbClr val="ffcc00"/>
                  </a:solidFill>
                  <a:latin typeface="Arial"/>
                </a:rPr>
                <a:t>	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cc00"/>
                  </a:solidFill>
                  <a:latin typeface="Arial"/>
                </a:rPr>
                <a:t>Passo 3</a:t>
              </a:r>
              <a:r>
                <a:rPr b="1" lang="pt-BR" sz="2400" spc="-1" strike="noStrike">
                  <a:solidFill>
                    <a:srgbClr val="ffcc00"/>
                  </a:solidFill>
                  <a:latin typeface="Arial"/>
                </a:rPr>
                <a:t>	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57EE-513C-49F0-B581-A77BE3899B1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561960" y="801720"/>
            <a:ext cx="7635960" cy="5824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44600" indent="-44460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cc00"/>
                </a:solidFill>
                <a:latin typeface="Penguin"/>
              </a:rPr>
              <a:t>Ordenação Bolha (mais simples)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"/>
          <p:cNvSpPr/>
          <p:nvPr/>
        </p:nvSpPr>
        <p:spPr>
          <a:xfrm>
            <a:off x="480960" y="1731960"/>
            <a:ext cx="8229600" cy="45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984240" y="66600"/>
            <a:ext cx="7174080" cy="577440"/>
            <a:chOff x="984240" y="66600"/>
            <a:chExt cx="7174080" cy="577440"/>
          </a:xfrm>
        </p:grpSpPr>
        <p:sp>
          <p:nvSpPr>
            <p:cNvPr id="132" name=""/>
            <p:cNvSpPr/>
            <p:nvPr/>
          </p:nvSpPr>
          <p:spPr>
            <a:xfrm>
              <a:off x="1011240" y="666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984240" y="8208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Ordenação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82760" y="1928880"/>
            <a:ext cx="812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062000" y="1670040"/>
            <a:ext cx="6983280" cy="4770360"/>
            <a:chOff x="1062000" y="1670040"/>
            <a:chExt cx="6983280" cy="4770360"/>
          </a:xfrm>
        </p:grpSpPr>
        <p:sp>
          <p:nvSpPr>
            <p:cNvPr id="136" name=""/>
            <p:cNvSpPr/>
            <p:nvPr/>
          </p:nvSpPr>
          <p:spPr>
            <a:xfrm>
              <a:off x="1062000" y="1670040"/>
              <a:ext cx="6983280" cy="477036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41640" y="1890720"/>
              <a:ext cx="33307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900" spc="-1" strike="noStrike">
                  <a:solidFill>
                    <a:srgbClr val="000000"/>
                  </a:solidFill>
                  <a:latin typeface="Courier New"/>
                </a:rPr>
                <a:t>/* A ordenação Bolha */</a:t>
              </a:r>
              <a:endParaRPr b="0" lang="en-US" sz="1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634640" y="1890720"/>
              <a:ext cx="1454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9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45240" y="2160720"/>
              <a:ext cx="1454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9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44520" y="2432160"/>
              <a:ext cx="724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900" spc="-1" strike="noStrike">
                  <a:solidFill>
                    <a:srgbClr val="000000"/>
                  </a:solidFill>
                  <a:latin typeface="Courier New"/>
                </a:rPr>
                <a:t>void </a:t>
              </a:r>
              <a:endParaRPr b="0" lang="en-US" sz="1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81080" y="2432160"/>
              <a:ext cx="869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900" spc="-1" strike="noStrike">
                  <a:solidFill>
                    <a:srgbClr val="000000"/>
                  </a:solidFill>
                  <a:latin typeface="Courier New"/>
                </a:rPr>
                <a:t>bubble</a:t>
              </a:r>
              <a:endParaRPr b="0" lang="en-US" sz="1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862720" y="2432160"/>
              <a:ext cx="33307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900" spc="-1" strike="noStrike">
                  <a:solidFill>
                    <a:srgbClr val="000000"/>
                  </a:solidFill>
                  <a:latin typeface="Courier New"/>
                </a:rPr>
                <a:t>(char *item, int count)</a:t>
              </a:r>
              <a:endParaRPr b="0" lang="en-US" sz="1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257520" y="2373480"/>
              <a:ext cx="63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9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45240" y="2701800"/>
              <a:ext cx="1454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900" spc="-1" strike="noStrike">
                  <a:solidFill>
                    <a:srgbClr val="000000"/>
                  </a:solidFill>
                  <a:latin typeface="Courier New"/>
                </a:rPr>
                <a:t>{</a:t>
              </a:r>
              <a:endParaRPr b="0" lang="en-US" sz="1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395000" y="2643120"/>
              <a:ext cx="63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9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244880" y="2971800"/>
              <a:ext cx="435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9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endParaRPr b="0" lang="en-US" sz="1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683720" y="2971800"/>
              <a:ext cx="27514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9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pt-BR" sz="1900" spc="-1" strike="noStrike">
                  <a:solidFill>
                    <a:srgbClr val="000000"/>
                  </a:solidFill>
                  <a:latin typeface="Courier New"/>
                </a:rPr>
                <a:t>register int a, b;</a:t>
              </a:r>
              <a:endParaRPr b="0" lang="en-US" sz="1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489200" y="2913120"/>
              <a:ext cx="63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9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44880" y="3241800"/>
              <a:ext cx="435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9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endParaRPr b="0" lang="en-US" sz="1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84080" y="3241800"/>
              <a:ext cx="2462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9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pt-BR" sz="1900" spc="-1" strike="noStrike">
                  <a:solidFill>
                    <a:srgbClr val="000000"/>
                  </a:solidFill>
                  <a:latin typeface="Courier New"/>
                </a:rPr>
                <a:t>register char t;</a:t>
              </a:r>
              <a:endParaRPr b="0" lang="en-US" sz="1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193640" y="3183120"/>
              <a:ext cx="63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9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244880" y="3513240"/>
              <a:ext cx="435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9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endParaRPr b="0" lang="en-US" sz="1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83000" y="3513240"/>
              <a:ext cx="33307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9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pt-BR" sz="1900" spc="-1" strike="noStrike">
                  <a:solidFill>
                    <a:srgbClr val="000000"/>
                  </a:solidFill>
                  <a:latin typeface="Courier New"/>
                </a:rPr>
                <a:t>for(a=1; a&lt;count; ++a)</a:t>
              </a:r>
              <a:endParaRPr b="0" lang="en-US" sz="1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078160" y="3454560"/>
              <a:ext cx="63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9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244520" y="3782880"/>
              <a:ext cx="1014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900" spc="-1" strike="noStrike">
                  <a:solidFill>
                    <a:srgbClr val="000000"/>
                  </a:solidFill>
                  <a:latin typeface="Courier New"/>
                </a:rPr>
                <a:t>       </a:t>
              </a:r>
              <a:endParaRPr b="0" lang="en-US" sz="1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275560" y="3782880"/>
              <a:ext cx="17380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9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pt-BR" sz="1900" spc="-1" strike="noStrike">
                  <a:solidFill>
                    <a:srgbClr val="000000"/>
                  </a:solidFill>
                  <a:latin typeface="Courier New"/>
                </a:rPr>
                <a:t>for(b=count</a:t>
              </a:r>
              <a:endParaRPr b="0" lang="en-US" sz="1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45680" y="3782880"/>
              <a:ext cx="1454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900" spc="-1" strike="noStrike">
                  <a:solidFill>
                    <a:srgbClr val="000000"/>
                  </a:solidFill>
                  <a:latin typeface="Courier New"/>
                </a:rPr>
                <a:t>-</a:t>
              </a:r>
              <a:endParaRPr b="0" lang="en-US" sz="1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190760" y="3782880"/>
              <a:ext cx="1014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900" spc="-1" strike="noStrike">
                  <a:solidFill>
                    <a:srgbClr val="000000"/>
                  </a:solidFill>
                  <a:latin typeface="Courier New"/>
                </a:rPr>
                <a:t>1;b&gt;=a;</a:t>
              </a:r>
              <a:endParaRPr b="0" lang="en-US" sz="1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223600" y="3782880"/>
              <a:ext cx="29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900" spc="-1" strike="noStrike">
                  <a:solidFill>
                    <a:srgbClr val="000000"/>
                  </a:solidFill>
                  <a:latin typeface="Courier New"/>
                </a:rPr>
                <a:t>--</a:t>
              </a:r>
              <a:endParaRPr b="0" lang="en-US" sz="1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518440" y="3782880"/>
              <a:ext cx="435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900" spc="-1" strike="noStrike">
                  <a:solidFill>
                    <a:srgbClr val="000000"/>
                  </a:solidFill>
                  <a:latin typeface="Courier New"/>
                </a:rPr>
                <a:t>b) </a:t>
              </a:r>
              <a:endParaRPr b="0" lang="en-US" sz="1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960160" y="3782880"/>
              <a:ext cx="1454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900" spc="-1" strike="noStrike">
                  <a:solidFill>
                    <a:srgbClr val="000000"/>
                  </a:solidFill>
                  <a:latin typeface="Courier New"/>
                </a:rPr>
                <a:t>{</a:t>
              </a:r>
              <a:endParaRPr b="0" lang="en-US" sz="1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109920" y="3724200"/>
              <a:ext cx="63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9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243800" y="4052880"/>
              <a:ext cx="1593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900" spc="-1" strike="noStrike">
                  <a:solidFill>
                    <a:srgbClr val="000000"/>
                  </a:solidFill>
                  <a:latin typeface="Courier New"/>
                </a:rPr>
                <a:t>           </a:t>
              </a:r>
              <a:endParaRPr b="0" lang="en-US" sz="1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864520" y="4052880"/>
              <a:ext cx="1593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9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pt-BR" sz="1900" spc="-1" strike="noStrike">
                  <a:solidFill>
                    <a:srgbClr val="000000"/>
                  </a:solidFill>
                  <a:latin typeface="Courier New"/>
                </a:rPr>
                <a:t>if(item[b </a:t>
              </a:r>
              <a:endParaRPr b="0" lang="en-US" sz="1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487040" y="4052880"/>
              <a:ext cx="1454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900" spc="-1" strike="noStrike">
                  <a:solidFill>
                    <a:srgbClr val="000000"/>
                  </a:solidFill>
                  <a:latin typeface="Courier New"/>
                </a:rPr>
                <a:t>—</a:t>
              </a:r>
              <a:endParaRPr b="0" lang="en-US" sz="1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632840" y="4052880"/>
              <a:ext cx="20275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9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pt-BR" sz="1900" spc="-1" strike="noStrike">
                  <a:solidFill>
                    <a:srgbClr val="000000"/>
                  </a:solidFill>
                  <a:latin typeface="Courier New"/>
                </a:rPr>
                <a:t>1]&gt;item[b]) {</a:t>
              </a:r>
              <a:endParaRPr b="0" lang="en-US" sz="1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698880" y="3994200"/>
              <a:ext cx="63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9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776640" y="3994200"/>
              <a:ext cx="63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9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247400" y="4264200"/>
              <a:ext cx="63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9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949040" y="4264200"/>
              <a:ext cx="63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9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657160" y="4264200"/>
              <a:ext cx="63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9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358800" y="4264200"/>
              <a:ext cx="63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9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54680" y="4322880"/>
              <a:ext cx="362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9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pt-BR" sz="1900" spc="-1" strike="noStrike">
                  <a:solidFill>
                    <a:srgbClr val="000000"/>
                  </a:solidFill>
                  <a:latin typeface="Courier New"/>
                </a:rPr>
                <a:t>/* troca os elementos */</a:t>
              </a:r>
              <a:endParaRPr b="0" lang="en-US" sz="1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742880" y="4322880"/>
              <a:ext cx="1454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9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243440" y="4594320"/>
              <a:ext cx="18828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900" spc="-1" strike="noStrike">
                  <a:solidFill>
                    <a:srgbClr val="000000"/>
                  </a:solidFill>
                  <a:latin typeface="Courier New"/>
                </a:rPr>
                <a:t>             </a:t>
              </a:r>
              <a:endParaRPr b="0" lang="en-US" sz="1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161520" y="4594320"/>
              <a:ext cx="1454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9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309120" y="4594320"/>
              <a:ext cx="1454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9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454920" y="4594320"/>
              <a:ext cx="1454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9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601800" y="4594320"/>
              <a:ext cx="1158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900" spc="-1" strike="noStrike">
                  <a:solidFill>
                    <a:srgbClr val="000000"/>
                  </a:solidFill>
                  <a:latin typeface="Courier New"/>
                </a:rPr>
                <a:t>t=item[b</a:t>
              </a:r>
              <a:endParaRPr b="0" lang="en-US" sz="1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782240" y="4594320"/>
              <a:ext cx="1454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900" spc="-1" strike="noStrike">
                  <a:solidFill>
                    <a:srgbClr val="000000"/>
                  </a:solidFill>
                  <a:latin typeface="Courier New"/>
                </a:rPr>
                <a:t>-</a:t>
              </a:r>
              <a:endParaRPr b="0" lang="en-US" sz="1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929840" y="4594320"/>
              <a:ext cx="1454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9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076000" y="4594320"/>
              <a:ext cx="29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900" spc="-1" strike="noStrike">
                  <a:solidFill>
                    <a:srgbClr val="000000"/>
                  </a:solidFill>
                  <a:latin typeface="Courier New"/>
                </a:rPr>
                <a:t>];</a:t>
              </a:r>
              <a:endParaRPr b="0" lang="en-US" sz="1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373360" y="4535640"/>
              <a:ext cx="63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9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243080" y="4863960"/>
              <a:ext cx="2172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900" spc="-1" strike="noStrike">
                  <a:solidFill>
                    <a:srgbClr val="000000"/>
                  </a:solidFill>
                  <a:latin typeface="Courier New"/>
                </a:rPr>
                <a:t>               </a:t>
              </a:r>
              <a:endParaRPr b="0" lang="en-US" sz="1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54920" y="4863960"/>
              <a:ext cx="1454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9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601800" y="4863960"/>
              <a:ext cx="869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900" spc="-1" strike="noStrike">
                  <a:solidFill>
                    <a:srgbClr val="000000"/>
                  </a:solidFill>
                  <a:latin typeface="Courier New"/>
                </a:rPr>
                <a:t>item[b</a:t>
              </a:r>
              <a:endParaRPr b="0" lang="en-US" sz="1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487040" y="4863960"/>
              <a:ext cx="1454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900" spc="-1" strike="noStrike">
                  <a:solidFill>
                    <a:srgbClr val="000000"/>
                  </a:solidFill>
                  <a:latin typeface="Courier New"/>
                </a:rPr>
                <a:t>—</a:t>
              </a:r>
              <a:endParaRPr b="0" lang="en-US" sz="1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633200" y="4863960"/>
              <a:ext cx="1593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900" spc="-1" strike="noStrike">
                  <a:solidFill>
                    <a:srgbClr val="000000"/>
                  </a:solidFill>
                  <a:latin typeface="Courier New"/>
                </a:rPr>
                <a:t>1]=item[b];</a:t>
              </a:r>
              <a:endParaRPr b="0" lang="en-US" sz="1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257520" y="4805280"/>
              <a:ext cx="63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9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243080" y="5133960"/>
              <a:ext cx="2172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900" spc="-1" strike="noStrike">
                  <a:solidFill>
                    <a:srgbClr val="000000"/>
                  </a:solidFill>
                  <a:latin typeface="Courier New"/>
                </a:rPr>
                <a:t>               </a:t>
              </a:r>
              <a:endParaRPr b="0" lang="en-US" sz="1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453480" y="5133960"/>
              <a:ext cx="1593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9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pt-BR" sz="1900" spc="-1" strike="noStrike">
                  <a:solidFill>
                    <a:srgbClr val="000000"/>
                  </a:solidFill>
                  <a:latin typeface="Courier New"/>
                </a:rPr>
                <a:t>item[b]=t;</a:t>
              </a:r>
              <a:endParaRPr b="0" lang="en-US" sz="1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078160" y="5075280"/>
              <a:ext cx="63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9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243800" y="5403960"/>
              <a:ext cx="1593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900" spc="-1" strike="noStrike">
                  <a:solidFill>
                    <a:srgbClr val="000000"/>
                  </a:solidFill>
                  <a:latin typeface="Courier New"/>
                </a:rPr>
                <a:t>           </a:t>
              </a:r>
              <a:endParaRPr b="0" lang="en-US" sz="1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865960" y="5403960"/>
              <a:ext cx="29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9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pt-BR" sz="19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3320" y="5345280"/>
              <a:ext cx="63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9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4520" y="5675400"/>
              <a:ext cx="1014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900" spc="-1" strike="noStrike">
                  <a:solidFill>
                    <a:srgbClr val="000000"/>
                  </a:solidFill>
                  <a:latin typeface="Courier New"/>
                </a:rPr>
                <a:t>       </a:t>
              </a:r>
              <a:endParaRPr b="0" lang="en-US" sz="1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277000" y="5675400"/>
              <a:ext cx="29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9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pt-BR" sz="19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572920" y="5616720"/>
              <a:ext cx="63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9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245240" y="5945040"/>
              <a:ext cx="1454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9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392840" y="5945040"/>
              <a:ext cx="1454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9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AFD8-49AA-4354-B569-1A781340510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254160" y="977760"/>
            <a:ext cx="2687400" cy="5763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42880" indent="-54288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cc00"/>
                </a:solidFill>
                <a:latin typeface="Penguin"/>
              </a:rPr>
              <a:t>Exemplo: 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2" name=""/>
          <p:cNvSpPr/>
          <p:nvPr/>
        </p:nvSpPr>
        <p:spPr>
          <a:xfrm>
            <a:off x="703440" y="1909800"/>
            <a:ext cx="7083360" cy="43545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3" name=""/>
          <p:cNvSpPr/>
          <p:nvPr/>
        </p:nvSpPr>
        <p:spPr>
          <a:xfrm>
            <a:off x="480960" y="1965240"/>
            <a:ext cx="8229600" cy="45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984240" y="66600"/>
            <a:ext cx="7174080" cy="577440"/>
            <a:chOff x="984240" y="66600"/>
            <a:chExt cx="7174080" cy="577440"/>
          </a:xfrm>
        </p:grpSpPr>
        <p:sp>
          <p:nvSpPr>
            <p:cNvPr id="205" name=""/>
            <p:cNvSpPr/>
            <p:nvPr/>
          </p:nvSpPr>
          <p:spPr>
            <a:xfrm>
              <a:off x="1011240" y="666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984240" y="8208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Ordenação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482760" y="1928880"/>
            <a:ext cx="812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996840" y="2174760"/>
            <a:ext cx="8437680" cy="3773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5BF2-41D9-499B-BC47-02A5AB777BB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480960" y="1731960"/>
            <a:ext cx="8229600" cy="45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0" name=""/>
          <p:cNvSpPr/>
          <p:nvPr/>
        </p:nvSpPr>
        <p:spPr>
          <a:xfrm>
            <a:off x="482760" y="1928880"/>
            <a:ext cx="812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1" name=""/>
          <p:cNvSpPr/>
          <p:nvPr/>
        </p:nvSpPr>
        <p:spPr>
          <a:xfrm>
            <a:off x="655560" y="2198520"/>
            <a:ext cx="8078760" cy="32814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Número de comparações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½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pt-BR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58920" indent="-35892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marL="358920" indent="-35892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Número de trocas para o melhor caso: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58920" indent="-35892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Número de trocas para o caso médio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¾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pt-BR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58920" indent="-35892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marL="358920" indent="-35892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Número de trocas para o pior caso: </a:t>
            </a:r>
            <a:r>
              <a:rPr b="1" lang="pt-BR" sz="2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pt-BR" sz="2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pt-BR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58920" indent="-3589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2" name=""/>
          <p:cNvSpPr/>
          <p:nvPr/>
        </p:nvSpPr>
        <p:spPr>
          <a:xfrm>
            <a:off x="330120" y="1384200"/>
            <a:ext cx="7927920" cy="39060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cc00"/>
                </a:solidFill>
                <a:latin typeface="Penguin"/>
              </a:rPr>
              <a:t> </a:t>
            </a:r>
            <a:r>
              <a:rPr b="1" lang="pt-PT" sz="3200" spc="-1" strike="noStrike">
                <a:solidFill>
                  <a:srgbClr val="ffcc00"/>
                </a:solidFill>
                <a:latin typeface="Penguin"/>
              </a:rPr>
              <a:t>Ordenação Bolha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984240" y="0"/>
            <a:ext cx="7174080" cy="577440"/>
            <a:chOff x="984240" y="0"/>
            <a:chExt cx="7174080" cy="577440"/>
          </a:xfrm>
        </p:grpSpPr>
        <p:sp>
          <p:nvSpPr>
            <p:cNvPr id="214" name=""/>
            <p:cNvSpPr/>
            <p:nvPr/>
          </p:nvSpPr>
          <p:spPr>
            <a:xfrm>
              <a:off x="1011240" y="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984240" y="1548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Ordenação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4A9A-83B5-4763-AB33-032C6D9FFB8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06:02Z</dcterms:created>
  <dc:creator>Joseana/Eustáquio</dc:creator>
  <dc:description/>
  <dc:language>en-US</dc:language>
  <cp:lastModifiedBy>Particular</cp:lastModifiedBy>
  <cp:lastPrinted>2002-02-17T19:14:27Z</cp:lastPrinted>
  <dcterms:modified xsi:type="dcterms:W3CDTF">2003-10-16T16:54:01Z</dcterms:modified>
  <cp:revision>410</cp:revision>
  <dc:subject/>
  <dc:title>Técnicas de Programação</dc:title>
</cp:coreProperties>
</file>