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9270-909F-4393-8FC3-6A5027C2F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4A88-5BCC-4B6A-A2B9-E94033670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ADE9-2A69-41A5-B43E-91E8061B6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DA56-4061-41AC-90C1-DEF661C97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6FB4-B564-410D-8A8C-C2A87A43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01134-4740-4F3F-923E-8B6F15D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6642E-163A-47FD-998C-721AE1FA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11AB-BBD1-4D6D-868C-43DFEF6E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20365-4B19-43A0-AA22-2CA86428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ECAB9-40C1-43AA-931D-27C336A0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AAC45-969E-4815-8283-2CD535D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3ED6-EAB8-40E8-ADA3-783ACC998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FF8DF-36F6-4B46-A9DD-EA5BF18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55C24-3807-46B7-BD78-F13A946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52858-3FA8-40CE-9B65-75359F7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C45A-3C85-4118-802E-EFF89773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A3E16-0DEC-4D5C-9EC6-0386E4C6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34E6-C095-43B6-9D54-C16AC304F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D6D4-2144-4467-84BB-68D9921F9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8D93-75BF-4108-BE18-93D749BBF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5EFB-AE44-4354-9167-5067502E0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4476-BB97-4360-9697-8C13E4A27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83AA-CA5B-44CB-A88C-B00B84DFB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F194-5C94-4AE8-9218-985F560B0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1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62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69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202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519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629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Num" idx="1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C2FC-DAE1-4FBA-BDD7-186721FC9F36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791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952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5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959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7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992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309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419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0E56-37C9-4D34-BCB8-E433B041541A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1574640" y="4140360"/>
            <a:ext cx="5992920" cy="1535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2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7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Estruturas em C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463680" y="2055960"/>
            <a:ext cx="8196120" cy="4109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1" name=""/>
          <p:cNvSpPr/>
          <p:nvPr/>
        </p:nvSpPr>
        <p:spPr>
          <a:xfrm>
            <a:off x="592200" y="2077920"/>
            <a:ext cx="8083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egister int 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 nome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s(info_adr.nome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a rua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s(info_adr.rua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o CEP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lu",&amp;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O nome, a rua e o CEP digitados foram %s, %s e %lu\n\n", info_adr.nome, info_adr.rua, 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2" name=""/>
          <p:cNvSpPr/>
          <p:nvPr/>
        </p:nvSpPr>
        <p:spPr>
          <a:xfrm>
            <a:off x="231840" y="938160"/>
            <a:ext cx="8553240" cy="609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Substitua o trecho equivalente de código do programa anterior pelo apresentado abaixo e informe o que faz o programa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3" name=""/>
          <p:cNvSpPr/>
          <p:nvPr/>
        </p:nvSpPr>
        <p:spPr>
          <a:xfrm>
            <a:off x="973080" y="8892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F939-ED02-4855-B42B-3F7D71AB83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/>
          </p:nvPr>
        </p:nvSpPr>
        <p:spPr>
          <a:xfrm>
            <a:off x="444240" y="4766760"/>
            <a:ext cx="839628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uns em planilhas de cálculo tipo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tu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nas quais se armazena uma grande quantidade de dados encad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42800" y="716040"/>
            <a:ext cx="546732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atrizes de Estruturas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50800" y="1422360"/>
            <a:ext cx="7362720" cy="3343320"/>
            <a:chOff x="550800" y="1422360"/>
            <a:chExt cx="7362720" cy="3343320"/>
          </a:xfrm>
        </p:grpSpPr>
        <p:sp>
          <p:nvSpPr>
            <p:cNvPr id="1637" name=""/>
            <p:cNvSpPr/>
            <p:nvPr/>
          </p:nvSpPr>
          <p:spPr>
            <a:xfrm>
              <a:off x="806400" y="1422360"/>
              <a:ext cx="7107120" cy="3157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0800" y="1434960"/>
              <a:ext cx="7362720" cy="33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info_adr[100]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cria 100 conjuntos de variáveis que sao organizadas como definido na estrutura endereco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lu", info_adr[2].cep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na tela o cep da estrutura 3 da matriz de 100 estruturas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41C4-8146-467D-974D-613391C65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0" name=""/>
          <p:cNvGrpSpPr/>
          <p:nvPr/>
        </p:nvGrpSpPr>
        <p:grpSpPr>
          <a:xfrm>
            <a:off x="217440" y="0"/>
            <a:ext cx="4832280" cy="6561000"/>
            <a:chOff x="217440" y="0"/>
            <a:chExt cx="4832280" cy="6561000"/>
          </a:xfrm>
        </p:grpSpPr>
        <p:sp>
          <p:nvSpPr>
            <p:cNvPr id="1641" name=""/>
            <p:cNvSpPr/>
            <p:nvPr/>
          </p:nvSpPr>
          <p:spPr>
            <a:xfrm>
              <a:off x="217440" y="0"/>
              <a:ext cx="4832280" cy="6561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4520" y="155520"/>
              <a:ext cx="4492440" cy="64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include &lt;con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define TMAX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void main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struct 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nome[3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rua[4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cidade[2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estado[3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cep[3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info_adr[TMAX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register int t, i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for(i=0;i&lt;TMAX;i++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o nome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nome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uma rua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rua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o CEP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cep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5394240" y="404640"/>
            <a:ext cx="3365640" cy="562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4" name=""/>
          <p:cNvSpPr/>
          <p:nvPr/>
        </p:nvSpPr>
        <p:spPr>
          <a:xfrm>
            <a:off x="5248440" y="995400"/>
            <a:ext cx="3662280" cy="1801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06280" y="3036960"/>
            <a:ext cx="8599320" cy="1587960"/>
            <a:chOff x="206280" y="3036960"/>
            <a:chExt cx="8599320" cy="1587960"/>
          </a:xfrm>
        </p:grpSpPr>
        <p:sp>
          <p:nvSpPr>
            <p:cNvPr id="1646" name=""/>
            <p:cNvSpPr/>
            <p:nvPr/>
          </p:nvSpPr>
          <p:spPr>
            <a:xfrm>
              <a:off x="206280" y="3036960"/>
              <a:ext cx="8578800" cy="1430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6920" y="3159360"/>
              <a:ext cx="8518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for(i=0;i&lt;TMAX;i++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O nome[%d], a rua[%d] e o CEP[%d] digitados foram %s, %s e %s\n", i, i, i, info_adr[i].nome, info_adr[i].rua, info_adr[i].cep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E125-2A4B-4C0B-8B32-7CADB2817D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244440" y="2932200"/>
            <a:ext cx="8578800" cy="2325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9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0" name=""/>
          <p:cNvSpPr/>
          <p:nvPr/>
        </p:nvSpPr>
        <p:spPr>
          <a:xfrm>
            <a:off x="1467000" y="981000"/>
            <a:ext cx="62118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Apontadores e Estrutur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" y="1743120"/>
            <a:ext cx="8229600" cy="974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mbinação destes 2 tipos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simples e geralmente sem problema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2" name=""/>
          <p:cNvSpPr/>
          <p:nvPr/>
        </p:nvSpPr>
        <p:spPr>
          <a:xfrm>
            <a:off x="307800" y="3041640"/>
            <a:ext cx="84726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{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    float x, y, z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} ponto; 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declara a variavel ponto do tipo 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struct coord *aponto;  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apontador para uma variavel qualquer do tipo</a:t>
            </a:r>
            <a:r>
              <a:rPr b="1" i="1" lang="en-US" sz="18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aponto = &amp;ponto;  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aponto aponta para a variável pont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430D-11A9-4C96-9FAB-D55DD51C6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4" name=""/>
          <p:cNvSpPr/>
          <p:nvPr/>
        </p:nvSpPr>
        <p:spPr>
          <a:xfrm>
            <a:off x="1467000" y="981000"/>
            <a:ext cx="62118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Apontadores e Estrutur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5" name=""/>
          <p:cNvSpPr/>
          <p:nvPr/>
        </p:nvSpPr>
        <p:spPr>
          <a:xfrm>
            <a:off x="457200" y="1743120"/>
            <a:ext cx="8229600" cy="974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perador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acesso direto a membros de uma estrutura via apontador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2216160" y="3056040"/>
            <a:ext cx="5116680" cy="1220760"/>
            <a:chOff x="2216160" y="3056040"/>
            <a:chExt cx="5116680" cy="1220760"/>
          </a:xfrm>
        </p:grpSpPr>
        <p:sp>
          <p:nvSpPr>
            <p:cNvPr id="1657" name=""/>
            <p:cNvSpPr/>
            <p:nvPr/>
          </p:nvSpPr>
          <p:spPr>
            <a:xfrm>
              <a:off x="2216160" y="3056040"/>
              <a:ext cx="5073480" cy="1220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8320" y="3193920"/>
              <a:ext cx="502452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aponto -&gt; x = 1.0; 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aponto -&gt; y = -3.1;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D7E0-4035-4FDA-9A0B-C695E12428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9" name=""/>
          <p:cNvGrpSpPr/>
          <p:nvPr/>
        </p:nvGrpSpPr>
        <p:grpSpPr>
          <a:xfrm>
            <a:off x="2122560" y="533520"/>
            <a:ext cx="6804000" cy="5970600"/>
            <a:chOff x="2122560" y="533520"/>
            <a:chExt cx="6804000" cy="5970600"/>
          </a:xfrm>
        </p:grpSpPr>
        <p:sp>
          <p:nvSpPr>
            <p:cNvPr id="1660" name=""/>
            <p:cNvSpPr/>
            <p:nvPr/>
          </p:nvSpPr>
          <p:spPr>
            <a:xfrm>
              <a:off x="2122560" y="533520"/>
              <a:ext cx="6804000" cy="5970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308320" y="641520"/>
              <a:ext cx="6583320" cy="57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/* TESTE DE ESTRUTURA */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conio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stdio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stdlib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ctype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typedef struct 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char  RA[10]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  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nome[40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loat nota[4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 Dados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Dados aluno[7]=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81", “Luana", 8.8, 8.5, 7.8, 7.6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77", “Miguel", 7.8, 7.3, 7.2, 7.1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83", “Diego", 6.9, 6.8, 6.1, 6.3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343", “Gustavo", 5.9, 5.8, 5.4, 5.2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213016", “Lorena", 7.7, 7.6, 7.2, 7.1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50", “Raissa", 8.8, 8.5, 8.3, 8.2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9923068", “Italo", 6.7, 6.4, 6.1, 6.0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2111400" y="954000"/>
            <a:ext cx="6804000" cy="5978880"/>
            <a:chOff x="2111400" y="954000"/>
            <a:chExt cx="6804000" cy="5978880"/>
          </a:xfrm>
        </p:grpSpPr>
        <p:sp>
          <p:nvSpPr>
            <p:cNvPr id="1663" name=""/>
            <p:cNvSpPr/>
            <p:nvPr/>
          </p:nvSpPr>
          <p:spPr>
            <a:xfrm>
              <a:off x="2111400" y="954000"/>
              <a:ext cx="6804000" cy="5904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40280" y="1136520"/>
              <a:ext cx="6583320" cy="57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void main(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int i,j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loat soma[4]={0,0,0,0}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 ("\n Notas individuais, medias de cada aluno, de exercicios e geral\n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 ("\n #\tRA\t       Nome               Nota1 Nota2 Nota3 Nota4 Media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i=0; i&lt;=6;i=i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 %d   %-10s   %-20s     %.1f   %.1f   %.1f   %.1f   %.1f"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i, aluno[i].RA, aluno[i].nome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aluno[i].nota[0], aluno[i].nota[1], aluno[i].nota[2], aluno[i].nota[3]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(aluno[i].nota[0]+aluno[i].nota[1]+aluno[i].nota[2]+aluno[i].nota[3])/4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152280" y="728640"/>
            <a:ext cx="2019600" cy="56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42920" y="2664000"/>
            <a:ext cx="8784720" cy="3313080"/>
            <a:chOff x="142920" y="2664000"/>
            <a:chExt cx="8784720" cy="3313080"/>
          </a:xfrm>
        </p:grpSpPr>
        <p:sp>
          <p:nvSpPr>
            <p:cNvPr id="1667" name=""/>
            <p:cNvSpPr/>
            <p:nvPr/>
          </p:nvSpPr>
          <p:spPr>
            <a:xfrm>
              <a:off x="142920" y="2664000"/>
              <a:ext cx="8784720" cy="3313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9600" y="2774160"/>
              <a:ext cx="849888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j=0;j&lt;=3; j=j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i=0;i&lt;=6; i=i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soma[j]=soma[j]+ aluno[i].nota[j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\n\t Medias por exercicio:        %.1f   %.1f   %.1f   %.1f   %.1f", soma[0]/7,soma[1]/7,soma[2]/7,soma[3]/7,(soma[0]+soma[1]+soma[2]+soma[3])/28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 Fim. Digite qqr tecla.");getch(); printf(" Feche a janela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9" name=""/>
          <p:cNvSpPr/>
          <p:nvPr/>
        </p:nvSpPr>
        <p:spPr>
          <a:xfrm>
            <a:off x="1860480" y="-4752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FA42-FC8C-407A-B0FF-4CE1CB5B5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0" name=""/>
          <p:cNvGrpSpPr/>
          <p:nvPr/>
        </p:nvGrpSpPr>
        <p:grpSpPr>
          <a:xfrm>
            <a:off x="1028880" y="2043000"/>
            <a:ext cx="6308640" cy="4129560"/>
            <a:chOff x="1028880" y="2043000"/>
            <a:chExt cx="6308640" cy="4129560"/>
          </a:xfrm>
        </p:grpSpPr>
        <p:sp>
          <p:nvSpPr>
            <p:cNvPr id="1671" name=""/>
            <p:cNvSpPr/>
            <p:nvPr/>
          </p:nvSpPr>
          <p:spPr>
            <a:xfrm>
              <a:off x="1028880" y="2043000"/>
              <a:ext cx="6308640" cy="3966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199160" y="2114640"/>
              <a:ext cx="610560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#include &lt;con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truct relogio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hora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minuto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segundo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display(struct relogio *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update(struct relogio *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delay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4" name=""/>
          <p:cNvSpPr/>
          <p:nvPr/>
        </p:nvSpPr>
        <p:spPr>
          <a:xfrm>
            <a:off x="743040" y="690480"/>
            <a:ext cx="6272280" cy="1040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400" spc="-1" strike="noStrike">
                <a:solidFill>
                  <a:srgbClr val="ffff99"/>
                </a:solidFill>
                <a:latin typeface="Arial"/>
              </a:rPr>
              <a:t>O que faz o programa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21D6-788A-4BFA-B78D-A390FC9D1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120680" y="1452600"/>
            <a:ext cx="4518000" cy="4835520"/>
            <a:chOff x="1120680" y="1452600"/>
            <a:chExt cx="4518000" cy="4835520"/>
          </a:xfrm>
        </p:grpSpPr>
        <p:sp>
          <p:nvSpPr>
            <p:cNvPr id="1677" name=""/>
            <p:cNvSpPr/>
            <p:nvPr/>
          </p:nvSpPr>
          <p:spPr>
            <a:xfrm>
              <a:off x="1120680" y="1452600"/>
              <a:ext cx="4518000" cy="4835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43800" y="1538640"/>
              <a:ext cx="437148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main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truct relogio tempo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i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clrscr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hora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minut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segund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for(;;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update(&amp;tempo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isplay(&amp;tempo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5C16-D536-4ACC-AE62-696EDF092B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1085760" y="1490760"/>
            <a:ext cx="6423120" cy="4500360"/>
            <a:chOff x="1085760" y="1490760"/>
            <a:chExt cx="6423120" cy="4500360"/>
          </a:xfrm>
        </p:grpSpPr>
        <p:sp>
          <p:nvSpPr>
            <p:cNvPr id="1680" name=""/>
            <p:cNvSpPr/>
            <p:nvPr/>
          </p:nvSpPr>
          <p:spPr>
            <a:xfrm>
              <a:off x="1085760" y="1490760"/>
              <a:ext cx="6423120" cy="4500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259280" y="1572120"/>
              <a:ext cx="62164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update(struct relogio *t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segundo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segundos==60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segund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minuto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minutos==60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minut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hora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horas==24) t-&gt;horas = 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elay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7382F-3D8E-4C54-A9EA-0CB44E2D02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"/>
          <p:cNvGrpSpPr/>
          <p:nvPr/>
        </p:nvGrpSpPr>
        <p:grpSpPr>
          <a:xfrm>
            <a:off x="590400" y="1757520"/>
            <a:ext cx="7223040" cy="3966840"/>
            <a:chOff x="590400" y="1757520"/>
            <a:chExt cx="7223040" cy="3966840"/>
          </a:xfrm>
        </p:grpSpPr>
        <p:sp>
          <p:nvSpPr>
            <p:cNvPr id="1684" name=""/>
            <p:cNvSpPr/>
            <p:nvPr/>
          </p:nvSpPr>
          <p:spPr>
            <a:xfrm>
              <a:off x="590400" y="1757520"/>
              <a:ext cx="7223040" cy="3966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7320" y="1829160"/>
              <a:ext cx="69890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display(struct relogio *t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:", t-&gt;hora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:", t-&gt;minuto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\n", t-&gt;segundo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delay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long int 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for(t=1;t&lt;50000;++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6F04-7412-4CB3-8D50-5F5FB87965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/>
          </p:nvPr>
        </p:nvSpPr>
        <p:spPr>
          <a:xfrm>
            <a:off x="361800" y="1176120"/>
            <a:ext cx="8412480" cy="4198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437040" indent="-437040" algn="just">
              <a:lnSpc>
                <a:spcPct val="105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Times New Roman"/>
              </a:rPr>
              <a:t>Estrutura em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0" algn="just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48320" indent="-437040" algn="just">
              <a:lnSpc>
                <a:spcPct val="105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oleção de variáveis referenciada sob  um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me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integração de informações afin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8320" indent="-437040" algn="just">
              <a:lnSpc>
                <a:spcPct val="105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claração  de estrutura –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riação de variáveis de  estrutur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).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793B-12B5-42AC-8342-BEE59A84FD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973080" y="77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7" name=""/>
          <p:cNvSpPr/>
          <p:nvPr/>
        </p:nvSpPr>
        <p:spPr>
          <a:xfrm>
            <a:off x="254160" y="75708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PT" sz="4800" spc="-1" strike="noStrike">
                <a:solidFill>
                  <a:srgbClr val="ffcc00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8" name=""/>
          <p:cNvSpPr/>
          <p:nvPr/>
        </p:nvSpPr>
        <p:spPr>
          <a:xfrm>
            <a:off x="808200" y="3890880"/>
            <a:ext cx="7920000" cy="568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Nom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- etiqueta da estrutura</a:t>
            </a:r>
            <a:r>
              <a:rPr b="1" lang="pt-BR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  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3265560" y="898560"/>
            <a:ext cx="4167000" cy="2979720"/>
            <a:chOff x="3265560" y="898560"/>
            <a:chExt cx="4167000" cy="2979720"/>
          </a:xfrm>
        </p:grpSpPr>
        <p:sp>
          <p:nvSpPr>
            <p:cNvPr id="1590" name=""/>
            <p:cNvSpPr/>
            <p:nvPr/>
          </p:nvSpPr>
          <p:spPr>
            <a:xfrm>
              <a:off x="3265560" y="89856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365640" y="95076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797040" y="5199120"/>
            <a:ext cx="8018280" cy="1230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claração da variáve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o_ad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o do tipo estrutur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(alocação da memória neste ponto)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1216080" y="4481640"/>
            <a:ext cx="4187880" cy="522000"/>
            <a:chOff x="1216080" y="4481640"/>
            <a:chExt cx="4187880" cy="522000"/>
          </a:xfrm>
        </p:grpSpPr>
        <p:sp>
          <p:nvSpPr>
            <p:cNvPr id="1594" name=""/>
            <p:cNvSpPr/>
            <p:nvPr/>
          </p:nvSpPr>
          <p:spPr>
            <a:xfrm>
              <a:off x="1216080" y="4483080"/>
              <a:ext cx="4187880" cy="520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276560" y="4481640"/>
              <a:ext cx="4024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 info_adr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E9E1-86A2-4E4F-87DF-B2870FD06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254160" y="100800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7" name=""/>
          <p:cNvSpPr/>
          <p:nvPr/>
        </p:nvSpPr>
        <p:spPr>
          <a:xfrm>
            <a:off x="973080" y="77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2933640" y="1017720"/>
            <a:ext cx="4167000" cy="2979720"/>
            <a:chOff x="2933640" y="1017720"/>
            <a:chExt cx="4167000" cy="2979720"/>
          </a:xfrm>
        </p:grpSpPr>
        <p:sp>
          <p:nvSpPr>
            <p:cNvPr id="1599" name=""/>
            <p:cNvSpPr/>
            <p:nvPr/>
          </p:nvSpPr>
          <p:spPr>
            <a:xfrm>
              <a:off x="2933640" y="101772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33720" y="106992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info_adr, binfo, cinfo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01" name="PlaceHolder 1"/>
          <p:cNvSpPr>
            <a:spLocks noGrp="1"/>
          </p:cNvSpPr>
          <p:nvPr>
            <p:ph/>
          </p:nvPr>
        </p:nvSpPr>
        <p:spPr>
          <a:xfrm>
            <a:off x="423720" y="4363560"/>
            <a:ext cx="8296560" cy="1978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locação da memória na declaração da estrutur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finição de um tipo de estrutura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e declaração de variáveis daquele ti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4063-C8A2-4FBA-9810-02D214161F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324000" y="4221000"/>
            <a:ext cx="8496000" cy="2013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upressão da etiqueta quando há apenas uma variável de um determinado tip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claração de uma variável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o_adr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como definida  pela  estrutura  que  a prece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973080" y="100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4" name=""/>
          <p:cNvSpPr/>
          <p:nvPr/>
        </p:nvSpPr>
        <p:spPr>
          <a:xfrm>
            <a:off x="254160" y="103032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2933640" y="1039680"/>
            <a:ext cx="4167000" cy="2979720"/>
            <a:chOff x="2933640" y="1039680"/>
            <a:chExt cx="4167000" cy="2979720"/>
          </a:xfrm>
        </p:grpSpPr>
        <p:sp>
          <p:nvSpPr>
            <p:cNvPr id="1606" name=""/>
            <p:cNvSpPr/>
            <p:nvPr/>
          </p:nvSpPr>
          <p:spPr>
            <a:xfrm>
              <a:off x="2933640" y="103968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33720" y="109188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info_adr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40A6-84DC-493C-A32F-585BF3C0F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9" name=""/>
          <p:cNvSpPr/>
          <p:nvPr/>
        </p:nvSpPr>
        <p:spPr>
          <a:xfrm>
            <a:off x="442800" y="716040"/>
            <a:ext cx="398304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Forma Geral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0" name=""/>
          <p:cNvSpPr/>
          <p:nvPr/>
        </p:nvSpPr>
        <p:spPr>
          <a:xfrm>
            <a:off x="406440" y="4911840"/>
            <a:ext cx="8329680" cy="1379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omissão d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me do tipo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tiquet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) ou da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variáveis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mas não de ambo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0280" y="1647720"/>
            <a:ext cx="5783040" cy="2997360"/>
            <a:chOff x="530280" y="1647720"/>
            <a:chExt cx="5783040" cy="2997360"/>
          </a:xfrm>
        </p:grpSpPr>
        <p:sp>
          <p:nvSpPr>
            <p:cNvPr id="1612" name=""/>
            <p:cNvSpPr/>
            <p:nvPr/>
          </p:nvSpPr>
          <p:spPr>
            <a:xfrm>
              <a:off x="530280" y="1647720"/>
              <a:ext cx="5783040" cy="2997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1640" y="1716120"/>
              <a:ext cx="5586480" cy="28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nome_do_tipo_da_estrutura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1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2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3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N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variáveis_estrutura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5F0C-69C8-407C-9EAC-B1C646639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/>
          </p:nvPr>
        </p:nvSpPr>
        <p:spPr>
          <a:xfrm>
            <a:off x="911160" y="1573200"/>
            <a:ext cx="8028000" cy="982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Referência dos membros da estru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9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me_da_variável_estrutura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me_do_el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973080" y="111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6" name=""/>
          <p:cNvSpPr/>
          <p:nvPr/>
        </p:nvSpPr>
        <p:spPr>
          <a:xfrm>
            <a:off x="1052640" y="259704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Exemplo:</a:t>
            </a:r>
            <a:r>
              <a:rPr b="1" lang="pt-PT" sz="4800" spc="-1" strike="noStrike">
                <a:solidFill>
                  <a:srgbClr val="ffcc00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7" name=""/>
          <p:cNvSpPr/>
          <p:nvPr/>
        </p:nvSpPr>
        <p:spPr>
          <a:xfrm>
            <a:off x="442800" y="826920"/>
            <a:ext cx="398304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perador </a:t>
            </a:r>
            <a:r>
              <a:rPr b="1" lang="pt-PT" sz="6000" spc="-1" strike="noStrike">
                <a:solidFill>
                  <a:srgbClr val="ffffff"/>
                </a:solidFill>
                <a:latin typeface="Penguin"/>
              </a:rPr>
              <a:t>.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37960" y="3348000"/>
            <a:ext cx="8666280" cy="2696760"/>
            <a:chOff x="237960" y="3348000"/>
            <a:chExt cx="8666280" cy="2696760"/>
          </a:xfrm>
        </p:grpSpPr>
        <p:sp>
          <p:nvSpPr>
            <p:cNvPr id="1619" name=""/>
            <p:cNvSpPr/>
            <p:nvPr/>
          </p:nvSpPr>
          <p:spPr>
            <a:xfrm>
              <a:off x="237960" y="3348000"/>
              <a:ext cx="8666280" cy="2528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7360" y="3427200"/>
              <a:ext cx="838836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_adr.cep=91720260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atribui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lu", info_adr.cep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cep na tela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s",info_adr.nome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nom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(t=0;info_adr.nome[t];++t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tchar(info_adr.nome[t]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apresenta caractere por caracter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4AB9-F4C6-4E64-8115-692885921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239760" y="833400"/>
            <a:ext cx="5722920" cy="56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2" name=""/>
          <p:cNvSpPr/>
          <p:nvPr/>
        </p:nvSpPr>
        <p:spPr>
          <a:xfrm>
            <a:off x="6296040" y="1531800"/>
            <a:ext cx="2544840" cy="1897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3" name=""/>
          <p:cNvSpPr/>
          <p:nvPr/>
        </p:nvSpPr>
        <p:spPr>
          <a:xfrm>
            <a:off x="328680" y="739800"/>
            <a:ext cx="55404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nome[3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rua[4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cidade[2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estado[3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signed long int ce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info_ad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egister int 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 nome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s",info_adr.nome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o CEP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lu",&amp;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4" name=""/>
          <p:cNvSpPr/>
          <p:nvPr/>
        </p:nvSpPr>
        <p:spPr>
          <a:xfrm>
            <a:off x="1363680" y="0"/>
            <a:ext cx="6418080" cy="6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5" name=""/>
          <p:cNvSpPr/>
          <p:nvPr/>
        </p:nvSpPr>
        <p:spPr>
          <a:xfrm>
            <a:off x="6116760" y="6067440"/>
            <a:ext cx="865080" cy="345960"/>
          </a:xfrm>
          <a:custGeom>
            <a:avLst/>
            <a:gdLst>
              <a:gd name="textAreaLeft" fmla="*/ 0 w 865080"/>
              <a:gd name="textAreaRight" fmla="*/ 865440 w 8650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DFA2-8846-4429-957E-8D9F9949F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182520" y="1023840"/>
            <a:ext cx="5722920" cy="235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7" name=""/>
          <p:cNvSpPr/>
          <p:nvPr/>
        </p:nvSpPr>
        <p:spPr>
          <a:xfrm>
            <a:off x="6357960" y="1022400"/>
            <a:ext cx="2544840" cy="1896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8" name=""/>
          <p:cNvSpPr/>
          <p:nvPr/>
        </p:nvSpPr>
        <p:spPr>
          <a:xfrm>
            <a:off x="279360" y="1062000"/>
            <a:ext cx="554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O nome e CEP digitados foram %s e %lu\n\n", info_adr.nome, 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(t=0;info_adr.nome[t];++t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utchar(info_adr.nome[t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9" name=""/>
          <p:cNvSpPr/>
          <p:nvPr/>
        </p:nvSpPr>
        <p:spPr>
          <a:xfrm>
            <a:off x="1328760" y="187200"/>
            <a:ext cx="6232680" cy="598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0766-EA14-480B-8BB6-B984EC090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 M. Fechine/José Eustáquio R. de Queiroz</dc:creator>
  <dc:description/>
  <dc:language>en-US</dc:language>
  <cp:lastModifiedBy>Joseana Macedo Fechine</cp:lastModifiedBy>
  <cp:lastPrinted>2002-02-17T19:14:27Z</cp:lastPrinted>
  <dcterms:modified xsi:type="dcterms:W3CDTF">2005-05-24T18:50:15Z</dcterms:modified>
  <cp:revision>294</cp:revision>
  <dc:subject/>
  <dc:title>Técnicas de Programação</dc:title>
</cp:coreProperties>
</file>