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AMERA.WAV" ContentType="audio/x-wav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move the slide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F96E-90E2-4D83-A394-CD3FF0F067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9736-6C0F-477A-A482-DFE963EDE5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62E8-3458-48FB-9B5B-F5E530277DB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781A-668B-4FD2-B2FE-2AA28CFCCF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C612-F8DA-40F2-976F-2C70B7A57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DA84-36DC-4C0A-8F09-9F26FDEF7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23EB-F453-4D5D-9528-60501BFC2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00FD-A2E6-4E57-99B3-3F95DC325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D3A8-2779-45D9-AA71-166FCA574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03C3-8D51-412A-9F37-8CB88F25F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C323-40F1-4691-B508-1B24ED5F9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F3DE-763B-4F8C-8470-CEA4C96BB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13F8-5537-419B-B85D-D368E2E88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06C3-2668-4D90-B588-3C6D1E9F9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6703-2103-4516-AF99-0BEA377B4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8468-04CD-473F-89DF-62EA4FD28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C550-3A4E-4E07-BBA6-51266CDEBAD8}" type="slidenum">
              <a:rPr b="1" i="1" lang="pt-BR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1243080" y="2427120"/>
            <a:ext cx="6659640" cy="7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Gráficos em C usand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1601640" y="3271680"/>
            <a:ext cx="59421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o Turbo C++ 3.0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/>
          </p:nvPr>
        </p:nvSpPr>
        <p:spPr>
          <a:xfrm>
            <a:off x="334440" y="1238400"/>
            <a:ext cx="8472600" cy="3619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ão funcionamento de funções gráficas por conta da dependência de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ardwar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Codificação com instruções, sempre que possível, de identificação automática de equipamentos instalados e modos de funcionamento do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hardwa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emulado pela aplicaçã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F531-2C24-4E63-8F3D-55CFBF553A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/>
          </p:nvPr>
        </p:nvSpPr>
        <p:spPr>
          <a:xfrm>
            <a:off x="334440" y="1238400"/>
            <a:ext cx="8472600" cy="4209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sucesso no processo de “atrelagem” da biblioteca gráfica à codificação de programa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Verificação passo-a-passo da execução correta de todos os procedimentos anteriormente explicitado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Adoção de outra estratégia de inicialização do modo gráfic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332F-4B1D-4103-870B-E4ABC568BA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/>
          </p:nvPr>
        </p:nvSpPr>
        <p:spPr>
          <a:xfrm>
            <a:off x="177480" y="1123560"/>
            <a:ext cx="8808840" cy="5248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I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Necessidade de conversão do arquivo </a:t>
            </a:r>
            <a:r>
              <a:rPr b="1" i="1" lang="es-ES_tradnl" sz="2300" spc="-1" strike="noStrike">
                <a:solidFill>
                  <a:srgbClr val="ffffff"/>
                </a:solidFill>
                <a:latin typeface="Verdana"/>
              </a:rPr>
              <a:t>EGAVGA.BGI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  (e/ou demais *.BGI) em um arquivo-objeto (</a:t>
            </a:r>
            <a:r>
              <a:rPr b="1" i="1" lang="es-ES_tradnl" sz="2600" spc="-1" strike="noStrike">
                <a:solidFill>
                  <a:srgbClr val="ffffff"/>
                </a:solidFill>
                <a:latin typeface="Verdana"/>
              </a:rPr>
              <a:t>.OBJ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C:\TC\BGI&gt;BGIOBJ EGAVGA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lnSpc>
                <a:spcPct val="100000"/>
              </a:lnSpc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A criação correta implica a indicação do nome público do </a:t>
            </a:r>
            <a:r>
              <a:rPr b="1" i="1" lang="es-ES_tradnl" sz="2600" spc="-1" strike="noStrike">
                <a:solidFill>
                  <a:srgbClr val="ffff99"/>
                </a:solidFill>
                <a:latin typeface="Arial"/>
              </a:rPr>
              <a:t>driver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GAVGA_driver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2E53-408C-4CED-9B0C-20530053DD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38160" y="2876400"/>
            <a:ext cx="9144000" cy="226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279000" y="1486080"/>
            <a:ext cx="8448840" cy="1180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8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Tela” que indica procedimento corret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graphicFrame>
        <p:nvGraphicFramePr>
          <p:cNvPr id="1778" name=""/>
          <p:cNvGraphicFramePr/>
          <p:nvPr/>
        </p:nvGraphicFramePr>
        <p:xfrm>
          <a:off x="209520" y="3038400"/>
          <a:ext cx="8859960" cy="196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20" y="3038400"/>
                    <a:ext cx="88599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16D7-5292-43D8-92A3-1FC1FB08B1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/>
          </p:nvPr>
        </p:nvSpPr>
        <p:spPr>
          <a:xfrm>
            <a:off x="177480" y="1123560"/>
            <a:ext cx="8808840" cy="5248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II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Necessidade de conversão do(s) arquivo(s) de fonte(s) de texto (*.CHR) em arquivo(s)-objeto(s) (</a:t>
            </a:r>
            <a:r>
              <a:rPr b="1" i="1" lang="es-ES_tradnl" sz="2600" spc="-1" strike="noStrike">
                <a:solidFill>
                  <a:srgbClr val="ffffff"/>
                </a:solidFill>
                <a:latin typeface="Verdana"/>
              </a:rPr>
              <a:t>.OBJ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C:\TC\BGI&gt;BGIOBJ GOTH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lnSpc>
                <a:spcPct val="100000"/>
              </a:lnSpc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A criação correta implica a indicação do nome público da fonte (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GOTHIC_font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3AF3-7B7B-4796-866F-AEC12C8280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38160" y="2876400"/>
            <a:ext cx="9144000" cy="226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279000" y="1486080"/>
            <a:ext cx="8448840" cy="1180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8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Tela” que indica procedimento corret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graphicFrame>
        <p:nvGraphicFramePr>
          <p:cNvPr id="1785" name=""/>
          <p:cNvGraphicFramePr/>
          <p:nvPr/>
        </p:nvGraphicFramePr>
        <p:xfrm>
          <a:off x="169920" y="3170160"/>
          <a:ext cx="8878680" cy="17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920" y="3170160"/>
                    <a:ext cx="887868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E654-E4E4-460D-A16D-CC04A3C422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/>
          </p:nvPr>
        </p:nvSpPr>
        <p:spPr>
          <a:xfrm>
            <a:off x="177480" y="1123560"/>
            <a:ext cx="8808840" cy="4705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III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Necessidade de criação de um projet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Inclusão da aplicação, do arquivo-objeto do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driver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(e.g. </a:t>
            </a:r>
            <a:r>
              <a:rPr b="1" i="1" lang="es-ES_tradnl" sz="2200" spc="-1" strike="noStrike">
                <a:solidFill>
                  <a:srgbClr val="ffffff"/>
                </a:solidFill>
                <a:latin typeface="Verdana"/>
              </a:rPr>
              <a:t>EGAVGA.OBJ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) e do(s) arquivo(s)-objeto(s) da(s) fonte(s) de texto (e.g. </a:t>
            </a:r>
            <a:r>
              <a:rPr b="1" i="1" lang="es-ES_tradnl" sz="2200" spc="-1" strike="noStrike">
                <a:solidFill>
                  <a:srgbClr val="ffffff"/>
                </a:solidFill>
                <a:latin typeface="Verdana"/>
              </a:rPr>
              <a:t>GOTH.OBJ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) necessário(s) ao contexto da aplicação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B495-C6DF-472C-8AFA-F94CFC02C7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/>
          </p:nvPr>
        </p:nvSpPr>
        <p:spPr>
          <a:xfrm>
            <a:off x="177480" y="1123920"/>
            <a:ext cx="8808840" cy="5438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IV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Registro dos dispositivos e fontes </a:t>
            </a:r>
            <a:r>
              <a:rPr b="1" lang="es-ES_tradnl" sz="2600" spc="-1" strike="noStrike" u="sng">
                <a:solidFill>
                  <a:srgbClr val="ffff99"/>
                </a:solidFill>
                <a:uFillTx/>
                <a:latin typeface="Arial"/>
              </a:rPr>
              <a:t>ANTES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 da inicialização do modo gráfic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Inclusão das linhas de código (à aplicação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buNone/>
              <a:tabLst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registerbgidriver(nomepublico_driver);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lnSpc>
                <a:spcPct val="100000"/>
              </a:lnSpc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registerbgifont(nomepublico_fonte);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lnSpc>
                <a:spcPct val="100000"/>
              </a:lnSpc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lnSpc>
                <a:spcPct val="100000"/>
              </a:lnSpc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2000" spc="-1" strike="noStrike">
                <a:solidFill>
                  <a:srgbClr val="ffcc00"/>
                </a:solidFill>
                <a:latin typeface="Verdana"/>
              </a:rPr>
              <a:t>detectgraph(&amp;gdriver, &amp;gmodo);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(opcional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ffcc00"/>
                </a:solidFill>
                <a:latin typeface="Verdana"/>
              </a:rPr>
              <a:t>initgraph(&amp; gdriver, &amp;gmodo, "");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7894-6DF7-4BFF-A848-1A220380F0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/>
          </p:nvPr>
        </p:nvSpPr>
        <p:spPr>
          <a:xfrm>
            <a:off x="177480" y="1123560"/>
            <a:ext cx="8808840" cy="5162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V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Compilação do projet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Execução da aplicaçã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Verificação do funcionamento satisfatório da aplicaçã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Distribuição da aplicação </a:t>
            </a:r>
            <a:r>
              <a:rPr b="1" lang="es-ES_tradnl" sz="2600" spc="-1" strike="noStrike" u="sng">
                <a:solidFill>
                  <a:srgbClr val="ffff99"/>
                </a:solidFill>
                <a:uFillTx/>
                <a:latin typeface="Arial"/>
              </a:rPr>
              <a:t>SEM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 inclusão de arquivos adicionais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45F9-685B-4981-AE1A-9D75D9E1DF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495080" y="161640"/>
            <a:ext cx="7543800" cy="90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Fundamentos de Gráfico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7440" y="1247760"/>
            <a:ext cx="8472600" cy="4610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ela Gráfic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pções de Cor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do Gráfic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çado de Linha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ilos de Linha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pagamento da Tel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çado de Pont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C08F-9FEE-441D-9606-406B2D8BB1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5076360" y="228240"/>
            <a:ext cx="3953160" cy="762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Tela de Text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34440" y="1552680"/>
            <a:ext cx="8472600" cy="35337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5 linhas e 80 colunas de caracteres textuai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80 colunas x 25 linhas = 2.000 posiçõ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ela consistindo de 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pixe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icture element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para a representação de caracteres textuais e símbol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0C8A-E73A-40C1-B035-E7F55FB9A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/>
          </p:nvPr>
        </p:nvSpPr>
        <p:spPr>
          <a:xfrm>
            <a:off x="316080" y="1218960"/>
            <a:ext cx="8472240" cy="5105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xistência de uma placa gráfica VGA ou superior no computador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Tela Gráfica com (640 x 480) pixels (pelo menos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640 X 480 = 307.200 pixels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ição    do    canto    superior     esquerdo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(0, 0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ição      do      canto      inferior      direito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(639, 479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title"/>
          </p:nvPr>
        </p:nvSpPr>
        <p:spPr>
          <a:xfrm>
            <a:off x="5000760" y="123840"/>
            <a:ext cx="3952800" cy="866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Tela Gráfica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E86C-3C4F-4D4F-9C0A-0AF9416B3A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238400" y="181080"/>
            <a:ext cx="7772400" cy="88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Dimensões da Tela Gráfica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8" name=""/>
          <p:cNvSpPr/>
          <p:nvPr/>
        </p:nvSpPr>
        <p:spPr>
          <a:xfrm>
            <a:off x="1500120" y="1647720"/>
            <a:ext cx="5757840" cy="431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79520" y="1495440"/>
            <a:ext cx="1104840" cy="39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0, 0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304040" y="1495440"/>
            <a:ext cx="1382760" cy="39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639, 0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12680" y="5743440"/>
            <a:ext cx="1525680" cy="39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0, 47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304040" y="5743440"/>
            <a:ext cx="1727280" cy="406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639, 47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733400" y="1828800"/>
            <a:ext cx="2171880" cy="1895400"/>
          </a:xfrm>
          <a:prstGeom prst="line">
            <a:avLst/>
          </a:prstGeom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267000" y="3162240"/>
            <a:ext cx="1943280" cy="1676520"/>
          </a:xfrm>
          <a:prstGeom prst="rect">
            <a:avLst/>
          </a:prstGeom>
          <a:noFill/>
          <a:ln w="1260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438880" y="2819520"/>
            <a:ext cx="1123920" cy="116208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2557440" y="3900240"/>
            <a:ext cx="2609280" cy="287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628E-0992-441C-90EE-198BCCD224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472240" cy="4448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sibilidade de seleção da cor do fundo da tela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background colo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seleção da cor do fundo da tel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setbkcolor(numero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nume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onstante numérica entr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ou constante simbólica representante da cor (e.g.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BLACK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title"/>
          </p:nvPr>
        </p:nvSpPr>
        <p:spPr>
          <a:xfrm>
            <a:off x="1305000" y="218880"/>
            <a:ext cx="7772400" cy="857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Opções de Cor de Fund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8ADA-CE58-45EC-B60D-573E79F8B5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314360" y="133200"/>
            <a:ext cx="7772400" cy="928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Opções de Core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334440" y="1257480"/>
            <a:ext cx="8472600" cy="4619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úmero de cores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odo gráfico selecionado usando o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Turbo C++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Paleta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default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16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opções de core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seleção de uma cor para o traçado gráfico 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foreground colo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setcolor(number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nume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Similar ao argumento da função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setbkcol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B026-00BD-4A0C-984A-736B3AA69F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266840" y="28584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úmeros e Nomes de Core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2951280" y="1206360"/>
            <a:ext cx="3233520" cy="5613480"/>
            <a:chOff x="2951280" y="1206360"/>
            <a:chExt cx="3233520" cy="5613480"/>
          </a:xfrm>
        </p:grpSpPr>
        <p:sp>
          <p:nvSpPr>
            <p:cNvPr id="1813" name=""/>
            <p:cNvSpPr/>
            <p:nvPr/>
          </p:nvSpPr>
          <p:spPr>
            <a:xfrm>
              <a:off x="2959200" y="1219320"/>
              <a:ext cx="3203640" cy="55944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814" name="" descr=""/>
            <p:cNvPicPr/>
            <p:nvPr/>
          </p:nvPicPr>
          <p:blipFill>
            <a:blip r:embed="rId2"/>
            <a:stretch/>
          </p:blipFill>
          <p:spPr>
            <a:xfrm>
              <a:off x="2951280" y="1206360"/>
              <a:ext cx="3233520" cy="561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BCB6-77F3-446A-B7F5-D866E0B032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285920" y="237960"/>
            <a:ext cx="7772400" cy="797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ntidades Geométrica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16" name=""/>
          <p:cNvSpPr/>
          <p:nvPr/>
        </p:nvSpPr>
        <p:spPr>
          <a:xfrm>
            <a:off x="361800" y="1295280"/>
            <a:ext cx="84726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ntos e Linh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ângul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Ar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írculos e Elip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Sólidos geométr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800760" y="3295800"/>
            <a:ext cx="1800360" cy="1800000"/>
          </a:xfrm>
          <a:prstGeom prst="ellipse">
            <a:avLst/>
          </a:prstGeom>
          <a:noFill/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951440" y="4503600"/>
            <a:ext cx="2610000" cy="1800360"/>
          </a:xfrm>
          <a:prstGeom prst="ellipse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4438800" y="1380960"/>
            <a:ext cx="3962160" cy="1190880"/>
          </a:xfrm>
          <a:prstGeom prst="line">
            <a:avLst/>
          </a:prstGeom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276880" y="2000160"/>
            <a:ext cx="2362320" cy="419040"/>
          </a:xfrm>
          <a:prstGeom prst="line">
            <a:avLst/>
          </a:prstGeom>
          <a:ln w="2844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5153040" y="1523880"/>
            <a:ext cx="3257640" cy="238320"/>
          </a:xfrm>
          <a:prstGeom prst="line">
            <a:avLst/>
          </a:prstGeom>
          <a:ln w="572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782960" y="2962440"/>
            <a:ext cx="2238120" cy="192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0" y="5276"/>
                </a:moveTo>
                <a:arcTo wR="10800" hR="10800" stAng="-8954237" swAng="8954237"/>
                <a:lnTo>
                  <a:pt x="10800" y="10800"/>
                </a:lnTo>
                <a:close/>
              </a:path>
              <a:path fill="none" w="21600" h="21600">
                <a:moveTo>
                  <a:pt x="1520" y="5276"/>
                </a:moveTo>
                <a:arcTo wR="10800" hR="10800" stAng="-8954237" swAng="8954237"/>
              </a:path>
            </a:pathLst>
          </a:custGeom>
          <a:noFill/>
          <a:ln cap="sq"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rot="2202600">
            <a:off x="3762000" y="2162160"/>
            <a:ext cx="1857240" cy="1200240"/>
          </a:xfrm>
          <a:prstGeom prst="rect">
            <a:avLst/>
          </a:prstGeom>
          <a:noFill/>
          <a:ln cap="sq"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400800" y="2000160"/>
            <a:ext cx="1440000" cy="1440000"/>
          </a:xfrm>
          <a:prstGeom prst="rect">
            <a:avLst/>
          </a:prstGeom>
          <a:noFill/>
          <a:ln w="38160">
            <a:solidFill>
              <a:srgbClr val="cc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476440" y="5029200"/>
            <a:ext cx="2610000" cy="170496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994B-27E7-42A9-8903-1C236D65A3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733400" y="247320"/>
            <a:ext cx="7315200" cy="809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Traçado de Linhas I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99800" y="121932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pontador Corrent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Entidade de apontamento invisível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streio da posição corrente do pix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Equivalente ao cursor visível no modo text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79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deslocamento do apontador para uma locação no gráfico (sem traçado algum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oveto (int x, int y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A589-49B8-4504-ADA8-4C7873BBDF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733400" y="247320"/>
            <a:ext cx="7315200" cy="809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Traçado de Linhas II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99800" y="1219320"/>
            <a:ext cx="8745480" cy="5286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çado de linhas da posição corrente do apontador até outro ponto no gráfic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ineto(int x, int y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sibilidade de substituição d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ovet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inet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pela funçã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void far line(int x1, int y1, int x2, int y2);</a:t>
            </a:r>
            <a:endParaRPr b="1" lang="en-US" sz="27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1, y1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início da linh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2, y2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término da linh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34D9-027D-4C57-9E95-5473D15929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733400" y="247680"/>
            <a:ext cx="7315200" cy="799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Retângulos I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31" name=""/>
          <p:cNvSpPr/>
          <p:nvPr/>
        </p:nvSpPr>
        <p:spPr>
          <a:xfrm>
            <a:off x="334800" y="1238400"/>
            <a:ext cx="8472600" cy="365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érie de funções para traçado de retângulos (de diferentes modo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lineto(int x, int y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moveto(int x, int y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moverel(int dx, int dy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linerel(int dx, int dy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B48F-8F2C-475C-852C-5607627B68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752480" y="247680"/>
            <a:ext cx="7315200" cy="799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Retângulos II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33" name=""/>
          <p:cNvSpPr/>
          <p:nvPr/>
        </p:nvSpPr>
        <p:spPr>
          <a:xfrm>
            <a:off x="304920" y="1190520"/>
            <a:ext cx="8472240" cy="340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traçado direto de um retângulo na cor e estilo de linh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  far   rectangle(int  x1, int  y1,  int x2, int y2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216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1, y1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anto superior esquerd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216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216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2, y2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anto inferior direit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265560" y="4803840"/>
            <a:ext cx="1539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ffcc"/>
                </a:solidFill>
                <a:latin typeface="Verdana"/>
              </a:rPr>
              <a:t>(x1, y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743360" y="4965840"/>
            <a:ext cx="2247840" cy="1295280"/>
          </a:xfrm>
          <a:prstGeom prst="rect">
            <a:avLst/>
          </a:prstGeom>
          <a:solidFill>
            <a:srgbClr val="66ff33"/>
          </a:solidFill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023240" y="6121440"/>
            <a:ext cx="1482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ffcc"/>
                </a:solidFill>
                <a:latin typeface="Verdana"/>
              </a:rPr>
              <a:t>(x2, y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964200" y="6227640"/>
            <a:ext cx="65160" cy="65160"/>
          </a:xfrm>
          <a:prstGeom prst="ellipse">
            <a:avLst/>
          </a:prstGeom>
          <a:solidFill>
            <a:srgbClr val="ff9900"/>
          </a:solidFill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705200" y="4927680"/>
            <a:ext cx="65160" cy="65160"/>
          </a:xfrm>
          <a:prstGeom prst="ellipse">
            <a:avLst/>
          </a:prstGeom>
          <a:solidFill>
            <a:srgbClr val="ff9900"/>
          </a:solidFill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C932-0721-494A-AAA0-FB10C4A988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334440" y="1209240"/>
            <a:ext cx="8472600" cy="5410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ssos para uso no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Turbo C++ 3.0 D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Indicação para o compilador dos comandos gráficos a serem usados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Identificação do tipo de placa gráfica em uso no computador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Inicialização do modo gráfico (Tela Gráfica)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Indicação para o sistema do local no qual estão  os </a:t>
            </a:r>
            <a:r>
              <a:rPr b="1" i="1" lang="en-US" sz="2400" spc="-1" strike="noStrike">
                <a:solidFill>
                  <a:srgbClr val="ffff79"/>
                </a:solidFill>
                <a:latin typeface="Arial"/>
              </a:rPr>
              <a:t>drivers</a:t>
            </a: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 e fontes gráficas (BGI)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Encerramento do modo gráfico após a finalização do traçado gráfico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F786-F6FB-4D92-A8A1-22E513EEF5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266840" y="4093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írculo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0" name=""/>
          <p:cNvSpPr/>
          <p:nvPr/>
        </p:nvSpPr>
        <p:spPr>
          <a:xfrm>
            <a:off x="334800" y="1095480"/>
            <a:ext cx="8472600" cy="3124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traçado de um círculo na cor e estilo de linh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faul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circle(int x, int y, int r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, y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entro do círcul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io do círcul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315040" y="3571920"/>
            <a:ext cx="2879640" cy="2879640"/>
          </a:xfrm>
          <a:prstGeom prst="ellipse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762600" y="4991040"/>
            <a:ext cx="1438560" cy="0"/>
          </a:xfrm>
          <a:prstGeom prst="line">
            <a:avLst/>
          </a:prstGeom>
          <a:ln cap="sq" w="1260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34040" y="447660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cc00"/>
                </a:solidFill>
                <a:latin typeface="Verdana"/>
              </a:rPr>
              <a:t>(x, y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151760" y="4989600"/>
            <a:ext cx="51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cc00"/>
                </a:solidFill>
                <a:latin typeface="Verdana"/>
              </a:rPr>
              <a:t>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AEBA-9D3B-4DD2-BB4E-AB2F590D03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199880" y="380520"/>
            <a:ext cx="7848360" cy="685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Arco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6" name=""/>
          <p:cNvSpPr/>
          <p:nvPr/>
        </p:nvSpPr>
        <p:spPr>
          <a:xfrm>
            <a:off x="334800" y="1133640"/>
            <a:ext cx="8472600" cy="4686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traçado de um arco na cor e estilo de linh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faul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  far   arc(int  x, int  y, int  ai,     int af, int r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, y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entro do arc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i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ângulo inic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f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ângulo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x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io do ar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157720" y="5253120"/>
            <a:ext cx="3591000" cy="144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924600" y="3665520"/>
            <a:ext cx="1800" cy="271944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808840" y="5121360"/>
            <a:ext cx="12708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800760" y="3360600"/>
            <a:ext cx="25380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681800" y="5121360"/>
            <a:ext cx="38016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737760" y="6434280"/>
            <a:ext cx="380160" cy="274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27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6924600" y="4427280"/>
            <a:ext cx="1623960" cy="825480"/>
          </a:xfrm>
          <a:prstGeom prst="line">
            <a:avLst/>
          </a:prstGeom>
          <a:ln w="237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flipV="1">
            <a:off x="5157720" y="4466880"/>
            <a:ext cx="1766880" cy="785880"/>
          </a:xfrm>
          <a:prstGeom prst="line">
            <a:avLst/>
          </a:prstGeom>
          <a:ln w="237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72280" y="4000680"/>
            <a:ext cx="3105000" cy="2743200"/>
          </a:xfrm>
          <a:prstGeom prst="blockArc">
            <a:avLst>
              <a:gd name="adj1" fmla="val 12781432"/>
              <a:gd name="adj2" fmla="val 19618568"/>
              <a:gd name="adj3" fmla="val 306"/>
            </a:avLst>
          </a:prstGeom>
          <a:solidFill>
            <a:srgbClr val="eeb00b"/>
          </a:solidFill>
          <a:ln cap="sq"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rot="874200">
            <a:off x="6113520" y="4503600"/>
            <a:ext cx="1468440" cy="1677960"/>
          </a:xfrm>
          <a:prstGeom prst="blockArc">
            <a:avLst>
              <a:gd name="adj1" fmla="val 12012025"/>
              <a:gd name="adj2" fmla="val 20387975"/>
              <a:gd name="adj3" fmla="val 153"/>
            </a:avLst>
          </a:prstGeom>
          <a:solidFill>
            <a:srgbClr val="eeb00b"/>
          </a:solidFill>
          <a:ln w="1260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rot="4453800">
            <a:off x="6022440" y="4684680"/>
            <a:ext cx="1200240" cy="1323720"/>
          </a:xfrm>
          <a:prstGeom prst="blockArc">
            <a:avLst>
              <a:gd name="adj1" fmla="val 15995923"/>
              <a:gd name="adj2" fmla="val 16404077"/>
              <a:gd name="adj3" fmla="val 0"/>
            </a:avLst>
          </a:prstGeom>
          <a:solidFill>
            <a:srgbClr val="eeb00b"/>
          </a:solidFill>
          <a:ln w="1260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101720" y="4226040"/>
            <a:ext cx="22176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Verdana"/>
              </a:rPr>
              <a:t>a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678800" y="4890960"/>
            <a:ext cx="20484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cc"/>
                </a:solidFill>
                <a:latin typeface="Verdan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B616-A895-4EEF-8B11-CE7C348CAD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3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1266840" y="4093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lipse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1" name=""/>
          <p:cNvSpPr/>
          <p:nvPr/>
        </p:nvSpPr>
        <p:spPr>
          <a:xfrm>
            <a:off x="334800" y="1133640"/>
            <a:ext cx="8472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traçado de uma elipse na cor e estilo de linh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faul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  far   ellipse(int  x, int  y, int  ai,     int af, int xr, int yr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, y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entro da elips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i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ângulo inic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f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ângulo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x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io da elipse na direção horizon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y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io da elipse na direção vertic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B22F-C43F-42D2-9E5B-F05D0DFC32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Traçado de Pontos (</a:t>
            </a:r>
            <a:r>
              <a:rPr b="1" i="1" lang="en-US" sz="4400" spc="-1" strike="noStrike">
                <a:solidFill>
                  <a:srgbClr val="ffe101"/>
                </a:solidFill>
                <a:latin typeface="Penguin"/>
              </a:rPr>
              <a:t>Pixels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334440" y="1162080"/>
            <a:ext cx="8472600" cy="4943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ões para a determinação dos máximos valores d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para o traçado de um ponto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(x, y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t far getmaxx(voi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t far getmaxy(voi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de um ponto de coordenadas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(x, y)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m um dada cor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putpixel (int x, int y, int cor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9BB8-3348-4C1D-9FEB-9A4AE819E5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33480" y="304920"/>
            <a:ext cx="8105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Configuração de Atributos de Linhas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34440" y="1143000"/>
            <a:ext cx="8472600" cy="536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nfiguração de uma Linh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TODAS as linhas são traçadas no </a:t>
            </a:r>
            <a:r>
              <a:rPr b="1" i="1" lang="en-US" sz="28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no modo </a:t>
            </a:r>
            <a:r>
              <a:rPr b="1" i="1" lang="en-US" sz="2600" spc="-1" strike="noStrike">
                <a:solidFill>
                  <a:srgbClr val="ffffcc"/>
                </a:solidFill>
                <a:latin typeface="Verdana"/>
              </a:rPr>
              <a:t>default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de linh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Possibilidade de especificação de três atributos pelo usuário: </a:t>
            </a:r>
            <a:r>
              <a:rPr b="1" i="1" lang="en-US" sz="2600" spc="-1" strike="noStrike">
                <a:solidFill>
                  <a:srgbClr val="ffffcc"/>
                </a:solidFill>
                <a:latin typeface="Verdana"/>
              </a:rPr>
              <a:t>estil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cc"/>
                </a:solidFill>
                <a:latin typeface="Verdana"/>
              </a:rPr>
              <a:t>padrã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e </a:t>
            </a:r>
            <a:r>
              <a:rPr b="1" i="1" lang="en-US" sz="2600" spc="-1" strike="noStrike">
                <a:solidFill>
                  <a:srgbClr val="ffffcc"/>
                </a:solidFill>
                <a:latin typeface="Verdana"/>
              </a:rPr>
              <a:t>espessura</a:t>
            </a:r>
            <a:endParaRPr b="1" lang="en-US" sz="26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intaxe da função para configuração de atributos de linha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void far setlinestyle (int style,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unsigned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pattern, int thickness);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F62B-A662-4E6D-A756-6785D6CCE7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285920" y="276120"/>
            <a:ext cx="7772400" cy="749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Estilos de Linhas 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460440" y="2017800"/>
            <a:ext cx="822492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7FBB-CB89-4649-A6FE-1C9389751A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adrões de Linha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250560" y="1304640"/>
            <a:ext cx="8745480" cy="4714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drã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Palavra de 16 bits aplicável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APENAS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se 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estil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da linha for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USERBIT_LIN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(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Caso o seja,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SEMP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que um bit na palavra do padrão for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, o pixel correspondente na linha é traçado na cor corrente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Caso contrário,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MESM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QU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um valor seja atribuído ao parâmetr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padrã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, este não terá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NENHUM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efeito no traçado da linh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B000-AE1F-4F59-8EAF-7F7FFBD38B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/>
          </p:nvPr>
        </p:nvSpPr>
        <p:spPr>
          <a:xfrm>
            <a:off x="250560" y="1305000"/>
            <a:ext cx="8745480" cy="3495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mp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Uma linha sólida corresponde a um padrão d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0xFFFF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TODOS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os pixels traçados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Uma linha tracejada poderá corresponder a um padrão d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0x3333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(           ) ou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0x0F0F  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(             ) 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5648400" y="3800520"/>
            <a:ext cx="931320" cy="0"/>
            <a:chOff x="5648400" y="3800520"/>
            <a:chExt cx="931320" cy="0"/>
          </a:xfrm>
        </p:grpSpPr>
        <p:sp>
          <p:nvSpPr>
            <p:cNvPr id="1872" name=""/>
            <p:cNvSpPr/>
            <p:nvPr/>
          </p:nvSpPr>
          <p:spPr>
            <a:xfrm>
              <a:off x="5648400" y="3800520"/>
              <a:ext cx="16164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051600" y="3800520"/>
              <a:ext cx="16128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18080" y="3800520"/>
              <a:ext cx="16164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1608120" y="4218120"/>
            <a:ext cx="1093680" cy="0"/>
            <a:chOff x="1608120" y="4218120"/>
            <a:chExt cx="1093680" cy="0"/>
          </a:xfrm>
        </p:grpSpPr>
        <p:sp>
          <p:nvSpPr>
            <p:cNvPr id="1876" name=""/>
            <p:cNvSpPr/>
            <p:nvPr/>
          </p:nvSpPr>
          <p:spPr>
            <a:xfrm>
              <a:off x="1608120" y="4218120"/>
              <a:ext cx="32400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378160" y="4218120"/>
              <a:ext cx="32364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78" name="PlaceHolder 2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adrões de Linha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C5FF-0CD9-4026-BC85-7A3EDC58A1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739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Espessuras de Linhas 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80" name=""/>
          <p:cNvSpPr/>
          <p:nvPr/>
        </p:nvSpPr>
        <p:spPr>
          <a:xfrm>
            <a:off x="314280" y="1666800"/>
            <a:ext cx="8686800" cy="1524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e7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81" name=""/>
          <p:cNvGraphicFramePr/>
          <p:nvPr/>
        </p:nvGraphicFramePr>
        <p:xfrm>
          <a:off x="314280" y="1685880"/>
          <a:ext cx="8686800" cy="1500120"/>
        </p:xfrm>
        <a:graphic>
          <a:graphicData uri="http://schemas.openxmlformats.org/drawingml/2006/table">
            <a:tbl>
              <a:tblPr/>
              <a:tblGrid>
                <a:gridCol w="790560"/>
                <a:gridCol w="2425680"/>
                <a:gridCol w="4064040"/>
                <a:gridCol w="14065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#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872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Nom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872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872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Efei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8720">
                      <a:solidFill>
                        <a:srgbClr val="990000"/>
                      </a:solidFill>
                    </a:lnR>
                    <a:lnT w="1872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NORM_WIDTH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Espessura de 1 pixe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872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872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THICK_WIDTH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872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Espessura de 3 pixel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872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872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872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2" name=""/>
          <p:cNvSpPr/>
          <p:nvPr/>
        </p:nvSpPr>
        <p:spPr>
          <a:xfrm>
            <a:off x="7734240" y="2438280"/>
            <a:ext cx="1085760" cy="0"/>
          </a:xfrm>
          <a:prstGeom prst="line">
            <a:avLst/>
          </a:prstGeom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751880" y="2913120"/>
            <a:ext cx="10857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2035-4432-45D4-A708-CB109C5AFE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"/>
          <p:cNvSpPr/>
          <p:nvPr/>
        </p:nvSpPr>
        <p:spPr>
          <a:xfrm>
            <a:off x="126684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adrões de Preenchiment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61800" y="1390680"/>
            <a:ext cx="8472600" cy="226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leção de Padrões e Co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enchimento de Regiõ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quisição de Pix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9542-C984-430F-8CEC-230A5E6073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/>
          </p:nvPr>
        </p:nvSpPr>
        <p:spPr>
          <a:xfrm>
            <a:off x="317160" y="1228680"/>
            <a:ext cx="8472600" cy="5105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ção para o compilador dos comandos gráficos a serem usados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9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clusão da diretiva de compilaçã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#include &lt;graphics.h&g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icação do tipo de placa gráfica em uso no computador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9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Declaração de duas variáveis do tip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nt gdriver =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DETECT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, gmodo;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lnSpc>
                <a:spcPct val="9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7D07-F175-4BC6-9502-1EAA30AE88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/>
          <p:nvPr/>
        </p:nvSpPr>
        <p:spPr>
          <a:xfrm>
            <a:off x="334800" y="1200240"/>
            <a:ext cx="8472600" cy="5410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configuração do padrão e da cor de um objeto a ser preenchido graficamente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void far setfillstyle(int padrao, int cor);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configuração de um padrão de preenchimento definido pelo usuári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NÃO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atribuir o valor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12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USER_FILL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) ao parâmetr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padrao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da funçã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setfillstyl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voc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void far setfillpattern(char far *upadrao, int cor)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Penguin"/>
              </a:rPr>
              <a:t>Seleção de Padrões e Core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1877-9BBE-4A31-8ABC-95958E03D1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787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adrões de Preenchiment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pic>
        <p:nvPicPr>
          <p:cNvPr id="1889" name="" descr=""/>
          <p:cNvPicPr/>
          <p:nvPr/>
        </p:nvPicPr>
        <p:blipFill>
          <a:blip r:embed="rId2"/>
          <a:stretch/>
        </p:blipFill>
        <p:spPr>
          <a:xfrm>
            <a:off x="843120" y="1230480"/>
            <a:ext cx="7457760" cy="54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C2C4-7E19-4E90-91A5-F5660D1984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/>
          <p:nvPr/>
        </p:nvSpPr>
        <p:spPr>
          <a:xfrm>
            <a:off x="334800" y="1266840"/>
            <a:ext cx="8472600" cy="3619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preenchimento de uma região com um padrão e uma co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loodfill (int x, int y, int cor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(x, y)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ponto “semente” situado no interior da região a ser “inundada” por uma dada c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or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cor da borda da regi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1C6D-87E8-4400-AD10-7BF9B04581A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"/>
          <p:cNvSpPr/>
          <p:nvPr/>
        </p:nvSpPr>
        <p:spPr>
          <a:xfrm>
            <a:off x="334800" y="1200240"/>
            <a:ext cx="8472600" cy="4734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preenchimento de uma região com um padrão e uma co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comend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Uso da funçã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fillpoly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ao invés d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floodfill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Arial"/>
              </a:rPr>
              <a:t>SEMPRE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que possível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Manutenção da compatibilidade de código com versões mais recent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floodfill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Arial"/>
              </a:rPr>
              <a:t>NÃO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é compatível com o </a:t>
            </a:r>
            <a:r>
              <a:rPr b="1" i="1" lang="en-US" sz="2600" spc="-1" strike="noStrike">
                <a:solidFill>
                  <a:srgbClr val="ffff99"/>
                </a:solidFill>
                <a:latin typeface="Arial"/>
              </a:rPr>
              <a:t>drive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IBM-8514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I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1B07-1EDA-4E6B-9A0C-51E549E0CFE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/>
          <p:nvPr/>
        </p:nvSpPr>
        <p:spPr>
          <a:xfrm>
            <a:off x="334800" y="1200240"/>
            <a:ext cx="8472600" cy="5381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preenchimento de uma região com um padrão e uma co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intaxe da função </a:t>
            </a:r>
            <a:r>
              <a:rPr b="1" i="1" lang="en-US" sz="2800" spc="-1" strike="noStrike">
                <a:solidFill>
                  <a:srgbClr val="fffff7"/>
                </a:solidFill>
                <a:latin typeface="Verdana"/>
              </a:rPr>
              <a:t>fill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7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7"/>
                </a:solidFill>
                <a:latin typeface="Verdana"/>
              </a:rPr>
              <a:t>void far fillpoly(int np, int far *pp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611360" indent="-3556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np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número de pontos da borda do polígono a ser preenchid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611360" indent="-3556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611360" indent="-3556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pp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apontador para uma seqüência d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np*2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inteiros, na qual cada par de inteiros fornece as coordenadas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x 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y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e um ponto do polígon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II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6177-952F-4F15-80DF-C387B40F230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/>
          <p:nvPr/>
        </p:nvSpPr>
        <p:spPr>
          <a:xfrm>
            <a:off x="334800" y="1200240"/>
            <a:ext cx="8472600" cy="3591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e preenchimento de uma elipse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void fillellipse(int x, int y, int xr, int yr)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x, y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ponto central da elips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x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aio horizontal da elips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y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aio vertical da elips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IV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98" name=""/>
          <p:cNvSpPr/>
          <p:nvPr/>
        </p:nvSpPr>
        <p:spPr>
          <a:xfrm>
            <a:off x="5429160" y="4514760"/>
            <a:ext cx="3213360" cy="21844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029360" y="5610240"/>
            <a:ext cx="1604880" cy="1440"/>
          </a:xfrm>
          <a:prstGeom prst="line">
            <a:avLst/>
          </a:prstGeom>
          <a:ln cap="sq" w="1260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515280" y="56404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(x, 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2360" y="5238720"/>
            <a:ext cx="59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x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7029360" y="4521240"/>
            <a:ext cx="1800" cy="1071360"/>
          </a:xfrm>
          <a:prstGeom prst="line">
            <a:avLst/>
          </a:prstGeom>
          <a:ln cap="sq" w="1260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997680" y="4875120"/>
            <a:ext cx="59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y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8B4E-7908-4346-AD79-0BAB4245EF5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96840" y="1200240"/>
            <a:ext cx="8951760" cy="4057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e preenchimento de uma “fatia de pizza”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ieslic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fff7"/>
                </a:solidFill>
                <a:latin typeface="Verdana"/>
              </a:rPr>
              <a:t>void pieslice(int x, int y, int ai, int af, int r)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x, y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ponto central da “fatia de pizza”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ai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ângulo inicial da fati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af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ângulo final da fati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aio da fati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6296040" y="4857840"/>
            <a:ext cx="2133720" cy="2133360"/>
          </a:xfrm>
          <a:prstGeom prst="blockArc">
            <a:avLst>
              <a:gd name="adj1" fmla="val 2081709"/>
              <a:gd name="adj2" fmla="val 8718291"/>
              <a:gd name="adj3" fmla="val 48833"/>
            </a:avLst>
          </a:prstGeom>
          <a:solidFill>
            <a:srgbClr val="ff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V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07" name=""/>
          <p:cNvSpPr/>
          <p:nvPr/>
        </p:nvSpPr>
        <p:spPr>
          <a:xfrm>
            <a:off x="7362720" y="5934240"/>
            <a:ext cx="1042920" cy="1440"/>
          </a:xfrm>
          <a:prstGeom prst="line">
            <a:avLst/>
          </a:prstGeom>
          <a:ln cap="sq" w="1260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629480" y="5621400"/>
            <a:ext cx="474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ffcc"/>
                </a:solidFill>
                <a:latin typeface="Verdana"/>
              </a:rPr>
              <a:t>a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818400" y="5962680"/>
            <a:ext cx="1111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(x, 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874200">
            <a:off x="6640200" y="5187600"/>
            <a:ext cx="1468440" cy="1639800"/>
          </a:xfrm>
          <a:prstGeom prst="blockArc">
            <a:avLst>
              <a:gd name="adj1" fmla="val 12012025"/>
              <a:gd name="adj2" fmla="val 20387975"/>
              <a:gd name="adj3" fmla="val 153"/>
            </a:avLst>
          </a:prstGeom>
          <a:solidFill>
            <a:srgbClr val="eeb00b"/>
          </a:solidFill>
          <a:ln w="12600">
            <a:solidFill>
              <a:srgbClr val="ff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rot="4453800">
            <a:off x="6422400" y="5351400"/>
            <a:ext cx="1200240" cy="1323720"/>
          </a:xfrm>
          <a:prstGeom prst="blockArc">
            <a:avLst>
              <a:gd name="adj1" fmla="val 15662450"/>
              <a:gd name="adj2" fmla="val 16737550"/>
              <a:gd name="adj3" fmla="val 0"/>
            </a:avLst>
          </a:prstGeom>
          <a:solidFill>
            <a:srgbClr val="eeb00b"/>
          </a:solidFill>
          <a:ln w="1260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170840" y="4848120"/>
            <a:ext cx="474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33cc"/>
                </a:solidFill>
                <a:latin typeface="Verdana"/>
              </a:rPr>
              <a:t>a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711920" y="5942160"/>
            <a:ext cx="549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7356600" y="5195520"/>
            <a:ext cx="1058760" cy="733320"/>
          </a:xfrm>
          <a:prstGeom prst="line">
            <a:avLst/>
          </a:prstGeom>
          <a:ln w="1260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 flipV="1">
            <a:off x="6294600" y="5187600"/>
            <a:ext cx="1063440" cy="739800"/>
          </a:xfrm>
          <a:prstGeom prst="line">
            <a:avLst/>
          </a:prstGeom>
          <a:ln w="1260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546E-161D-4399-8E13-99F03BC3076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96840" y="1200240"/>
            <a:ext cx="8951760" cy="3647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e preenchimento de uma barra retangula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void bar(int e, int c, int d, int b)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e, c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ordenadas do pixel do canto superior esquerdo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d, b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ordenadas do pixel do canto inferior direito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V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18" name=""/>
          <p:cNvSpPr/>
          <p:nvPr/>
        </p:nvSpPr>
        <p:spPr>
          <a:xfrm>
            <a:off x="4303800" y="4832280"/>
            <a:ext cx="1025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(e, c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267160" y="4994280"/>
            <a:ext cx="2248200" cy="12952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547040" y="6149880"/>
            <a:ext cx="93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(d, b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488360" y="6256440"/>
            <a:ext cx="64800" cy="65160"/>
          </a:xfrm>
          <a:prstGeom prst="ellipse">
            <a:avLst/>
          </a:prstGeom>
          <a:solidFill>
            <a:srgbClr val="ff9900"/>
          </a:solidFill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229360" y="4956120"/>
            <a:ext cx="64800" cy="65160"/>
          </a:xfrm>
          <a:prstGeom prst="ellipse">
            <a:avLst/>
          </a:prstGeom>
          <a:solidFill>
            <a:srgbClr val="ff9900"/>
          </a:solidFill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E64F-E2C0-465F-9AA5-66F203FD8CF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96840" y="1200240"/>
            <a:ext cx="8951760" cy="4933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e preenchimento de uma barra retangular tridimensional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7"/>
                </a:solidFill>
                <a:latin typeface="Verdana"/>
              </a:rPr>
              <a:t>void bar3d(int e, int c, int d, int b, int p, int t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e, c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ordenadas do pixel do canto superior esquerdo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d, b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ordenadas do pixel do canto inferior direito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p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profundidade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t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99"/>
                </a:solidFill>
                <a:latin typeface="Arial"/>
              </a:rPr>
              <a:t>topflag 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(controla se um topo 3D será incorporado à barra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VI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7378-519B-4D5F-9FF1-316D64EF4B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601120" cy="81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1"/>
                </a:solidFill>
                <a:latin typeface="Penguin"/>
              </a:rPr>
              <a:t>Apresentação de Texto na tela Gráfica</a:t>
            </a:r>
            <a:endParaRPr b="1" lang="en-US" sz="3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275840"/>
            <a:ext cx="8472240" cy="5000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escrita de expressões literais na tela gráfica, a partir de uma locação especificada por um par de coordenadas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void outtextxy (int x, int y, char *string);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Manutenção da compatibilidade do código em face do uso de várias fontes de texto</a:t>
            </a:r>
            <a:endParaRPr b="1" lang="en-US" sz="26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Uso das funções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textwidth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textheight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para a determinação das dimensões da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string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69F7-DD2B-4ABE-B17E-9CC9B0FAD63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/>
          </p:nvPr>
        </p:nvSpPr>
        <p:spPr>
          <a:xfrm>
            <a:off x="201600" y="1294920"/>
            <a:ext cx="8786880" cy="3829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icialização do modo gráfico (Tela Gráfica) e indicação para o sistema do local no qual se encontram os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river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fontes gráficas (BGI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vocação da função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initgraph(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pela função </a:t>
            </a:r>
            <a:r>
              <a:rPr b="1" i="1" lang="en-US" sz="2800" spc="-1" strike="noStrike">
                <a:solidFill>
                  <a:srgbClr val="ffff79"/>
                </a:solidFill>
                <a:latin typeface="Verdana"/>
              </a:rPr>
              <a:t>main( 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</a:rPr>
              <a:t>initgraph(&amp;gdriver, &amp;gmodo,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</a:rPr>
              <a:t>C:\\tc\\bgi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88DA-BE0E-449F-818D-DCF7CF7E37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/>
          </p:nvPr>
        </p:nvSpPr>
        <p:spPr>
          <a:xfrm>
            <a:off x="304920" y="1200240"/>
            <a:ext cx="853416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a configuração de valores para os atributos do texto visualizado em tela gráfic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ffffff"/>
                </a:solidFill>
                <a:latin typeface="Verdana"/>
              </a:rPr>
              <a:t>void settextstyle(int fnt, int dir, int tc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fnt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estilo da fonte de text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di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ireção da fonte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Horizontal (da esquerda para a direita) e Vertical (rotacionada 90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no sentido anti-horário) 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tc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tamanho do caractere visualizado em tela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title"/>
          </p:nvPr>
        </p:nvSpPr>
        <p:spPr>
          <a:xfrm>
            <a:off x="1380600" y="247680"/>
            <a:ext cx="7696440" cy="7905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Configuração de Text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82B3-3C03-4595-AFE8-D076DB5313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380600" y="247680"/>
            <a:ext cx="7696440" cy="7905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Estilo e Direção de Text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2"/>
          <a:stretch/>
        </p:blipFill>
        <p:spPr>
          <a:xfrm>
            <a:off x="357120" y="1230480"/>
            <a:ext cx="5621400" cy="4267080"/>
          </a:xfrm>
          <a:prstGeom prst="rect">
            <a:avLst/>
          </a:prstGeom>
          <a:ln w="0">
            <a:noFill/>
          </a:ln>
        </p:spPr>
      </p:pic>
      <p:pic>
        <p:nvPicPr>
          <p:cNvPr id="1931" name="" descr=""/>
          <p:cNvPicPr/>
          <p:nvPr/>
        </p:nvPicPr>
        <p:blipFill>
          <a:blip r:embed="rId3"/>
          <a:stretch/>
        </p:blipFill>
        <p:spPr>
          <a:xfrm>
            <a:off x="4227480" y="5240160"/>
            <a:ext cx="4862520" cy="10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4172-BB1A-4BA5-B901-2E86E2148B8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380600" y="247680"/>
            <a:ext cx="7696440" cy="7905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Tamanho de Caractere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2"/>
          <a:stretch/>
        </p:blipFill>
        <p:spPr>
          <a:xfrm>
            <a:off x="617400" y="1309680"/>
            <a:ext cx="7909200" cy="538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0AF0-018E-457B-83B2-2ACECC75312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685880" y="190440"/>
            <a:ext cx="7315200" cy="876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Apagamento da Tela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72600" cy="509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s de apagamento da tel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Modo gráfico em us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cleardevice(void);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Fora do modo gráfic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clrscr(void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Apagamento da tela de texto,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Arial"/>
              </a:rPr>
              <a:t>NÃO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a tela gráfica!!! 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829C-FF8B-4884-887E-915CEDF9743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Aquisição e Traçado de Pixel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218880" y="1314360"/>
            <a:ext cx="8745480" cy="3895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aquisição da cor de um pixel localizado nas coordenadas (x, y)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unsigned getpixel(int x, int y);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de um pixel de uma dada cor nas coordenadas (x, y)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putpixel(int x, int y, int cor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CC6B-9D6E-40D1-8C5E-9ACF1A14873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28592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Funções Não Gráficas Útei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72400" cy="3629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t kbhit(void);</a:t>
            </a: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/* include &lt;conio.h&gt; */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Verificação a existência de um caractere no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buffe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de entrada pronto para leitur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Em caso afirmativo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etorno de um inteiro não nulo (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Caso contrário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etorno de zero (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25AF-2CEF-44EA-8436-B362B9FED21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28592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Funções Não Gráficas Útei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162000" y="1371600"/>
            <a:ext cx="8820000" cy="2362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t getch(void);</a:t>
            </a: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/* include &lt;conio.h&gt; */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Leitura de um caractere do teclado e retorno de seu valor ASCII (sem espera de um ENTER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2C7A-3655-44B2-A5E5-96D0E981A5F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/>
          </p:nvPr>
        </p:nvSpPr>
        <p:spPr>
          <a:xfrm>
            <a:off x="334440" y="1295280"/>
            <a:ext cx="8472600" cy="5096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ncerramento do modo gráfico após a finalização do traçado gráfic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Uso recomendado da função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getch() 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após a(s) chamada(s) à(s) função(ões) gráfica(s) de interesse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Manutenção do traçado na tela (Pressionar qualquer tecla para continuar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Necessidade de inclusão da diretiva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#include &lt;conio.h&gt;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BBAF-23EC-4372-B8B8-99362A0A14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/>
          </p:nvPr>
        </p:nvSpPr>
        <p:spPr>
          <a:xfrm>
            <a:off x="334440" y="1295280"/>
            <a:ext cx="8472600" cy="5562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ncerramento do modo gráfico após a finalização do traçado gráfic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vocação da função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closegraph() 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para encerramento do modo gráfico 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D488-91C7-44F4-976D-63998E637A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/>
          </p:nvPr>
        </p:nvSpPr>
        <p:spPr>
          <a:xfrm>
            <a:off x="334440" y="1294920"/>
            <a:ext cx="8472600" cy="4581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síveis dificuldad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Não funcionamento de funções gráficas por conta da dependência de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hardwa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do ambiente gráfico (Limitações na portabilidade do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softwa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escrito em C para processamento gráfico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sucesso no processo de “atrelagem” da biblioteca gráfica à codificação de programas 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50F2-CE4C-45A1-B0D1-A07673AB79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334440" y="1238400"/>
            <a:ext cx="8472600" cy="5248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ão funcionamento de funções gráficas por conta da dependência de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ardwar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Análise cuidadosa das funções gráficas usadas em programas escritos por outros programadores e passíveis de uso para processamento gráfico de interesse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speção tanto das configurações do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hardwa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gráfico a ser emulado pelos programas quanto da compatibilidade do código (léxica, sintática, estrutural) com o </a:t>
            </a:r>
            <a:r>
              <a:rPr b="1" i="1" lang="en-US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endParaRPr b="1" lang="en-US" sz="26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4F65-0415-49CD-9C6F-8FF645D9D3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Joseana Macedo Fechine</cp:lastModifiedBy>
  <dcterms:modified xsi:type="dcterms:W3CDTF">2005-05-03T18:37:44Z</dcterms:modified>
  <cp:revision>497</cp:revision>
  <dc:subject>SBPC03</dc:subject>
  <dc:title>Informática na Educação</dc:title>
</cp:coreProperties>
</file>