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9663-35C2-4C0B-8AEC-39E5AF3D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685E-A68D-4F23-BC81-E1D7F035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844A-A87F-43F4-A496-4CEE2F05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9D4A-2372-4CFD-BC04-F3CCB6F8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6CF1-46FD-4A07-96D2-ADE6E727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796A-B229-460D-A7B2-2A356B04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7213-5884-40DA-A05F-17605BEE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F1B0-368E-4DAE-8FA5-72B61B3E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DCBC-A327-484B-8242-C471CD33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E1D9-8252-4B11-A6B1-B33204F8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D36E-0806-4156-AD77-3601C438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07B-3097-4C41-A1B8-DCEAF283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84DD-8EC6-4219-97AD-A340DF1D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B015-5CE4-4F80-A407-E88E0D6D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E6B2-4C2A-4759-ABAF-91962179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DC92-7904-4CAA-92BC-3AF1960E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E384-CE83-483B-9DA6-681E3122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19D-C0E5-41BA-A4EA-C8FEBCBC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05B7-6498-450D-A3E1-C8C4ABD5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F37B-60AD-4914-A00E-414F9029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79AF-E1DA-44F4-A6BA-520E608D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92B-39C4-4152-A52E-6DE93F5D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C60-A0C6-4391-A727-3FA61774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5D2-01CB-41F4-9D41-9996B8B3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81600"/>
            <a:ext cx="3400560" cy="2863800"/>
          </a:xfrm>
          <a:custGeom>
            <a:avLst/>
            <a:gdLst/>
            <a:ahLst/>
            <a:rect l="l" t="t" r="r" b="b"/>
            <a:pathLst>
              <a:path w="2135" h="1804">
                <a:moveTo>
                  <a:pt x="329" y="66"/>
                </a:moveTo>
                <a:lnTo>
                  <a:pt x="161" y="30"/>
                </a:lnTo>
                <a:lnTo>
                  <a:pt x="0" y="0"/>
                </a:lnTo>
                <a:lnTo>
                  <a:pt x="0" y="12"/>
                </a:lnTo>
                <a:lnTo>
                  <a:pt x="161" y="42"/>
                </a:lnTo>
                <a:lnTo>
                  <a:pt x="323" y="78"/>
                </a:lnTo>
                <a:lnTo>
                  <a:pt x="556" y="150"/>
                </a:lnTo>
                <a:lnTo>
                  <a:pt x="777" y="245"/>
                </a:lnTo>
                <a:lnTo>
                  <a:pt x="993" y="365"/>
                </a:lnTo>
                <a:lnTo>
                  <a:pt x="1196" y="503"/>
                </a:lnTo>
                <a:lnTo>
                  <a:pt x="1381" y="653"/>
                </a:lnTo>
                <a:lnTo>
                  <a:pt x="1555" y="827"/>
                </a:lnTo>
                <a:lnTo>
                  <a:pt x="1710" y="1019"/>
                </a:lnTo>
                <a:lnTo>
                  <a:pt x="1854" y="1229"/>
                </a:lnTo>
                <a:lnTo>
                  <a:pt x="1937" y="1366"/>
                </a:lnTo>
                <a:lnTo>
                  <a:pt x="2009" y="1510"/>
                </a:lnTo>
                <a:lnTo>
                  <a:pt x="2069" y="1654"/>
                </a:lnTo>
                <a:lnTo>
                  <a:pt x="2123" y="1804"/>
                </a:lnTo>
                <a:lnTo>
                  <a:pt x="2135" y="1804"/>
                </a:lnTo>
                <a:lnTo>
                  <a:pt x="2081" y="1654"/>
                </a:lnTo>
                <a:lnTo>
                  <a:pt x="2021" y="1510"/>
                </a:lnTo>
                <a:lnTo>
                  <a:pt x="1949" y="1366"/>
                </a:lnTo>
                <a:lnTo>
                  <a:pt x="1866" y="1223"/>
                </a:lnTo>
                <a:lnTo>
                  <a:pt x="1722" y="1013"/>
                </a:lnTo>
                <a:lnTo>
                  <a:pt x="1561" y="821"/>
                </a:lnTo>
                <a:lnTo>
                  <a:pt x="1387" y="647"/>
                </a:lnTo>
                <a:lnTo>
                  <a:pt x="1202" y="491"/>
                </a:lnTo>
                <a:lnTo>
                  <a:pt x="999" y="353"/>
                </a:lnTo>
                <a:lnTo>
                  <a:pt x="783" y="239"/>
                </a:lnTo>
                <a:lnTo>
                  <a:pt x="562" y="138"/>
                </a:lnTo>
                <a:lnTo>
                  <a:pt x="329" y="66"/>
                </a:lnTo>
                <a:lnTo>
                  <a:pt x="329" y="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9900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4341960"/>
            <a:ext cx="2770200" cy="2503440"/>
          </a:xfrm>
          <a:custGeom>
            <a:avLst/>
            <a:gdLst/>
            <a:ahLst/>
            <a:rect l="l" t="t" r="r" b="b"/>
            <a:pathLst>
              <a:path w="1745" h="1577">
                <a:moveTo>
                  <a:pt x="1640" y="1377"/>
                </a:moveTo>
                <a:lnTo>
                  <a:pt x="1692" y="1479"/>
                </a:lnTo>
                <a:lnTo>
                  <a:pt x="1732" y="1577"/>
                </a:lnTo>
                <a:lnTo>
                  <a:pt x="1745" y="1577"/>
                </a:lnTo>
                <a:lnTo>
                  <a:pt x="1703" y="1469"/>
                </a:lnTo>
                <a:lnTo>
                  <a:pt x="1649" y="1367"/>
                </a:lnTo>
                <a:lnTo>
                  <a:pt x="1535" y="1157"/>
                </a:lnTo>
                <a:lnTo>
                  <a:pt x="1395" y="951"/>
                </a:lnTo>
                <a:lnTo>
                  <a:pt x="1236" y="756"/>
                </a:lnTo>
                <a:lnTo>
                  <a:pt x="1061" y="582"/>
                </a:lnTo>
                <a:lnTo>
                  <a:pt x="876" y="426"/>
                </a:lnTo>
                <a:lnTo>
                  <a:pt x="672" y="294"/>
                </a:lnTo>
                <a:lnTo>
                  <a:pt x="455" y="174"/>
                </a:lnTo>
                <a:lnTo>
                  <a:pt x="234" y="78"/>
                </a:lnTo>
                <a:lnTo>
                  <a:pt x="0" y="0"/>
                </a:lnTo>
                <a:lnTo>
                  <a:pt x="0" y="12"/>
                </a:lnTo>
                <a:lnTo>
                  <a:pt x="222" y="89"/>
                </a:lnTo>
                <a:lnTo>
                  <a:pt x="446" y="185"/>
                </a:lnTo>
                <a:lnTo>
                  <a:pt x="662" y="305"/>
                </a:lnTo>
                <a:lnTo>
                  <a:pt x="866" y="437"/>
                </a:lnTo>
                <a:lnTo>
                  <a:pt x="1052" y="593"/>
                </a:lnTo>
                <a:lnTo>
                  <a:pt x="1226" y="767"/>
                </a:lnTo>
                <a:lnTo>
                  <a:pt x="1385" y="960"/>
                </a:lnTo>
                <a:lnTo>
                  <a:pt x="1526" y="1167"/>
                </a:lnTo>
                <a:lnTo>
                  <a:pt x="1640" y="1377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8480"/>
            <a:ext cx="2770200" cy="2806920"/>
          </a:xfrm>
          <a:custGeom>
            <a:avLst/>
            <a:gdLst/>
            <a:ahLst/>
            <a:rect l="l" t="t" r="r" b="b"/>
            <a:pathLst>
              <a:path w="1745" h="1768">
                <a:moveTo>
                  <a:pt x="0" y="0"/>
                </a:moveTo>
                <a:lnTo>
                  <a:pt x="0" y="12"/>
                </a:lnTo>
                <a:lnTo>
                  <a:pt x="210" y="88"/>
                </a:lnTo>
                <a:lnTo>
                  <a:pt x="426" y="190"/>
                </a:lnTo>
                <a:lnTo>
                  <a:pt x="630" y="304"/>
                </a:lnTo>
                <a:lnTo>
                  <a:pt x="818" y="442"/>
                </a:lnTo>
                <a:lnTo>
                  <a:pt x="998" y="592"/>
                </a:lnTo>
                <a:lnTo>
                  <a:pt x="1164" y="766"/>
                </a:lnTo>
                <a:lnTo>
                  <a:pt x="1310" y="942"/>
                </a:lnTo>
                <a:lnTo>
                  <a:pt x="1454" y="1146"/>
                </a:lnTo>
                <a:lnTo>
                  <a:pt x="1536" y="1298"/>
                </a:lnTo>
                <a:lnTo>
                  <a:pt x="1614" y="1456"/>
                </a:lnTo>
                <a:lnTo>
                  <a:pt x="1682" y="1616"/>
                </a:lnTo>
                <a:lnTo>
                  <a:pt x="1733" y="1768"/>
                </a:lnTo>
                <a:lnTo>
                  <a:pt x="1745" y="1768"/>
                </a:lnTo>
                <a:lnTo>
                  <a:pt x="1691" y="1606"/>
                </a:lnTo>
                <a:lnTo>
                  <a:pt x="1623" y="1445"/>
                </a:lnTo>
                <a:lnTo>
                  <a:pt x="1547" y="1288"/>
                </a:lnTo>
                <a:lnTo>
                  <a:pt x="1463" y="1136"/>
                </a:lnTo>
                <a:lnTo>
                  <a:pt x="1320" y="932"/>
                </a:lnTo>
                <a:lnTo>
                  <a:pt x="1173" y="755"/>
                </a:lnTo>
                <a:lnTo>
                  <a:pt x="1008" y="581"/>
                </a:lnTo>
                <a:lnTo>
                  <a:pt x="827" y="431"/>
                </a:lnTo>
                <a:lnTo>
                  <a:pt x="642" y="293"/>
                </a:lnTo>
                <a:lnTo>
                  <a:pt x="437" y="179"/>
                </a:lnTo>
                <a:lnTo>
                  <a:pt x="222" y="7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de503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711440" y="5305320"/>
            <a:ext cx="136440" cy="136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cc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165720"/>
            <a:ext cx="14616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de503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1123920" y="4554360"/>
            <a:ext cx="192240" cy="192240"/>
          </a:xfrm>
          <a:prstGeom prst="ellipse">
            <a:avLst/>
          </a:prstGeom>
          <a:blipFill rotWithShape="0">
            <a:blip r:embed="rId2">
              <a:alphaModFix amt="5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76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DSC/CCT/UFCG – Técnicas de Programaçã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9572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2FB7-8C9E-4E80-8355-FE1C17E7BCE2}" type="slidenum">
              <a:rPr b="1" lang="pt-BR" sz="2800" spc="-1" strike="noStrike">
                <a:solidFill>
                  <a:srgbClr val="ffffff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1862280" y="4713120"/>
            <a:ext cx="191880" cy="192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cc99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6C08-EC9C-4371-A7B4-5A4C95EF42DE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692280" y="257040"/>
            <a:ext cx="7804080" cy="1067040"/>
            <a:chOff x="692280" y="257040"/>
            <a:chExt cx="7804080" cy="1067040"/>
          </a:xfrm>
        </p:grpSpPr>
        <p:sp>
          <p:nvSpPr>
            <p:cNvPr id="97" name=""/>
            <p:cNvSpPr/>
            <p:nvPr/>
          </p:nvSpPr>
          <p:spPr>
            <a:xfrm>
              <a:off x="723960" y="25704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000000"/>
                  </a:solidFill>
                  <a:latin typeface="Penguin"/>
                </a:rPr>
                <a:t>Técnicas de Programação</a:t>
              </a:r>
              <a:endParaRPr b="0" lang="en-US" sz="4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280" y="28260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400" spc="-1" strike="noStrike">
                  <a:solidFill>
                    <a:srgbClr val="ffff99"/>
                  </a:solidFill>
                  <a:latin typeface="Penguin"/>
                </a:rPr>
                <a:t>Técnicas de Programação</a:t>
              </a:r>
              <a:endParaRPr b="0" lang="en-US" sz="4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057400" y="4473720"/>
            <a:ext cx="5029200" cy="939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90720" indent="-99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fs.: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Joseana Macêdo Fechin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990720" indent="-99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José Eustáquio Rang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111320" y="2295360"/>
            <a:ext cx="7137360" cy="2025720"/>
            <a:chOff x="1111320" y="2295360"/>
            <a:chExt cx="7137360" cy="2025720"/>
          </a:xfrm>
        </p:grpSpPr>
        <p:sp>
          <p:nvSpPr>
            <p:cNvPr id="101" name=""/>
            <p:cNvSpPr/>
            <p:nvPr/>
          </p:nvSpPr>
          <p:spPr>
            <a:xfrm>
              <a:off x="1124280" y="2295360"/>
              <a:ext cx="7124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11320" y="2320920"/>
              <a:ext cx="7124760" cy="200016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1777448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5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4400" spc="-1" strike="noStrike">
                  <a:solidFill>
                    <a:srgbClr val="ffff00"/>
                  </a:solidFill>
                  <a:latin typeface="Penguin"/>
                </a:rPr>
                <a:t>Funções </a:t>
              </a:r>
              <a:r>
                <a:rPr b="1" lang="pt-BR" sz="4400" spc="-1" strike="noStrike">
                  <a:solidFill>
                    <a:srgbClr val="ffff00"/>
                  </a:solidFill>
                  <a:latin typeface="Penguin"/>
                </a:rPr>
                <a:t>– Linguagem C</a:t>
              </a:r>
              <a:r>
                <a:rPr b="1" lang="pt-BR" sz="5400" spc="-1" strike="noStrike" u="sng">
                  <a:solidFill>
                    <a:srgbClr val="ffff00"/>
                  </a:solidFill>
                  <a:uFillTx/>
                  <a:latin typeface="Arial"/>
                </a:rPr>
                <a:t> </a:t>
              </a:r>
              <a:r>
                <a:rPr b="1" lang="pt-BR" sz="54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endParaRPr b="0" lang="en-US" sz="54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(Adicional - rand)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D64C-D10F-4C0A-ACE8-F1BBD6F4DB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5920" y="712800"/>
            <a:ext cx="221436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4960" indent="-534960"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1244520"/>
            <a:ext cx="8169120" cy="5313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343160"/>
            <a:ext cx="8148600" cy="35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#include &lt;stdlib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#include &lt;time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#include &lt;math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#include &lt;std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#define uniform(a,b)  ((double)rand()*((b)-(a))/RAND_MAX+(a)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uble v1,v2,rsq,fac,normal1,normal2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rand(time(0)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ile(1) 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1 = uniform(-1,1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intf(“v1=%f\n”,v1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 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320840" y="41400"/>
            <a:ext cx="7173360" cy="577440"/>
            <a:chOff x="1320840" y="41400"/>
            <a:chExt cx="7173360" cy="577440"/>
          </a:xfrm>
        </p:grpSpPr>
        <p:sp>
          <p:nvSpPr>
            <p:cNvPr id="161" name=""/>
            <p:cNvSpPr/>
            <p:nvPr/>
          </p:nvSpPr>
          <p:spPr>
            <a:xfrm>
              <a:off x="1347480" y="41400"/>
              <a:ext cx="714672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20840" y="56880"/>
              <a:ext cx="714672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Funções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BDB3-EE2E-4C66-82D5-ACF5D3AE9A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04640" y="284040"/>
            <a:ext cx="2214720" cy="3906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4960" indent="-534960"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07800" y="777960"/>
            <a:ext cx="8104320" cy="6156360"/>
            <a:chOff x="307800" y="777960"/>
            <a:chExt cx="8104320" cy="6156360"/>
          </a:xfrm>
        </p:grpSpPr>
        <p:sp>
          <p:nvSpPr>
            <p:cNvPr id="165" name=""/>
            <p:cNvSpPr/>
            <p:nvPr/>
          </p:nvSpPr>
          <p:spPr>
            <a:xfrm>
              <a:off x="307800" y="777960"/>
              <a:ext cx="8104320" cy="6156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1880" y="914400"/>
              <a:ext cx="7691400" cy="58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#include &lt;stdlib.h&gt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#include &lt;time.h&gt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#include &lt;math.h&gt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#include &lt;stdio.h&gt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#define uniform(a,b)  ((double)rand()*((b)-(a))/RAND_MAX+(a))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in()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ouble v,exponential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rand(time(0)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while( 1 )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o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  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v = uniform(0,1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}while( v == 0 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xponential = -log(v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rintf("%f\n",exponential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35880" indent="-335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320840" y="41400"/>
            <a:ext cx="7173360" cy="577440"/>
            <a:chOff x="1320840" y="41400"/>
            <a:chExt cx="7173360" cy="577440"/>
          </a:xfrm>
        </p:grpSpPr>
        <p:sp>
          <p:nvSpPr>
            <p:cNvPr id="168" name=""/>
            <p:cNvSpPr/>
            <p:nvPr/>
          </p:nvSpPr>
          <p:spPr>
            <a:xfrm>
              <a:off x="1347480" y="41400"/>
              <a:ext cx="714672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20840" y="56880"/>
              <a:ext cx="714672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Funções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7384-DD3D-471B-9F0F-B32C5D3DC9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3520" y="1579680"/>
            <a:ext cx="6625800" cy="2147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0720" indent="-450720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ração de números aleatóri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0720" indent="-450720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4600" indent="-444240"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74600" indent="-444240"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rmalment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istribuíd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74600" indent="-444240"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1074600" indent="-444240"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xponencialment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istribuíd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63520" y="41400"/>
            <a:ext cx="7174080" cy="577440"/>
            <a:chOff x="1163520" y="41400"/>
            <a:chExt cx="7174080" cy="577440"/>
          </a:xfrm>
        </p:grpSpPr>
        <p:sp>
          <p:nvSpPr>
            <p:cNvPr id="105" name=""/>
            <p:cNvSpPr/>
            <p:nvPr/>
          </p:nvSpPr>
          <p:spPr>
            <a:xfrm>
              <a:off x="1190520" y="414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63520" y="568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Funções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D75-2863-4ADC-B0C7-E2038FD47E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11240" y="0"/>
            <a:ext cx="7147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" y="889200"/>
            <a:ext cx="8766000" cy="4611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0720" indent="-450720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Funçã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an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0720" indent="-450720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4600" indent="-444240"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função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computa uma seqüência de inteiros pseudo-aleatórios na faixa 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D_MAX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0720" indent="-450720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0720" indent="-450720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 que é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RAND_MAX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450720" indent="-450720">
              <a:lnSpc>
                <a:spcPct val="100000"/>
              </a:lnSpc>
              <a:buClr>
                <a:srgbClr val="ffcc00"/>
              </a:buClr>
              <a:buSzPct val="9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4600" indent="-444240"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D_MAX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 uma constante simbólica definida  no arquivo-cabeçalho &lt;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dlib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4600" indent="-444240"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074600" indent="-444240"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or 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ND_MA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ve ser menor do que   32767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valor máximo de um inteiro de dois bytes (Padrão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NS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5562720"/>
            <a:ext cx="851508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Se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rand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produzir números verdadeiramente aleatórios, todos os números entre 0 e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RAND_MAX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 terão a mesma probabilidade de serem escolhidos cada vez que </a:t>
            </a:r>
            <a:r>
              <a:rPr b="1" i="1" lang="pt-BR" sz="2000" spc="-1" strike="noStrike">
                <a:solidFill>
                  <a:srgbClr val="ffffcc"/>
                </a:solidFill>
                <a:latin typeface="Arial"/>
              </a:rPr>
              <a:t>rand </a:t>
            </a:r>
            <a:r>
              <a:rPr b="0" lang="pt-BR" sz="2000" spc="-1" strike="noStrike">
                <a:solidFill>
                  <a:srgbClr val="ffffcc"/>
                </a:solidFill>
                <a:latin typeface="Arial"/>
              </a:rPr>
              <a:t>for chamada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63520" y="41400"/>
            <a:ext cx="7174080" cy="577440"/>
            <a:chOff x="1163520" y="41400"/>
            <a:chExt cx="7174080" cy="577440"/>
          </a:xfrm>
        </p:grpSpPr>
        <p:sp>
          <p:nvSpPr>
            <p:cNvPr id="111" name=""/>
            <p:cNvSpPr/>
            <p:nvPr/>
          </p:nvSpPr>
          <p:spPr>
            <a:xfrm>
              <a:off x="1190520" y="414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63520" y="568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Funções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525B-1157-47C0-996E-EC1145230E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163520" y="41400"/>
            <a:ext cx="7174080" cy="577440"/>
            <a:chOff x="1163520" y="41400"/>
            <a:chExt cx="7174080" cy="577440"/>
          </a:xfrm>
        </p:grpSpPr>
        <p:sp>
          <p:nvSpPr>
            <p:cNvPr id="114" name=""/>
            <p:cNvSpPr/>
            <p:nvPr/>
          </p:nvSpPr>
          <p:spPr>
            <a:xfrm>
              <a:off x="1190520" y="414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63520" y="568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Funções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28600" y="727200"/>
            <a:ext cx="2432160" cy="7398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4960" indent="-534960"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Função</a:t>
            </a:r>
            <a:br>
              <a:rPr sz="3200"/>
            </a:br>
            <a:r>
              <a:rPr b="1" i="1" lang="pt-PT" sz="2400" spc="-1" strike="noStrike">
                <a:solidFill>
                  <a:srgbClr val="ffffff"/>
                </a:solidFill>
                <a:latin typeface="Arial"/>
              </a:rPr>
              <a:t>rand(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3051000" y="804960"/>
            <a:ext cx="5268960" cy="5729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3295800" y="3446640"/>
            <a:ext cx="5252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924200"/>
            <a:ext cx="209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Programa para gerar números aleatórios entre 0 e 99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3238560" y="936720"/>
            <a:ext cx="52196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 include &lt;std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 include &lt;stdlib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 include &lt;con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 define N 20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int num[N],i,j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or (i=0;i&lt;N;i++) num[i] = (rand()%100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or (j=0;j&lt;N;j++) printf("\n%d",num[j]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552600" y="3772080"/>
            <a:ext cx="2190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Arial"/>
              </a:rPr>
              <a:t>Problema!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úmeros pseudo-aleatório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789F-ECE3-420A-A67B-FB93DAF9F6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1163520" y="41400"/>
            <a:ext cx="7174080" cy="577440"/>
            <a:chOff x="1163520" y="41400"/>
            <a:chExt cx="7174080" cy="577440"/>
          </a:xfrm>
        </p:grpSpPr>
        <p:sp>
          <p:nvSpPr>
            <p:cNvPr id="123" name=""/>
            <p:cNvSpPr/>
            <p:nvPr/>
          </p:nvSpPr>
          <p:spPr>
            <a:xfrm>
              <a:off x="1190520" y="414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63520" y="568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Funções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24000" y="1069920"/>
            <a:ext cx="4356000" cy="6447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4960" indent="-534960"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cc00"/>
                </a:solidFill>
                <a:latin typeface="Arial"/>
              </a:rPr>
              <a:t>Função</a:t>
            </a:r>
            <a:r>
              <a:rPr b="1" lang="pt-PT" sz="2800" spc="-1" strike="noStrike">
                <a:solidFill>
                  <a:srgbClr val="ffcc00"/>
                </a:solidFill>
                <a:latin typeface="Penguin"/>
              </a:rPr>
              <a:t>  </a:t>
            </a:r>
            <a:r>
              <a:rPr b="1" i="1" lang="pt-PT" sz="3200" spc="-1" strike="noStrike">
                <a:solidFill>
                  <a:srgbClr val="ffcc00"/>
                </a:solidFill>
                <a:latin typeface="Arial"/>
              </a:rPr>
              <a:t>s</a:t>
            </a:r>
            <a:r>
              <a:rPr b="1" i="1" lang="pt-PT" sz="2800" spc="-1" strike="noStrike">
                <a:solidFill>
                  <a:srgbClr val="ffffff"/>
                </a:solidFill>
                <a:latin typeface="Arial"/>
              </a:rPr>
              <a:t>rand(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933480" y="2251080"/>
            <a:ext cx="7480440" cy="453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4960" indent="-53496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ta função utiliza um número inteiro para ser uma semente da função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 rand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1009800" y="4003560"/>
            <a:ext cx="7480080" cy="4543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4960" indent="-534960"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Objetivo da semente: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duzir uma seqüência de números aleatórios diferentes em cada execução do program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A41-1C26-43E7-83BB-54A0B543FC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163520" y="41400"/>
            <a:ext cx="7174080" cy="577440"/>
            <a:chOff x="1163520" y="41400"/>
            <a:chExt cx="7174080" cy="577440"/>
          </a:xfrm>
        </p:grpSpPr>
        <p:sp>
          <p:nvSpPr>
            <p:cNvPr id="129" name=""/>
            <p:cNvSpPr/>
            <p:nvPr/>
          </p:nvSpPr>
          <p:spPr>
            <a:xfrm>
              <a:off x="1190520" y="414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63520" y="568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Funções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28600" y="727200"/>
            <a:ext cx="2432160" cy="7398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4960" indent="-534960"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Função</a:t>
            </a:r>
            <a:br>
              <a:rPr sz="3200"/>
            </a:b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s</a:t>
            </a:r>
            <a:r>
              <a:rPr b="1" i="1" lang="pt-PT" sz="2400" spc="-1" strike="noStrike">
                <a:solidFill>
                  <a:srgbClr val="ffffff"/>
                </a:solidFill>
                <a:latin typeface="Arial"/>
              </a:rPr>
              <a:t>rand(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2860560" y="1357200"/>
            <a:ext cx="5783400" cy="4630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3014640" y="1341360"/>
            <a:ext cx="5614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std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stdlib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con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define N 20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oid main() {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 num[N],i,j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unsigned seed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intf(“Forneca o valor da semente\n”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canf(“%u”,&amp;seed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rand(seed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(i=0;i&lt;N;i++) num[i] = (rand()%100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(j=0;j&lt;N;j++) printf("\n%d",num[j]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804-6657-4BEE-B5B6-EC8098FFEF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163520" y="41400"/>
            <a:ext cx="7174080" cy="577440"/>
            <a:chOff x="1163520" y="41400"/>
            <a:chExt cx="7174080" cy="577440"/>
          </a:xfrm>
        </p:grpSpPr>
        <p:sp>
          <p:nvSpPr>
            <p:cNvPr id="135" name=""/>
            <p:cNvSpPr/>
            <p:nvPr/>
          </p:nvSpPr>
          <p:spPr>
            <a:xfrm>
              <a:off x="1190520" y="414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63520" y="568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Funções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28600" y="727200"/>
            <a:ext cx="2432160" cy="7398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4960" indent="-534960"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Função</a:t>
            </a:r>
            <a:br>
              <a:rPr sz="3200"/>
            </a:b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s</a:t>
            </a:r>
            <a:r>
              <a:rPr b="1" i="1" lang="pt-PT" sz="2400" spc="-1" strike="noStrike">
                <a:solidFill>
                  <a:srgbClr val="ffffff"/>
                </a:solidFill>
                <a:latin typeface="Arial"/>
              </a:rPr>
              <a:t>rand(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3355920" y="1547640"/>
            <a:ext cx="5288040" cy="4249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1646280"/>
            <a:ext cx="5043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std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stdlib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con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nclude &lt;time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define N 20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oid main() {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 num[N],i,j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rand(time(NULL)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(i=0;i&lt;N;i++) num[i] = (rand()%100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(j=0;j&lt;N;j++) printf("\n%d",num[j]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361800" y="2000160"/>
            <a:ext cx="295308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Arial"/>
              </a:rPr>
              <a:t>Outra Solução!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Arial"/>
              </a:rPr>
              <a:t>Uso do relógi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pt-BR" sz="2200" spc="-1" strike="noStrike">
                <a:solidFill>
                  <a:srgbClr val="ffff00"/>
                </a:solidFill>
                <a:latin typeface="Arial"/>
              </a:rPr>
              <a:t>Randomizar” sem a necessidade de fornecer uma semente a cada vez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125-EA97-4A52-860B-72B4BE6F72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1163520" y="41400"/>
            <a:ext cx="7174080" cy="577440"/>
            <a:chOff x="1163520" y="41400"/>
            <a:chExt cx="7174080" cy="577440"/>
          </a:xfrm>
        </p:grpSpPr>
        <p:sp>
          <p:nvSpPr>
            <p:cNvPr id="142" name=""/>
            <p:cNvSpPr/>
            <p:nvPr/>
          </p:nvSpPr>
          <p:spPr>
            <a:xfrm>
              <a:off x="1190520" y="414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63520" y="568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Funções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28600" y="727200"/>
            <a:ext cx="2432160" cy="7398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4960" indent="-534960"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Função</a:t>
            </a:r>
            <a:br>
              <a:rPr sz="3200"/>
            </a:br>
            <a:r>
              <a:rPr b="1" i="1" lang="pt-PT" sz="2400" spc="-1" strike="noStrike">
                <a:solidFill>
                  <a:srgbClr val="ffffff"/>
                </a:solidFill>
                <a:latin typeface="Arial"/>
              </a:rPr>
              <a:t>random(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3070080" y="1185840"/>
            <a:ext cx="5592960" cy="4402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"/>
          <p:cNvSpPr/>
          <p:nvPr/>
        </p:nvSpPr>
        <p:spPr>
          <a:xfrm>
            <a:off x="3295800" y="1532160"/>
            <a:ext cx="52527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std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stdlib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con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define N 20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oid main() {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 num[N],i,j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ndomize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(i=0;i&lt;N;i++) num[i] = (random(100)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(j=0;j&lt;N;j++) printf("\n%d",num[j]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3238560"/>
            <a:ext cx="180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Valor inicial aleatório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2552760" y="2705040"/>
            <a:ext cx="857160" cy="12193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361800" y="21146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Arial"/>
              </a:rPr>
              <a:t>Outra Solução!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0E50-64A0-4C2F-BF0F-F1340E12A4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163520" y="41400"/>
            <a:ext cx="7174080" cy="577440"/>
            <a:chOff x="1163520" y="41400"/>
            <a:chExt cx="7174080" cy="577440"/>
          </a:xfrm>
        </p:grpSpPr>
        <p:sp>
          <p:nvSpPr>
            <p:cNvPr id="151" name=""/>
            <p:cNvSpPr/>
            <p:nvPr/>
          </p:nvSpPr>
          <p:spPr>
            <a:xfrm>
              <a:off x="1190520" y="41400"/>
              <a:ext cx="714708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63520" y="56880"/>
              <a:ext cx="7147080" cy="561960"/>
            </a:xfrm>
            <a:prstGeom prst="rect">
              <a:avLst/>
            </a:prstGeom>
            <a:noFill/>
            <a:ln w="0">
              <a:noFill/>
            </a:ln>
            <a:effectLst>
              <a:outerShdw dist="45929" dir="1957112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ffff00"/>
                  </a:solidFill>
                  <a:latin typeface="Penguin"/>
                </a:rPr>
                <a:t>Funções</a:t>
              </a:r>
              <a:endParaRPr b="0" lang="en-US" sz="4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" y="727200"/>
            <a:ext cx="2432160" cy="7398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34960" indent="-534960"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Função</a:t>
            </a:r>
            <a:br>
              <a:rPr sz="3200"/>
            </a:b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s</a:t>
            </a:r>
            <a:r>
              <a:rPr b="1" i="1" lang="pt-PT" sz="2400" spc="-1" strike="noStrike">
                <a:solidFill>
                  <a:srgbClr val="ffffff"/>
                </a:solidFill>
                <a:latin typeface="Arial"/>
              </a:rPr>
              <a:t>rand(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3355920" y="1547640"/>
            <a:ext cx="5288040" cy="4249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3700440" y="1646280"/>
            <a:ext cx="5043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std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stdlib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include &lt;con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nclude &lt;time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# define N 10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oid main() {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 num[N],i,j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rand(time(NULL)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(i=0;i&lt;N;i++) num[i] = (1+rand()%6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(j=0;j&lt;N;j++) printf("\n%d",num[j]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781360"/>
            <a:ext cx="219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O que faz o programa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4684-7F08-4220-8150-235DC34574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Alexandre Magno Andrade Maciel</dc:creator>
  <dc:description/>
  <dc:language>en-US</dc:language>
  <cp:lastModifiedBy>Joseana Macedo Fechine</cp:lastModifiedBy>
  <cp:lastPrinted>2002-02-17T19:14:27Z</cp:lastPrinted>
  <dcterms:modified xsi:type="dcterms:W3CDTF">2005-05-02T14:59:19Z</dcterms:modified>
  <cp:revision>332</cp:revision>
  <dc:subject/>
  <dc:title>Reconhecimento de voz</dc:title>
</cp:coreProperties>
</file>