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9D4F-D890-4887-AB98-BF5B78A90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680D-D787-4F1B-886E-02C4708F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242E-F1D9-4ED6-9DC3-3F8CA526C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272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516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028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272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516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C62D-703C-48ED-9A0E-F1A82DB71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C7B0-CD19-4E08-B3B6-616FE9EDC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A5D4-E415-494E-A48F-D3048534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91EF-1565-47EA-A768-10AE1E5B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07C7-7262-44EE-9033-F0F059E8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8C09-8FBD-4582-8E92-AA145946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0517-77F1-40C0-8F10-61CE7E19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22C8-3EEB-43E2-A05F-9F342BB9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BCB8-22FD-424F-9366-F128F305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DF4A-2CB3-409A-821E-AE0FB25E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5796-B5B9-495E-852B-A895BD45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1B1F-5EA8-4C15-9E2F-FCB3B1A0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E6C4-319F-46A5-92B7-D51BA3758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272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516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3028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272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9516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8851-47EB-4F1F-9324-BD6C8D130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66D2-8407-4507-85BC-D090CCFB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EF3D-5E7D-4BD7-9950-E1325408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15A7-8F88-4F48-8C6C-ACB883B5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BD81-7A7C-4C0E-9C99-4A3677BA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FD91-8DD7-4534-9963-ADD4B73D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13C2-3881-4D37-A1B4-CDFDA35B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4582-3DE6-4805-9E07-E7E0A36B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3981600"/>
            <a:ext cx="3400560" cy="2863800"/>
          </a:xfrm>
          <a:custGeom>
            <a:avLst/>
            <a:gdLst/>
            <a:ahLst/>
            <a:rect l="l" t="t" r="r" b="b"/>
            <a:pathLst>
              <a:path w="2135" h="1804">
                <a:moveTo>
                  <a:pt x="329" y="66"/>
                </a:moveTo>
                <a:lnTo>
                  <a:pt x="161" y="30"/>
                </a:lnTo>
                <a:lnTo>
                  <a:pt x="0" y="0"/>
                </a:lnTo>
                <a:lnTo>
                  <a:pt x="0" y="12"/>
                </a:lnTo>
                <a:lnTo>
                  <a:pt x="161" y="42"/>
                </a:lnTo>
                <a:lnTo>
                  <a:pt x="323" y="78"/>
                </a:lnTo>
                <a:lnTo>
                  <a:pt x="556" y="150"/>
                </a:lnTo>
                <a:lnTo>
                  <a:pt x="777" y="245"/>
                </a:lnTo>
                <a:lnTo>
                  <a:pt x="993" y="365"/>
                </a:lnTo>
                <a:lnTo>
                  <a:pt x="1196" y="503"/>
                </a:lnTo>
                <a:lnTo>
                  <a:pt x="1381" y="653"/>
                </a:lnTo>
                <a:lnTo>
                  <a:pt x="1555" y="827"/>
                </a:lnTo>
                <a:lnTo>
                  <a:pt x="1710" y="1019"/>
                </a:lnTo>
                <a:lnTo>
                  <a:pt x="1854" y="1229"/>
                </a:lnTo>
                <a:lnTo>
                  <a:pt x="1937" y="1366"/>
                </a:lnTo>
                <a:lnTo>
                  <a:pt x="2009" y="1510"/>
                </a:lnTo>
                <a:lnTo>
                  <a:pt x="2069" y="1654"/>
                </a:lnTo>
                <a:lnTo>
                  <a:pt x="2123" y="1804"/>
                </a:lnTo>
                <a:lnTo>
                  <a:pt x="2135" y="1804"/>
                </a:lnTo>
                <a:lnTo>
                  <a:pt x="2081" y="1654"/>
                </a:lnTo>
                <a:lnTo>
                  <a:pt x="2021" y="1510"/>
                </a:lnTo>
                <a:lnTo>
                  <a:pt x="1949" y="1366"/>
                </a:lnTo>
                <a:lnTo>
                  <a:pt x="1866" y="1223"/>
                </a:lnTo>
                <a:lnTo>
                  <a:pt x="1722" y="1013"/>
                </a:lnTo>
                <a:lnTo>
                  <a:pt x="1561" y="821"/>
                </a:lnTo>
                <a:lnTo>
                  <a:pt x="1387" y="647"/>
                </a:lnTo>
                <a:lnTo>
                  <a:pt x="1202" y="491"/>
                </a:lnTo>
                <a:lnTo>
                  <a:pt x="999" y="353"/>
                </a:lnTo>
                <a:lnTo>
                  <a:pt x="783" y="239"/>
                </a:lnTo>
                <a:lnTo>
                  <a:pt x="562" y="138"/>
                </a:lnTo>
                <a:lnTo>
                  <a:pt x="329" y="66"/>
                </a:lnTo>
                <a:lnTo>
                  <a:pt x="329" y="6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cc9900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0" y="4341960"/>
            <a:ext cx="2770200" cy="2503440"/>
          </a:xfrm>
          <a:custGeom>
            <a:avLst/>
            <a:gdLst/>
            <a:ahLst/>
            <a:rect l="l" t="t" r="r" b="b"/>
            <a:pathLst>
              <a:path w="1745" h="1577">
                <a:moveTo>
                  <a:pt x="1640" y="1377"/>
                </a:moveTo>
                <a:lnTo>
                  <a:pt x="1692" y="1479"/>
                </a:lnTo>
                <a:lnTo>
                  <a:pt x="1732" y="1577"/>
                </a:lnTo>
                <a:lnTo>
                  <a:pt x="1745" y="1577"/>
                </a:lnTo>
                <a:lnTo>
                  <a:pt x="1703" y="1469"/>
                </a:lnTo>
                <a:lnTo>
                  <a:pt x="1649" y="1367"/>
                </a:lnTo>
                <a:lnTo>
                  <a:pt x="1535" y="1157"/>
                </a:lnTo>
                <a:lnTo>
                  <a:pt x="1395" y="951"/>
                </a:lnTo>
                <a:lnTo>
                  <a:pt x="1236" y="756"/>
                </a:lnTo>
                <a:lnTo>
                  <a:pt x="1061" y="582"/>
                </a:lnTo>
                <a:lnTo>
                  <a:pt x="876" y="426"/>
                </a:lnTo>
                <a:lnTo>
                  <a:pt x="672" y="294"/>
                </a:lnTo>
                <a:lnTo>
                  <a:pt x="455" y="174"/>
                </a:lnTo>
                <a:lnTo>
                  <a:pt x="234" y="78"/>
                </a:lnTo>
                <a:lnTo>
                  <a:pt x="0" y="0"/>
                </a:lnTo>
                <a:lnTo>
                  <a:pt x="0" y="12"/>
                </a:lnTo>
                <a:lnTo>
                  <a:pt x="222" y="89"/>
                </a:lnTo>
                <a:lnTo>
                  <a:pt x="446" y="185"/>
                </a:lnTo>
                <a:lnTo>
                  <a:pt x="662" y="305"/>
                </a:lnTo>
                <a:lnTo>
                  <a:pt x="866" y="437"/>
                </a:lnTo>
                <a:lnTo>
                  <a:pt x="1052" y="593"/>
                </a:lnTo>
                <a:lnTo>
                  <a:pt x="1226" y="767"/>
                </a:lnTo>
                <a:lnTo>
                  <a:pt x="1385" y="960"/>
                </a:lnTo>
                <a:lnTo>
                  <a:pt x="1526" y="1167"/>
                </a:lnTo>
                <a:lnTo>
                  <a:pt x="1640" y="1377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fffcc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"/>
          <p:cNvSpPr/>
          <p:nvPr/>
        </p:nvSpPr>
        <p:spPr>
          <a:xfrm>
            <a:off x="0" y="4038480"/>
            <a:ext cx="2770200" cy="2806920"/>
          </a:xfrm>
          <a:custGeom>
            <a:avLst/>
            <a:gdLst/>
            <a:ahLst/>
            <a:rect l="l" t="t" r="r" b="b"/>
            <a:pathLst>
              <a:path w="1745" h="1768">
                <a:moveTo>
                  <a:pt x="0" y="0"/>
                </a:moveTo>
                <a:lnTo>
                  <a:pt x="0" y="12"/>
                </a:lnTo>
                <a:lnTo>
                  <a:pt x="210" y="88"/>
                </a:lnTo>
                <a:lnTo>
                  <a:pt x="426" y="190"/>
                </a:lnTo>
                <a:lnTo>
                  <a:pt x="630" y="304"/>
                </a:lnTo>
                <a:lnTo>
                  <a:pt x="818" y="442"/>
                </a:lnTo>
                <a:lnTo>
                  <a:pt x="998" y="592"/>
                </a:lnTo>
                <a:lnTo>
                  <a:pt x="1164" y="766"/>
                </a:lnTo>
                <a:lnTo>
                  <a:pt x="1310" y="942"/>
                </a:lnTo>
                <a:lnTo>
                  <a:pt x="1454" y="1146"/>
                </a:lnTo>
                <a:lnTo>
                  <a:pt x="1536" y="1298"/>
                </a:lnTo>
                <a:lnTo>
                  <a:pt x="1614" y="1456"/>
                </a:lnTo>
                <a:lnTo>
                  <a:pt x="1682" y="1616"/>
                </a:lnTo>
                <a:lnTo>
                  <a:pt x="1733" y="1768"/>
                </a:lnTo>
                <a:lnTo>
                  <a:pt x="1745" y="1768"/>
                </a:lnTo>
                <a:lnTo>
                  <a:pt x="1691" y="1606"/>
                </a:lnTo>
                <a:lnTo>
                  <a:pt x="1623" y="1445"/>
                </a:lnTo>
                <a:lnTo>
                  <a:pt x="1547" y="1288"/>
                </a:lnTo>
                <a:lnTo>
                  <a:pt x="1463" y="1136"/>
                </a:lnTo>
                <a:lnTo>
                  <a:pt x="1320" y="932"/>
                </a:lnTo>
                <a:lnTo>
                  <a:pt x="1173" y="755"/>
                </a:lnTo>
                <a:lnTo>
                  <a:pt x="1008" y="581"/>
                </a:lnTo>
                <a:lnTo>
                  <a:pt x="827" y="431"/>
                </a:lnTo>
                <a:lnTo>
                  <a:pt x="642" y="293"/>
                </a:lnTo>
                <a:lnTo>
                  <a:pt x="437" y="179"/>
                </a:lnTo>
                <a:lnTo>
                  <a:pt x="222" y="7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de503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"/>
          <p:cNvSpPr/>
          <p:nvPr/>
        </p:nvSpPr>
        <p:spPr>
          <a:xfrm>
            <a:off x="1711440" y="5305320"/>
            <a:ext cx="136440" cy="1368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cc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"/>
          <p:cNvSpPr/>
          <p:nvPr/>
        </p:nvSpPr>
        <p:spPr>
          <a:xfrm>
            <a:off x="2438280" y="6165720"/>
            <a:ext cx="146160" cy="146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de503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"/>
          <p:cNvSpPr/>
          <p:nvPr/>
        </p:nvSpPr>
        <p:spPr>
          <a:xfrm>
            <a:off x="1123920" y="4554360"/>
            <a:ext cx="192240" cy="192240"/>
          </a:xfrm>
          <a:prstGeom prst="ellipse">
            <a:avLst/>
          </a:prstGeom>
          <a:blipFill rotWithShape="0">
            <a:blip r:embed="rId2">
              <a:alphaModFix amt="5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4824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5768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000" spc="-1" strike="noStrike">
                <a:solidFill>
                  <a:srgbClr val="ffffff"/>
                </a:solidFill>
                <a:latin typeface="Arial"/>
              </a:rPr>
              <a:t>DSC/CCT/UFCG – Técnicas de Programação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795720" y="634824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2800" spc="-1" strike="noStrike">
                <a:solidFill>
                  <a:srgbClr val="ffffff"/>
                </a:solidFill>
                <a:latin typeface="Pengu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C092-EC09-4656-B7B4-26D72563B8E4}" type="slidenum">
              <a:rPr b="1" lang="pt-BR" sz="2800" spc="-1" strike="noStrike">
                <a:solidFill>
                  <a:srgbClr val="ffffff"/>
                </a:solidFill>
                <a:latin typeface="Pengui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"/>
          <p:cNvSpPr/>
          <p:nvPr/>
        </p:nvSpPr>
        <p:spPr>
          <a:xfrm>
            <a:off x="1862280" y="4713120"/>
            <a:ext cx="191880" cy="192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cc9900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9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701C-31A3-4221-AF05-0D8B72620042}" type="slidenum">
              <a:rPr b="0" lang="pt-B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692280" y="257040"/>
            <a:ext cx="7804080" cy="1067040"/>
            <a:chOff x="692280" y="257040"/>
            <a:chExt cx="7804080" cy="1067040"/>
          </a:xfrm>
        </p:grpSpPr>
        <p:sp>
          <p:nvSpPr>
            <p:cNvPr id="97" name=""/>
            <p:cNvSpPr/>
            <p:nvPr/>
          </p:nvSpPr>
          <p:spPr>
            <a:xfrm>
              <a:off x="723960" y="257040"/>
              <a:ext cx="7772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000000"/>
                  </a:solidFill>
                  <a:latin typeface="Penguin"/>
                </a:rPr>
                <a:t>Técnicas de Programação</a:t>
              </a:r>
              <a:endParaRPr b="0" lang="en-US" sz="4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2280" y="282600"/>
              <a:ext cx="7772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99"/>
                  </a:solidFill>
                  <a:latin typeface="Penguin"/>
                </a:rPr>
                <a:t>Técnicas de Programação</a:t>
              </a:r>
              <a:endParaRPr b="0" lang="en-US" sz="4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996840" y="2371680"/>
            <a:ext cx="7137360" cy="2025720"/>
            <a:chOff x="996840" y="2371680"/>
            <a:chExt cx="7137360" cy="2025720"/>
          </a:xfrm>
        </p:grpSpPr>
        <p:sp>
          <p:nvSpPr>
            <p:cNvPr id="100" name=""/>
            <p:cNvSpPr/>
            <p:nvPr/>
          </p:nvSpPr>
          <p:spPr>
            <a:xfrm>
              <a:off x="1009800" y="2371680"/>
              <a:ext cx="71244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5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6840" y="2397240"/>
              <a:ext cx="7124760" cy="2000160"/>
            </a:xfrm>
            <a:prstGeom prst="rect">
              <a:avLst/>
            </a:prstGeom>
            <a:noFill/>
            <a:ln w="0">
              <a:noFill/>
            </a:ln>
            <a:effectLst>
              <a:outerShdw dist="28496" dir="1777448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5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4400" spc="-1" strike="noStrike">
                  <a:solidFill>
                    <a:srgbClr val="ffff00"/>
                  </a:solidFill>
                  <a:latin typeface="Penguin"/>
                </a:rPr>
                <a:t>Funções de Entrada e Saída </a:t>
              </a:r>
              <a:r>
                <a:rPr b="1" lang="pt-BR" sz="4400" spc="-1" strike="noStrike">
                  <a:solidFill>
                    <a:srgbClr val="ffff00"/>
                  </a:solidFill>
                  <a:latin typeface="Penguin"/>
                </a:rPr>
                <a:t>– Linguagem C (Parte II)</a:t>
              </a:r>
              <a:r>
                <a:rPr b="1" lang="pt-BR" sz="5400" spc="-1" strike="noStrike" u="sng">
                  <a:solidFill>
                    <a:srgbClr val="ffff00"/>
                  </a:solidFill>
                  <a:uFillTx/>
                  <a:latin typeface="Arial"/>
                </a:rPr>
                <a:t> </a:t>
              </a:r>
              <a:r>
                <a:rPr b="1" lang="pt-BR" sz="5400" spc="-1" strike="noStrike">
                  <a:solidFill>
                    <a:srgbClr val="ffff00"/>
                  </a:solidFill>
                  <a:latin typeface="Tahoma"/>
                </a:rPr>
                <a:t> </a:t>
              </a:r>
              <a:endParaRPr b="0" lang="en-US" sz="5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057400" y="4473720"/>
            <a:ext cx="5029200" cy="939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90720" indent="-99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ofs.: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Joseana Macêdo Fechin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990720" indent="-99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José Eustáquio Rang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9527-3C57-460B-BB5B-A8C7912EC4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54040" y="431640"/>
            <a:ext cx="2523960" cy="3906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cc00"/>
                </a:solidFill>
                <a:latin typeface="Penguin"/>
              </a:rPr>
              <a:t>  </a:t>
            </a:r>
            <a:r>
              <a:rPr b="1" lang="pt-PT" sz="3600" spc="-1" strike="noStrike">
                <a:solidFill>
                  <a:srgbClr val="ffcc00"/>
                </a:solidFill>
                <a:latin typeface="Penguin"/>
              </a:rPr>
              <a:t>Exempl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85680" y="-46080"/>
            <a:ext cx="7174080" cy="577800"/>
            <a:chOff x="985680" y="-46080"/>
            <a:chExt cx="7174080" cy="577800"/>
          </a:xfrm>
        </p:grpSpPr>
        <p:sp>
          <p:nvSpPr>
            <p:cNvPr id="105" name=""/>
            <p:cNvSpPr/>
            <p:nvPr/>
          </p:nvSpPr>
          <p:spPr>
            <a:xfrm>
              <a:off x="1012680" y="-46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85680" y="-3024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241280" y="992160"/>
            <a:ext cx="4794480" cy="55929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"/>
          <p:cNvSpPr/>
          <p:nvPr/>
        </p:nvSpPr>
        <p:spPr>
          <a:xfrm>
            <a:off x="1454040" y="1064160"/>
            <a:ext cx="4353120" cy="55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#include&lt;stdio.h&gt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#include&lt;stdlib.h&gt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#define N 4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in(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 j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loat R[N], temp, Req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LE *fp1, *fp2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f((fp1=fopen("arq1.dat","r"))==NULL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{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uts("Nao posso abrir o arquivo!"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it(1);                         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f((fp2=fopen("arq2.dat","w"))==NULL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{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uts("Nao posso criar o arquivo!"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it(1);                         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A7A0-D516-44C4-A88C-82D68E1A9F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54040" y="431640"/>
            <a:ext cx="2523960" cy="3906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cc00"/>
                </a:solidFill>
                <a:latin typeface="Penguin"/>
              </a:rPr>
              <a:t>  </a:t>
            </a:r>
            <a:r>
              <a:rPr b="1" lang="pt-PT" sz="3600" spc="-1" strike="noStrike">
                <a:solidFill>
                  <a:srgbClr val="ffcc00"/>
                </a:solidFill>
                <a:latin typeface="Penguin"/>
              </a:rPr>
              <a:t>Exempl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985680" y="-46080"/>
            <a:ext cx="7174080" cy="577800"/>
            <a:chOff x="985680" y="-46080"/>
            <a:chExt cx="7174080" cy="577800"/>
          </a:xfrm>
        </p:grpSpPr>
        <p:sp>
          <p:nvSpPr>
            <p:cNvPr id="111" name=""/>
            <p:cNvSpPr/>
            <p:nvPr/>
          </p:nvSpPr>
          <p:spPr>
            <a:xfrm>
              <a:off x="1012680" y="-46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85680" y="-3024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525600" y="1198440"/>
            <a:ext cx="8091360" cy="46958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"/>
          <p:cNvSpPr/>
          <p:nvPr/>
        </p:nvSpPr>
        <p:spPr>
          <a:xfrm>
            <a:off x="658800" y="1408320"/>
            <a:ext cx="4189320" cy="45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mp=0.0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q=0.0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(j=0; j&lt;N; j++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scanf(fp1,"%f", &amp;R[j]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mp+=1/R[j]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printf(fp2,"R[%d]=%.1f\n", j,R[j]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q=1/temp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printf(fp2,"Req=%.1f", Req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close(fp1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close(fp2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turn 0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"/>
          <p:cNvSpPr/>
          <p:nvPr/>
        </p:nvSpPr>
        <p:spPr>
          <a:xfrm>
            <a:off x="5073480" y="2284560"/>
            <a:ext cx="293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sidere que “arq1.dat” contém: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0.0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.0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.0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5.0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"/>
          <p:cNvSpPr/>
          <p:nvPr/>
        </p:nvSpPr>
        <p:spPr>
          <a:xfrm>
            <a:off x="4986360" y="2225520"/>
            <a:ext cx="2778120" cy="229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AFEE-D4AF-4995-A381-48E3CBC6B7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54040" y="431640"/>
            <a:ext cx="2523960" cy="3906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cc00"/>
                </a:solidFill>
                <a:latin typeface="Penguin"/>
              </a:rPr>
              <a:t>  </a:t>
            </a:r>
            <a:r>
              <a:rPr b="1" lang="pt-PT" sz="3600" spc="-1" strike="noStrike">
                <a:solidFill>
                  <a:srgbClr val="ffcc00"/>
                </a:solidFill>
                <a:latin typeface="Penguin"/>
              </a:rPr>
              <a:t>Exempl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985680" y="-46080"/>
            <a:ext cx="7174080" cy="577800"/>
            <a:chOff x="985680" y="-46080"/>
            <a:chExt cx="7174080" cy="577800"/>
          </a:xfrm>
        </p:grpSpPr>
        <p:sp>
          <p:nvSpPr>
            <p:cNvPr id="119" name=""/>
            <p:cNvSpPr/>
            <p:nvPr/>
          </p:nvSpPr>
          <p:spPr>
            <a:xfrm>
              <a:off x="1012680" y="-4608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85680" y="-3024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25600" y="938160"/>
            <a:ext cx="8091360" cy="59198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620640" y="1054440"/>
            <a:ext cx="8124840" cy="58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#include &lt;stdio.h&gt;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 (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{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 *fp;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r ch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 ident, consumo;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fp=fopen("consumo.dat","w");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printf("Forneca a identificação (numero) do aparelho (0 para sa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ir): \n");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anf("%d",&amp;ident);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ile(ident) {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printf("Forneça o consumo em kWh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: \n");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scanf("%d",&amp;consumo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fprintf(fp,"aparelho - %d consumo - %d\n",ident,consumo);</a:t>
            </a:r>
            <a:r>
              <a:rPr b="1" i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printf("Forneca a identificação do aparelho (0 para sa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ir): \n");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anf("%d",&amp;ident);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close(fp);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printf(“Dados inseridos”);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8A4A-7E78-4BD3-9446-4043B7E4AC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60240" y="1681200"/>
            <a:ext cx="7823520" cy="142560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54000"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1" lang="pt-PT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Elabore um programa em Linguagem C que determina o </a:t>
            </a:r>
            <a:r>
              <a:rPr b="1" lang="pt-PT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custo mensal</a:t>
            </a:r>
            <a:r>
              <a:rPr b="1" lang="pt-PT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(30 dias), para um dado valor do kWh, e a </a:t>
            </a:r>
            <a:r>
              <a:rPr b="1" lang="pt-PT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intensidade de corrente elétrica</a:t>
            </a:r>
            <a:r>
              <a:rPr b="1" lang="pt-PT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que atravessa um determinado aparelho elétrico. Para a resolução devem ser satisfeitas as seguintes condiçõ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pt-PT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O valor da ddp, da potência, do custo do KWh e o tempo de uso diário (em horas) devem ser fornecidos através de um arquiv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pt-PT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1" lang="pt-PT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Os resultados devem ser armazenados em um segundo arquivo e apresentados com duas casas decima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4800" y="851040"/>
            <a:ext cx="2524320" cy="3902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cc00"/>
                </a:solidFill>
                <a:latin typeface="Penguin"/>
              </a:rPr>
              <a:t>  </a:t>
            </a: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Exercíci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985680" y="42840"/>
            <a:ext cx="7174080" cy="577440"/>
            <a:chOff x="985680" y="42840"/>
            <a:chExt cx="7174080" cy="577440"/>
          </a:xfrm>
        </p:grpSpPr>
        <p:sp>
          <p:nvSpPr>
            <p:cNvPr id="126" name=""/>
            <p:cNvSpPr/>
            <p:nvPr/>
          </p:nvSpPr>
          <p:spPr>
            <a:xfrm>
              <a:off x="1012680" y="4284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85680" y="5832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Entrada e Saída – C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E1E6-60C7-4FE5-8FE7-6573D20B52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06:02Z</dcterms:created>
  <dc:creator>Alexandre Magno Andrade Maciel</dc:creator>
  <dc:description/>
  <dc:language>en-US</dc:language>
  <cp:lastModifiedBy>Particular</cp:lastModifiedBy>
  <cp:lastPrinted>2002-02-17T19:14:27Z</cp:lastPrinted>
  <dcterms:modified xsi:type="dcterms:W3CDTF">2004-10-08T13:11:16Z</dcterms:modified>
  <cp:revision>293</cp:revision>
  <dc:subject/>
  <dc:title>Reconhecimento de voz</dc:title>
</cp:coreProperties>
</file>