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5A80-12CA-4B3F-A98E-EEF02D588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0280" y="40698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2399-B1A0-4DD9-99CB-A62E59587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732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03B0-28DB-4C97-AF52-2B7DE3ECD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272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516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028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272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9516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7785-EFBE-41B2-B85C-3CD89390E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0A740-FE50-40B1-9E20-235176852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F76BA-7BF0-420B-B5BD-FE507CF78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1C4D2-53F3-4142-8ACF-8AD317A83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27A69-1CF4-44ED-B5AA-EBAC0F4E7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C9BE7-C448-4051-9F52-F9D8ECD5F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5CA38-0DC8-4E76-95A7-EE9F52B41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CCFDD-682A-4CA0-BBB7-C401433A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D5A1-F802-415A-BBB1-D0F14A522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4732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2F971-1137-4EA9-BBCD-F91196D4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7273B-30E4-4DF0-BECD-840C8C8F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30280" y="40698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67463-02BE-46B9-AE5C-1534916B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4732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E3AC0-ED7F-4D1D-82CC-02E71E79A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1272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9516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3028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1272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9516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0AFCA-F9AB-46B7-B025-87A000B94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088B-239F-42D6-9822-1C6ED3900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5E74-2A34-4606-9299-66E014280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4810-FFA3-4A33-A47C-C7CC98E71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DE2A-0C03-4060-8B4C-53567B26D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ED13-FBA6-43FD-A822-1F84057B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732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9292-7468-4024-ACB2-9198137D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DBEE-B1A3-4EE4-929C-421FE1C5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3981600"/>
            <a:ext cx="3400560" cy="2863800"/>
          </a:xfrm>
          <a:custGeom>
            <a:avLst/>
            <a:gdLst/>
            <a:ahLst/>
            <a:rect l="l" t="t" r="r" b="b"/>
            <a:pathLst>
              <a:path w="2135" h="1804">
                <a:moveTo>
                  <a:pt x="329" y="66"/>
                </a:moveTo>
                <a:lnTo>
                  <a:pt x="161" y="30"/>
                </a:lnTo>
                <a:lnTo>
                  <a:pt x="0" y="0"/>
                </a:lnTo>
                <a:lnTo>
                  <a:pt x="0" y="12"/>
                </a:lnTo>
                <a:lnTo>
                  <a:pt x="161" y="42"/>
                </a:lnTo>
                <a:lnTo>
                  <a:pt x="323" y="78"/>
                </a:lnTo>
                <a:lnTo>
                  <a:pt x="556" y="150"/>
                </a:lnTo>
                <a:lnTo>
                  <a:pt x="777" y="245"/>
                </a:lnTo>
                <a:lnTo>
                  <a:pt x="993" y="365"/>
                </a:lnTo>
                <a:lnTo>
                  <a:pt x="1196" y="503"/>
                </a:lnTo>
                <a:lnTo>
                  <a:pt x="1381" y="653"/>
                </a:lnTo>
                <a:lnTo>
                  <a:pt x="1555" y="827"/>
                </a:lnTo>
                <a:lnTo>
                  <a:pt x="1710" y="1019"/>
                </a:lnTo>
                <a:lnTo>
                  <a:pt x="1854" y="1229"/>
                </a:lnTo>
                <a:lnTo>
                  <a:pt x="1937" y="1366"/>
                </a:lnTo>
                <a:lnTo>
                  <a:pt x="2009" y="1510"/>
                </a:lnTo>
                <a:lnTo>
                  <a:pt x="2069" y="1654"/>
                </a:lnTo>
                <a:lnTo>
                  <a:pt x="2123" y="1804"/>
                </a:lnTo>
                <a:lnTo>
                  <a:pt x="2135" y="1804"/>
                </a:lnTo>
                <a:lnTo>
                  <a:pt x="2081" y="1654"/>
                </a:lnTo>
                <a:lnTo>
                  <a:pt x="2021" y="1510"/>
                </a:lnTo>
                <a:lnTo>
                  <a:pt x="1949" y="1366"/>
                </a:lnTo>
                <a:lnTo>
                  <a:pt x="1866" y="1223"/>
                </a:lnTo>
                <a:lnTo>
                  <a:pt x="1722" y="1013"/>
                </a:lnTo>
                <a:lnTo>
                  <a:pt x="1561" y="821"/>
                </a:lnTo>
                <a:lnTo>
                  <a:pt x="1387" y="647"/>
                </a:lnTo>
                <a:lnTo>
                  <a:pt x="1202" y="491"/>
                </a:lnTo>
                <a:lnTo>
                  <a:pt x="999" y="353"/>
                </a:lnTo>
                <a:lnTo>
                  <a:pt x="783" y="239"/>
                </a:lnTo>
                <a:lnTo>
                  <a:pt x="562" y="138"/>
                </a:lnTo>
                <a:lnTo>
                  <a:pt x="329" y="66"/>
                </a:lnTo>
                <a:lnTo>
                  <a:pt x="329" y="6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cc9900">
                  <a:alpha val="29019"/>
                </a:srgbClr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"/>
          <p:cNvSpPr/>
          <p:nvPr/>
        </p:nvSpPr>
        <p:spPr>
          <a:xfrm>
            <a:off x="0" y="4341960"/>
            <a:ext cx="2770200" cy="2503440"/>
          </a:xfrm>
          <a:custGeom>
            <a:avLst/>
            <a:gdLst/>
            <a:ahLst/>
            <a:rect l="l" t="t" r="r" b="b"/>
            <a:pathLst>
              <a:path w="1745" h="1577">
                <a:moveTo>
                  <a:pt x="1640" y="1377"/>
                </a:moveTo>
                <a:lnTo>
                  <a:pt x="1692" y="1479"/>
                </a:lnTo>
                <a:lnTo>
                  <a:pt x="1732" y="1577"/>
                </a:lnTo>
                <a:lnTo>
                  <a:pt x="1745" y="1577"/>
                </a:lnTo>
                <a:lnTo>
                  <a:pt x="1703" y="1469"/>
                </a:lnTo>
                <a:lnTo>
                  <a:pt x="1649" y="1367"/>
                </a:lnTo>
                <a:lnTo>
                  <a:pt x="1535" y="1157"/>
                </a:lnTo>
                <a:lnTo>
                  <a:pt x="1395" y="951"/>
                </a:lnTo>
                <a:lnTo>
                  <a:pt x="1236" y="756"/>
                </a:lnTo>
                <a:lnTo>
                  <a:pt x="1061" y="582"/>
                </a:lnTo>
                <a:lnTo>
                  <a:pt x="876" y="426"/>
                </a:lnTo>
                <a:lnTo>
                  <a:pt x="672" y="294"/>
                </a:lnTo>
                <a:lnTo>
                  <a:pt x="455" y="174"/>
                </a:lnTo>
                <a:lnTo>
                  <a:pt x="234" y="78"/>
                </a:lnTo>
                <a:lnTo>
                  <a:pt x="0" y="0"/>
                </a:lnTo>
                <a:lnTo>
                  <a:pt x="0" y="12"/>
                </a:lnTo>
                <a:lnTo>
                  <a:pt x="222" y="89"/>
                </a:lnTo>
                <a:lnTo>
                  <a:pt x="446" y="185"/>
                </a:lnTo>
                <a:lnTo>
                  <a:pt x="662" y="305"/>
                </a:lnTo>
                <a:lnTo>
                  <a:pt x="866" y="437"/>
                </a:lnTo>
                <a:lnTo>
                  <a:pt x="1052" y="593"/>
                </a:lnTo>
                <a:lnTo>
                  <a:pt x="1226" y="767"/>
                </a:lnTo>
                <a:lnTo>
                  <a:pt x="1385" y="960"/>
                </a:lnTo>
                <a:lnTo>
                  <a:pt x="1526" y="1167"/>
                </a:lnTo>
                <a:lnTo>
                  <a:pt x="1640" y="1377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fffcc">
                  <a:alpha val="29019"/>
                </a:srgbClr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"/>
          <p:cNvSpPr/>
          <p:nvPr/>
        </p:nvSpPr>
        <p:spPr>
          <a:xfrm>
            <a:off x="0" y="4038480"/>
            <a:ext cx="2770200" cy="2806920"/>
          </a:xfrm>
          <a:custGeom>
            <a:avLst/>
            <a:gdLst/>
            <a:ahLst/>
            <a:rect l="l" t="t" r="r" b="b"/>
            <a:pathLst>
              <a:path w="1745" h="1768">
                <a:moveTo>
                  <a:pt x="0" y="0"/>
                </a:moveTo>
                <a:lnTo>
                  <a:pt x="0" y="12"/>
                </a:lnTo>
                <a:lnTo>
                  <a:pt x="210" y="88"/>
                </a:lnTo>
                <a:lnTo>
                  <a:pt x="426" y="190"/>
                </a:lnTo>
                <a:lnTo>
                  <a:pt x="630" y="304"/>
                </a:lnTo>
                <a:lnTo>
                  <a:pt x="818" y="442"/>
                </a:lnTo>
                <a:lnTo>
                  <a:pt x="998" y="592"/>
                </a:lnTo>
                <a:lnTo>
                  <a:pt x="1164" y="766"/>
                </a:lnTo>
                <a:lnTo>
                  <a:pt x="1310" y="942"/>
                </a:lnTo>
                <a:lnTo>
                  <a:pt x="1454" y="1146"/>
                </a:lnTo>
                <a:lnTo>
                  <a:pt x="1536" y="1298"/>
                </a:lnTo>
                <a:lnTo>
                  <a:pt x="1614" y="1456"/>
                </a:lnTo>
                <a:lnTo>
                  <a:pt x="1682" y="1616"/>
                </a:lnTo>
                <a:lnTo>
                  <a:pt x="1733" y="1768"/>
                </a:lnTo>
                <a:lnTo>
                  <a:pt x="1745" y="1768"/>
                </a:lnTo>
                <a:lnTo>
                  <a:pt x="1691" y="1606"/>
                </a:lnTo>
                <a:lnTo>
                  <a:pt x="1623" y="1445"/>
                </a:lnTo>
                <a:lnTo>
                  <a:pt x="1547" y="1288"/>
                </a:lnTo>
                <a:lnTo>
                  <a:pt x="1463" y="1136"/>
                </a:lnTo>
                <a:lnTo>
                  <a:pt x="1320" y="932"/>
                </a:lnTo>
                <a:lnTo>
                  <a:pt x="1173" y="755"/>
                </a:lnTo>
                <a:lnTo>
                  <a:pt x="1008" y="581"/>
                </a:lnTo>
                <a:lnTo>
                  <a:pt x="827" y="431"/>
                </a:lnTo>
                <a:lnTo>
                  <a:pt x="642" y="293"/>
                </a:lnTo>
                <a:lnTo>
                  <a:pt x="437" y="179"/>
                </a:lnTo>
                <a:lnTo>
                  <a:pt x="222" y="7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de503">
                  <a:alpha val="29019"/>
                </a:srgbClr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"/>
          <p:cNvSpPr/>
          <p:nvPr/>
        </p:nvSpPr>
        <p:spPr>
          <a:xfrm>
            <a:off x="1711440" y="5305320"/>
            <a:ext cx="136440" cy="13680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cc">
                  <a:alpha val="54117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"/>
          <p:cNvSpPr/>
          <p:nvPr/>
        </p:nvSpPr>
        <p:spPr>
          <a:xfrm>
            <a:off x="2438280" y="6165720"/>
            <a:ext cx="146160" cy="146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de503">
                  <a:alpha val="54117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"/>
          <p:cNvSpPr/>
          <p:nvPr/>
        </p:nvSpPr>
        <p:spPr>
          <a:xfrm>
            <a:off x="1123920" y="4554360"/>
            <a:ext cx="192240" cy="192240"/>
          </a:xfrm>
          <a:prstGeom prst="ellipse">
            <a:avLst/>
          </a:prstGeom>
          <a:blipFill rotWithShape="0">
            <a:blip r:embed="rId2">
              <a:alphaModFix amt="5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6840" y="634824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5768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000" spc="-1" strike="noStrike">
                <a:solidFill>
                  <a:srgbClr val="ffffff"/>
                </a:solidFill>
                <a:latin typeface="Arial"/>
              </a:rPr>
              <a:t>DSC/CCT/UFCG – Técnicas de Programação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795720" y="634824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2800" spc="-1" strike="noStrike">
                <a:solidFill>
                  <a:srgbClr val="ffffff"/>
                </a:solidFill>
                <a:latin typeface="Pengui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BE976-E1C8-44B5-A610-BD170841AF03}" type="slidenum">
              <a:rPr b="1" lang="pt-BR" sz="2800" spc="-1" strike="noStrike">
                <a:solidFill>
                  <a:srgbClr val="ffffff"/>
                </a:solidFill>
                <a:latin typeface="Pengui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"/>
          <p:cNvSpPr/>
          <p:nvPr/>
        </p:nvSpPr>
        <p:spPr>
          <a:xfrm>
            <a:off x="1862280" y="4713120"/>
            <a:ext cx="191880" cy="1922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cc9900">
                  <a:alpha val="54117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9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BE97E-F42B-477E-AAB4-CC0AA6FDE8E3}" type="slidenum">
              <a:rPr b="0" lang="pt-B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692280" y="257040"/>
            <a:ext cx="7804080" cy="1067040"/>
            <a:chOff x="692280" y="257040"/>
            <a:chExt cx="7804080" cy="1067040"/>
          </a:xfrm>
        </p:grpSpPr>
        <p:sp>
          <p:nvSpPr>
            <p:cNvPr id="97" name=""/>
            <p:cNvSpPr/>
            <p:nvPr/>
          </p:nvSpPr>
          <p:spPr>
            <a:xfrm>
              <a:off x="723960" y="257040"/>
              <a:ext cx="777240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000000"/>
                  </a:solidFill>
                  <a:latin typeface="Penguin"/>
                </a:rPr>
                <a:t>Técnicas de Programação</a:t>
              </a:r>
              <a:endParaRPr b="0" lang="en-US" sz="4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92280" y="282600"/>
              <a:ext cx="777240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99"/>
                  </a:solidFill>
                  <a:latin typeface="Penguin"/>
                </a:rPr>
                <a:t>Técnicas de Programação</a:t>
              </a:r>
              <a:endParaRPr b="0" lang="en-US" sz="4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996840" y="2371680"/>
            <a:ext cx="7137360" cy="2025720"/>
            <a:chOff x="996840" y="2371680"/>
            <a:chExt cx="7137360" cy="2025720"/>
          </a:xfrm>
        </p:grpSpPr>
        <p:sp>
          <p:nvSpPr>
            <p:cNvPr id="100" name=""/>
            <p:cNvSpPr/>
            <p:nvPr/>
          </p:nvSpPr>
          <p:spPr>
            <a:xfrm>
              <a:off x="1009800" y="2371680"/>
              <a:ext cx="71244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5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6840" y="2397240"/>
              <a:ext cx="7124760" cy="2000160"/>
            </a:xfrm>
            <a:prstGeom prst="rect">
              <a:avLst/>
            </a:prstGeom>
            <a:noFill/>
            <a:ln w="0">
              <a:noFill/>
            </a:ln>
            <a:effectLst>
              <a:outerShdw dist="28496" dir="17774481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5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4400" spc="-1" strike="noStrike">
                  <a:solidFill>
                    <a:srgbClr val="ffff00"/>
                  </a:solidFill>
                  <a:latin typeface="Penguin"/>
                </a:rPr>
                <a:t>Funções de Entrada e Saída </a:t>
              </a:r>
              <a:r>
                <a:rPr b="1" lang="pt-BR" sz="4400" spc="-1" strike="noStrike">
                  <a:solidFill>
                    <a:srgbClr val="ffff00"/>
                  </a:solidFill>
                  <a:latin typeface="Penguin"/>
                </a:rPr>
                <a:t>– Linguagem C</a:t>
              </a:r>
              <a:r>
                <a:rPr b="1" lang="pt-BR" sz="5400" spc="-1" strike="noStrike" u="sng">
                  <a:solidFill>
                    <a:srgbClr val="ffff00"/>
                  </a:solidFill>
                  <a:uFillTx/>
                  <a:latin typeface="Arial"/>
                </a:rPr>
                <a:t> </a:t>
              </a:r>
              <a:r>
                <a:rPr b="1" lang="pt-BR" sz="5400" spc="-1" strike="noStrike">
                  <a:solidFill>
                    <a:srgbClr val="ffff00"/>
                  </a:solidFill>
                  <a:latin typeface="Tahoma"/>
                </a:rPr>
                <a:t> </a:t>
              </a:r>
              <a:endParaRPr b="0" lang="en-US" sz="5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057400" y="4473720"/>
            <a:ext cx="5029200" cy="939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90720" indent="-99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rofs.: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ffffcc"/>
                </a:solidFill>
                <a:latin typeface="Arial"/>
              </a:rPr>
              <a:t>Joseana Macêdo Fechin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990720" indent="-99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ffffcc"/>
                </a:solidFill>
                <a:latin typeface="Arial"/>
              </a:rPr>
              <a:t>José Eustáquio Rang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9763-C319-4C59-822B-042D5C8EDEC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911760" y="901800"/>
            <a:ext cx="4663800" cy="53895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62120" y="2830320"/>
            <a:ext cx="2768400" cy="766440"/>
          </a:xfrm>
          <a:prstGeom prst="rect">
            <a:avLst/>
          </a:prstGeom>
          <a:noFill/>
          <a:ln w="0">
            <a:noFill/>
          </a:ln>
          <a:effectLst>
            <a:outerShdw dist="28496" dir="2002552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Penguin"/>
              </a:rPr>
              <a:t>ESPECIFICAÇÃO DE FORMA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4059360" y="1039680"/>
          <a:ext cx="4365360" cy="5199120"/>
        </p:xfrm>
        <a:graphic>
          <a:graphicData uri="http://schemas.openxmlformats.org/drawingml/2006/table">
            <a:tbl>
              <a:tblPr/>
              <a:tblGrid>
                <a:gridCol w="1271520"/>
                <a:gridCol w="30938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Penguin"/>
                          <a:ea typeface="Times New Roman"/>
                        </a:rPr>
                        <a:t>Format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Penguin"/>
                          <a:ea typeface="Times New Roman"/>
                        </a:rPr>
                        <a:t>Descriçã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10199"/>
                          </a:solidFill>
                          <a:latin typeface="Arial"/>
                          <a:ea typeface="Times New Roman"/>
                        </a:rPr>
                        <a:t>%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úmero decim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10199"/>
                          </a:solidFill>
                          <a:latin typeface="Arial"/>
                          <a:ea typeface="Times New Roman"/>
                        </a:rPr>
                        <a:t>%ld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úmero decimal long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10199"/>
                          </a:solidFill>
                          <a:latin typeface="Arial"/>
                          <a:ea typeface="Times New Roman"/>
                        </a:rPr>
                        <a:t>%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ação octal sem si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10199"/>
                          </a:solidFill>
                          <a:latin typeface="Arial"/>
                          <a:ea typeface="Times New Roman"/>
                        </a:rPr>
                        <a:t>%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xadecimal sem si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10199"/>
                          </a:solidFill>
                          <a:latin typeface="Arial"/>
                          <a:ea typeface="Times New Roman"/>
                        </a:rPr>
                        <a:t>%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imal sem si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10199"/>
                          </a:solidFill>
                          <a:latin typeface="Arial"/>
                          <a:ea typeface="Times New Roman"/>
                        </a:rPr>
                        <a:t>%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m único caracte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10199"/>
                          </a:solidFill>
                          <a:latin typeface="Arial"/>
                          <a:ea typeface="Times New Roman"/>
                        </a:rPr>
                        <a:t>%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10199"/>
                          </a:solidFill>
                          <a:latin typeface="Arial"/>
                          <a:ea typeface="Times New Roman"/>
                        </a:rPr>
                        <a:t>%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ação científi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10199"/>
                          </a:solidFill>
                          <a:latin typeface="Arial"/>
                          <a:ea typeface="Times New Roman"/>
                        </a:rPr>
                        <a:t>%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nto flutuan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10199"/>
                          </a:solidFill>
                          <a:latin typeface="Arial"/>
                          <a:ea typeface="Times New Roman"/>
                        </a:rPr>
                        <a:t>%g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nor entre %e e %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10199"/>
                          </a:solidFill>
                          <a:latin typeface="Arial"/>
                          <a:ea typeface="Times New Roman"/>
                        </a:rPr>
                        <a:t>%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dereço de memór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10199"/>
                          </a:solidFill>
                          <a:latin typeface="Arial"/>
                          <a:ea typeface="Times New Roman"/>
                        </a:rPr>
                        <a:t>%%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mpressão de um 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403200" y="885960"/>
            <a:ext cx="2230560" cy="64260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cc00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i="1" lang="pt-BR" sz="3600" spc="-1" strike="noStrike">
                <a:solidFill>
                  <a:srgbClr val="ffcc00"/>
                </a:solidFill>
                <a:latin typeface="Arial"/>
              </a:rPr>
              <a:t>printf()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85680" y="81000"/>
            <a:ext cx="7174080" cy="577440"/>
            <a:chOff x="985680" y="81000"/>
            <a:chExt cx="7174080" cy="577440"/>
          </a:xfrm>
        </p:grpSpPr>
        <p:sp>
          <p:nvSpPr>
            <p:cNvPr id="175" name=""/>
            <p:cNvSpPr/>
            <p:nvPr/>
          </p:nvSpPr>
          <p:spPr>
            <a:xfrm>
              <a:off x="1012680" y="810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985680" y="964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Entrada e Saída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8FBC-7639-4EF2-BD48-34F10F3946D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9340200" y="530424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8" name=""/>
          <p:cNvSpPr/>
          <p:nvPr/>
        </p:nvSpPr>
        <p:spPr>
          <a:xfrm>
            <a:off x="453960" y="720720"/>
            <a:ext cx="2230560" cy="64260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cc00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i="1" lang="pt-BR" sz="3600" spc="-1" strike="noStrike">
                <a:solidFill>
                  <a:srgbClr val="ffcc00"/>
                </a:solidFill>
                <a:latin typeface="Arial"/>
              </a:rPr>
              <a:t>printf()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11040" y="1536840"/>
            <a:ext cx="8427960" cy="4843440"/>
            <a:chOff x="311040" y="1536840"/>
            <a:chExt cx="8427960" cy="4843440"/>
          </a:xfrm>
        </p:grpSpPr>
        <p:sp>
          <p:nvSpPr>
            <p:cNvPr id="180" name=""/>
            <p:cNvSpPr/>
            <p:nvPr/>
          </p:nvSpPr>
          <p:spPr>
            <a:xfrm>
              <a:off x="311040" y="1536840"/>
              <a:ext cx="8427960" cy="484344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470120" y="4883040"/>
              <a:ext cx="4149720" cy="13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10199"/>
                  </a:solidFill>
                  <a:latin typeface="Arial"/>
                </a:rPr>
                <a:t>num1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tamanho total em caracteres do valor a escrever; 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just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10199"/>
                  </a:solidFill>
                  <a:latin typeface="Arial"/>
                </a:rPr>
                <a:t>num2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precisão (número de algarismos decimais). 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19040" y="4883040"/>
              <a:ext cx="4051080" cy="13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dicador na forma </a:t>
              </a:r>
              <a:r>
                <a:rPr b="1" lang="en-US" sz="2000" spc="-1" strike="noStrike">
                  <a:solidFill>
                    <a:srgbClr val="010199"/>
                  </a:solidFill>
                  <a:latin typeface="Arial"/>
                </a:rPr>
                <a:t>num1.num2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470120" y="3268800"/>
              <a:ext cx="4149720" cy="16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amanho em caracteres do valor a escrever (se o valor para ser escrito ocupar mais caracteres do que o especificado, não é truncado); 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19040" y="3268800"/>
              <a:ext cx="4051080" cy="16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10199"/>
                  </a:solidFill>
                  <a:latin typeface="Arial"/>
                </a:rPr>
                <a:t>valor inteiro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470120" y="2568600"/>
              <a:ext cx="414972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 valor a escrever contém sempre um sinal (</a:t>
              </a:r>
              <a:r>
                <a:rPr b="1" lang="en-US" sz="2000" spc="-1" strike="noStrike">
                  <a:solidFill>
                    <a:srgbClr val="010199"/>
                  </a:solidFill>
                  <a:latin typeface="Arial"/>
                </a:rPr>
                <a:t>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ou </a:t>
              </a:r>
              <a:r>
                <a:rPr b="1" lang="en-US" sz="2000" spc="-1" strike="noStrike">
                  <a:solidFill>
                    <a:srgbClr val="010199"/>
                  </a:solidFill>
                  <a:latin typeface="Arial"/>
                </a:rPr>
                <a:t>+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); 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19040" y="2568600"/>
              <a:ext cx="405108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10199"/>
                  </a:solidFill>
                  <a:latin typeface="Arial"/>
                </a:rPr>
                <a:t>+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(sinal mais)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470120" y="2144880"/>
              <a:ext cx="414972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az uma justificação à esquerda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19040" y="2144880"/>
              <a:ext cx="405108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10199"/>
                  </a:solidFill>
                  <a:latin typeface="Arial"/>
                  <a:ea typeface="Arial"/>
                </a:rPr>
                <a:t>─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sinal menos)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470120" y="1627200"/>
              <a:ext cx="41497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Penguin"/>
                </a:rPr>
                <a:t>Significado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19040" y="1627200"/>
              <a:ext cx="40510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Penguin"/>
                </a:rPr>
                <a:t>Indicadores 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19040" y="1627200"/>
              <a:ext cx="8200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19040" y="2144880"/>
              <a:ext cx="820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19040" y="2568600"/>
              <a:ext cx="820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19040" y="3268800"/>
              <a:ext cx="820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9040" y="4883040"/>
              <a:ext cx="820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19040" y="6269040"/>
              <a:ext cx="8200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470120" y="1627200"/>
              <a:ext cx="0" cy="464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19040" y="1627200"/>
              <a:ext cx="0" cy="4641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619840" y="1627200"/>
              <a:ext cx="0" cy="4641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985680" y="81000"/>
            <a:ext cx="7174080" cy="577440"/>
            <a:chOff x="985680" y="81000"/>
            <a:chExt cx="7174080" cy="577440"/>
          </a:xfrm>
        </p:grpSpPr>
        <p:sp>
          <p:nvSpPr>
            <p:cNvPr id="201" name=""/>
            <p:cNvSpPr/>
            <p:nvPr/>
          </p:nvSpPr>
          <p:spPr>
            <a:xfrm>
              <a:off x="1012680" y="810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85680" y="964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Entrada e Saída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D5A2-DDA8-4A3A-B972-D8644FDA733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"/>
          <p:cNvGrpSpPr/>
          <p:nvPr/>
        </p:nvGrpSpPr>
        <p:grpSpPr>
          <a:xfrm>
            <a:off x="4238640" y="1166760"/>
            <a:ext cx="3886200" cy="3862440"/>
            <a:chOff x="4238640" y="1166760"/>
            <a:chExt cx="3886200" cy="3862440"/>
          </a:xfrm>
        </p:grpSpPr>
        <p:sp>
          <p:nvSpPr>
            <p:cNvPr id="204" name=""/>
            <p:cNvSpPr/>
            <p:nvPr/>
          </p:nvSpPr>
          <p:spPr>
            <a:xfrm>
              <a:off x="4238640" y="1166760"/>
              <a:ext cx="3886200" cy="386244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4365720" y="1297080"/>
              <a:ext cx="3619440" cy="3590640"/>
              <a:chOff x="4365720" y="1297080"/>
              <a:chExt cx="3619440" cy="3590640"/>
            </a:xfrm>
          </p:grpSpPr>
          <p:sp>
            <p:nvSpPr>
              <p:cNvPr id="206" name=""/>
              <p:cNvSpPr/>
              <p:nvPr/>
            </p:nvSpPr>
            <p:spPr>
              <a:xfrm>
                <a:off x="6023160" y="4308480"/>
                <a:ext cx="196200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ouble</a:t>
                </a:r>
                <a:endParaRPr b="0" lang="en-US" sz="2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365720" y="4308480"/>
                <a:ext cx="165744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10199"/>
                    </a:solidFill>
                    <a:latin typeface="Arial"/>
                    <a:ea typeface="Times New Roman"/>
                  </a:rPr>
                  <a:t>%lf</a:t>
                </a:r>
                <a:endParaRPr b="0" lang="en-US" sz="2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023160" y="3727440"/>
                <a:ext cx="1962000" cy="58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float</a:t>
                </a:r>
                <a:endParaRPr b="0" lang="en-US" sz="2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365720" y="3727440"/>
                <a:ext cx="1657440" cy="58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10199"/>
                    </a:solidFill>
                    <a:latin typeface="Arial"/>
                    <a:ea typeface="Times New Roman"/>
                  </a:rPr>
                  <a:t>%f</a:t>
                </a:r>
                <a:endParaRPr b="0" lang="en-US" sz="2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023160" y="3149640"/>
                <a:ext cx="1962000" cy="57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unsigned int</a:t>
                </a:r>
                <a:endParaRPr b="0" lang="en-US" sz="2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65720" y="3149640"/>
                <a:ext cx="1657440" cy="57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10199"/>
                    </a:solidFill>
                    <a:latin typeface="Arial"/>
                    <a:ea typeface="Times New Roman"/>
                  </a:rPr>
                  <a:t>%u</a:t>
                </a:r>
                <a:endParaRPr b="0" lang="en-US" sz="2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023160" y="2570040"/>
                <a:ext cx="19620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ong int</a:t>
                </a:r>
                <a:endParaRPr b="0" lang="en-US" sz="2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365720" y="2570040"/>
                <a:ext cx="16574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10199"/>
                    </a:solidFill>
                    <a:latin typeface="Arial"/>
                    <a:ea typeface="Times New Roman"/>
                  </a:rPr>
                  <a:t>%ld </a:t>
                </a:r>
                <a:endParaRPr b="0" lang="en-US" sz="2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023160" y="1989000"/>
                <a:ext cx="1962000" cy="58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nt</a:t>
                </a:r>
                <a:endParaRPr b="0" lang="en-US" sz="2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365720" y="1989000"/>
                <a:ext cx="1657440" cy="58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10199"/>
                    </a:solidFill>
                    <a:latin typeface="Arial"/>
                    <a:ea typeface="Times New Roman"/>
                  </a:rPr>
                  <a:t>%d</a:t>
                </a:r>
                <a:endParaRPr b="0" lang="en-US" sz="2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023160" y="1297080"/>
                <a:ext cx="1962000" cy="69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Penguin"/>
                    <a:ea typeface="Times New Roman"/>
                  </a:rPr>
                  <a:t>Tipo</a:t>
                </a:r>
                <a:endParaRPr b="0" lang="en-US" sz="2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365720" y="1297080"/>
                <a:ext cx="1657440" cy="69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83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Penguin"/>
                    <a:ea typeface="Times New Roman"/>
                  </a:rPr>
                  <a:t>Formato</a:t>
                </a:r>
                <a:endParaRPr b="0" lang="en-US" sz="2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365720" y="1297080"/>
                <a:ext cx="3619440" cy="0"/>
              </a:xfrm>
              <a:prstGeom prst="line">
                <a:avLst/>
              </a:prstGeom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365720" y="4887720"/>
                <a:ext cx="3619440" cy="0"/>
              </a:xfrm>
              <a:prstGeom prst="line">
                <a:avLst/>
              </a:prstGeom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365720" y="1297080"/>
                <a:ext cx="0" cy="3590640"/>
              </a:xfrm>
              <a:prstGeom prst="line">
                <a:avLst/>
              </a:prstGeom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985160" y="1297080"/>
                <a:ext cx="0" cy="3590640"/>
              </a:xfrm>
              <a:prstGeom prst="line">
                <a:avLst/>
              </a:prstGeom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365720" y="1989000"/>
                <a:ext cx="3619440" cy="0"/>
              </a:xfrm>
              <a:prstGeom prst="line">
                <a:avLst/>
              </a:prstGeom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023160" y="1297080"/>
                <a:ext cx="0" cy="3590640"/>
              </a:xfrm>
              <a:prstGeom prst="line">
                <a:avLst/>
              </a:prstGeom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365720" y="2570040"/>
                <a:ext cx="3619440" cy="0"/>
              </a:xfrm>
              <a:prstGeom prst="line">
                <a:avLst/>
              </a:prstGeom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365720" y="3149640"/>
                <a:ext cx="3619440" cy="0"/>
              </a:xfrm>
              <a:prstGeom prst="line">
                <a:avLst/>
              </a:prstGeom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365720" y="3727440"/>
                <a:ext cx="3619440" cy="0"/>
              </a:xfrm>
              <a:prstGeom prst="line">
                <a:avLst/>
              </a:prstGeom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365720" y="4308480"/>
                <a:ext cx="3619440" cy="0"/>
              </a:xfrm>
              <a:prstGeom prst="line">
                <a:avLst/>
              </a:prstGeom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28" name=""/>
          <p:cNvSpPr/>
          <p:nvPr/>
        </p:nvSpPr>
        <p:spPr>
          <a:xfrm>
            <a:off x="762120" y="2830680"/>
            <a:ext cx="2768400" cy="7664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Penguin"/>
              </a:rPr>
              <a:t>ESPECIFICAÇÃO DE FORMATO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"/>
          <p:cNvSpPr/>
          <p:nvPr/>
        </p:nvSpPr>
        <p:spPr>
          <a:xfrm>
            <a:off x="403200" y="885960"/>
            <a:ext cx="2408400" cy="64260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cc00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i="1" lang="pt-BR" sz="3600" spc="-1" strike="noStrike">
                <a:solidFill>
                  <a:srgbClr val="ffcc00"/>
                </a:solidFill>
                <a:latin typeface="Arial"/>
              </a:rPr>
              <a:t>scanf()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985680" y="81000"/>
            <a:ext cx="7174080" cy="577440"/>
            <a:chOff x="985680" y="81000"/>
            <a:chExt cx="7174080" cy="577440"/>
          </a:xfrm>
        </p:grpSpPr>
        <p:sp>
          <p:nvSpPr>
            <p:cNvPr id="231" name=""/>
            <p:cNvSpPr/>
            <p:nvPr/>
          </p:nvSpPr>
          <p:spPr>
            <a:xfrm>
              <a:off x="1012680" y="810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85680" y="964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Entrada e Saída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B192-C23F-407B-941E-9C0139866AB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"/>
          <p:cNvGrpSpPr/>
          <p:nvPr/>
        </p:nvGrpSpPr>
        <p:grpSpPr>
          <a:xfrm>
            <a:off x="1803240" y="1644480"/>
            <a:ext cx="5535720" cy="4708440"/>
            <a:chOff x="1803240" y="1644480"/>
            <a:chExt cx="5535720" cy="4708440"/>
          </a:xfrm>
        </p:grpSpPr>
        <p:sp>
          <p:nvSpPr>
            <p:cNvPr id="234" name=""/>
            <p:cNvSpPr/>
            <p:nvPr/>
          </p:nvSpPr>
          <p:spPr>
            <a:xfrm>
              <a:off x="1803240" y="1644480"/>
              <a:ext cx="5535720" cy="470844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87400" y="4628880"/>
              <a:ext cx="3521160" cy="5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Barra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31840" y="4628880"/>
              <a:ext cx="1555560" cy="5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10199"/>
                  </a:solidFill>
                  <a:latin typeface="Arial Black"/>
                </a:rPr>
                <a:t>\ \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587400" y="5141880"/>
              <a:ext cx="352116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Tabulacão vertical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031840" y="5141880"/>
              <a:ext cx="155556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10199"/>
                  </a:solidFill>
                  <a:latin typeface="Arial Black"/>
                </a:rPr>
                <a:t>\v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587400" y="5654520"/>
              <a:ext cx="352116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Sinal sonoro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031840" y="5654520"/>
              <a:ext cx="155556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10199"/>
                  </a:solidFill>
                  <a:latin typeface="Arial Black"/>
                </a:rPr>
                <a:t>\a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587400" y="4093920"/>
              <a:ext cx="35211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Aspas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031840" y="4093920"/>
              <a:ext cx="15555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10199"/>
                  </a:solidFill>
                  <a:latin typeface="Arial Black"/>
                </a:rPr>
                <a:t>\“                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587400" y="3538440"/>
              <a:ext cx="352116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Retrocesso (BACKSPACE)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031840" y="3538440"/>
              <a:ext cx="155556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10199"/>
                  </a:solidFill>
                  <a:latin typeface="Arial Black"/>
                </a:rPr>
                <a:t>\b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587400" y="2944800"/>
              <a:ext cx="352116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Tabulação (TAB)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031840" y="2944800"/>
              <a:ext cx="155556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10199"/>
                  </a:solidFill>
                  <a:latin typeface="Arial Black"/>
                </a:rPr>
                <a:t>\t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587400" y="2425680"/>
              <a:ext cx="35211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ENTER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031840" y="2425680"/>
              <a:ext cx="1555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10199"/>
                  </a:solidFill>
                  <a:latin typeface="Arial Black"/>
                </a:rPr>
                <a:t>\r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587400" y="1820880"/>
              <a:ext cx="3521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Nova linha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031840" y="1820880"/>
              <a:ext cx="15555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10199"/>
                  </a:solidFill>
                  <a:latin typeface="Arial Black"/>
                </a:rPr>
                <a:t>\n               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87400" y="1820880"/>
              <a:ext cx="0" cy="28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2023920" y="1820880"/>
              <a:ext cx="5084640" cy="4346280"/>
              <a:chOff x="2023920" y="1820880"/>
              <a:chExt cx="5084640" cy="4346280"/>
            </a:xfrm>
          </p:grpSpPr>
          <p:sp>
            <p:nvSpPr>
              <p:cNvPr id="253" name=""/>
              <p:cNvSpPr/>
              <p:nvPr/>
            </p:nvSpPr>
            <p:spPr>
              <a:xfrm>
                <a:off x="2023920" y="1820880"/>
                <a:ext cx="508464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023920" y="2425680"/>
                <a:ext cx="5084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023920" y="2944800"/>
                <a:ext cx="5084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023920" y="3538440"/>
                <a:ext cx="5084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023920" y="4093920"/>
                <a:ext cx="5084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023920" y="4628880"/>
                <a:ext cx="508464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023920" y="6167160"/>
                <a:ext cx="508464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023920" y="5654520"/>
                <a:ext cx="5084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023920" y="5141880"/>
                <a:ext cx="508464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2019240" y="4628880"/>
              <a:ext cx="0" cy="5130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019240" y="1820880"/>
              <a:ext cx="0" cy="2808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019240" y="5141880"/>
              <a:ext cx="0" cy="1025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587400" y="4628880"/>
              <a:ext cx="0" cy="5130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587400" y="5141880"/>
              <a:ext cx="0" cy="10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108560" y="4628880"/>
              <a:ext cx="0" cy="5130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108560" y="1820880"/>
              <a:ext cx="0" cy="2808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108560" y="5141880"/>
              <a:ext cx="0" cy="1025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2300400" y="957240"/>
            <a:ext cx="4543200" cy="5986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cc"/>
                </a:solidFill>
                <a:latin typeface="Penguin"/>
              </a:rPr>
              <a:t>Caracteres de Control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985680" y="169920"/>
            <a:ext cx="7174080" cy="577440"/>
            <a:chOff x="985680" y="169920"/>
            <a:chExt cx="7174080" cy="577440"/>
          </a:xfrm>
        </p:grpSpPr>
        <p:sp>
          <p:nvSpPr>
            <p:cNvPr id="272" name=""/>
            <p:cNvSpPr/>
            <p:nvPr/>
          </p:nvSpPr>
          <p:spPr>
            <a:xfrm>
              <a:off x="1012680" y="16992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985680" y="18540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Entrada e Saída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A25D-127D-4883-AB5A-F5BB79BE4E4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"/>
          <p:cNvGrpSpPr/>
          <p:nvPr/>
        </p:nvGrpSpPr>
        <p:grpSpPr>
          <a:xfrm>
            <a:off x="3178080" y="1214280"/>
            <a:ext cx="5357880" cy="5124240"/>
            <a:chOff x="3178080" y="1214280"/>
            <a:chExt cx="5357880" cy="5124240"/>
          </a:xfrm>
        </p:grpSpPr>
        <p:sp>
          <p:nvSpPr>
            <p:cNvPr id="275" name=""/>
            <p:cNvSpPr/>
            <p:nvPr/>
          </p:nvSpPr>
          <p:spPr>
            <a:xfrm>
              <a:off x="3178080" y="1214280"/>
              <a:ext cx="5351400" cy="512424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400560" y="1382400"/>
              <a:ext cx="5135400" cy="46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marL="332640" indent="-33264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#include&lt;stdio.h&gt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2640" indent="-33264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main()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2640" indent="-33264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2640" indent="-33264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clrscr()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2640" indent="-33264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puts("012345678901234567890")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2640" indent="-33264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printf("%-7.2f\n",123.234)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2640" indent="-33264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printf("%7.2f\n",123.234)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2640" indent="-33264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printf("%-5.2f\n",123.234)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2640" indent="-33264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printf("%5.2f\n",3.324)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2640" indent="-33264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printf("%10s\n","Alô")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2640" indent="-33264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printf("%-10s\n","Alô")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2640" indent="-33264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printf("%5.7s\n","123456789")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2640" indent="-33264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985680" y="0"/>
            <a:ext cx="7174080" cy="577440"/>
            <a:chOff x="985680" y="0"/>
            <a:chExt cx="7174080" cy="577440"/>
          </a:xfrm>
        </p:grpSpPr>
        <p:sp>
          <p:nvSpPr>
            <p:cNvPr id="278" name=""/>
            <p:cNvSpPr/>
            <p:nvPr/>
          </p:nvSpPr>
          <p:spPr>
            <a:xfrm>
              <a:off x="1012680" y="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985680" y="154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Entrada e Saída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465120" y="1168560"/>
            <a:ext cx="2524320" cy="39024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  </a:t>
            </a: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Exempl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10B3-2644-4990-9FC9-D25399AF269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1373040" y="1741680"/>
            <a:ext cx="6946920" cy="4570200"/>
            <a:chOff x="1373040" y="1741680"/>
            <a:chExt cx="6946920" cy="4570200"/>
          </a:xfrm>
        </p:grpSpPr>
        <p:sp>
          <p:nvSpPr>
            <p:cNvPr id="282" name=""/>
            <p:cNvSpPr/>
            <p:nvPr/>
          </p:nvSpPr>
          <p:spPr>
            <a:xfrm>
              <a:off x="1373040" y="1773360"/>
              <a:ext cx="6850080" cy="45385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458720" y="1741680"/>
              <a:ext cx="6861240" cy="44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main()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char str[80]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clrscr()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puts("Digite abcdefghijklmnopqrstuvwxyz:")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scanf("%20s",str)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puts(str)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scanf("%20s",str); /* o programa não parará nesta chamada a scanf() porque */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puts(str); /* ainda haverá caracteres não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transferidos no buffer de entrada */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985680" y="0"/>
            <a:ext cx="7174080" cy="577440"/>
            <a:chOff x="985680" y="0"/>
            <a:chExt cx="7174080" cy="577440"/>
          </a:xfrm>
        </p:grpSpPr>
        <p:sp>
          <p:nvSpPr>
            <p:cNvPr id="285" name=""/>
            <p:cNvSpPr/>
            <p:nvPr/>
          </p:nvSpPr>
          <p:spPr>
            <a:xfrm>
              <a:off x="1012680" y="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985680" y="154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Entrada e Saída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808200" y="1143000"/>
            <a:ext cx="2523960" cy="39060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  </a:t>
            </a: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Exempl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F11A-EB1D-4BA6-B903-0A06E120528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"/>
          <p:cNvGrpSpPr/>
          <p:nvPr/>
        </p:nvGrpSpPr>
        <p:grpSpPr>
          <a:xfrm>
            <a:off x="450720" y="1114560"/>
            <a:ext cx="7853400" cy="5478480"/>
            <a:chOff x="450720" y="1114560"/>
            <a:chExt cx="7853400" cy="5478480"/>
          </a:xfrm>
        </p:grpSpPr>
        <p:sp>
          <p:nvSpPr>
            <p:cNvPr id="289" name=""/>
            <p:cNvSpPr/>
            <p:nvPr/>
          </p:nvSpPr>
          <p:spPr>
            <a:xfrm>
              <a:off x="450720" y="1114560"/>
              <a:ext cx="7853400" cy="54784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560320" y="1192320"/>
              <a:ext cx="5629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000000"/>
                  </a:solidFill>
                  <a:latin typeface="Penguin"/>
                </a:rPr>
                <a:t>Descrição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53680" y="1192320"/>
              <a:ext cx="2006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000000"/>
                  </a:solidFill>
                  <a:latin typeface="Penguin"/>
                </a:rPr>
                <a:t>Função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60320" y="5745240"/>
              <a:ext cx="5629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800" spc="-1" strike="noStrike">
                  <a:solidFill>
                    <a:srgbClr val="000000"/>
                  </a:solidFill>
                  <a:latin typeface="Arial"/>
                </a:rPr>
                <a:t>Reposiciona o localizador no inicio do arquivo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53680" y="5745240"/>
              <a:ext cx="2006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800" spc="-1" strike="noStrike">
                  <a:solidFill>
                    <a:srgbClr val="010199"/>
                  </a:solidFill>
                  <a:latin typeface="Arial"/>
                </a:rPr>
                <a:t>rewind()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560320" y="5378400"/>
              <a:ext cx="5629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800" spc="-1" strike="noStrike">
                  <a:solidFill>
                    <a:srgbClr val="000000"/>
                  </a:solidFill>
                  <a:latin typeface="Arial"/>
                </a:rPr>
                <a:t>Escreve um bloco de dados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3680" y="5378400"/>
              <a:ext cx="2006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10199"/>
                  </a:solidFill>
                  <a:latin typeface="Arial"/>
                </a:rPr>
                <a:t>f</a:t>
              </a:r>
              <a:r>
                <a:rPr b="1" lang="pt-PT" sz="1800" spc="-1" strike="noStrike">
                  <a:solidFill>
                    <a:srgbClr val="010199"/>
                  </a:solidFill>
                  <a:latin typeface="Arial"/>
                </a:rPr>
                <a:t>write</a:t>
              </a:r>
              <a:r>
                <a:rPr b="1" lang="pt-BR" sz="1800" spc="-1" strike="noStrike">
                  <a:solidFill>
                    <a:srgbClr val="010199"/>
                  </a:solidFill>
                  <a:latin typeface="Arial"/>
                </a:rPr>
                <a:t>()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560320" y="3911760"/>
              <a:ext cx="5629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800" spc="-1" strike="noStrike">
                  <a:solidFill>
                    <a:srgbClr val="000000"/>
                  </a:solidFill>
                  <a:latin typeface="Arial"/>
                </a:rPr>
                <a:t>Igual ao </a:t>
              </a:r>
              <a:r>
                <a:rPr b="1" lang="pt-PT" sz="1800" spc="-1" strike="noStrike">
                  <a:solidFill>
                    <a:srgbClr val="010199"/>
                  </a:solidFill>
                  <a:latin typeface="Arial"/>
                </a:rPr>
                <a:t>scanf()</a:t>
              </a:r>
              <a:r>
                <a:rPr b="1" lang="pt-PT" sz="1800" spc="-1" strike="noStrike">
                  <a:solidFill>
                    <a:srgbClr val="000000"/>
                  </a:solidFill>
                  <a:latin typeface="Arial"/>
                </a:rPr>
                <a:t> do console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53680" y="3911760"/>
              <a:ext cx="20066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800" spc="-1" strike="noStrike">
                  <a:solidFill>
                    <a:srgbClr val="010199"/>
                  </a:solidFill>
                  <a:latin typeface="Arial"/>
                </a:rPr>
                <a:t>fscanf()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60320" y="4278240"/>
              <a:ext cx="5629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800" spc="-1" strike="noStrike">
                  <a:solidFill>
                    <a:srgbClr val="000000"/>
                  </a:solidFill>
                  <a:latin typeface="Arial"/>
                </a:rPr>
                <a:t>Retorna verdadeiro se encontrou fim arquivo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53680" y="4278240"/>
              <a:ext cx="2006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800" spc="-1" strike="noStrike">
                  <a:solidFill>
                    <a:srgbClr val="010199"/>
                  </a:solidFill>
                  <a:latin typeface="Arial"/>
                </a:rPr>
                <a:t>feof()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560320" y="4645080"/>
              <a:ext cx="5629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800" spc="-1" strike="noStrike">
                  <a:solidFill>
                    <a:srgbClr val="000000"/>
                  </a:solidFill>
                  <a:latin typeface="Arial"/>
                </a:rPr>
                <a:t>Retorna verdadeiro se ocorreu erro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53680" y="4645080"/>
              <a:ext cx="2006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800" spc="-1" strike="noStrike">
                  <a:solidFill>
                    <a:srgbClr val="010199"/>
                  </a:solidFill>
                  <a:latin typeface="Arial"/>
                </a:rPr>
                <a:t>ferror()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560320" y="5011920"/>
              <a:ext cx="5629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800" spc="-1" strike="noStrike">
                  <a:solidFill>
                    <a:srgbClr val="000000"/>
                  </a:solidFill>
                  <a:latin typeface="Arial"/>
                </a:rPr>
                <a:t>Lê um bloco de dados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53680" y="5011920"/>
              <a:ext cx="20066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800" spc="-1" strike="noStrike">
                  <a:solidFill>
                    <a:srgbClr val="010199"/>
                  </a:solidFill>
                  <a:latin typeface="Arial"/>
                </a:rPr>
                <a:t>fread()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60320" y="3544920"/>
              <a:ext cx="5629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800" spc="-1" strike="noStrike">
                  <a:solidFill>
                    <a:srgbClr val="000000"/>
                  </a:solidFill>
                  <a:latin typeface="Arial"/>
                </a:rPr>
                <a:t>Igual ao </a:t>
              </a:r>
              <a:r>
                <a:rPr b="1" lang="pt-PT" sz="1800" spc="-1" strike="noStrike">
                  <a:solidFill>
                    <a:srgbClr val="010199"/>
                  </a:solidFill>
                  <a:latin typeface="Arial"/>
                </a:rPr>
                <a:t>printf()</a:t>
              </a:r>
              <a:r>
                <a:rPr b="1" lang="pt-PT" sz="1800" spc="-1" strike="noStrike">
                  <a:solidFill>
                    <a:srgbClr val="000000"/>
                  </a:solidFill>
                  <a:latin typeface="Arial"/>
                </a:rPr>
                <a:t> do console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3680" y="3544920"/>
              <a:ext cx="2006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800" spc="-1" strike="noStrike">
                  <a:solidFill>
                    <a:srgbClr val="010199"/>
                  </a:solidFill>
                  <a:latin typeface="Arial"/>
                </a:rPr>
                <a:t>fprintf()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560320" y="2811600"/>
              <a:ext cx="5629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800" spc="-1" strike="noStrike">
                  <a:solidFill>
                    <a:srgbClr val="000000"/>
                  </a:solidFill>
                  <a:latin typeface="Arial"/>
                </a:rPr>
                <a:t>Lê um caractere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 de um arquivo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53680" y="2811600"/>
              <a:ext cx="2006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800" spc="-1" strike="noStrike">
                  <a:solidFill>
                    <a:srgbClr val="010199"/>
                  </a:solidFill>
                  <a:latin typeface="Arial"/>
                </a:rPr>
                <a:t>getc()</a:t>
              </a:r>
              <a:r>
                <a:rPr b="1" lang="pt-BR" sz="1800" spc="-1" strike="noStrike">
                  <a:solidFill>
                    <a:srgbClr val="010199"/>
                  </a:solidFill>
                  <a:latin typeface="Arial"/>
                </a:rPr>
                <a:t>, fget(c)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560320" y="3178440"/>
              <a:ext cx="5629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800" spc="-1" strike="noStrike">
                  <a:solidFill>
                    <a:srgbClr val="000000"/>
                  </a:solidFill>
                  <a:latin typeface="Arial"/>
                </a:rPr>
                <a:t>Posiciona o arquivo em  um byte específico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53680" y="3178440"/>
              <a:ext cx="20066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800" spc="-1" strike="noStrike">
                  <a:solidFill>
                    <a:srgbClr val="010199"/>
                  </a:solidFill>
                  <a:latin typeface="Arial"/>
                </a:rPr>
                <a:t>fseek()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560320" y="2078280"/>
              <a:ext cx="5629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800" spc="-1" strike="noStrike">
                  <a:solidFill>
                    <a:srgbClr val="000000"/>
                  </a:solidFill>
                  <a:latin typeface="Arial"/>
                </a:rPr>
                <a:t>Fecha um STREAM (arquivo)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53680" y="2078280"/>
              <a:ext cx="20066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10199"/>
                  </a:solidFill>
                  <a:latin typeface="Arial"/>
                </a:rPr>
                <a:t>f</a:t>
              </a:r>
              <a:r>
                <a:rPr b="1" lang="pt-PT" sz="1800" spc="-1" strike="noStrike">
                  <a:solidFill>
                    <a:srgbClr val="010199"/>
                  </a:solidFill>
                  <a:latin typeface="Arial"/>
                </a:rPr>
                <a:t>close</a:t>
              </a:r>
              <a:r>
                <a:rPr b="1" lang="pt-BR" sz="1800" spc="-1" strike="noStrike">
                  <a:solidFill>
                    <a:srgbClr val="010199"/>
                  </a:solidFill>
                  <a:latin typeface="Arial"/>
                </a:rPr>
                <a:t>()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60320" y="2444760"/>
              <a:ext cx="5629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800" spc="-1" strike="noStrike">
                  <a:solidFill>
                    <a:srgbClr val="000000"/>
                  </a:solidFill>
                  <a:latin typeface="Arial"/>
                </a:rPr>
                <a:t>Escreve um caractere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 em um arquivo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53680" y="2444760"/>
              <a:ext cx="2006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800" spc="-1" strike="noStrike">
                  <a:solidFill>
                    <a:srgbClr val="010199"/>
                  </a:solidFill>
                  <a:latin typeface="Arial"/>
                </a:rPr>
                <a:t>putc()</a:t>
              </a:r>
              <a:r>
                <a:rPr b="1" lang="pt-BR" sz="1800" spc="-1" strike="noStrike">
                  <a:solidFill>
                    <a:srgbClr val="010199"/>
                  </a:solidFill>
                  <a:latin typeface="Arial"/>
                </a:rPr>
                <a:t>, fput(c)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560320" y="1711440"/>
              <a:ext cx="5629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800" spc="-1" strike="noStrike">
                  <a:solidFill>
                    <a:srgbClr val="000000"/>
                  </a:solidFill>
                  <a:latin typeface="Arial"/>
                </a:rPr>
                <a:t>Abre um STREAM (arquivo) 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53680" y="1711440"/>
              <a:ext cx="2006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800" spc="-1" strike="noStrike">
                  <a:solidFill>
                    <a:srgbClr val="010199"/>
                  </a:solidFill>
                  <a:latin typeface="Arial"/>
                </a:rPr>
                <a:t>fopen()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560320" y="6112080"/>
              <a:ext cx="5629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800" spc="-1" strike="noStrike">
                  <a:solidFill>
                    <a:srgbClr val="000000"/>
                  </a:solidFill>
                  <a:latin typeface="Arial"/>
                </a:rPr>
                <a:t>Apaga um arquivo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53680" y="6112080"/>
              <a:ext cx="20066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800" spc="-1" strike="noStrike">
                  <a:solidFill>
                    <a:srgbClr val="010199"/>
                  </a:solidFill>
                  <a:latin typeface="Arial"/>
                </a:rPr>
                <a:t>remove()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560320" y="1192320"/>
              <a:ext cx="0" cy="5286240"/>
            </a:xfrm>
            <a:prstGeom prst="line">
              <a:avLst/>
            </a:prstGeom>
            <a:ln w="38160">
              <a:solidFill>
                <a:srgbClr val="001f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53680" y="2078280"/>
              <a:ext cx="7635960" cy="0"/>
            </a:xfrm>
            <a:prstGeom prst="line">
              <a:avLst/>
            </a:prstGeom>
            <a:ln w="38160">
              <a:solidFill>
                <a:srgbClr val="001f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53680" y="2811600"/>
              <a:ext cx="7635960" cy="0"/>
            </a:xfrm>
            <a:prstGeom prst="line">
              <a:avLst/>
            </a:prstGeom>
            <a:ln w="38160">
              <a:solidFill>
                <a:srgbClr val="001f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53680" y="2444760"/>
              <a:ext cx="7635960" cy="0"/>
            </a:xfrm>
            <a:prstGeom prst="line">
              <a:avLst/>
            </a:prstGeom>
            <a:ln w="38160">
              <a:solidFill>
                <a:srgbClr val="001f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53680" y="3544920"/>
              <a:ext cx="7635960" cy="0"/>
            </a:xfrm>
            <a:prstGeom prst="line">
              <a:avLst/>
            </a:prstGeom>
            <a:ln w="38160">
              <a:solidFill>
                <a:srgbClr val="001f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53680" y="3178440"/>
              <a:ext cx="7635960" cy="0"/>
            </a:xfrm>
            <a:prstGeom prst="line">
              <a:avLst/>
            </a:prstGeom>
            <a:ln w="38160">
              <a:solidFill>
                <a:srgbClr val="001f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53680" y="3911760"/>
              <a:ext cx="7635960" cy="0"/>
            </a:xfrm>
            <a:prstGeom prst="line">
              <a:avLst/>
            </a:prstGeom>
            <a:ln w="38160">
              <a:solidFill>
                <a:srgbClr val="001f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53680" y="5378400"/>
              <a:ext cx="7635960" cy="0"/>
            </a:xfrm>
            <a:prstGeom prst="line">
              <a:avLst/>
            </a:prstGeom>
            <a:ln w="38160">
              <a:solidFill>
                <a:srgbClr val="001f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53680" y="5011920"/>
              <a:ext cx="7635960" cy="0"/>
            </a:xfrm>
            <a:prstGeom prst="line">
              <a:avLst/>
            </a:prstGeom>
            <a:ln w="38160">
              <a:solidFill>
                <a:srgbClr val="001f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53680" y="4645080"/>
              <a:ext cx="7635960" cy="0"/>
            </a:xfrm>
            <a:prstGeom prst="line">
              <a:avLst/>
            </a:prstGeom>
            <a:ln w="38160">
              <a:solidFill>
                <a:srgbClr val="001f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53680" y="4278240"/>
              <a:ext cx="7635960" cy="0"/>
            </a:xfrm>
            <a:prstGeom prst="line">
              <a:avLst/>
            </a:prstGeom>
            <a:ln w="38160">
              <a:solidFill>
                <a:srgbClr val="001f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53680" y="5745240"/>
              <a:ext cx="7635960" cy="0"/>
            </a:xfrm>
            <a:prstGeom prst="line">
              <a:avLst/>
            </a:prstGeom>
            <a:ln w="38160">
              <a:solidFill>
                <a:srgbClr val="001f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53680" y="6112080"/>
              <a:ext cx="7635960" cy="0"/>
            </a:xfrm>
            <a:prstGeom prst="line">
              <a:avLst/>
            </a:prstGeom>
            <a:ln w="38160">
              <a:solidFill>
                <a:srgbClr val="001f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53680" y="1711440"/>
              <a:ext cx="7635960" cy="0"/>
            </a:xfrm>
            <a:prstGeom prst="line">
              <a:avLst/>
            </a:prstGeom>
            <a:ln w="38160">
              <a:solidFill>
                <a:srgbClr val="001f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53680" y="1192320"/>
              <a:ext cx="7635960" cy="0"/>
            </a:xfrm>
            <a:prstGeom prst="line">
              <a:avLst/>
            </a:prstGeom>
            <a:ln cap="sq" w="38160">
              <a:solidFill>
                <a:srgbClr val="001f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53680" y="1192320"/>
              <a:ext cx="0" cy="5286240"/>
            </a:xfrm>
            <a:prstGeom prst="line">
              <a:avLst/>
            </a:prstGeom>
            <a:ln cap="sq" w="38160">
              <a:solidFill>
                <a:srgbClr val="001f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189640" y="1192320"/>
              <a:ext cx="0" cy="5286240"/>
            </a:xfrm>
            <a:prstGeom prst="line">
              <a:avLst/>
            </a:prstGeom>
            <a:ln cap="sq" w="38160">
              <a:solidFill>
                <a:srgbClr val="001f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3680" y="6478560"/>
              <a:ext cx="7635960" cy="0"/>
            </a:xfrm>
            <a:prstGeom prst="line">
              <a:avLst/>
            </a:prstGeom>
            <a:ln cap="sq" w="38160">
              <a:solidFill>
                <a:srgbClr val="001f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985680" y="0"/>
            <a:ext cx="7174080" cy="577440"/>
            <a:chOff x="985680" y="0"/>
            <a:chExt cx="7174080" cy="577440"/>
          </a:xfrm>
        </p:grpSpPr>
        <p:sp>
          <p:nvSpPr>
            <p:cNvPr id="337" name=""/>
            <p:cNvSpPr/>
            <p:nvPr/>
          </p:nvSpPr>
          <p:spPr>
            <a:xfrm>
              <a:off x="1012680" y="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985680" y="154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Entrada e Saída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633240" y="576360"/>
            <a:ext cx="6769440" cy="39060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  </a:t>
            </a:r>
            <a:r>
              <a:rPr b="1" lang="pt-PT" sz="3600" spc="-1" strike="noStrike">
                <a:solidFill>
                  <a:srgbClr val="ffcc00"/>
                </a:solidFill>
                <a:latin typeface="Penguin"/>
              </a:rPr>
              <a:t>E/S ANSI – Stream/Arquivo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5F15-2A09-4F8C-A9A5-827B02790F9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304920" y="1103400"/>
            <a:ext cx="8302680" cy="5402160"/>
          </a:xfrm>
          <a:prstGeom prst="rect">
            <a:avLst/>
          </a:prstGeom>
          <a:ln w="0">
            <a:noFill/>
          </a:ln>
        </p:spPr>
      </p:pic>
      <p:grpSp>
        <p:nvGrpSpPr>
          <p:cNvPr id="341" name=""/>
          <p:cNvGrpSpPr/>
          <p:nvPr/>
        </p:nvGrpSpPr>
        <p:grpSpPr>
          <a:xfrm>
            <a:off x="985680" y="0"/>
            <a:ext cx="7174080" cy="577440"/>
            <a:chOff x="985680" y="0"/>
            <a:chExt cx="7174080" cy="577440"/>
          </a:xfrm>
        </p:grpSpPr>
        <p:sp>
          <p:nvSpPr>
            <p:cNvPr id="342" name=""/>
            <p:cNvSpPr/>
            <p:nvPr/>
          </p:nvSpPr>
          <p:spPr>
            <a:xfrm>
              <a:off x="1012680" y="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985680" y="154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Entrada e Saída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1187280" y="565200"/>
            <a:ext cx="6769440" cy="55224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  </a:t>
            </a:r>
            <a:r>
              <a:rPr b="1" lang="pt-PT" sz="3600" spc="-1" strike="noStrike">
                <a:solidFill>
                  <a:srgbClr val="ffcc00"/>
                </a:solidFill>
                <a:latin typeface="Penguin"/>
              </a:rPr>
              <a:t>E/S ANSI – Stream/Arquivo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C798-C277-4D10-AD7B-7589019F046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"/>
          <p:cNvGrpSpPr/>
          <p:nvPr/>
        </p:nvGrpSpPr>
        <p:grpSpPr>
          <a:xfrm>
            <a:off x="317520" y="1442880"/>
            <a:ext cx="8445600" cy="5024520"/>
            <a:chOff x="317520" y="1442880"/>
            <a:chExt cx="8445600" cy="5024520"/>
          </a:xfrm>
        </p:grpSpPr>
        <p:sp>
          <p:nvSpPr>
            <p:cNvPr id="346" name=""/>
            <p:cNvSpPr/>
            <p:nvPr/>
          </p:nvSpPr>
          <p:spPr>
            <a:xfrm>
              <a:off x="317520" y="1442880"/>
              <a:ext cx="8445600" cy="50245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344960" y="5737320"/>
              <a:ext cx="73008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crescenta dados binários no fim do arquivo, como no modo </a:t>
              </a:r>
              <a:r>
                <a:rPr b="1" lang="en-US" sz="1800" spc="-1" strike="noStrike">
                  <a:solidFill>
                    <a:srgbClr val="010199"/>
                  </a:solidFill>
                  <a:latin typeface="Arial"/>
                  <a:ea typeface="Times New Roman"/>
                </a:rPr>
                <a:t>"a"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anterior, só que o arquivo é binário.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16160" y="5737320"/>
              <a:ext cx="9288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199"/>
                  </a:solidFill>
                  <a:latin typeface="Arial"/>
                  <a:ea typeface="Times New Roman"/>
                </a:rPr>
                <a:t>"ab"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344960" y="5097600"/>
              <a:ext cx="73008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ria um arquivo binário para escrita, como no modo </a:t>
              </a:r>
              <a:r>
                <a:rPr b="1" lang="en-US" sz="1800" spc="-1" strike="noStrike">
                  <a:solidFill>
                    <a:srgbClr val="010199"/>
                  </a:solidFill>
                  <a:latin typeface="Arial"/>
                  <a:ea typeface="Times New Roman"/>
                </a:rPr>
                <a:t>"w"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anterior, só que o arquivo é binário.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16160" y="5097600"/>
              <a:ext cx="9288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199"/>
                  </a:solidFill>
                  <a:latin typeface="Arial"/>
                  <a:ea typeface="Times New Roman"/>
                </a:rPr>
                <a:t>"wb"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344960" y="4457880"/>
              <a:ext cx="73008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bre um arquivo binário para leitura. Igual ao modo </a:t>
              </a:r>
              <a:r>
                <a:rPr b="1" lang="en-US" sz="1800" spc="-1" strike="noStrike">
                  <a:solidFill>
                    <a:srgbClr val="010199"/>
                  </a:solidFill>
                  <a:latin typeface="Arial"/>
                  <a:ea typeface="Times New Roman"/>
                </a:rPr>
                <a:t>"r"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anterior, só que o arquivo é binário.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6160" y="4457880"/>
              <a:ext cx="9288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199"/>
                  </a:solidFill>
                  <a:latin typeface="Arial"/>
                  <a:ea typeface="Times New Roman"/>
                </a:rPr>
                <a:t>"rb"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344960" y="3268800"/>
              <a:ext cx="73008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bre um arquivo texto para gravação. Os dados serão adicionados no fim do arquivo (</a:t>
              </a:r>
              <a:r>
                <a:rPr b="1" lang="en-US" sz="1800" spc="-1" strike="noStrike">
                  <a:solidFill>
                    <a:srgbClr val="010199"/>
                  </a:solidFill>
                  <a:latin typeface="Arial"/>
                  <a:ea typeface="Times New Roman"/>
                </a:rPr>
                <a:t>"append"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), se ele já existir, ou um novo arquivo será criado, no caso de arquivo não existente anteriormente.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16160" y="3268800"/>
              <a:ext cx="9288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199"/>
                  </a:solidFill>
                  <a:latin typeface="Arial"/>
                  <a:ea typeface="Times New Roman"/>
                </a:rPr>
                <a:t>"a"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344960" y="2629080"/>
              <a:ext cx="73008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bre um arquivo texto para gravação. Se o arquivo não existir, ele será criado. Se já existir, o conteúdo anterior será destruído. 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16160" y="2629080"/>
              <a:ext cx="9288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199"/>
                  </a:solidFill>
                  <a:latin typeface="Arial"/>
                  <a:ea typeface="Times New Roman"/>
                </a:rPr>
                <a:t>"w"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344960" y="1989000"/>
              <a:ext cx="730080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bre um arquivo texto para leitura. O arquivo deve existir antes de ser aberto.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16160" y="1989000"/>
              <a:ext cx="92880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199"/>
                  </a:solidFill>
                  <a:latin typeface="Arial"/>
                  <a:ea typeface="Times New Roman"/>
                </a:rPr>
                <a:t>"r"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344960" y="1533600"/>
              <a:ext cx="73008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marL="339480" indent="-339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Penguin"/>
                  <a:ea typeface="Arial"/>
                </a:rPr>
                <a:t>Significado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16160" y="1533600"/>
              <a:ext cx="9288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3000"/>
            </a:bodyPr>
            <a:p>
              <a:pPr marL="284400" indent="-2844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Penguin"/>
                  <a:ea typeface="Times New Roman"/>
                </a:rPr>
                <a:t>Modo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16160" y="153360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16160" y="637704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6160" y="1533600"/>
              <a:ext cx="0" cy="48434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645760" y="1533600"/>
              <a:ext cx="0" cy="48434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6160" y="198900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344960" y="1533600"/>
              <a:ext cx="0" cy="48434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6160" y="262908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6160" y="326880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6160" y="445788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6160" y="509760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6160" y="573732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308160" y="762120"/>
            <a:ext cx="8527680" cy="459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fde503"/>
                </a:solidFill>
                <a:latin typeface="Arial"/>
              </a:rPr>
              <a:t>fopen()</a:t>
            </a:r>
            <a:r>
              <a:rPr b="0" lang="pt-PT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PT" sz="2000" spc="-1" strike="noStrike">
                <a:solidFill>
                  <a:srgbClr val="ffcc00"/>
                </a:solidFill>
                <a:latin typeface="Arial"/>
              </a:rPr>
              <a:t>FILE *fopen(const char *filename, const char *mode);</a:t>
            </a:r>
            <a:r>
              <a:rPr b="0" lang="pt-PT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985680" y="0"/>
            <a:ext cx="7174080" cy="577440"/>
            <a:chOff x="985680" y="0"/>
            <a:chExt cx="7174080" cy="577440"/>
          </a:xfrm>
        </p:grpSpPr>
        <p:sp>
          <p:nvSpPr>
            <p:cNvPr id="374" name=""/>
            <p:cNvSpPr/>
            <p:nvPr/>
          </p:nvSpPr>
          <p:spPr>
            <a:xfrm>
              <a:off x="1012680" y="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85680" y="154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Entrada e Saída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2748-2D48-4DF7-A5E1-A9153EB28D2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407880" y="1459080"/>
            <a:ext cx="8420040" cy="4841640"/>
            <a:chOff x="407880" y="1459080"/>
            <a:chExt cx="8420040" cy="4841640"/>
          </a:xfrm>
        </p:grpSpPr>
        <p:sp>
          <p:nvSpPr>
            <p:cNvPr id="377" name=""/>
            <p:cNvSpPr/>
            <p:nvPr/>
          </p:nvSpPr>
          <p:spPr>
            <a:xfrm>
              <a:off x="407880" y="1459080"/>
              <a:ext cx="8420040" cy="484164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420560" y="5559480"/>
              <a:ext cx="73008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crescenta dados ou cria um arquivo binário para leitura e escrita. O mesmo que </a:t>
              </a:r>
              <a:r>
                <a:rPr b="1" lang="en-US" sz="1800" spc="-1" strike="noStrike">
                  <a:solidFill>
                    <a:srgbClr val="010199"/>
                  </a:solidFill>
                  <a:latin typeface="Arial"/>
                  <a:ea typeface="Times New Roman"/>
                </a:rPr>
                <a:t>"a+"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acima, só que o arquivo é binário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91760" y="5559480"/>
              <a:ext cx="9288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199"/>
                  </a:solidFill>
                  <a:latin typeface="Arial"/>
                  <a:ea typeface="Times New Roman"/>
                </a:rPr>
                <a:t>"a+b"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420560" y="4919760"/>
              <a:ext cx="73008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ria um arquivo binário para leitura e escrita. O mesmo que </a:t>
              </a:r>
              <a:r>
                <a:rPr b="1" lang="en-US" sz="1800" spc="-1" strike="noStrike">
                  <a:solidFill>
                    <a:srgbClr val="010199"/>
                  </a:solidFill>
                  <a:latin typeface="Arial"/>
                  <a:ea typeface="Times New Roman"/>
                </a:rPr>
                <a:t>"w+"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acima, só que o arquivo é binário.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91760" y="4919760"/>
              <a:ext cx="9288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199"/>
                  </a:solidFill>
                  <a:latin typeface="Arial"/>
                  <a:ea typeface="Times New Roman"/>
                </a:rPr>
                <a:t>"w+b"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420560" y="4280040"/>
              <a:ext cx="73008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bre um arquivo binário para leitura e escrita. O mesmo que </a:t>
              </a:r>
              <a:r>
                <a:rPr b="1" lang="en-US" sz="1800" spc="-1" strike="noStrike">
                  <a:solidFill>
                    <a:srgbClr val="010199"/>
                  </a:solidFill>
                  <a:latin typeface="Arial"/>
                  <a:ea typeface="Times New Roman"/>
                </a:rPr>
                <a:t>"r+"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acima, só que o arquivo é binário.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91760" y="4280040"/>
              <a:ext cx="9288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199"/>
                  </a:solidFill>
                  <a:latin typeface="Arial"/>
                  <a:ea typeface="Times New Roman"/>
                </a:rPr>
                <a:t>"r+b"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420560" y="3090960"/>
              <a:ext cx="73008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bre um arquivo texto para gravação e leitura. Os dados serão adicionados no fim do arquivo se ele já existir, ou um novo arquivo será criado, no caso de arquivo não existente anteriormente.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91760" y="3090960"/>
              <a:ext cx="9288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199"/>
                  </a:solidFill>
                  <a:latin typeface="Arial"/>
                  <a:ea typeface="Times New Roman"/>
                </a:rPr>
                <a:t>"a+"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420560" y="2176560"/>
              <a:ext cx="73008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ria um arquivo texto para leitura e gravação. Se o arquivo existir, o conteúdo anterior será destruído. Se não existir, será criado.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91760" y="2176560"/>
              <a:ext cx="9288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199"/>
                  </a:solidFill>
                  <a:latin typeface="Arial"/>
                  <a:ea typeface="Times New Roman"/>
                </a:rPr>
                <a:t>"w+"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420560" y="1536840"/>
              <a:ext cx="73008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bre um arquivo texto para leitura e gravação. O arquivo deve existir e pode ser modificado.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91760" y="1536840"/>
              <a:ext cx="9288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199"/>
                  </a:solidFill>
                  <a:latin typeface="Arial"/>
                  <a:ea typeface="Times New Roman"/>
                </a:rPr>
                <a:t>"r+"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91760" y="153684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91760" y="217656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91760" y="309096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91760" y="428004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91760" y="491976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91760" y="555948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91760" y="619920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91760" y="1536840"/>
              <a:ext cx="0" cy="46623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420560" y="1536840"/>
              <a:ext cx="0" cy="46623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721360" y="1536840"/>
              <a:ext cx="0" cy="46623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8160" y="787320"/>
            <a:ext cx="8527680" cy="459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fde503"/>
                </a:solidFill>
                <a:latin typeface="Arial"/>
              </a:rPr>
              <a:t>fopen()</a:t>
            </a: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PT" sz="2000" spc="-1" strike="noStrike">
                <a:solidFill>
                  <a:srgbClr val="ffcc00"/>
                </a:solidFill>
                <a:latin typeface="Arial"/>
              </a:rPr>
              <a:t>FILE *fopen(const char *filename, const char *mode);</a:t>
            </a:r>
            <a:r>
              <a:rPr b="0" lang="pt-PT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998640" y="0"/>
            <a:ext cx="7173360" cy="577440"/>
            <a:chOff x="998640" y="0"/>
            <a:chExt cx="7173360" cy="577440"/>
          </a:xfrm>
        </p:grpSpPr>
        <p:sp>
          <p:nvSpPr>
            <p:cNvPr id="402" name=""/>
            <p:cNvSpPr/>
            <p:nvPr/>
          </p:nvSpPr>
          <p:spPr>
            <a:xfrm>
              <a:off x="1025280" y="0"/>
              <a:ext cx="714672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998640" y="15480"/>
              <a:ext cx="714672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Entrada e Saída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4EA0-A064-4984-928B-E3D37BB0885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104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Entrada e Saída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630360" y="746280"/>
            <a:ext cx="7772400" cy="39024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Funções que realizam E/S em console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530280" y="1719360"/>
            <a:ext cx="8037360" cy="4562280"/>
            <a:chOff x="530280" y="1719360"/>
            <a:chExt cx="8037360" cy="4562280"/>
          </a:xfrm>
        </p:grpSpPr>
        <p:grpSp>
          <p:nvGrpSpPr>
            <p:cNvPr id="108" name=""/>
            <p:cNvGrpSpPr/>
            <p:nvPr/>
          </p:nvGrpSpPr>
          <p:grpSpPr>
            <a:xfrm>
              <a:off x="530280" y="1719360"/>
              <a:ext cx="8037360" cy="4562280"/>
              <a:chOff x="530280" y="1719360"/>
              <a:chExt cx="8037360" cy="4562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30280" y="1719360"/>
                <a:ext cx="8010360" cy="455292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fffcc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graphicFrame>
            <p:nvGraphicFramePr>
              <p:cNvPr id="110" name=""/>
              <p:cNvGraphicFramePr/>
              <p:nvPr/>
            </p:nvGraphicFramePr>
            <p:xfrm>
              <a:off x="719280" y="1874880"/>
              <a:ext cx="7848360" cy="4406760"/>
            </p:xfrm>
            <a:graphic>
              <a:graphicData uri="http://schemas.openxmlformats.org/presentationml/2006/ole">
                <p:oleObj progId="Word.Document.12" r:id="rId1" spid="">
                  <p:embed/>
                  <p:pic>
                    <p:nvPicPr>
                      <p:cNvPr id="111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719280" y="1874880"/>
                        <a:ext cx="7848360" cy="4406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12" name=""/>
              <p:cNvSpPr/>
              <p:nvPr/>
            </p:nvSpPr>
            <p:spPr>
              <a:xfrm>
                <a:off x="716040" y="1879560"/>
                <a:ext cx="0" cy="4132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895320" y="1971720"/>
              <a:ext cx="1343160" cy="366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FUNÇÃO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46720" y="1989000"/>
              <a:ext cx="1809720" cy="366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OPERAÇÃO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AB67-3EDB-4AFB-9B70-38EA25B8AF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403200" y="746280"/>
            <a:ext cx="2230560" cy="64260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cc00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pt-BR" sz="3600" spc="-1" strike="noStrike">
                <a:solidFill>
                  <a:srgbClr val="fde503"/>
                </a:solidFill>
                <a:latin typeface="Arial"/>
              </a:rPr>
              <a:t>fopen()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985680" y="0"/>
            <a:ext cx="7174080" cy="577440"/>
            <a:chOff x="985680" y="0"/>
            <a:chExt cx="7174080" cy="577440"/>
          </a:xfrm>
        </p:grpSpPr>
        <p:sp>
          <p:nvSpPr>
            <p:cNvPr id="406" name=""/>
            <p:cNvSpPr/>
            <p:nvPr/>
          </p:nvSpPr>
          <p:spPr>
            <a:xfrm>
              <a:off x="1012680" y="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985680" y="154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Entrada e Saída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1147680" y="1657440"/>
            <a:ext cx="6848280" cy="4959360"/>
            <a:chOff x="1147680" y="1657440"/>
            <a:chExt cx="6848280" cy="4959360"/>
          </a:xfrm>
        </p:grpSpPr>
        <p:sp>
          <p:nvSpPr>
            <p:cNvPr id="409" name=""/>
            <p:cNvSpPr/>
            <p:nvPr/>
          </p:nvSpPr>
          <p:spPr>
            <a:xfrm>
              <a:off x="1147680" y="1657440"/>
              <a:ext cx="6848280" cy="495936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248840" y="1754280"/>
              <a:ext cx="6681960" cy="446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ffffcc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FILE  *fp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fp = fopen ("test", "w")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80000"/>
                </a:lnSpc>
                <a:spcBef>
                  <a:spcPts val="224"/>
                </a:spcBef>
                <a:buClr>
                  <a:srgbClr val="ffffcc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pt-BR" sz="3600" spc="-1" strike="noStrike">
                  <a:solidFill>
                    <a:srgbClr val="000000"/>
                  </a:solidFill>
                  <a:latin typeface="Penguin"/>
                </a:rPr>
                <a:t>Forma usual:</a:t>
              </a:r>
              <a:endParaRPr b="0" lang="en-US" sz="36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FILE *fp;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if ((fp=fopen("teste", "w")) == NULL)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{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puts(“Não posso abrir o arquivo\n");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exit(1);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r>
                <a:rPr b="1" i="1" lang="pt-BR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AE3A-5C4C-4320-9FB4-D002EC84302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1257480" y="1604880"/>
            <a:ext cx="6972120" cy="46465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2" name=""/>
          <p:cNvSpPr/>
          <p:nvPr/>
        </p:nvSpPr>
        <p:spPr>
          <a:xfrm>
            <a:off x="603360" y="963720"/>
            <a:ext cx="2523960" cy="39024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  </a:t>
            </a: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Exempl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985680" y="81000"/>
            <a:ext cx="7174080" cy="577440"/>
            <a:chOff x="985680" y="81000"/>
            <a:chExt cx="7174080" cy="577440"/>
          </a:xfrm>
        </p:grpSpPr>
        <p:sp>
          <p:nvSpPr>
            <p:cNvPr id="414" name=""/>
            <p:cNvSpPr/>
            <p:nvPr/>
          </p:nvSpPr>
          <p:spPr>
            <a:xfrm>
              <a:off x="1012680" y="810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985680" y="964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Entrada e Saída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1082520" y="1604880"/>
            <a:ext cx="7138800" cy="4646520"/>
            <a:chOff x="1082520" y="1604880"/>
            <a:chExt cx="7138800" cy="4646520"/>
          </a:xfrm>
        </p:grpSpPr>
        <p:sp>
          <p:nvSpPr>
            <p:cNvPr id="417" name=""/>
            <p:cNvSpPr/>
            <p:nvPr/>
          </p:nvSpPr>
          <p:spPr>
            <a:xfrm>
              <a:off x="1256400" y="1604880"/>
              <a:ext cx="6964920" cy="46465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082520" y="1706400"/>
              <a:ext cx="7055280" cy="45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#include&lt;stdio.h&gt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9480" indent="-3394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#include &lt;conio.h&gt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9480" indent="-3394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void main( )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9480" indent="-3394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9480" indent="-3394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FILE *fp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9480" indent="-3394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char texto[ ] = {“A prova está próxima”}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9480" indent="-3394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fp = fopen(“lembrete.txt”,”w”)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9480" indent="-3394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fprintf(fp,”%s”,texto)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9480" indent="-3394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fclose(fp)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9480" indent="-3394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getch()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9480" indent="-3394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572E-7D7F-4928-9013-051AD1F1580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566640" y="444600"/>
            <a:ext cx="2524320" cy="542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  </a:t>
            </a: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Exempl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985680" y="-46080"/>
            <a:ext cx="7174080" cy="577800"/>
            <a:chOff x="985680" y="-46080"/>
            <a:chExt cx="7174080" cy="577800"/>
          </a:xfrm>
        </p:grpSpPr>
        <p:sp>
          <p:nvSpPr>
            <p:cNvPr id="421" name=""/>
            <p:cNvSpPr/>
            <p:nvPr/>
          </p:nvSpPr>
          <p:spPr>
            <a:xfrm>
              <a:off x="1012680" y="-4608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985680" y="-3024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Entrada e Saída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450720" y="1073160"/>
            <a:ext cx="7844040" cy="54752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4" name=""/>
          <p:cNvSpPr/>
          <p:nvPr/>
        </p:nvSpPr>
        <p:spPr>
          <a:xfrm>
            <a:off x="549360" y="1098720"/>
            <a:ext cx="75708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#include &lt;stdlib.h&gt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t main()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ILE *fp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har string[100]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int i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fp = fopen("arquivo.txt","w");   /* Arquivo ASCII, para escrita */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if(!fp)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printf( "Erro na abertura do arquivo")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exit(0)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printf("Entre com a string a ser gravada no arquivo:")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ets(string)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or(i=0; string[i]; i++) putc(string[i], fp); /* Grava a string, caractere a caractere */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fclose(fp)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6F0A-94DF-4DFD-9DE3-192159BB8DA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566640" y="584280"/>
            <a:ext cx="2524320" cy="39060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  </a:t>
            </a: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Exempl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985680" y="-46080"/>
            <a:ext cx="7174080" cy="577800"/>
            <a:chOff x="985680" y="-46080"/>
            <a:chExt cx="7174080" cy="577800"/>
          </a:xfrm>
        </p:grpSpPr>
        <p:sp>
          <p:nvSpPr>
            <p:cNvPr id="427" name=""/>
            <p:cNvSpPr/>
            <p:nvPr/>
          </p:nvSpPr>
          <p:spPr>
            <a:xfrm>
              <a:off x="1012680" y="-4608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985680" y="-3024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Entrada e Saída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450720" y="1093680"/>
            <a:ext cx="8371080" cy="54547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0" name=""/>
          <p:cNvSpPr/>
          <p:nvPr/>
        </p:nvSpPr>
        <p:spPr>
          <a:xfrm>
            <a:off x="482760" y="1022040"/>
            <a:ext cx="86612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#include &lt;stdlib.h&gt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t main()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ILE *pf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loat pi = 3.1415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loat pilido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f((pf = fopen("arquivo.bin", "wb")) == NULL) /* Abre arquivo binário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ara escrita */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intf("Erro na abertura do arquivo"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xit(1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f(fwrite(&amp;pi, sizeof(float), 1,pf) != 1) /* Escreve a variável pi */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intf("Erro na escrita do arquivo"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close(pf); /* Fecha o arquivo */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turn(0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A4CB-3EAE-42C1-A449-DC7BB46260F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554040" y="495360"/>
            <a:ext cx="2523960" cy="39060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  </a:t>
            </a: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Exempl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985680" y="-46080"/>
            <a:ext cx="7174080" cy="577800"/>
            <a:chOff x="985680" y="-46080"/>
            <a:chExt cx="7174080" cy="577800"/>
          </a:xfrm>
        </p:grpSpPr>
        <p:sp>
          <p:nvSpPr>
            <p:cNvPr id="433" name=""/>
            <p:cNvSpPr/>
            <p:nvPr/>
          </p:nvSpPr>
          <p:spPr>
            <a:xfrm>
              <a:off x="1012680" y="-4608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985680" y="-3024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Entrada e Saída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344520" y="1050840"/>
            <a:ext cx="8197920" cy="5432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6" name=""/>
          <p:cNvSpPr/>
          <p:nvPr/>
        </p:nvSpPr>
        <p:spPr>
          <a:xfrm>
            <a:off x="482760" y="1110240"/>
            <a:ext cx="8661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#include &lt;stdlib.h&gt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t main()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ILE *pf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loat pilido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f((pf = fopen("arquivo.bin", “rb")) == NULL) /* Abre arquivo binário para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eitura */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rintf("Erro na abertura do arquivo")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xit(1)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f(fread(&amp;pilido, sizeof(float), 1,pf) != 1) /* Le em pilido o valor da variável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rmazenada anteriormente */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rintf("Erro na leitura do arquivo")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rintf("\nO valor de PI, lido do arquivo e': %f", pilido)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close(pf)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turn(0)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7943-2553-4C77-BDB7-260FDBA2B13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554040" y="431640"/>
            <a:ext cx="2523960" cy="39060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cc00"/>
                </a:solidFill>
                <a:latin typeface="Penguin"/>
              </a:rPr>
              <a:t>  </a:t>
            </a:r>
            <a:r>
              <a:rPr b="1" lang="pt-PT" sz="3600" spc="-1" strike="noStrike">
                <a:solidFill>
                  <a:srgbClr val="ffcc00"/>
                </a:solidFill>
                <a:latin typeface="Penguin"/>
              </a:rPr>
              <a:t>Exemplo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985680" y="-46080"/>
            <a:ext cx="7174080" cy="577800"/>
            <a:chOff x="985680" y="-46080"/>
            <a:chExt cx="7174080" cy="577800"/>
          </a:xfrm>
        </p:grpSpPr>
        <p:sp>
          <p:nvSpPr>
            <p:cNvPr id="439" name=""/>
            <p:cNvSpPr/>
            <p:nvPr/>
          </p:nvSpPr>
          <p:spPr>
            <a:xfrm>
              <a:off x="1012680" y="-4608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985680" y="-3024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Entrada e Saída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441" name=""/>
          <p:cNvSpPr/>
          <p:nvPr/>
        </p:nvSpPr>
        <p:spPr>
          <a:xfrm>
            <a:off x="344520" y="1050840"/>
            <a:ext cx="8048520" cy="5432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2" name=""/>
          <p:cNvSpPr/>
          <p:nvPr/>
        </p:nvSpPr>
        <p:spPr>
          <a:xfrm>
            <a:off x="460440" y="1128240"/>
            <a:ext cx="81342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#include &lt;stdlib.h&gt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#define N 10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t main()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ILE *pf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t num, numpar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((pf = fopen(“saida.dat", "wb")) == NULL) /* Abre arquivo binário para escrita */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rintf("Erro na abertura do arquivo")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xit(1)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or(num=0;num&lt;=N;num++)   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umpar = 2*num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(fwrite(&amp;numpar, sizeof(int),1,pf) != 1) /* Escreve a variável numpar */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rintf("Erro na escrita do arquivo")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close(pf); /* Fecha o arquivo */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turn(0)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D8B5-7628-434D-9F0F-A15D1638B26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554040" y="431640"/>
            <a:ext cx="2523960" cy="39060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cc00"/>
                </a:solidFill>
                <a:latin typeface="Penguin"/>
              </a:rPr>
              <a:t>  </a:t>
            </a:r>
            <a:r>
              <a:rPr b="1" lang="pt-PT" sz="3600" spc="-1" strike="noStrike">
                <a:solidFill>
                  <a:srgbClr val="ffcc00"/>
                </a:solidFill>
                <a:latin typeface="Penguin"/>
              </a:rPr>
              <a:t>Exemplo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985680" y="-46080"/>
            <a:ext cx="7174080" cy="577800"/>
            <a:chOff x="985680" y="-46080"/>
            <a:chExt cx="7174080" cy="577800"/>
          </a:xfrm>
        </p:grpSpPr>
        <p:sp>
          <p:nvSpPr>
            <p:cNvPr id="445" name=""/>
            <p:cNvSpPr/>
            <p:nvPr/>
          </p:nvSpPr>
          <p:spPr>
            <a:xfrm>
              <a:off x="1012680" y="-4608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985680" y="-3024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Entrada e Saída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344520" y="1009800"/>
            <a:ext cx="8091360" cy="55054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8" name=""/>
          <p:cNvSpPr/>
          <p:nvPr/>
        </p:nvSpPr>
        <p:spPr>
          <a:xfrm>
            <a:off x="538200" y="1023840"/>
            <a:ext cx="79246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#include &lt;stdlib.h&gt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#define N 10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t main()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ILE *pf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t numpar, num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((pf = fopen(“saida.dat", “rb")) == NULL) /* Abre arquivo binário para leitura */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rintf("Erro na abertura do arquivo")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xit(1)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or(num=0;num&lt;=N;num++)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(fread(&amp;numpar, sizeof(int),1,pf) != 1) /* Le em numpar o valor da variável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rmazenada anteriormente */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rintf("Erro na leitura do arquivo")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rintf("\nnumpar, lido do arquivo= %d", numpar)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close(pf)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turn(0)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1EEF-B8AC-4D6E-857E-DE737B0F68D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1093320" y="1473120"/>
            <a:ext cx="7823160" cy="1425600"/>
          </a:xfrm>
          <a:prstGeom prst="rect">
            <a:avLst/>
          </a:prstGeom>
          <a:noFill/>
          <a:ln w="0">
            <a:noFill/>
          </a:ln>
          <a:effectLst>
            <a:outerShdw dist="28496" dir="2002552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</a:rPr>
              <a:t>Repita os dois últimos exemplos, substituindo as funções </a:t>
            </a: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fwrite</a:t>
            </a:r>
            <a:r>
              <a:rPr b="1" i="1" lang="pt-BR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99"/>
                </a:solidFill>
                <a:latin typeface="Arial"/>
              </a:rPr>
              <a:t>e </a:t>
            </a: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fread</a:t>
            </a:r>
            <a:r>
              <a:rPr b="1" i="1" lang="pt-BR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99"/>
                </a:solidFill>
                <a:latin typeface="Arial"/>
              </a:rPr>
              <a:t>por </a:t>
            </a: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fprintf</a:t>
            </a:r>
            <a:r>
              <a:rPr b="1" lang="pt-BR" sz="2800" spc="-1" strike="noStrike">
                <a:solidFill>
                  <a:srgbClr val="ffff99"/>
                </a:solidFill>
                <a:latin typeface="Arial"/>
              </a:rPr>
              <a:t> e </a:t>
            </a: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fscanf</a:t>
            </a:r>
            <a:r>
              <a:rPr b="1" lang="pt-BR" sz="2800" spc="-1" strike="noStrike">
                <a:solidFill>
                  <a:srgbClr val="ffff99"/>
                </a:solidFill>
                <a:latin typeface="Arial"/>
              </a:rPr>
              <a:t>, respectivamen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04800" y="851040"/>
            <a:ext cx="2524320" cy="39024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cc00"/>
                </a:solidFill>
                <a:latin typeface="Penguin"/>
              </a:rPr>
              <a:t>  </a:t>
            </a: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Exercíci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985680" y="42840"/>
            <a:ext cx="7174080" cy="577440"/>
            <a:chOff x="985680" y="42840"/>
            <a:chExt cx="7174080" cy="577440"/>
          </a:xfrm>
        </p:grpSpPr>
        <p:sp>
          <p:nvSpPr>
            <p:cNvPr id="452" name=""/>
            <p:cNvSpPr/>
            <p:nvPr/>
          </p:nvSpPr>
          <p:spPr>
            <a:xfrm>
              <a:off x="1012680" y="4284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985680" y="5832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Entrada e Saída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57F6-3D93-4B61-BE3D-44A53FAA5B7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1163520" y="84240"/>
            <a:ext cx="7174080" cy="577440"/>
            <a:chOff x="1163520" y="84240"/>
            <a:chExt cx="7174080" cy="577440"/>
          </a:xfrm>
        </p:grpSpPr>
        <p:sp>
          <p:nvSpPr>
            <p:cNvPr id="116" name=""/>
            <p:cNvSpPr/>
            <p:nvPr/>
          </p:nvSpPr>
          <p:spPr>
            <a:xfrm>
              <a:off x="1190520" y="8424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163520" y="9972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Entrada e Saída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19040" y="992160"/>
            <a:ext cx="2524320" cy="39060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  </a:t>
            </a: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Exempl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03200" y="1846440"/>
            <a:ext cx="8364600" cy="3689280"/>
            <a:chOff x="403200" y="1846440"/>
            <a:chExt cx="8364600" cy="3689280"/>
          </a:xfrm>
        </p:grpSpPr>
        <p:sp>
          <p:nvSpPr>
            <p:cNvPr id="120" name=""/>
            <p:cNvSpPr/>
            <p:nvPr/>
          </p:nvSpPr>
          <p:spPr>
            <a:xfrm>
              <a:off x="403200" y="1846440"/>
              <a:ext cx="8364600" cy="36892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30280" y="1951200"/>
              <a:ext cx="8229600" cy="351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main ( )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char ch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clrscr()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printf ( “\nDigite um caractere\n”)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ch = getchar( )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printf ( “\n Todos sabem que você digitou %c”, ch)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78BD-8661-4401-A152-7EC50283A39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341640" y="2065320"/>
            <a:ext cx="7683120" cy="3202200"/>
            <a:chOff x="341640" y="2065320"/>
            <a:chExt cx="7683120" cy="3202200"/>
          </a:xfrm>
        </p:grpSpPr>
        <p:sp>
          <p:nvSpPr>
            <p:cNvPr id="123" name=""/>
            <p:cNvSpPr/>
            <p:nvPr/>
          </p:nvSpPr>
          <p:spPr>
            <a:xfrm>
              <a:off x="534960" y="2065320"/>
              <a:ext cx="7489800" cy="310536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41640" y="2294280"/>
              <a:ext cx="7014240" cy="29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2720" rIns="90000" tIns="4680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main ( )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char ch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ch = getch( )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printf (“ \ nSomente agora saberemos”)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printf (“que você digitou %c”, ch)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343160" y="63360"/>
            <a:ext cx="7173360" cy="577800"/>
            <a:chOff x="1343160" y="63360"/>
            <a:chExt cx="7173360" cy="577800"/>
          </a:xfrm>
        </p:grpSpPr>
        <p:sp>
          <p:nvSpPr>
            <p:cNvPr id="126" name=""/>
            <p:cNvSpPr/>
            <p:nvPr/>
          </p:nvSpPr>
          <p:spPr>
            <a:xfrm>
              <a:off x="1369800" y="63360"/>
              <a:ext cx="7146720" cy="5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343160" y="78840"/>
              <a:ext cx="7146720" cy="56232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Entrada e Saída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474840" y="1047600"/>
            <a:ext cx="2523960" cy="39060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  </a:t>
            </a: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Exempl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9122-95E6-4C84-AAB0-426B7F7756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1522440" y="81000"/>
            <a:ext cx="7173360" cy="577440"/>
            <a:chOff x="1522440" y="81000"/>
            <a:chExt cx="7173360" cy="577440"/>
          </a:xfrm>
        </p:grpSpPr>
        <p:sp>
          <p:nvSpPr>
            <p:cNvPr id="130" name=""/>
            <p:cNvSpPr/>
            <p:nvPr/>
          </p:nvSpPr>
          <p:spPr>
            <a:xfrm>
              <a:off x="1549080" y="81000"/>
              <a:ext cx="714672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22440" y="96480"/>
              <a:ext cx="714672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Entrada e Saída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463680" y="1065240"/>
            <a:ext cx="2523960" cy="39060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  </a:t>
            </a: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Exempl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392040" y="1954080"/>
            <a:ext cx="6596280" cy="4159440"/>
            <a:chOff x="392040" y="1954080"/>
            <a:chExt cx="6596280" cy="4159440"/>
          </a:xfrm>
        </p:grpSpPr>
        <p:sp>
          <p:nvSpPr>
            <p:cNvPr id="134" name=""/>
            <p:cNvSpPr/>
            <p:nvPr/>
          </p:nvSpPr>
          <p:spPr>
            <a:xfrm>
              <a:off x="392040" y="1954080"/>
              <a:ext cx="6596280" cy="415944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8640" y="2278080"/>
              <a:ext cx="6384960" cy="37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#include &lt;stdio.h&gt;</a:t>
              </a:r>
              <a:br>
                <a:rPr sz="2400"/>
              </a:b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int main()</a:t>
              </a:r>
              <a:br>
                <a:rPr sz="2400"/>
              </a:b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br>
                <a:rPr sz="2400"/>
              </a:b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char buffer[10]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clrscr();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400"/>
              </a:b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printf(”\nEntre com o seu nome: ");</a:t>
              </a:r>
              <a:br>
                <a:rPr sz="2400"/>
              </a:b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gets(buffer);</a:t>
              </a:r>
              <a:br>
                <a:rPr sz="2400"/>
              </a:b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printf(”\nO nome é: %s\n", buffer);</a:t>
              </a:r>
              <a:br>
                <a:rPr sz="2400"/>
              </a:b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return 0;</a:t>
              </a:r>
              <a:br>
                <a:rPr sz="2400"/>
              </a:b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DAEE-3E77-4F33-B3E5-29200D684E5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676440" y="2090880"/>
            <a:ext cx="5973480" cy="3511440"/>
            <a:chOff x="676440" y="2090880"/>
            <a:chExt cx="5973480" cy="3511440"/>
          </a:xfrm>
        </p:grpSpPr>
        <p:sp>
          <p:nvSpPr>
            <p:cNvPr id="137" name=""/>
            <p:cNvSpPr/>
            <p:nvPr/>
          </p:nvSpPr>
          <p:spPr>
            <a:xfrm>
              <a:off x="676440" y="2090880"/>
              <a:ext cx="5973480" cy="351144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98480" y="2167200"/>
              <a:ext cx="5797440" cy="329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main ( )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char  nome[40]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clrscr()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printf (“\nDigite seu nome: ”)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gets (&amp;nome[0])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puts (“Bom dia ”);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puts (nome)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628560" y="1077840"/>
            <a:ext cx="2524320" cy="39060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  </a:t>
            </a: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Exempl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985680" y="81000"/>
            <a:ext cx="7174080" cy="577440"/>
            <a:chOff x="985680" y="81000"/>
            <a:chExt cx="7174080" cy="577440"/>
          </a:xfrm>
        </p:grpSpPr>
        <p:sp>
          <p:nvSpPr>
            <p:cNvPr id="141" name=""/>
            <p:cNvSpPr/>
            <p:nvPr/>
          </p:nvSpPr>
          <p:spPr>
            <a:xfrm>
              <a:off x="1012680" y="810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985680" y="964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Entrada e Saída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0E39-CB35-4B65-A828-B64993BC87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01680" y="3962520"/>
            <a:ext cx="3427200" cy="23652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4" name=""/>
          <p:cNvSpPr/>
          <p:nvPr/>
        </p:nvSpPr>
        <p:spPr>
          <a:xfrm>
            <a:off x="506520" y="4168800"/>
            <a:ext cx="315252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538200" indent="-53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o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538200" indent="-53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538200" indent="-53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etra = getchar();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538200" indent="-53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utchar(letra);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538200" indent="-53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} while(letra != ´\n´);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"/>
          <p:cNvSpPr/>
          <p:nvPr/>
        </p:nvSpPr>
        <p:spPr>
          <a:xfrm>
            <a:off x="628560" y="1077840"/>
            <a:ext cx="5213520" cy="6080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27120" indent="-627120">
              <a:lnSpc>
                <a:spcPct val="100000"/>
              </a:lnSpc>
              <a:buClr>
                <a:srgbClr val="fde503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600" spc="-1" strike="noStrike">
                <a:solidFill>
                  <a:srgbClr val="fde503"/>
                </a:solidFill>
                <a:latin typeface="Arial"/>
              </a:rPr>
              <a:t>getchar()</a:t>
            </a:r>
            <a:r>
              <a:rPr b="1" lang="pt-PT" sz="3600" spc="-1" strike="noStrike">
                <a:solidFill>
                  <a:srgbClr val="ffcc00"/>
                </a:solidFill>
                <a:latin typeface="Arial"/>
              </a:rPr>
              <a:t>/</a:t>
            </a:r>
            <a:r>
              <a:rPr b="1" i="1" lang="pt-PT" sz="3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pt-PT" sz="3600" spc="-1" strike="noStrike">
                <a:solidFill>
                  <a:srgbClr val="fde503"/>
                </a:solidFill>
                <a:latin typeface="Arial"/>
              </a:rPr>
              <a:t>putchar()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985680" y="81000"/>
            <a:ext cx="7174080" cy="577440"/>
            <a:chOff x="985680" y="81000"/>
            <a:chExt cx="7174080" cy="577440"/>
          </a:xfrm>
        </p:grpSpPr>
        <p:sp>
          <p:nvSpPr>
            <p:cNvPr id="147" name=""/>
            <p:cNvSpPr/>
            <p:nvPr/>
          </p:nvSpPr>
          <p:spPr>
            <a:xfrm>
              <a:off x="1012680" y="810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985680" y="964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Entrada e Saída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4017960" y="3944880"/>
            <a:ext cx="4751280" cy="16653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0" name=""/>
          <p:cNvSpPr/>
          <p:nvPr/>
        </p:nvSpPr>
        <p:spPr>
          <a:xfrm>
            <a:off x="4210200" y="4175640"/>
            <a:ext cx="43891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538200" indent="-53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o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538200" indent="-53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utchar(letra = getchar());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538200" indent="-53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hile(letra != ´\n´);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1" name=""/>
          <p:cNvSpPr/>
          <p:nvPr/>
        </p:nvSpPr>
        <p:spPr>
          <a:xfrm>
            <a:off x="1220760" y="1701720"/>
            <a:ext cx="6477120" cy="6080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27120" indent="-627120">
              <a:lnSpc>
                <a:spcPct val="100000"/>
              </a:lnSpc>
              <a:buClr>
                <a:srgbClr val="ffff00"/>
              </a:buClr>
              <a:buSzPct val="85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ffff00"/>
                </a:solidFill>
                <a:latin typeface="Arial"/>
              </a:rPr>
              <a:t>Não são </a:t>
            </a:r>
            <a:r>
              <a:rPr b="1" i="1" lang="pt-PT" sz="3000" spc="-1" strike="noStrike">
                <a:solidFill>
                  <a:srgbClr val="ffff99"/>
                </a:solidFill>
                <a:latin typeface="Arial"/>
              </a:rPr>
              <a:t>funções</a:t>
            </a:r>
            <a:r>
              <a:rPr b="1" lang="pt-PT" sz="3000" spc="-1" strike="noStrike">
                <a:solidFill>
                  <a:srgbClr val="ffff00"/>
                </a:solidFill>
                <a:latin typeface="Arial"/>
              </a:rPr>
              <a:t>, são </a:t>
            </a:r>
            <a:r>
              <a:rPr b="1" i="1" lang="pt-PT" sz="3000" spc="-1" strike="noStrike">
                <a:solidFill>
                  <a:srgbClr val="ffffff"/>
                </a:solidFill>
                <a:latin typeface="Arial"/>
              </a:rPr>
              <a:t>macros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2" name=""/>
          <p:cNvSpPr/>
          <p:nvPr/>
        </p:nvSpPr>
        <p:spPr>
          <a:xfrm>
            <a:off x="1224000" y="2320920"/>
            <a:ext cx="7686720" cy="13161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27120" indent="-627120" algn="just">
              <a:lnSpc>
                <a:spcPct val="100000"/>
              </a:lnSpc>
              <a:buClr>
                <a:srgbClr val="ffff00"/>
              </a:buClr>
              <a:buSzPct val="85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ffff00"/>
                </a:solidFill>
                <a:latin typeface="Arial"/>
              </a:rPr>
              <a:t>Alguns compiladores não permitem</a:t>
            </a:r>
            <a:br>
              <a:rPr sz="3000"/>
            </a:br>
            <a:r>
              <a:rPr b="1" lang="pt-PT" sz="3000" spc="-1" strike="noStrike">
                <a:solidFill>
                  <a:srgbClr val="ffff00"/>
                </a:solidFill>
                <a:latin typeface="Arial"/>
              </a:rPr>
              <a:t>a inserção de espaços entre os nomes das macros e os parênteses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C1F8-12DA-4AB0-B72A-0B466562F4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310440" y="565200"/>
            <a:ext cx="2528640" cy="119232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38200" indent="-538200" algn="just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Macro</a:t>
            </a:r>
            <a:br>
              <a:rPr sz="4000"/>
            </a:br>
            <a:r>
              <a:rPr b="1" i="1" lang="pt-PT" sz="3200" spc="-1" strike="noStrike">
                <a:solidFill>
                  <a:srgbClr val="ffff00"/>
                </a:solidFill>
                <a:latin typeface="Arial"/>
              </a:rPr>
              <a:t>toupper(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985680" y="-4680"/>
            <a:ext cx="7174080" cy="577440"/>
            <a:chOff x="985680" y="-4680"/>
            <a:chExt cx="7174080" cy="577440"/>
          </a:xfrm>
        </p:grpSpPr>
        <p:sp>
          <p:nvSpPr>
            <p:cNvPr id="155" name=""/>
            <p:cNvSpPr/>
            <p:nvPr/>
          </p:nvSpPr>
          <p:spPr>
            <a:xfrm>
              <a:off x="1012680" y="-468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85680" y="1080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Entrada e Saída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668160" y="811080"/>
            <a:ext cx="4751640" cy="56721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"/>
          <p:cNvSpPr/>
          <p:nvPr/>
        </p:nvSpPr>
        <p:spPr>
          <a:xfrm>
            <a:off x="719280" y="1501920"/>
            <a:ext cx="5333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" name=""/>
          <p:cNvSpPr/>
          <p:nvPr/>
        </p:nvSpPr>
        <p:spPr>
          <a:xfrm>
            <a:off x="674640" y="1546200"/>
            <a:ext cx="620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1133640"/>
            <a:ext cx="4593960" cy="52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#include &lt;conio.h&gt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#include &lt;ctype.h&gt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void main(void)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int letra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printf("Quer continuar? (S/N):"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letra=getche(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letra=toupper(letra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} while ((letra != 'S') &amp;&amp; (letra != 'N')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if (letra == 'S')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printf("\nOK\n"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printf("\nPor que nao?\n"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7186-ABE0-4963-BAE1-AFCDE254A86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507960" y="1938240"/>
            <a:ext cx="7978680" cy="2227320"/>
            <a:chOff x="507960" y="1938240"/>
            <a:chExt cx="7978680" cy="2227320"/>
          </a:xfrm>
        </p:grpSpPr>
        <p:sp>
          <p:nvSpPr>
            <p:cNvPr id="162" name=""/>
            <p:cNvSpPr/>
            <p:nvPr/>
          </p:nvSpPr>
          <p:spPr>
            <a:xfrm>
              <a:off x="507960" y="1938240"/>
              <a:ext cx="7978680" cy="22273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aphicFrame>
          <p:nvGraphicFramePr>
            <p:cNvPr id="163" name=""/>
            <p:cNvGraphicFramePr/>
            <p:nvPr/>
          </p:nvGraphicFramePr>
          <p:xfrm>
            <a:off x="528480" y="2044800"/>
            <a:ext cx="7896240" cy="200664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6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8480" y="2044800"/>
                      <a:ext cx="7896240" cy="200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5" name=""/>
            <p:cNvSpPr/>
            <p:nvPr/>
          </p:nvSpPr>
          <p:spPr>
            <a:xfrm>
              <a:off x="1257120" y="2209680"/>
              <a:ext cx="1333440" cy="366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FUNÇÃO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628560" y="1077840"/>
            <a:ext cx="4175280" cy="39060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  </a:t>
            </a: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E/S via console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985680" y="81000"/>
            <a:ext cx="7174080" cy="577440"/>
            <a:chOff x="985680" y="81000"/>
            <a:chExt cx="7174080" cy="577440"/>
          </a:xfrm>
        </p:grpSpPr>
        <p:sp>
          <p:nvSpPr>
            <p:cNvPr id="168" name=""/>
            <p:cNvSpPr/>
            <p:nvPr/>
          </p:nvSpPr>
          <p:spPr>
            <a:xfrm>
              <a:off x="1012680" y="810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985680" y="964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Entrada e Saída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2512-07FA-448A-9853-B9B04E5C06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06:02Z</dcterms:created>
  <dc:creator>Joseana M. Fechine/Eustáquio Rangel</dc:creator>
  <dc:description/>
  <dc:language>en-US</dc:language>
  <cp:lastModifiedBy>Particular</cp:lastModifiedBy>
  <cp:lastPrinted>2002-02-17T19:14:27Z</cp:lastPrinted>
  <dcterms:modified xsi:type="dcterms:W3CDTF">2004-09-14T18:26:15Z</dcterms:modified>
  <cp:revision>288</cp:revision>
  <dc:subject/>
  <dc:title>Técnicas de Programação</dc:title>
</cp:coreProperties>
</file>