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AE5B-EA94-4496-B57A-EE68078B8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6629-A617-4729-B31A-20A4160E7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A3A6-1FAC-4E18-B0DE-31D0ECE94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6A22-AFEA-45A9-B9D3-F5913F00D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ubTitle"/>
          </p:nvPr>
        </p:nvSpPr>
        <p:spPr>
          <a:xfrm>
            <a:off x="1143000" y="26640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2544-54BC-499C-9925-1F9DD7AD2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BC06-46C9-480D-8082-96863A183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70DF-8309-4A26-BE86-309AE82D9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0044-2FF9-4FB2-8EB5-EC80B5DF9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1143000" y="26640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BDE1-2BD0-4892-8650-E46468121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B779-17D7-4ED0-A2D4-7CCAA5C9D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29BF-7086-4C51-9E6D-0E95E4F93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992D-FB3B-4F57-A85B-7DE1A42E5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6640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E6F-2CBD-4DFE-927A-932FFBAF6850}" type="slidenum">
              <a:rPr b="1" i="1" lang="pt-BR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5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9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6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40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9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6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1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0" y="-360"/>
            <a:ext cx="655560" cy="635040"/>
            <a:chOff x="0" y="-360"/>
            <a:chExt cx="655560" cy="635040"/>
          </a:xfrm>
        </p:grpSpPr>
        <p:sp>
          <p:nvSpPr>
            <p:cNvPr id="1752" name=""/>
            <p:cNvSpPr/>
            <p:nvPr/>
          </p:nvSpPr>
          <p:spPr>
            <a:xfrm>
              <a:off x="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460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428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676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313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7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6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7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4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8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39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2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29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3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1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2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8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79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3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4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"/>
          <p:cNvSpPr/>
          <p:nvPr/>
        </p:nvSpPr>
        <p:spPr>
          <a:xfrm>
            <a:off x="1104840" y="399960"/>
            <a:ext cx="718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 txBox="1"/>
          <p:nvPr/>
        </p:nvSpPr>
        <p:spPr>
          <a:xfrm>
            <a:off x="2262240" y="2352600"/>
            <a:ext cx="46180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Revisão de Conceitos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3810" name=""/>
          <p:cNvSpPr txBox="1"/>
          <p:nvPr/>
        </p:nvSpPr>
        <p:spPr>
          <a:xfrm>
            <a:off x="1163520" y="3083040"/>
            <a:ext cx="68151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Sistemas de Numeraçã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"/>
          <p:cNvSpPr/>
          <p:nvPr/>
        </p:nvSpPr>
        <p:spPr>
          <a:xfrm>
            <a:off x="3675240" y="2552760"/>
            <a:ext cx="17935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4" name="PlaceHolder 1"/>
          <p:cNvSpPr>
            <a:spLocks noGrp="1"/>
          </p:cNvSpPr>
          <p:nvPr>
            <p:ph/>
          </p:nvPr>
        </p:nvSpPr>
        <p:spPr>
          <a:xfrm>
            <a:off x="371520" y="2000160"/>
            <a:ext cx="840096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Utiliza dois símbolos para representar quantidade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0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e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1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Segue as regras do sistema decimal - válidos os conceitos de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peso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e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posiçã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. Posições não têm nome específico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2" marL="108576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ada algarismo é chamado de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bit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Exemplo: 101</a:t>
            </a:r>
            <a:r>
              <a:rPr b="1" lang="pt-BR" sz="2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Expressão ora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diferente dos  números decimai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aractere mais à esquerda -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Most-Significative-Bit -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MSB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”. 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aractere  mais à direita -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Least-Significative-Bit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“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LSB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”.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512640" y="1285920"/>
            <a:ext cx="3755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stema Binário (Base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E082-6C54-4594-9592-AFF149CF1A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"/>
          <p:cNvSpPr/>
          <p:nvPr/>
        </p:nvSpPr>
        <p:spPr>
          <a:xfrm>
            <a:off x="1600200" y="2990880"/>
            <a:ext cx="5810400" cy="62856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8" name="PlaceHolder 1"/>
          <p:cNvSpPr>
            <a:spLocks noGrp="1"/>
          </p:cNvSpPr>
          <p:nvPr>
            <p:ph/>
          </p:nvPr>
        </p:nvSpPr>
        <p:spPr>
          <a:xfrm>
            <a:off x="685800" y="2305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Utiliza 8 símbolo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0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 1      2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3   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4      5       6      7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Exemplo: 563</a:t>
            </a:r>
            <a:r>
              <a:rPr b="1" lang="pt-BR" sz="2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8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Expressão oral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similar ao sistema binário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686880" y="1495440"/>
            <a:ext cx="346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istema Octal (Base 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DEF6-9814-4C11-A98A-164DD6D176B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"/>
          <p:cNvSpPr/>
          <p:nvPr/>
        </p:nvSpPr>
        <p:spPr>
          <a:xfrm>
            <a:off x="733320" y="3209760"/>
            <a:ext cx="7962840" cy="93348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2" name="PlaceHolder 1"/>
          <p:cNvSpPr>
            <a:spLocks noGrp="1"/>
          </p:cNvSpPr>
          <p:nvPr>
            <p:ph/>
          </p:nvPr>
        </p:nvSpPr>
        <p:spPr>
          <a:xfrm>
            <a:off x="571320" y="2190240"/>
            <a:ext cx="8001000" cy="4077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ossui 16 símbolos (algarismos) para representar qualquer quantidade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 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Arial"/>
              </a:rPr>
              <a:t>0      1        2         3        4        5       6       7       8      9            A      B        C        D         E        F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Uso das letras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Arial"/>
              </a:rPr>
              <a:t>facilidade de manusei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Exemplo: 5A3</a:t>
            </a:r>
            <a:r>
              <a:rPr b="1" lang="pt-BR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6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Arial"/>
              </a:rPr>
              <a:t>Expressão ora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- similar ao sistema binário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646920" y="1352520"/>
            <a:ext cx="5130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Sistema Hexadecimal (Base 16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E0D4-F0A5-419A-9F71-348E21FF89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/>
          </p:nvPr>
        </p:nvSpPr>
        <p:spPr>
          <a:xfrm>
            <a:off x="571320" y="1695600"/>
            <a:ext cx="80802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o trabalhar com sistemas de numeração, em qualquer base, deve-se observar o seguinte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 número de dígitos usado no sistema é igual à bas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 maior dígito é sempre menor que a bas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 dígito mais significativo está à esquerda, e o menos significativo à direit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Um “vai-um” de uma posição para outra tem um peso igual a uma potência  da bas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Em geral se toma a base decimal como referênci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322E-0BA4-4F57-93EE-6BB6297DA7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"/>
          <p:cNvSpPr/>
          <p:nvPr/>
        </p:nvSpPr>
        <p:spPr>
          <a:xfrm>
            <a:off x="2152800" y="914400"/>
            <a:ext cx="5715000" cy="5562720"/>
          </a:xfrm>
          <a:prstGeom prst="rect">
            <a:avLst/>
          </a:prstGeom>
          <a:solidFill>
            <a:srgbClr val="ffffcc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58" name=""/>
          <p:cNvGraphicFramePr/>
          <p:nvPr/>
        </p:nvGraphicFramePr>
        <p:xfrm>
          <a:off x="-2495520" y="1047600"/>
          <a:ext cx="15011280" cy="927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495520" y="1047600"/>
                    <a:ext cx="15011280" cy="927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0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388B-4BCF-425C-9C3C-60E5F2026E7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1066680" y="1409400"/>
            <a:ext cx="701064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651960" y="2381400"/>
            <a:ext cx="8123400" cy="1395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cedimentos básicos:  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divis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números inteiros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polinômi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grupamento de bit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863" name=""/>
          <p:cNvGrpSpPr/>
          <p:nvPr/>
        </p:nvGrpSpPr>
        <p:grpSpPr>
          <a:xfrm>
            <a:off x="1238400" y="4057560"/>
            <a:ext cx="7243560" cy="2268720"/>
            <a:chOff x="1238400" y="4057560"/>
            <a:chExt cx="7243560" cy="2268720"/>
          </a:xfrm>
        </p:grpSpPr>
        <p:graphicFrame>
          <p:nvGraphicFramePr>
            <p:cNvPr id="3864" name=""/>
            <p:cNvGraphicFramePr/>
            <p:nvPr/>
          </p:nvGraphicFramePr>
          <p:xfrm>
            <a:off x="1238400" y="4057560"/>
            <a:ext cx="7243560" cy="226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38400" y="4057560"/>
                      <a:ext cx="7243560" cy="2268720"/>
                    </a:xfrm>
                    <a:prstGeom prst="rect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866" name=""/>
            <p:cNvSpPr/>
            <p:nvPr/>
          </p:nvSpPr>
          <p:spPr>
            <a:xfrm>
              <a:off x="6743880" y="451476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CTA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DE3B-CF9B-49DB-A5DE-BDCCAA36464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/>
          </p:nvPr>
        </p:nvSpPr>
        <p:spPr>
          <a:xfrm>
            <a:off x="547200" y="1866960"/>
            <a:ext cx="80470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Divisão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Decimal         outro sistema)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ivisão inteira (do quociente) sucessiva pela base, até que resto seja menor do que a base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alor na base = composição do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último quoci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MSB) com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est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primeiro resto é o bit menos significativo - LSB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3714840" y="2800440"/>
            <a:ext cx="30456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71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9232-52CC-4878-A85D-C45FEC4B83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/>
          </p:nvPr>
        </p:nvSpPr>
        <p:spPr>
          <a:xfrm>
            <a:off x="662040" y="1467000"/>
            <a:ext cx="78184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1" lang="en-US" sz="23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ivisã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cim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tro sistem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ividir o número por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base do sistema) e os resultados consecutivas vezes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.: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125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10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=  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?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538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= 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?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873" name=""/>
          <p:cNvGraphicFramePr/>
          <p:nvPr/>
        </p:nvGraphicFramePr>
        <p:xfrm>
          <a:off x="993600" y="4405320"/>
          <a:ext cx="3578400" cy="21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3600" y="4405320"/>
                    <a:ext cx="3578400" cy="2179800"/>
                  </a:xfrm>
                  <a:prstGeom prst="rect">
                    <a:avLst/>
                  </a:prstGeom>
                  <a:ln w="507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5" name=""/>
          <p:cNvSpPr/>
          <p:nvPr/>
        </p:nvSpPr>
        <p:spPr>
          <a:xfrm>
            <a:off x="3905280" y="230508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76" name=""/>
          <p:cNvGraphicFramePr/>
          <p:nvPr/>
        </p:nvGraphicFramePr>
        <p:xfrm>
          <a:off x="5181480" y="4457880"/>
          <a:ext cx="3613320" cy="17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4457880"/>
                    <a:ext cx="3613320" cy="1790640"/>
                  </a:xfrm>
                  <a:prstGeom prst="rect">
                    <a:avLst/>
                  </a:prstGeom>
                  <a:ln w="507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8" name="PlaceHolder 2"/>
          <p:cNvSpPr>
            <a:spLocks noGrp="1"/>
          </p:cNvSpPr>
          <p:nvPr>
            <p:ph type="title"/>
          </p:nvPr>
        </p:nvSpPr>
        <p:spPr>
          <a:xfrm>
            <a:off x="1066680" y="1161720"/>
            <a:ext cx="7010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79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935D-E056-429E-91F9-7C7B21CEE9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"/>
          <p:cNvSpPr/>
          <p:nvPr/>
        </p:nvSpPr>
        <p:spPr>
          <a:xfrm>
            <a:off x="822240" y="4724280"/>
            <a:ext cx="7499520" cy="7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1" name="PlaceHolder 1"/>
          <p:cNvSpPr>
            <a:spLocks noGrp="1"/>
          </p:cNvSpPr>
          <p:nvPr>
            <p:ph/>
          </p:nvPr>
        </p:nvSpPr>
        <p:spPr>
          <a:xfrm>
            <a:off x="847800" y="2152800"/>
            <a:ext cx="75628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tação Polinomial ou Posiciona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álida para qualquer base numérica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LEI DE FORMAÇ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Notação ou Representação Polinomia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úmero </a:t>
            </a:r>
            <a:r>
              <a:rPr b="0" lang="pt-BR" sz="2400" spc="-1" strike="noStrike">
                <a:solidFill>
                  <a:srgbClr val="200b5b"/>
                </a:solidFill>
                <a:latin typeface="Arial"/>
              </a:rPr>
              <a:t>=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i="1" lang="pt-BR" sz="2400" spc="-1" strike="noStrike" baseline="-25000">
                <a:solidFill>
                  <a:srgbClr val="ffffcc"/>
                </a:solidFill>
                <a:latin typeface="Arial"/>
              </a:rPr>
              <a:t>n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= algarismo,  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= base do númer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= quantidade de algarismo  - 1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2" name=""/>
              <p:cNvSpPr txBox="1"/>
              <p:nvPr/>
            </p:nvSpPr>
            <p:spPr>
              <a:xfrm>
                <a:off x="2324160" y="4800600"/>
                <a:ext cx="5765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83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84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D0E1-C142-4783-969B-17B7B4EBA3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x.: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) (1111101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2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=  (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0</a:t>
            </a:r>
            <a:r>
              <a:rPr b="0" lang="pt-BR" sz="2400" spc="-1" strike="noStrike" baseline="-25000">
                <a:solidFill>
                  <a:srgbClr val="ffff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) (21A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=  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?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21A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=  2x16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+ 1x16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1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+ 10x16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0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pt-BR" sz="24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538</a:t>
            </a:r>
            <a:r>
              <a:rPr b="1" lang="pt-BR" sz="24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209960" y="3448080"/>
            <a:ext cx="72950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1111101)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6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+ 1x2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0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1" lang="en-US" sz="24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5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88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CCB8-870C-42BF-A1F0-F52D9D0620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466560" y="1619280"/>
            <a:ext cx="821088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Os computadores manipulam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dados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(sinais brutos e sem significado individual) para produzir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informações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 conversão de dados em informações, e estas novamente em dados, é uma parte tão fundamental em relação ao que os computadores fazem que é preciso saber como a conversão ocorre para compreender como o computador funciona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Infelizmente os computadores não usam nosso sistema de numeração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361800" y="0"/>
            <a:ext cx="87822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A Informação e sua Representaçã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35FD-A07C-4679-9CBE-854B1E5DCA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3916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Agrupamento de Bit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 algn="just">
              <a:lnSpc>
                <a:spcPct val="140000"/>
              </a:lnSpc>
              <a:spcBef>
                <a:spcPts val="300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Sistemas octal e hexa      binário (e vice versa)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ssociando 3 bits ou 4 bits (quando octal                   ou hexadecimal, respectivamente) e vice-versa.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.: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1011110010100111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= ( 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      (A79E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= ( 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4686480" y="3124080"/>
            <a:ext cx="30456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91" name=""/>
          <p:cNvGraphicFramePr/>
          <p:nvPr/>
        </p:nvGraphicFramePr>
        <p:xfrm>
          <a:off x="1295280" y="5067360"/>
          <a:ext cx="3532320" cy="12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067360"/>
                    <a:ext cx="3532320" cy="120816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93" name=""/>
          <p:cNvGraphicFramePr/>
          <p:nvPr/>
        </p:nvGraphicFramePr>
        <p:xfrm>
          <a:off x="5391000" y="5029200"/>
          <a:ext cx="3410280" cy="11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1000" y="5029200"/>
                    <a:ext cx="3410280" cy="119556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95" name="PlaceHolder 2"/>
          <p:cNvSpPr>
            <a:spLocks noGrp="1"/>
          </p:cNvSpPr>
          <p:nvPr>
            <p:ph type="title"/>
          </p:nvPr>
        </p:nvSpPr>
        <p:spPr>
          <a:xfrm>
            <a:off x="1066680" y="1180800"/>
            <a:ext cx="7010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9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1CD3-A602-45F3-80AC-9A9650C4114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/>
          </p:nvPr>
        </p:nvSpPr>
        <p:spPr>
          <a:xfrm>
            <a:off x="837720" y="2171880"/>
            <a:ext cx="782964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onversão octal      hexadecima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11996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é realizada diretamente - não há relação de potências entre as bases oito e dezessei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melhante à conversão entre duas bases quaisquer -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ase intermediári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base binária)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versão em duas etapas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1 - número: base octal (hexadecimal)      binári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2 - resultado intermediário: binária        hexadecimal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(octal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419880" y="535320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52680" y="238140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90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AD0A-0513-4BAE-AB03-5E5D0F116F3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Ex.: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)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175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8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= ( ? 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c5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175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8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= (1111101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7D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16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)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(21A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16 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= (?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pt-BR" sz="2400" spc="-1" strike="noStrike" baseline="-25000">
                <a:solidFill>
                  <a:srgbClr val="ffff66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21A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 = (001000011010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ffffc5"/>
                </a:solidFill>
                <a:latin typeface="Arial"/>
              </a:rPr>
              <a:t>(1032)</a:t>
            </a:r>
            <a:r>
              <a:rPr b="1" lang="pt-BR" sz="2400" spc="-1" strike="noStrike" baseline="-25000">
                <a:solidFill>
                  <a:srgbClr val="ffffc5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1028880" y="1352520"/>
            <a:ext cx="782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F155-DC04-4AC0-8180-513427159BB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/>
          </p:nvPr>
        </p:nvSpPr>
        <p:spPr>
          <a:xfrm>
            <a:off x="391680" y="2228760"/>
            <a:ext cx="7712280" cy="320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versão de Números Fracionário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i de Formação ampliada (polinômio)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6192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907" name=""/>
          <p:cNvGraphicFramePr/>
          <p:nvPr/>
        </p:nvGraphicFramePr>
        <p:xfrm>
          <a:off x="395280" y="3867120"/>
          <a:ext cx="835344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867120"/>
                    <a:ext cx="8353440" cy="106200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09" name="PlaceHolder 2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70102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entre  Sistemas de Numeração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910" name=""/>
          <p:cNvSpPr/>
          <p:nvPr/>
        </p:nvSpPr>
        <p:spPr>
          <a:xfrm>
            <a:off x="723960" y="5276880"/>
            <a:ext cx="769608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b00b"/>
                </a:solidFill>
                <a:latin typeface="Arial"/>
                <a:ea typeface="Times New Roman"/>
              </a:rPr>
              <a:t>Exemplo: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(101,110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=  ( ? 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0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+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1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2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+ 0 </a:t>
            </a:r>
            <a:r>
              <a:rPr b="1" lang="en-US" sz="2200" spc="-1" strike="noStrike">
                <a:solidFill>
                  <a:srgbClr val="ffffcc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2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3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 =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(5,75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D45E-24DB-4538-B50A-B2ECCBE568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70102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versão de Números Fracionários</a:t>
            </a:r>
            <a:endParaRPr b="1" lang="en-US" sz="2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323640" y="2876040"/>
            <a:ext cx="8267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Operação inversa: </a:t>
            </a:r>
            <a:r>
              <a:rPr b="1" lang="en-US" sz="2200" spc="-1" strike="noStrike">
                <a:solidFill>
                  <a:srgbClr val="ffffc5"/>
                </a:solidFill>
                <a:latin typeface="Arial"/>
              </a:rPr>
              <a:t>multiplicar a parte fracionária pela base até que a parte fracionária do resultado seja zero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593280" y="2133720"/>
            <a:ext cx="44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cimal         outro sistem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286000" y="2343240"/>
            <a:ext cx="304920" cy="0"/>
          </a:xfrm>
          <a:prstGeom prst="line">
            <a:avLst/>
          </a:prstGeom>
          <a:ln w="3816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2895480" y="3657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b00b"/>
                </a:solidFill>
                <a:latin typeface="Arial"/>
                <a:ea typeface="Times New Roman"/>
              </a:rPr>
              <a:t>Exemplo: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(8,375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10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= ( ? )</a:t>
            </a:r>
            <a:r>
              <a:rPr b="1" lang="en-US" sz="22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917" name=""/>
          <p:cNvGraphicFramePr/>
          <p:nvPr/>
        </p:nvGraphicFramePr>
        <p:xfrm>
          <a:off x="1714680" y="4067280"/>
          <a:ext cx="5715000" cy="25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4067280"/>
                    <a:ext cx="5715000" cy="256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19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8DB9-5845-445D-8AEB-BAE25DC57F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/>
          </p:nvPr>
        </p:nvSpPr>
        <p:spPr>
          <a:xfrm>
            <a:off x="531720" y="1695600"/>
            <a:ext cx="80805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ostre que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5,8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= 101,11001100... 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(uma dízima)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90720" indent="-36216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11,6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= 1011,10011001100... 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619280" indent="-36360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írgula foi deslocada uma casa para a direita, pois 11,6 = 2 x 5,8 .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3495-E42B-484B-99C6-08E79502F6D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/>
          </p:nvPr>
        </p:nvSpPr>
        <p:spPr>
          <a:xfrm>
            <a:off x="531720" y="1695600"/>
            <a:ext cx="80805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  <a:ea typeface="Times New Roman"/>
              </a:rPr>
              <a:t>Uma caixa alienígena com o número 25 gravado na tampa foi entregue a um grupo de cientistas. Ao abrirem a caixa, encontraram 17 objetos. Considerando que o alienígena tem um formato humanóide, quantos dedos ele tem nas duas mãos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9E6A-7174-4DA9-9C77-74C5CE1C9E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/>
          </p:nvPr>
        </p:nvSpPr>
        <p:spPr>
          <a:xfrm>
            <a:off x="779400" y="1866960"/>
            <a:ext cx="808056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7</a:t>
            </a:r>
            <a:r>
              <a:rPr b="1" lang="en-US" sz="26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25</a:t>
            </a:r>
            <a:r>
              <a:rPr b="0" lang="en-US" sz="2600" spc="-1" strike="noStrike" baseline="-25000">
                <a:solidFill>
                  <a:srgbClr val="ffffcc"/>
                </a:solidFill>
                <a:latin typeface="Arial"/>
              </a:rPr>
              <a:t>b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7 = 2xb</a:t>
            </a:r>
            <a:r>
              <a:rPr b="1" lang="en-US" sz="26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+ 5xb</a:t>
            </a:r>
            <a:r>
              <a:rPr b="1" lang="en-US" sz="26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17 = 2b + 5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b = (17-5)/2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b = 6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6BF9-EDB9-442F-A445-6E17888DFC1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  <a:ea typeface="Times New Roman"/>
              </a:rPr>
              <a:t>Elabore um programa que realiza conversões entre sistemas de numeração, conforme descrição apresentada na figura abaixo.</a:t>
            </a: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928" name=""/>
          <p:cNvGraphicFramePr/>
          <p:nvPr/>
        </p:nvGraphicFramePr>
        <p:xfrm>
          <a:off x="1343160" y="3448080"/>
          <a:ext cx="6972120" cy="15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3448080"/>
                    <a:ext cx="697212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1B51-15A0-463B-8FE9-ADB5D65C43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133200" y="2324160"/>
            <a:ext cx="8877600" cy="2247840"/>
          </a:xfrm>
          <a:prstGeom prst="ellipse">
            <a:avLst/>
          </a:prstGeom>
          <a:solidFill>
            <a:srgbClr val="ffffd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1" name="PlaceHolder 1"/>
          <p:cNvSpPr>
            <a:spLocks noGrp="1"/>
          </p:cNvSpPr>
          <p:nvPr>
            <p:ph/>
          </p:nvPr>
        </p:nvSpPr>
        <p:spPr>
          <a:xfrm>
            <a:off x="409680" y="2971800"/>
            <a:ext cx="8324640" cy="1123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o um computador “identifica” que um número é negativo?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D381-8FED-474E-90F5-2C835271CA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/>
          </p:nvPr>
        </p:nvSpPr>
        <p:spPr>
          <a:xfrm>
            <a:off x="409680" y="142884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66"/>
                </a:solidFill>
                <a:latin typeface="Penguin"/>
              </a:rPr>
              <a:t>Sistema de Numeraçã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Conjunto de símbolos utilizados para representação de quantidades e de regras que definem a forma de representação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Cada sistema de numeração é apenas um método diferente de representar quantidades.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As quantidades em si não mudam, mudam apenas os símbolos usados para representá-la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A quantidade de algarismos disponíveis em um dado sistema de numeração é chamada de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base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Representação numérica mais empregada: </a:t>
            </a: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notação posicional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361800" y="0"/>
            <a:ext cx="87822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Penguin"/>
              </a:rPr>
              <a:t>A Informação e sua Representaçã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79DC-DF9E-4B1C-9C9E-444151B4D08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 resposta a esta pergunta é que isso depende da convenção usada na representação de números.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s convenções mais usuais são as seguintes :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esentação de grandeza com sinal      (sinal e magnitude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90720" indent="-362160" algn="just"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presentação em complemento de 2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478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F514-C095-462E-A649-B4F4AEB3D4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4781520" y="4724280"/>
            <a:ext cx="3581280" cy="197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45360" indent="-45360" algn="just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010100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   = 4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pt-PT" sz="2400" spc="-1" strike="noStrike">
                <a:solidFill>
                  <a:srgbClr val="00906a"/>
                </a:solidFill>
                <a:latin typeface="Arial"/>
              </a:rPr>
              <a:t>101011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c2 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= - 41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1123920" y="4724280"/>
            <a:ext cx="3505320" cy="1981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45360" indent="-45360" algn="just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pt-PT" sz="2200" spc="-1" strike="noStrike">
                <a:solidFill>
                  <a:srgbClr val="000000"/>
                </a:solidFill>
                <a:latin typeface="Arial"/>
              </a:rPr>
              <a:t> (8 bits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0001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   = 12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1276920" indent="-5529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1110</a:t>
            </a:r>
            <a:r>
              <a:rPr b="0" lang="pt-PT" sz="2400" spc="-1" strike="noStrike">
                <a:solidFill>
                  <a:srgbClr val="ff3300"/>
                </a:solidFill>
                <a:latin typeface="Arial"/>
              </a:rPr>
              <a:t>100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c2 </a:t>
            </a:r>
            <a:r>
              <a:rPr b="0" lang="pt-PT" sz="2400" spc="-1" strike="noStrike">
                <a:solidFill>
                  <a:srgbClr val="006666"/>
                </a:solidFill>
                <a:latin typeface="Arial"/>
              </a:rPr>
              <a:t>= -12</a:t>
            </a:r>
            <a:r>
              <a:rPr b="0" lang="en-US" sz="2400" spc="-1" strike="noStrike" baseline="-25000">
                <a:solidFill>
                  <a:srgbClr val="4f05c7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190600" y="5715000"/>
            <a:ext cx="1076400" cy="501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695920" y="5638680"/>
            <a:ext cx="107640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9" name="PlaceHolder 1"/>
          <p:cNvSpPr>
            <a:spLocks noGrp="1"/>
          </p:cNvSpPr>
          <p:nvPr>
            <p:ph/>
          </p:nvPr>
        </p:nvSpPr>
        <p:spPr>
          <a:xfrm>
            <a:off x="247320" y="1314000"/>
            <a:ext cx="8667720" cy="215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00b5b"/>
            </a:outerShdw>
          </a:effectLst>
        </p:spPr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90000"/>
              </a:lnSpc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presentação de números inteiros positivo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401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lvl="1" marL="519840" indent="-19980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gual à representação usual j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á apresentada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799920" indent="0" algn="just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40120" indent="-240120" algn="just">
              <a:lnSpc>
                <a:spcPct val="90000"/>
              </a:lnSpc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presentação de números inteiros negativo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2401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lvl="1" marL="519840" indent="-19980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ntém-se os bits menos significativos da direita para a esquerda até à ocorrência do primeiro bit igual a 1 (inclusive), sendo os bits restantes complementados de 1.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519840" indent="-199800" algn="just">
              <a:lnSpc>
                <a:spcPct val="90000"/>
              </a:lnSpc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sta operação equivale a: complemento de 1 + 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7831-6C06-40B5-AE89-E6D0DE4303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/>
          </p:nvPr>
        </p:nvSpPr>
        <p:spPr>
          <a:xfrm>
            <a:off x="409680" y="1752120"/>
            <a:ext cx="843912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Números inteiros codificados em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nário de 8 bit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m um sistema que utiliza complemento de 2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-128, -127, ...,  -2. -1,  0,  +1,  +2,...,  +127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{10000000, 10000001, ..., 11111110, 11111111,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0000000,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00000001, 00000010, ..., 01111111}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it mais significativo       informação de sinal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0 = positivo e 1 = negativo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4191120" y="53341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31C8-F1E1-4955-919D-E77A559F7A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"/>
          <p:cNvSpPr/>
          <p:nvPr/>
        </p:nvSpPr>
        <p:spPr>
          <a:xfrm>
            <a:off x="457200" y="1523880"/>
            <a:ext cx="81532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quer um só circuito (somador) para fazer a adição e a subtr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á apenas uma representação para o valor 0 (disponibilidade para mais uma representação) - mais um número negativo pode ser representado (para 8 bits, pode-se representar o número –128</a:t>
            </a:r>
            <a:r>
              <a:rPr b="1" lang="pt-BR" sz="24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10000000</a:t>
            </a:r>
            <a:r>
              <a:rPr b="1" lang="pt-BR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quantidade de números positivos é diferente da quantidade de números nega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F69F-2316-47D5-82B4-EE8D3326C3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/>
          </p:nvPr>
        </p:nvSpPr>
        <p:spPr>
          <a:xfrm>
            <a:off x="723960" y="1638360"/>
            <a:ext cx="7851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Exemplo</a:t>
            </a: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creva os números decimais abaixo na representação em complemento de 2 (utilizando 8 bits, se existir representação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) -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) –20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) –127        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7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) –128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Representação de Números Inteiros (Complemento de 2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0A96-FDE3-48EA-8700-0FF0ADD7EC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/>
          </p:nvPr>
        </p:nvSpPr>
        <p:spPr>
          <a:xfrm>
            <a:off x="247680" y="1504440"/>
            <a:ext cx="861048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té meados dos anos 1980, cada fabricante de computador tinha seu próprio formato para representar números em ponto flutuant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olu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criação d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adrão 75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IEEE 1985)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drão IEEE 754 procurou uniformizar a maneira como as diferentes máquinas representam os números em ponto flutuante, bem como devem operá-lo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drão IEEE 754 para ponto (vírgula) flutuante é a representação mais comum para </a:t>
            </a:r>
            <a:r>
              <a:rPr b="1" lang="pt-BR" sz="2400" spc="-1" strike="noStrike" u="sng">
                <a:solidFill>
                  <a:srgbClr val="ffcc00"/>
                </a:solidFill>
                <a:uFillTx/>
                <a:latin typeface="Arial"/>
              </a:rPr>
              <a:t>números reai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m computadores de hoje, incluindo PC's compatíveis com Intel, Macintosh, e a maioria das plataformas Unix/Linux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085760" y="0"/>
            <a:ext cx="805824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 </a:t>
            </a: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Representação de Números Reai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B9B7-9A50-4A45-B594-3573CC79D7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 padrão IEEE 754 define três format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cisão simpl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32 bit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cisão dupl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64 bit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ecisão estendida (80 bit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s formatos de precisão simples e precisão dupla usam a base 2 para o significando e a notação em excesso para o expoente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 type="title"/>
          </p:nvPr>
        </p:nvSpPr>
        <p:spPr>
          <a:xfrm>
            <a:off x="1371600" y="-3816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Penguin"/>
              </a:rPr>
              <a:t>O Padrão IEEE 754 para Números em Ponto Flutuante</a:t>
            </a:r>
            <a:endParaRPr b="1" lang="en-US" sz="36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0C04-CAE7-4BE1-B694-0963C7CAB8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"/>
          <p:cNvSpPr/>
          <p:nvPr/>
        </p:nvSpPr>
        <p:spPr>
          <a:xfrm>
            <a:off x="781200" y="4210200"/>
            <a:ext cx="7619760" cy="190476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1847880" y="1542960"/>
            <a:ext cx="5486400" cy="1905120"/>
          </a:xfrm>
          <a:prstGeom prst="rect">
            <a:avLst/>
          </a:prstGeom>
          <a:solidFill>
            <a:srgbClr val="ffff99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54" name=""/>
          <p:cNvGrpSpPr/>
          <p:nvPr/>
        </p:nvGrpSpPr>
        <p:grpSpPr>
          <a:xfrm>
            <a:off x="2381400" y="1695600"/>
            <a:ext cx="4800600" cy="1755000"/>
            <a:chOff x="2381400" y="1695600"/>
            <a:chExt cx="4800600" cy="1755000"/>
          </a:xfrm>
        </p:grpSpPr>
        <p:sp>
          <p:nvSpPr>
            <p:cNvPr id="3955" name=""/>
            <p:cNvSpPr/>
            <p:nvPr/>
          </p:nvSpPr>
          <p:spPr>
            <a:xfrm>
              <a:off x="3143520" y="2152800"/>
              <a:ext cx="2286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3372120" y="21528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286520" y="2152800"/>
              <a:ext cx="243828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447280" y="1695600"/>
              <a:ext cx="33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8                23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4520160" y="222876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81400" y="29908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2914920" y="2761920"/>
              <a:ext cx="30492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 flipV="1">
              <a:off x="3753000" y="2761920"/>
              <a:ext cx="60984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963" name=""/>
          <p:cNvGrpSpPr/>
          <p:nvPr/>
        </p:nvGrpSpPr>
        <p:grpSpPr>
          <a:xfrm>
            <a:off x="760320" y="4362480"/>
            <a:ext cx="7488000" cy="1755000"/>
            <a:chOff x="760320" y="4362480"/>
            <a:chExt cx="7488000" cy="1755000"/>
          </a:xfrm>
        </p:grpSpPr>
        <p:sp>
          <p:nvSpPr>
            <p:cNvPr id="3964" name=""/>
            <p:cNvSpPr/>
            <p:nvPr/>
          </p:nvSpPr>
          <p:spPr>
            <a:xfrm>
              <a:off x="1542960" y="4819680"/>
              <a:ext cx="22824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771560" y="4819680"/>
              <a:ext cx="114264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914560" y="4819680"/>
              <a:ext cx="533376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760320" y="436248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ts  1     11                                  5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214880" y="489600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gnificand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085760" y="5657760"/>
              <a:ext cx="48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al           Expoe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1390680" y="5352840"/>
              <a:ext cx="30420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 flipV="1">
              <a:off x="2380680" y="5428800"/>
              <a:ext cx="60948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2076480" y="344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cisão sim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228760" y="6039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cisão dup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1371600" y="-3816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814"/>
                </a:solidFill>
                <a:latin typeface="Penguin"/>
              </a:rPr>
              <a:t>O Padrão IEEE 754 para Números em Ponto Flutuante</a:t>
            </a:r>
            <a:endParaRPr b="1" lang="en-US" sz="36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AA10-9DDC-4832-9392-531B38DE99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"/>
          <p:cNvSpPr/>
          <p:nvPr/>
        </p:nvSpPr>
        <p:spPr>
          <a:xfrm>
            <a:off x="895320" y="1638360"/>
            <a:ext cx="7543800" cy="1942920"/>
          </a:xfrm>
          <a:prstGeom prst="rect">
            <a:avLst/>
          </a:prstGeom>
          <a:solidFill>
            <a:srgbClr val="ffffcc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6" name="PlaceHolder 1"/>
          <p:cNvSpPr>
            <a:spLocks noGrp="1"/>
          </p:cNvSpPr>
          <p:nvPr>
            <p:ph/>
          </p:nvPr>
        </p:nvSpPr>
        <p:spPr>
          <a:xfrm>
            <a:off x="647640" y="1961640"/>
            <a:ext cx="777240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na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0 = + e 1 = -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binaçõ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 Sinal + Expoente + Significand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tação em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cesso de 127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bit de polarização): precisão simples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ação e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cesso de 1023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bit de polarização): precisão dupla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977" name=""/>
          <p:cNvGraphicFramePr/>
          <p:nvPr/>
        </p:nvGraphicFramePr>
        <p:xfrm>
          <a:off x="1104840" y="1828800"/>
          <a:ext cx="7143840" cy="1523880"/>
        </p:xfrm>
        <a:graphic>
          <a:graphicData uri="http://schemas.openxmlformats.org/drawingml/2006/table">
            <a:tbl>
              <a:tblPr/>
              <a:tblGrid>
                <a:gridCol w="2133720"/>
                <a:gridCol w="1276200"/>
                <a:gridCol w="1847880"/>
                <a:gridCol w="188604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ente(+/-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d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31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30-2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22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4 bits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63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62-52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bits51-00]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8" name="PlaceHolder 2"/>
          <p:cNvSpPr>
            <a:spLocks noGrp="1"/>
          </p:cNvSpPr>
          <p:nvPr>
            <p:ph type="title"/>
          </p:nvPr>
        </p:nvSpPr>
        <p:spPr>
          <a:xfrm>
            <a:off x="1371600" y="-3816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814"/>
                </a:solidFill>
                <a:latin typeface="Penguin"/>
              </a:rPr>
              <a:t>O Padrão IEEE 754 para Números em Ponto Flutuante</a:t>
            </a:r>
            <a:endParaRPr b="1" lang="en-US" sz="36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EE49-4282-4C57-90D8-EE040649D5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"/>
          <p:cNvSpPr/>
          <p:nvPr/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04EA-0D9C-4A4E-8669-CF997D3314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/>
          </p:nvPr>
        </p:nvSpPr>
        <p:spPr>
          <a:xfrm>
            <a:off x="457200" y="1239480"/>
            <a:ext cx="8229600" cy="502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10000"/>
              </a:lnSpc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cc00"/>
                </a:solidFill>
                <a:latin typeface="Penguin"/>
              </a:rPr>
              <a:t>Não Posicionais</a:t>
            </a:r>
            <a:endParaRPr b="1" lang="en-US" sz="3500" spc="-1" strike="noStrike">
              <a:solidFill>
                <a:srgbClr val="ffff66"/>
              </a:solidFill>
              <a:latin typeface="Arial"/>
            </a:endParaRPr>
          </a:p>
          <a:p>
            <a:pPr lvl="1" marL="1140120" indent="-440280" algn="just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Valor atribuído a um símbolo é </a:t>
            </a:r>
            <a:r>
              <a:rPr b="1" i="1" lang="pt-BR" sz="2600" spc="-1" strike="noStrike">
                <a:solidFill>
                  <a:srgbClr val="eaeaea"/>
                </a:solidFill>
                <a:latin typeface="Arial"/>
              </a:rPr>
              <a:t>inalterável</a:t>
            </a: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, independente da posição em que se encontre no conjunto de símbolos que representam uma quantidade.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11401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664280" indent="-348120" algn="just">
              <a:lnSpc>
                <a:spcPct val="130000"/>
              </a:lnSpc>
              <a:spcBef>
                <a:spcPts val="550"/>
              </a:spcBef>
              <a:buClr>
                <a:srgbClr val="eaeaea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eaeaea"/>
                </a:solidFill>
                <a:latin typeface="Arial"/>
              </a:rPr>
              <a:t>Sistema de numeração </a:t>
            </a:r>
            <a:r>
              <a:rPr b="1" i="1" lang="pt-BR" sz="2200" spc="-1" strike="noStrike">
                <a:solidFill>
                  <a:srgbClr val="eaeaea"/>
                </a:solidFill>
                <a:latin typeface="Arial"/>
              </a:rPr>
              <a:t>Romano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XX</a:t>
            </a: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                                                  X</a:t>
            </a: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X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    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</a:rPr>
              <a:t>10         10         1                              10        1         10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1722600" y="528480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H="1">
            <a:off x="2866320" y="528480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 flipV="1">
            <a:off x="2681280" y="5295600"/>
            <a:ext cx="7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6149880" y="5310360"/>
            <a:ext cx="771480" cy="49824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 flipH="1">
            <a:off x="7273080" y="5310360"/>
            <a:ext cx="771480" cy="49824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104240" y="5297400"/>
            <a:ext cx="10800" cy="4269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E853-1CD0-4A09-913F-A651FBD248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/>
          </p:nvPr>
        </p:nvSpPr>
        <p:spPr>
          <a:xfrm>
            <a:off x="457200" y="1204560"/>
            <a:ext cx="8229600" cy="502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10000"/>
              </a:lnSpc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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Penguin"/>
              </a:rPr>
              <a:t>Posicionais</a:t>
            </a:r>
            <a:endParaRPr b="1" lang="en-US" sz="3900" spc="-1" strike="noStrike">
              <a:solidFill>
                <a:srgbClr val="ffff66"/>
              </a:solidFill>
              <a:latin typeface="Arial"/>
            </a:endParaRPr>
          </a:p>
          <a:p>
            <a:pPr lvl="1" marL="1140120" indent="-440280" algn="just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Valor atribuído a um símbolo 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dependente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a posição em que se encontre no conjunto de símbolos que representa uma quantidade.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1" marL="11401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664280" indent="-348120" algn="just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SzPct val="80000"/>
              <a:buFont typeface="Webdings" charset="2"/>
              <a:buChar char=""/>
              <a:tabLst>
                <a:tab algn="l" pos="7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istema de Numeração Decimal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5 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7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                               3 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500        70          3                 300        50          7               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1709640" y="5318280"/>
            <a:ext cx="771480" cy="49824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3150360" y="532908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 flipH="1" flipV="1">
            <a:off x="2743200" y="5336640"/>
            <a:ext cx="7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6008760" y="534348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H="1">
            <a:off x="7463880" y="5343480"/>
            <a:ext cx="771480" cy="498600"/>
          </a:xfrm>
          <a:custGeom>
            <a:avLst/>
            <a:gdLst/>
            <a:ahLst/>
            <a:rect l="l" t="t" r="r" b="b"/>
            <a:pathLst>
              <a:path w="486" h="314">
                <a:moveTo>
                  <a:pt x="486" y="0"/>
                </a:moveTo>
                <a:lnTo>
                  <a:pt x="486" y="187"/>
                </a:lnTo>
                <a:lnTo>
                  <a:pt x="0" y="187"/>
                </a:lnTo>
                <a:lnTo>
                  <a:pt x="0" y="314"/>
                </a:lnTo>
              </a:path>
            </a:pathLst>
          </a:custGeom>
          <a:noFill/>
          <a:ln w="1908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H="1" flipV="1">
            <a:off x="7086600" y="5336640"/>
            <a:ext cx="7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D1D8-9F27-45EE-92B6-5071BC9E49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/>
          </p:nvPr>
        </p:nvSpPr>
        <p:spPr>
          <a:xfrm>
            <a:off x="647640" y="188604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istema de numeração –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ódig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peração básica –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ontagem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Grupo com um determinado número de objetos –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base (raiz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istemas de numeração básic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cim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nári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ct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exadecim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FD3B-1EBA-46A8-9253-91A72BCCFC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/>
          </p:nvPr>
        </p:nvSpPr>
        <p:spPr>
          <a:xfrm>
            <a:off x="438120" y="11430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emplos de Sistemas de Numeraç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3834" name=""/>
          <p:cNvGraphicFramePr/>
          <p:nvPr/>
        </p:nvGraphicFramePr>
        <p:xfrm>
          <a:off x="838080" y="1881360"/>
          <a:ext cx="7467840" cy="3132000"/>
        </p:xfrm>
        <a:graphic>
          <a:graphicData uri="http://schemas.openxmlformats.org/drawingml/2006/table">
            <a:tbl>
              <a:tblPr/>
              <a:tblGrid>
                <a:gridCol w="2049480"/>
                <a:gridCol w="922320"/>
                <a:gridCol w="44960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a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e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arismos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inário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Ternário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Oct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,8,9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uodecim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,8,9,A,B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Hexadecimal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,2,3,4,5,6,7,8,9,A,B,C,D,E,F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5" name=""/>
          <p:cNvSpPr/>
          <p:nvPr/>
        </p:nvSpPr>
        <p:spPr>
          <a:xfrm>
            <a:off x="647640" y="5429160"/>
            <a:ext cx="8134560" cy="106740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Arial"/>
              </a:rPr>
              <a:t>Como os números representados em base 2 são muito extensos e, portanto, de difícil manipulação visual, costuma-se representar externamente os valores binários em outras bases de valor mais elevado (octal ou hexadecimal). Isso permite maior compactação de algarismos e melhor visualização dos valor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12E7-6F63-4C18-BDC7-AB18814670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/>
          </p:nvPr>
        </p:nvSpPr>
        <p:spPr>
          <a:xfrm>
            <a:off x="581040" y="1657440"/>
            <a:ext cx="798192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drões de Representação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Letra após o número para indicar a base;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Número entre parênteses e a base como um índice do número.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Exempl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istema Decimal – 2763D ou (2763)</a:t>
            </a:r>
            <a:r>
              <a:rPr b="1" lang="en-US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ou 2763</a:t>
            </a:r>
            <a:r>
              <a:rPr b="1" lang="en-US" sz="24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347A-BA01-49D3-91C7-C96ED7CACE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"/>
          <p:cNvSpPr/>
          <p:nvPr/>
        </p:nvSpPr>
        <p:spPr>
          <a:xfrm>
            <a:off x="1219320" y="3276720"/>
            <a:ext cx="6553080" cy="55224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0" name="PlaceHolder 1"/>
          <p:cNvSpPr>
            <a:spLocks noGrp="1"/>
          </p:cNvSpPr>
          <p:nvPr>
            <p:ph/>
          </p:nvPr>
        </p:nvSpPr>
        <p:spPr>
          <a:xfrm>
            <a:off x="428760" y="2114640"/>
            <a:ext cx="802008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Sistema mais utilizado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10 símbolos para representar  quantidades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0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  1      2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3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4       5       6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    7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8      9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13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Pes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– representar quantidades maiores que a base.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Peso trouxe: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unidad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dezena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(dez unidades)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entena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(cem unidades)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milha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(mil unidades)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dezena de milha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entena de milhar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, etc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6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66"/>
                </a:solidFill>
                <a:latin typeface="Arial"/>
                <a:ea typeface="Arial"/>
              </a:rPr>
              <a:t>Exemplo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: 2574 é composto por 4 unidades, 7 dezenas, 5 centenas e 2 milhares, ou 2000 + 500 + 70 + 4 = 2574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762120" y="1295280"/>
            <a:ext cx="4374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Sistema Decimal (Base 10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276200" y="0"/>
            <a:ext cx="7867800" cy="91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Penguin"/>
              </a:rPr>
              <a:t>Sistemas de Numeraçã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6D38-120D-4864-9ABD-6A28A4F71E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3-08T14:42:46Z</dcterms:modified>
  <cp:revision>525</cp:revision>
  <dc:subject/>
  <dc:title>Técnicas de Programação</dc:title>
</cp:coreProperties>
</file>