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D47F-3528-4570-95A0-8A4786DB5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0A0C-095D-4B9A-8F34-F99307C01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C2F1-786A-4850-9E07-228AE44A9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A2BE-738A-4C2C-8F89-8A84D8DF8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162B-B597-4681-97DF-B890F550C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9B4A-739F-4B3D-A86D-0A07D193A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7442-4D22-423F-AA14-6CC386A2B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E787-8FE1-450C-88DB-423F44A74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145F-6B5D-497E-B505-884009209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BEC5-E933-4650-862A-7953C1E58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04D2-2D78-450F-B67F-2871F633C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4BE9-2305-4F94-ADA2-3ED7D7218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87F5-6290-421F-BB8A-D6DAD7A7C15D}" type="slidenum">
              <a:rPr b="1" i="1" lang="en-US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1460520" y="2322360"/>
            <a:ext cx="622296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Apresentação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1790640" y="3395520"/>
            <a:ext cx="556272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da Disciplina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058240" cy="834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e101"/>
                </a:solidFill>
                <a:latin typeface="Penguin"/>
              </a:rPr>
              <a:t>Bibliografia Sugerida para Leitura</a:t>
            </a:r>
            <a:endParaRPr b="1" lang="en-US" sz="42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237960" y="1165320"/>
            <a:ext cx="8745840" cy="534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707040" indent="-707040" algn="just">
              <a:lnSpc>
                <a:spcPct val="100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GRAHAM, N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Learning C++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McGraw-Hill, 1991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JAMSA, KRIS &amp; KLANDER, L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Programando em C/C++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Makron Books Editora do Brasil Ltda, 1999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MARTIN, J. &amp; ODELL, J. J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Análise e Projeto Orientados a Objeto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Makron Books Editora do Brasil Ltda, 1996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07040" indent="-7070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MESQUITA, R. C.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urso de C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NED. Escola de Engenharia - UFMG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120F-1980-4987-A3B1-C761B9F486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058240" cy="834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e101"/>
                </a:solidFill>
                <a:latin typeface="Penguin"/>
              </a:rPr>
              <a:t>Bibliografia Sugerida para Leitura</a:t>
            </a:r>
            <a:endParaRPr b="1" lang="en-US" sz="42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37960" y="1165320"/>
            <a:ext cx="874584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4240" indent="-714240" algn="just">
              <a:lnSpc>
                <a:spcPct val="105000"/>
              </a:lnSpc>
              <a:buClr>
                <a:srgbClr val="ffff00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NONATO, L. G.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Tipos e Estruturas de Dados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Instituto de Ciências Matemáticas e de Computação – DCE/USP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105000"/>
              </a:lnSpc>
              <a:buClr>
                <a:srgbClr val="ffff00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105000"/>
              </a:lnSpc>
              <a:buClr>
                <a:srgbClr val="ffff00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UMBAUGH, B. M., PREMERLANI, W., EDDY, F. &amp; LORENSEN, W.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Object-Oriented Modeling and Desig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. Prentice Hall, 1991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105000"/>
              </a:lnSpc>
              <a:buClr>
                <a:srgbClr val="ffff00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105000"/>
              </a:lnSpc>
              <a:buClr>
                <a:srgbClr val="ffff00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SAVITCH, W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++ Absoluto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Pearson Education do Brasil, 2003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CEB0-C7EC-4D13-BDF0-443B77F66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058240" cy="834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e101"/>
                </a:solidFill>
                <a:latin typeface="Penguin"/>
              </a:rPr>
              <a:t>Bibliografia Sugerida para Leitura</a:t>
            </a:r>
            <a:endParaRPr b="1" lang="en-US" sz="42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237960" y="1165320"/>
            <a:ext cx="8745840" cy="534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SCHILDT, H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 Avançado - Guia do Usuário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McGraw-Hill, 1987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SCHILDT, H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 Completo e Total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McGraw-Hill, 1990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AUSTRUP, B.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he Design and Evolution of C+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. Addison Wesley, 1994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AUSTRUP, B.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he C++ Programming Languag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. Addison-Wesley, 1991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E5C6-E42F-4ACA-8313-ED8C56F8C7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305000" y="247680"/>
            <a:ext cx="7772400" cy="75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lano de Ensin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90080" y="1203480"/>
            <a:ext cx="8745480" cy="4790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bjetiv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ment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etodologia, Técnicas de Ensin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cursos Didátic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valiaçã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ultados Esperad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ibliografia Sugerida para Leitur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C294-89A3-4611-A70D-62033CCF60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238400" y="75960"/>
            <a:ext cx="7772400" cy="949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Objetivo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71000" y="1143000"/>
            <a:ext cx="8745480" cy="5292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finir e construir conceitos fundamentais da computação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tilizar a programação modular, dominando as principais técnicas utilizadas na implementação de estruturas de dados básicas, de algoritmos de pesquisa e de algoritmos de ordenação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lver eficientemente problemas de engenharia elétrica em ambientes computacionais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3F20-4455-4DD0-94C7-8F6ABCC89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247760" y="104400"/>
            <a:ext cx="7772400" cy="901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Ementa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199800" y="1157040"/>
            <a:ext cx="8745480" cy="4235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00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Estruturas de dados e algoritmos de manipulação relacionados: pilhas, listas, filas, árvores e tabelas </a:t>
            </a:r>
            <a:r>
              <a:rPr b="1" i="1" lang="pt-BR" sz="3000" spc="-1" strike="noStrike">
                <a:solidFill>
                  <a:srgbClr val="ffff00"/>
                </a:solidFill>
                <a:latin typeface="Arial"/>
              </a:rPr>
              <a:t>hash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Algoritmos de ordenação e busca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Noções de programação orientada a objetos: conceitos básicos, modelo de programação, aplicações em engenharia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9D09-6667-4737-8F4C-283069F8F4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257480" y="123840"/>
            <a:ext cx="7772400" cy="866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Técnicas de Ensin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228240" y="1238400"/>
            <a:ext cx="8745480" cy="2187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ulas Expositivas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ulas Práticas em Laboratório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tividades Individuais e Grupais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7B5F-A3C6-4280-A3FA-5F2A1077F4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276200" y="142920"/>
            <a:ext cx="7772400" cy="853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Recursos Didático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99800" y="1157040"/>
            <a:ext cx="8745480" cy="3405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uadro branco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troprojetor/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atasho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boratório de Informática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gramas de Simulação de domínio público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ADD2-6B81-4340-B7EF-4462C4112D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276200" y="123480"/>
            <a:ext cx="7772400" cy="863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Avaliaçã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99800" y="1170000"/>
            <a:ext cx="8745480" cy="4968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ntínu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9280" algn="just"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9"/>
                </a:solidFill>
                <a:latin typeface="Arial"/>
              </a:rPr>
              <a:t>Avaliações individuais e trabalhos em laboratóri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abalhos interativos de pesquisa extra-class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9280" algn="just"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9"/>
                </a:solidFill>
                <a:latin typeface="Arial"/>
              </a:rPr>
              <a:t>Individuais e grupais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abalhos de pesquisa em sala de aul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9280" algn="just"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9"/>
                </a:solidFill>
                <a:latin typeface="Arial"/>
              </a:rPr>
              <a:t>Individuais e grupais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60B5-42E7-486E-988E-0966E76CE3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1285920" y="57240"/>
            <a:ext cx="7772400" cy="96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Resultados Esperado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198000" y="1168560"/>
            <a:ext cx="8745480" cy="5448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uxílio ao aluno no raciocínio e na compreensão de conceitos e técnicas de programação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porte ao aluno na elaboração mais efetiva e eficiente de programas em </a:t>
            </a:r>
            <a:r>
              <a:rPr b="0" i="1" lang="en-US" sz="3000" spc="-1" strike="noStrike">
                <a:solidFill>
                  <a:srgbClr val="ffff00"/>
                </a:solidFill>
                <a:latin typeface="Arial Black"/>
              </a:rPr>
              <a:t>C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e </a:t>
            </a:r>
            <a:r>
              <a:rPr b="0" i="1" lang="en-US" sz="3000" spc="-1" strike="noStrike">
                <a:solidFill>
                  <a:srgbClr val="ffff00"/>
                </a:solidFill>
                <a:latin typeface="Arial Black"/>
              </a:rPr>
              <a:t>C+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eparação do aluno para a assimilação de tópicos mais avançados de programação em linguagem </a:t>
            </a:r>
            <a:r>
              <a:rPr b="0" i="1" lang="en-US" sz="3000" spc="-1" strike="noStrike">
                <a:solidFill>
                  <a:srgbClr val="ffff00"/>
                </a:solidFill>
                <a:latin typeface="Arial Black"/>
              </a:rPr>
              <a:t>C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4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4600" indent="-44460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mbasamento do aluno na programação orientada a objetos usando a linguagem </a:t>
            </a:r>
            <a:r>
              <a:rPr b="0" i="1" lang="en-US" sz="3000" spc="-1" strike="noStrike">
                <a:solidFill>
                  <a:srgbClr val="ffff00"/>
                </a:solidFill>
                <a:latin typeface="Arial Black"/>
              </a:rPr>
              <a:t>C+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53B7-45BF-4F71-ADF5-647D5B4240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8058240" cy="834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e101"/>
                </a:solidFill>
                <a:latin typeface="Penguin"/>
              </a:rPr>
              <a:t>Bibliografia Sugerida para Leitura</a:t>
            </a:r>
            <a:endParaRPr b="1" lang="en-US" sz="42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37960" y="1165320"/>
            <a:ext cx="8745840" cy="52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BUDD, T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lassic Data Structures in C++</a:t>
            </a:r>
            <a:r>
              <a:rPr b="1" i="1" lang="pt-BR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Addison Wesley, 1994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DEITEL, H. M. &amp; DEITEL, P. J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C++ Como Programar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Bookman Co. Editora, 2001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DROZDEK, A., </a:t>
            </a:r>
            <a:r>
              <a:rPr b="0" i="1" lang="pt-BR" sz="3000" spc="-1" strike="noStrike">
                <a:solidFill>
                  <a:srgbClr val="ffffff"/>
                </a:solidFill>
                <a:latin typeface="Arial Black"/>
              </a:rPr>
              <a:t>Estruturas de Dados e Algoritmos em C++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. Pioneira Thomson Learning Ltda., 2002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714240" indent="-714240" algn="just">
              <a:lnSpc>
                <a:spcPct val="95000"/>
              </a:lnSpc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CKEL, B., </a:t>
            </a: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Thinking in C+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. MindView Inc., 2000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81080" y="2286000"/>
            <a:ext cx="8810640" cy="1057320"/>
          </a:xfrm>
          <a:prstGeom prst="rect">
            <a:avLst/>
          </a:prstGeom>
          <a:noFill/>
          <a:ln w="38160">
            <a:solidFill>
              <a:srgbClr val="ffffe3"/>
            </a:solidFill>
            <a:prstDash val="sysDot"/>
            <a:miter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BE77-2566-4F8D-A64F-78E26FDCA0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Eustáquio Rangel</cp:lastModifiedBy>
  <dcterms:modified xsi:type="dcterms:W3CDTF">2003-11-25T17:07:08Z</dcterms:modified>
  <cp:revision>332</cp:revision>
  <dc:subject>SBPC03</dc:subject>
  <dc:title>Informática na Educação</dc:title>
</cp:coreProperties>
</file>