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9B2-1824-476A-88F2-4FCDF1EC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F59-530E-4E20-AFDF-042020E5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763-848C-4548-8851-D66E7115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978-6F15-4710-9591-E2609480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B6C9-1E50-4194-9AF6-BA51A5B3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C1D2-9C13-433E-AE96-BEDFFB7D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BACF-B9F6-4B38-B045-EBB90634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3007-192E-4AA5-9A94-541180BF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A0EC-4713-4B75-8D9E-B79C81F5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6477-BAE3-4E49-818B-564903EC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CAEB-E598-4918-A3DD-E38B402E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E44-EA10-4BB5-8A58-099DB6BC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EE4E-C537-428F-AAB6-D3BB3D28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E52C-C913-40A7-804E-E7928512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6DB1-6FCF-4CC5-86F2-F2BF4DAC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40D3-67AC-40F8-89E5-224EB3AC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2956-DD99-4333-82C7-73F9B4B3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BFB2-8ED1-4101-8892-2F11243C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36A-D67D-42BD-9A56-B162B44C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956-5D7D-4CC8-9207-B45BD67B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96D-4293-48CB-91D0-415CE246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8D2C-47C3-4168-87DB-E74BE533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C77-DEB3-4B98-B4A8-A8116C3F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0FC-FD9D-4F53-83BA-DAF59D29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00B0-17FE-4443-85E1-E0D792085FE3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08000" y="6165720"/>
            <a:ext cx="720720" cy="620640"/>
            <a:chOff x="108000" y="6165720"/>
            <a:chExt cx="720720" cy="620640"/>
          </a:xfrm>
        </p:grpSpPr>
        <p:sp>
          <p:nvSpPr>
            <p:cNvPr id="7" name=""/>
            <p:cNvSpPr/>
            <p:nvPr/>
          </p:nvSpPr>
          <p:spPr>
            <a:xfrm>
              <a:off x="108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98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flipV="1">
              <a:off x="1425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1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1432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2120760"/>
            <a:ext cx="900000" cy="206712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00000" cy="213372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0" y="4076640"/>
            <a:ext cx="900000" cy="201636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932360" y="1951200"/>
          <a:ext cx="3183120" cy="205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1951200"/>
                    <a:ext cx="318312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4787-8CDC-4DD2-9116-FC8FFA281359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8600" y="2924280"/>
            <a:ext cx="8159760" cy="73080"/>
            <a:chOff x="228600" y="2924280"/>
            <a:chExt cx="8159760" cy="73080"/>
          </a:xfrm>
        </p:grpSpPr>
        <p:sp>
          <p:nvSpPr>
            <p:cNvPr id="59" name=""/>
            <p:cNvSpPr/>
            <p:nvPr/>
          </p:nvSpPr>
          <p:spPr>
            <a:xfrm>
              <a:off x="228600" y="2927520"/>
              <a:ext cx="4199040" cy="69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356000" y="2923920"/>
              <a:ext cx="4032360" cy="7128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22200" y="6192720"/>
            <a:ext cx="720720" cy="620640"/>
            <a:chOff x="322200" y="6192720"/>
            <a:chExt cx="720720" cy="620640"/>
          </a:xfrm>
        </p:grpSpPr>
        <p:sp>
          <p:nvSpPr>
            <p:cNvPr id="62" name=""/>
            <p:cNvSpPr/>
            <p:nvPr/>
          </p:nvSpPr>
          <p:spPr>
            <a:xfrm>
              <a:off x="322200" y="6689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3080" y="6389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57120" y="6192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15600" y="6399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57840" y="6201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" name=""/>
          <p:cNvGraphicFramePr/>
          <p:nvPr/>
        </p:nvGraphicFramePr>
        <p:xfrm>
          <a:off x="826920" y="1917720"/>
          <a:ext cx="3024360" cy="201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1917720"/>
                    <a:ext cx="302436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063960" y="3789360"/>
          <a:ext cx="2871720" cy="201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63960" y="3789360"/>
                    <a:ext cx="28717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320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Considerações Fi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1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1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1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1440" y="189000"/>
            <a:ext cx="7991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411280" y="1844640"/>
            <a:ext cx="431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istemas Multimídia</a:t>
            </a:r>
            <a:endParaRPr b="0" lang="en-US" sz="1800" spc="1" strike="noStrike">
              <a:ln w="1260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2205000"/>
            <a:ext cx="746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ões multimíd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&gt; interagem com o usuário fazendo uso simultâneo de diversos meios, como áudio, imagens estáticas, imagens em movimento, gráficos e texto, obtendo desta forma uma comunicação mais efetiva - "com alto impacto sobre as pessoas leigas" [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oares et All 9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7280" y="350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multimídia será a mais poderosa ferramenta de apresentação porque será capaz de explorar todos os sentidos.”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Douglas E. Wolfgram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5-10T03:04:56Z</dcterms:modified>
  <cp:revision>36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