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BE28-4B77-40E2-87C4-624EEEDD84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29B6-B367-4C91-BC29-D8ADAD822F5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B840-6DD9-49AD-93DD-27E81AFDAB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A46B-0224-4E8E-8829-ECA07B99BA1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6F9-AA0A-4F9C-8E3E-E4EA98F8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4EF-5340-440B-A2CF-CFEED127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422-D233-4945-A24C-34FB5631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7808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3760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61892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7808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3760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43B-BCA5-42EC-AF8D-E3DFFCF5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9196-89DE-4996-858A-88E10ADE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AE88-0507-45DC-A6D9-450A4534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7D54-7EAA-4662-9881-23348973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123A-9017-43A1-9AF3-C13B7887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E645-69FC-433D-B6D2-C7AF0B59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E67C-D693-4276-ACC7-F641826E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7ADB-5C37-425C-B738-8A9BCB78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76B-D9B9-452E-B83B-4939C27F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9D5B-FC63-48E1-B1DF-D792BAA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FFFA-8B1A-4804-80F3-FCD6A19E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45C9-3BDD-4C9C-8D93-D100D760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9163-58E2-4A99-A9DC-C03C99B6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7808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37600" y="162864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61892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7808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37600" y="3995280"/>
            <a:ext cx="234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FBF6-ADF7-4789-A6A1-B68ADB7D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B36-36DF-48B3-88EA-50BC4F61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DFC-D2C7-40DA-BB1B-A4A4F27A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755-1A1C-4C1B-8CF2-5DF6A873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F23-45EF-4B2F-A5D7-75213D85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69C-554F-4640-AD5B-45036A08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360" y="399528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1EE-7A71-4F55-B6E9-7A2CAB18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360" y="1628640"/>
            <a:ext cx="35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18920" y="3995280"/>
            <a:ext cx="7273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AC7-0F9E-4496-B46A-FD715089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618920" y="1628640"/>
            <a:ext cx="727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BC85-40CC-4016-823D-BBF8E27DCAE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9080" y="1447920"/>
            <a:ext cx="7559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87280" y="128520"/>
            <a:ext cx="7705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s Tex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3068640"/>
            <a:ext cx="99684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0" y="4292640"/>
            <a:ext cx="103176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0" y="907920"/>
            <a:ext cx="103176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0" y="5084640"/>
            <a:ext cx="9968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míd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0" y="189000"/>
            <a:ext cx="971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ultimídi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877000"/>
            <a:ext cx="163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MS Gothic"/>
              </a:rPr>
              <a:t>Multimí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Modern No. 20"/>
              </a:rPr>
              <a:t>MULTIMÍ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1844640"/>
            <a:ext cx="125892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13C2-DAFC-496E-9EFD-C01BCFC5746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05000"/>
            <a:ext cx="147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3357720"/>
            <a:ext cx="1292400" cy="7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4508640"/>
            <a:ext cx="13366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81000"/>
            <a:ext cx="133668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ltimí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5229360"/>
            <a:ext cx="12924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míd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60280"/>
            <a:ext cx="12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ultimídi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72040"/>
            <a:ext cx="163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MS Gothic"/>
              </a:rPr>
              <a:t>Multimí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Modern No. 20"/>
              </a:rPr>
              <a:t>MULTIMÍ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s Texto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 - Adicional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699920"/>
            <a:ext cx="78120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s - Recomendações  Adi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2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tar o alinhamento à direit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linhamento do texto à direita é prejudicial à compreensão pelos leitores inexperientes. (Robertson, 1993) (Schriver,1996)  </a:t>
            </a:r>
            <a:br>
              <a:rPr sz="20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tar o uso de hífen (Robertson, 1993) 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uso de hífen reduz a velocidade de leitura tanto para leitores experientes quanto para leitores inexper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has curtas facilitam a leitura, pois reduzem o movimento excessivo dos olhos. (Robertson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mprimento ótimo de uma linha para textos legíveis é de 10 a 12 palavras ou de 40 a 60 caracteres por linha. (Marcus, 1992)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2000" y="1628640"/>
            <a:ext cx="763272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4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- Recomendações  Adi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r o máximo de duas fontes (por exemplo, Arial e Times New Roman), duas inclinações (romano e itálico), dois pesos (regular e negrito), e quatro tamanhos (título principal, subtítulo, texto e nota de rodapé). (Marcus, 1992) (Mullet e Sano, 199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menda-se que a seleção da fonte seja feita de acordo com o tipo de documento a ser executado. (Marcus, 1992). Tipos com serifa são mais apropriados para documentos formais. Para literatura podem ser utilizados os tipos sem serifa, Helvética ou Arial.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6240" indent="-246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minais de vídeo de baixa resolução, recomenda-se o uso de fontes sem serifa e com estilo regular. (Marcus, 1992). O uso da serifa deve ser evitado pois ela pode não ser visualizada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734544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- Recomendações  Adi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menda-se deixar um espaço antes e depois da palavra para aumentar a visibilidade do vídeo reverso. (Robertson, 1993). Tal procedimento aumenta a visibilidade da palavra. 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menda-se o uso do itálico para atrair a atenção do usuário. (Robertson, 1993). O uso do itálico atrai a atenção do usuário e não causa quebras significativas no ritmo do leitura, mas deve ser usado somente para textos curtos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tar o uso de caracteres brilhando e piscando. (Nielsen, 1996) (Robertson, 1993). Eles distraem e competem pela atenção do usuário. O usuário precisa de paz para a ler as informações. (Nielsen,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10T01:12:44Z</dcterms:modified>
  <cp:revision>509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