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E0D-ED6D-43A2-95BE-CC421F3DFD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B5B-7014-4F5E-977E-10FE81F19A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03C-0EC6-4373-82D1-F1089B1580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D2B-BDAA-45A5-BC59-D4E75D5EC2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CA7-33AB-49E4-8F5D-B8561D8ABF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9610-5C6E-41BB-A06F-B99A9FC824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DD20-4651-4707-BEA3-88BF8E81BD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AC0-A67F-46CF-B4A1-9C412522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A67-6D73-4FDC-8846-EBBF267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C90-A0BA-4348-8B93-23575516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672-4C37-4D62-B8FD-E58F5859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176F-FB2D-41C8-B31E-35A7E68E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7DB-831D-47B1-B70E-698A9827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58A-5853-44BF-B5CF-A57071EA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C0B4-0B08-417C-83A8-AA854CAD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E34-C2F1-4CA2-82A7-BDE6010C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A2DB-6685-452E-8D75-0F405247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B4F-6F3D-4086-BC40-6279520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272-665D-4FD7-A7E0-20B6396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99A-8909-4068-BD15-26A6667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1C51-3B66-4B79-9BC7-C2777C0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232D-2B48-4B7F-8ED3-F53C6227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EE5-BA32-41CF-8639-23683FC6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939F-7A9B-4CCB-9FB1-C27817CD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BD8-140E-4EA0-995C-B70482B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074-3064-42BD-9C50-A3CF5CF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B20-BCBE-4617-939C-E0AE2E5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02E-4B0E-453B-AA66-8361D4A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282-64D8-4EB2-8E92-11F2C12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41A-CCDE-40CD-B81C-9F1423B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B03-9DCC-479F-9B5B-AFE9CE2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1051-1D89-4792-A4CE-A39F99DBE13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9080" y="1447920"/>
            <a:ext cx="755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87280" y="128520"/>
            <a:ext cx="7705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3068640"/>
            <a:ext cx="99684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0" y="4292640"/>
            <a:ext cx="10317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0" y="907920"/>
            <a:ext cx="10317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0" y="5084640"/>
            <a:ext cx="996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0" y="189000"/>
            <a:ext cx="97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877000"/>
            <a:ext cx="163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844640"/>
            <a:ext cx="12589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71A-6527-4713-8961-4F49E5E15F1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5000"/>
            <a:ext cx="14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3357720"/>
            <a:ext cx="12924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4508640"/>
            <a:ext cx="13366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13366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5229360"/>
            <a:ext cx="12924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0280"/>
            <a:ext cx="12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72040"/>
            <a:ext cx="163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pecular.com/" TargetMode="External"/><Relationship Id="rId2" Type="http://schemas.openxmlformats.org/officeDocument/2006/relationships/hyperlink" Target="http://www.specular.com/" TargetMode="External"/><Relationship Id="rId3" Type="http://schemas.openxmlformats.org/officeDocument/2006/relationships/hyperlink" Target="http://www.xaostools.com/" TargetMode="External"/><Relationship Id="rId4" Type="http://schemas.openxmlformats.org/officeDocument/2006/relationships/hyperlink" Target="http://www.xaostools.com/" TargetMode="External"/><Relationship Id="rId5" Type="http://schemas.openxmlformats.org/officeDocument/2006/relationships/hyperlink" Target="http://www.macromedia.com/" TargetMode="External"/><Relationship Id="rId6" Type="http://schemas.openxmlformats.org/officeDocument/2006/relationships/hyperlink" Target="http://www.macromedia.com/" TargetMode="External"/><Relationship Id="rId7" Type="http://schemas.openxmlformats.org/officeDocument/2006/relationships/hyperlink" Target="http://www.metatools.com/" TargetMode="External"/><Relationship Id="rId8" Type="http://schemas.openxmlformats.org/officeDocument/2006/relationships/hyperlink" Target="http://www.metatools.com/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6413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499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s fontes (em ordem crescen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ric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mapas de b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polig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dimen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procedimentos (por exempl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ue 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03280" y="184428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ação entre fo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5742000" cy="25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28480" y="1773000"/>
            <a:ext cx="73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Fo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com serifa/sem seri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6954840" cy="173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56000" y="407664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Seri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162864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com serifa/sem seri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diferença entre os vários tipos de fontes existentes é a existência ou não de serif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o texto impresso esta característica contribui para uma leitura mais fácil leitura e por isso esse tipo de fonte é muito usada em grandes blocos de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ontes sem serifa são mais usadas para títulos, cabeçalhos e mensa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os textos para visualização de computador aconselha-se precisamente o contr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03280" y="169992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Fo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er humano lê palavras ao invés de letras individuais, assim as letras serifadas parecem juntar-se devido aos seus prolongamentos, unindo as palav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outro lado, as fontes sem serifa costumam ser usadas em títulos e chamadas, pois valorizam cada palavra individualmente e tendem a ter maior peso e presença para os olhos ("chamando a atenção"), já que parecem mais limp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643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com seri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a mais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Book Antiq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onte mais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urier Ne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tipo de letra muito usado na im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sem seri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a mais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erd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onte que se impõe ba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cora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Comic Sans MS é a fonte d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Impact é uma fonte para chamar a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fontes pode ter, ou não ter, seri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são mais decorativas do que fáceis de 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muito usadas em anúncios e carta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as f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luem quase tudo o que se pode fazer numa fonte para alterar o seu asp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 mai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gr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que torna as linhas mais carre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tál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clina a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ublinh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loca uma linha sob as palav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bre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loca uma sombra por trás das letras dando-lhes um aspecto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orno - salienta 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as f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 mai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r a cor - é uma forma de realçar o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sais e versaletes - são formas de apresentar o texto em maiúsc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s letras todas do mesmo tamanho e com a primeira letra de cada palavra em tamanho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as frases totalmente em maiúsculas (nem mesmo nos tít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escrever em verme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escrever a cores fluor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ervar com atenção quando utilizar fontes com serifa (depende do contex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utilizar sublinhados sem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abusar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Text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03280" y="155700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esmo documento deve-se utilizar, no máximo, 2/3 tipos de letra dife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mente: 1 tipo de letra para o título e outro para o corpo do tex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vitados os tipos de letra muito arredondados pois tornam-se de difícil leitura a partir d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utilizar o maior contraste possível entre o texto e a cor de fundo (letra preta em fundo branco resulta melhor do que letra branca em fundo preto apesar do contraste ser o me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utilizar cores escuras para 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aproveitar a experiência d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evem ser utilizadas palavras completamente em maiúsculas. Além de parecer que se está "gritando" com o usuário, a leitura torna-se monót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r palavras completamente em maiúsculas só é permitido em títulos e desde que a primeira letra de cada palavra seja maior do que as rest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palavras escritas em minúsculas apresentam uma descontinuidade que estimula e prende a atenção d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Texto n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um projeto que não utiliza texto. Certamente som e animação poderão guiar o usuário na navegação, porém isto requer do usuário uma maior concentração para acompanhar o conteúdo destes do que para seguir algum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 dúvida um item de um menu seguido de um "clique" do mouse é bem mais explicativo e fácil de ser absorvido (requer menos treinamento) pel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to n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importante dimensionar bem a quantidade de texto por págin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s linhas podem ocasionar um grande número de intervenções para mudar de página, por outro lado uma grande quantidade pode tornar a tela cheia e desagradável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a da Fonte e Posicionamento do Texto– este é um outro ponto difícil de selecion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tornar a página mais legível é interessante explorar os efeitos das diferentes cores e a utilização de vários "backgrounds" (para mensagens em preto e branco uma solução é utilizar o tipo revers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cores incandescentes, causando um impacto desagradável, como verde no vermelho, por exemplo, nos casos de se desejar prender a atenção quando se utiliza técnicas de arrastar, uma boa alternativa é alterar e distorcer o texto grafic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eriências com sombras podem tornar o texto mais legível e causar um impacto mai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beçalhos devem ser rodeados de espaços em branc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ma página Web, coloque os elementos de texto mais importantes e os menus no topo. Estudos demonstram que entre 10 a 15% dos usuários da Web utilizam a rolagem de uma página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ímbolos são textos concentrados na forma gráfica que transmitem (significam) uma mensagem, por exemplo, a figura de uma lixeira diz onde devem ser colocados os arquivos inút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ultimídia estes símbolos são tratados como textos porque estão embutindo uma mensagem, e símbolos peculiares, como a lixeira, são conhecidos como ícones, pois exercem a função de ânc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ímbolos que não são conhecidos devem ser introduzidos com cuidado para não frustrar o usuário. Uma boa técnica é a combinação do símbolo com o tex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anim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texto com animação pode reter a atenção do usuá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técnicas são: palavras-chaves podem voar, outras serem dissolvidas, sofrerem um processo de rotação, etc. Porém o exagero deve ser evi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para criar efeitos em 3-D e alguns "plug-ins" estão 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specular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xaostools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ww.macromedia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www.metatools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76360" y="1699920"/>
            <a:ext cx="66960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os tex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s das 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(negrito, itálico, sublinh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e ori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18012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Prata, A., Multimédia Organizacional, Instituto Politécnico de Setúbal, Escola Superior de Ciências Empresariais, 20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ção de Fontes e Ferramentas par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a Apple utilizado para criar e modificar recursos gráficos tais como: cursor, ícone, caixa para diálogo, padrões, mapa de teclado, e fontes em bitmap do Macint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gráfico especial da Macromedia (pode ser usado no ambiente Windows ou Macintosh) que serve para desenvolver PostScript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 fontes em bitmap para Windows, Macintosh, estações de trabalho Sun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também a modificação de tipos já existentes, converte automaticamente imagens escanead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ção de Fontes e Ferramentas par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-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a DS Design, para Windows, que permite a criação, conversão e manipulação de fontes do tipo PostScrip Type 1 e TrueType , como também arquivos do formato EPS para ilustr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Chame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Ares Software, para Windows e Macintosh, constrói milhões de fontes diferentes a partir de um simples fo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dendo o resultado ser em PostScript Type 1 ou TrueType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835280" y="213372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s dias atuais, com a recente explosão da Internet e da WWW, textos estão sendo utilizados em todas as formas de comunicação e nunca foram de tamanha importâ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28480" y="1628640"/>
            <a:ext cx="75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xto é uma parte vital de quase todas as apresentações e por i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de ter um aspecto interessante e ser lido com facilidade, caso contrário, a apresentação perde eficá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onte que se escolhe é muito importante. Pode ser conservadora ou despreocupada, moderna ou clássi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fundamental ter em conta as necessidades e as características da população al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6139080"/>
            <a:ext cx="756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tamanho do tipo de fonte é normalmente expresso em pontos (1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üivale a 0.0138 polegadas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junto de caracteres concebidos para funcionarem ju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decisões mais importantes em relação ao texto tem a ver com a escolha de uma boa fo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fo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iais/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visualização (monitor)/de im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todas as o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31640" y="155700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veto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armazenadas nos arquivos como algoritmos ou cál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 computador precisa apresentar a fonte, calcula como será o próximo caractere e apresenta o resultado dos cál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fontes muito "maleáveis" e fáceis de redimensio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r o tamanho da fonte não diminui a qualidade do seu asp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stas as usadas nas apresentaçõe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ou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êm várias desvant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armazenadas como uma série de imagens, uma por cada caract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rquivos de font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muito maiores do que os de fontes v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fontes são menos flexíveis que as vetoriais. Quando se aumenta este tipo de fonte a letra fica com os bordas recortadas, quando se diminui, a letra perde detal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74260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 visualização/de i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as fontes têm uma versão de visualização e outra de impressão (normalmente, as font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resolução no monitor é muito menor do que a resolução disponível nas impr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onte ótima quando se imprime pode não se apresentar bem no monitor e vice-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77300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u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lhor escolha é por uma font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fontes destinam-se a adaptar monitor e  impressora, ou seja, ver-se-á a mesma coisa quer o texto apareça na visualização quer seja impr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23:52:12Z</dcterms:modified>
  <cp:revision>50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