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A11D-61DB-48E5-B673-ABC0F42B6B2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E31F-E701-4C51-94BB-E9C9F3DEBE3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0744-30D8-424F-8B79-2A13F4E33E8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3389-3924-4B80-83D2-630245CFEA2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795D-9A18-420C-B1DF-2AA203DC526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4286-070F-465B-B100-09EB0E1C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0D0E-7F76-490E-9B86-B3FFF80C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36CC-B772-4B0A-BEC7-3BD357EF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312-ADF6-49A0-A3C3-82F6B439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FD90-A17E-43A6-BB2D-C1EC8BF0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12B8-FE4E-4186-8C54-CF7F0388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D5F6-216A-482F-BEF0-BD9A3DC0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CA09-4EDB-4998-BA72-760FC598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3566-925C-4755-8232-70ED1C54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FB3C-EF47-4AA3-AA6F-69B3AC29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09A9-6022-4AF7-A632-4B41170A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3D48-0939-4FFA-8C8F-7C8C6FBE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6029-7EE3-44ED-B596-A0AA8ECC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EBA3-B9E5-47A9-85C5-C344634F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E914-52D4-4FD3-8C56-153FAD18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8116-2366-402C-BA77-B562FE2C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5E77-52C2-4C4F-B0DA-BDB1487B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35A-A522-49C0-A5B1-6089048F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0DB-B399-4E6C-957A-987FB6B3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CEC-6CE8-4B18-B172-F18BF919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F51D-6048-43CC-90C4-70D44B4A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C0D-94C0-4019-8981-1EF66CB7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7EB-50B7-4769-86F0-640CB130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538-9713-4A73-872C-EE2D807F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6C54-636B-4420-89FC-64E487251534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42920" y="1447920"/>
            <a:ext cx="7632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42920" y="128520"/>
            <a:ext cx="7993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s Grá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6360" y="0"/>
            <a:ext cx="1079280" cy="6858000"/>
            <a:chOff x="-36360" y="0"/>
            <a:chExt cx="1079280" cy="6858000"/>
          </a:xfrm>
        </p:grpSpPr>
        <p:graphicFrame>
          <p:nvGraphicFramePr>
            <p:cNvPr id="7" name=""/>
            <p:cNvGraphicFramePr/>
            <p:nvPr/>
          </p:nvGraphicFramePr>
          <p:xfrm>
            <a:off x="5760" y="0"/>
            <a:ext cx="1036800" cy="1168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60" y="0"/>
                      <a:ext cx="1036800" cy="11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" name=""/>
            <p:cNvGraphicFramePr/>
            <p:nvPr/>
          </p:nvGraphicFramePr>
          <p:xfrm>
            <a:off x="5760" y="2060640"/>
            <a:ext cx="1036800" cy="1368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0" y="2060640"/>
                      <a:ext cx="1036800" cy="13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" name=""/>
            <p:cNvGraphicFramePr/>
            <p:nvPr/>
          </p:nvGraphicFramePr>
          <p:xfrm>
            <a:off x="5760" y="1125360"/>
            <a:ext cx="1036800" cy="1168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760" y="1125360"/>
                      <a:ext cx="1036800" cy="11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" name=""/>
            <p:cNvGraphicFramePr/>
            <p:nvPr/>
          </p:nvGraphicFramePr>
          <p:xfrm>
            <a:off x="-36360" y="4508640"/>
            <a:ext cx="1079280" cy="1168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-36360" y="4508640"/>
                      <a:ext cx="1079280" cy="11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" name=""/>
            <p:cNvGraphicFramePr/>
            <p:nvPr/>
          </p:nvGraphicFramePr>
          <p:xfrm>
            <a:off x="5760" y="3357720"/>
            <a:ext cx="1036800" cy="1168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760" y="3357720"/>
                      <a:ext cx="1036800" cy="11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" name=""/>
            <p:cNvGraphicFramePr/>
            <p:nvPr/>
          </p:nvGraphicFramePr>
          <p:xfrm>
            <a:off x="5760" y="5689440"/>
            <a:ext cx="1036800" cy="11685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8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760" y="5689440"/>
                      <a:ext cx="1036800" cy="11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7580-B84F-4C5D-A5F4-66ECE50E8358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0"/>
            <a:ext cx="1403280" cy="6858000"/>
            <a:chOff x="0" y="0"/>
            <a:chExt cx="1403280" cy="6858000"/>
          </a:xfrm>
        </p:grpSpPr>
        <p:graphicFrame>
          <p:nvGraphicFramePr>
            <p:cNvPr id="63" name=""/>
            <p:cNvGraphicFramePr/>
            <p:nvPr/>
          </p:nvGraphicFramePr>
          <p:xfrm>
            <a:off x="55080" y="0"/>
            <a:ext cx="1348200" cy="1168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080" y="0"/>
                      <a:ext cx="1348200" cy="11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"/>
            <p:cNvGraphicFramePr/>
            <p:nvPr/>
          </p:nvGraphicFramePr>
          <p:xfrm>
            <a:off x="55080" y="2060640"/>
            <a:ext cx="1348200" cy="1368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5080" y="2060640"/>
                      <a:ext cx="1348200" cy="13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" name=""/>
            <p:cNvGraphicFramePr/>
            <p:nvPr/>
          </p:nvGraphicFramePr>
          <p:xfrm>
            <a:off x="55080" y="1125360"/>
            <a:ext cx="1348200" cy="1168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5080" y="1125360"/>
                      <a:ext cx="1348200" cy="11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" name=""/>
            <p:cNvGraphicFramePr/>
            <p:nvPr/>
          </p:nvGraphicFramePr>
          <p:xfrm>
            <a:off x="0" y="4508640"/>
            <a:ext cx="1403280" cy="1168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0" y="4508640"/>
                      <a:ext cx="1403280" cy="11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55080" y="3357720"/>
            <a:ext cx="1348200" cy="1168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5080" y="3357720"/>
                      <a:ext cx="1348200" cy="11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55080" y="5689440"/>
            <a:ext cx="1348200" cy="11685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5080" y="5689440"/>
                      <a:ext cx="1348200" cy="11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Os Gráfico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s Gráficos (Conceitos Bás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gráficos constituem um elemento muito importante para qualquer aplicação multimídia po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tituem uma forma simples de ajudar a esclarecer alguns conceitos mais complex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lhoram o aspecto geral da aplicação tornando-a mais agradável aos olhos do usuá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6180120"/>
            <a:ext cx="75610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te: Prata, A., Multimédia Organizacional, Instituto Politécnico de Setúbal, Escola Superior de Ciências Empresariais, 2007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58920" y="1844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 ser criados pelos usuários ou gerados por compu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formados por objetos como: linhas, curvas ou círcul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ses objetos podem ser apagados, adicionados, deslocados, modificados ou esticad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ses objetos têm atributos como: espessura, cor ou padrões de preenchimento os quais também são modificáve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258920" y="1844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documentos modificáveis porque o seu formato contém informação estru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gráfico pode ser facilmente redimensionado, girado ou inclinado sem qualquer distor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sto só é possível porque o gráfico é armazenado pelo computador como uma lista de instruções que inclui informação sobre o tamanho, a forma, a posição e a cor do obje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5-09T18:20:44Z</dcterms:modified>
  <cp:revision>472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