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BD7D-6614-4FAA-AF3A-979659BB86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8B97-88F2-46AC-8C10-5FF9CA63AA7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D535-F5C5-4580-A502-B24C69EF40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430-86DA-46B7-928B-197A2361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E8C-6B32-4F8B-9557-EC6BC61C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A16-F585-4084-ABBD-F417A17B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E94-83C2-4AD6-9EC0-30D3292C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378D-02AF-4E93-8A31-BA90700B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B97B-EABB-4593-A326-080F09D3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016D-D8FE-405E-B123-BDA0D99A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1FF3-E56A-4982-9217-061B49B9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4998-ED69-461E-847A-5141C340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0C75-42E6-414E-99E3-484F5AF1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98FB-8B80-424D-8AF6-0B2ACCD3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6EA-EDB4-4659-8532-661DACA7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AAA0-1A95-481A-9FC4-76060DD6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8D5E-FA85-4ED5-9269-A17BD285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B88B-62A7-45D0-94C6-511AF9D6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AE92-E3B5-4192-A52B-DD945C53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9B38-F7D1-44CA-B1A2-72C27C4E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5E1-9BDF-4A38-B4F3-5B03B8AC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62B-15F6-436A-99FA-E1D496D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681-CC81-410D-9079-D42CC29F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8CA-6F51-443E-9C6D-52DBE64F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64C-B9D3-43AD-B62D-24D0C2C9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ECD-816B-4DB5-9DC2-09A32BE6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4E1-0433-49A5-963E-B585B58D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041D-B610-4962-9A9E-45E32DB8DDAB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000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 Terceira Dimen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826920" cy="4005000"/>
            <a:chOff x="0" y="0"/>
            <a:chExt cx="826920" cy="4005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42120" y="1847160"/>
              <a:ext cx="78480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rcRect l="0" t="19051" r="0" b="0"/>
            <a:stretch/>
          </p:blipFill>
          <p:spPr>
            <a:xfrm>
              <a:off x="166680" y="0"/>
              <a:ext cx="373680" cy="6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2786040"/>
              <a:ext cx="8010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42120" y="768960"/>
              <a:ext cx="748080" cy="104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0" y="3833640"/>
            <a:ext cx="971640" cy="3024360"/>
            <a:chOff x="0" y="3833640"/>
            <a:chExt cx="971640" cy="3024360"/>
          </a:xfrm>
        </p:grpSpPr>
        <p:pic>
          <p:nvPicPr>
            <p:cNvPr id="12" name="" descr=""/>
            <p:cNvPicPr/>
            <p:nvPr/>
          </p:nvPicPr>
          <p:blipFill>
            <a:blip r:embed="rId6"/>
            <a:stretch/>
          </p:blipFill>
          <p:spPr>
            <a:xfrm>
              <a:off x="0" y="4797360"/>
              <a:ext cx="97164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0" y="5805360"/>
              <a:ext cx="95256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8"/>
            <a:srcRect l="0" t="0" r="12846" b="11577"/>
            <a:stretch/>
          </p:blipFill>
          <p:spPr>
            <a:xfrm>
              <a:off x="0" y="3833640"/>
              <a:ext cx="95256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1411-C7C3-422C-9C2F-528B6AEF6A6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1432080" cy="4005000"/>
            <a:chOff x="0" y="0"/>
            <a:chExt cx="1432080" cy="40050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73080" y="1847160"/>
              <a:ext cx="135900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rcRect l="0" t="19051" r="0" b="0"/>
            <a:stretch/>
          </p:blipFill>
          <p:spPr>
            <a:xfrm>
              <a:off x="289080" y="0"/>
              <a:ext cx="647640" cy="6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2786040"/>
              <a:ext cx="13874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3080" y="768960"/>
              <a:ext cx="1295640" cy="104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0" y="3833640"/>
            <a:ext cx="1402920" cy="3024360"/>
            <a:chOff x="0" y="3833640"/>
            <a:chExt cx="1402920" cy="30243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0" y="4797360"/>
              <a:ext cx="14029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0" y="5805360"/>
              <a:ext cx="137556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rcRect l="0" t="0" r="12846" b="11577"/>
            <a:stretch/>
          </p:blipFill>
          <p:spPr>
            <a:xfrm>
              <a:off x="0" y="3833640"/>
              <a:ext cx="137556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Terceira Dimensã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 - Adiciona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Normais nos extremos de cada linha são interpoladas ao longo da me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álculo da cor dos pontos internos da face é feita a partir da Normal para cada po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5120" y="2646360"/>
            <a:ext cx="5078160" cy="337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10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6000" y="177300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a curvas em objetos que não as possu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42920" y="1700280"/>
            <a:ext cx="763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: Coloração de P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16048"/>
          <a:stretch/>
        </p:blipFill>
        <p:spPr>
          <a:xfrm>
            <a:off x="1258920" y="2349360"/>
            <a:ext cx="3024000" cy="2001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16360" y="4251240"/>
            <a:ext cx="3600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8101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nder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&gt; representa a geração de imagens com a inclusão de procedimentos específicos para torná-las mais real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agem deve ser criada considerando as características físicas do objeto, sua interação com as fontes de iluminação da cena e com os demais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4581360"/>
            <a:ext cx="2089440" cy="181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56360" y="4365720"/>
            <a:ext cx="15685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oposta do algoritm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Gouraud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suavizar a transição entre a coloração de faces adjac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r de uma face, portanto, não pode ser constante. Ela deve variar de modo que nas fronteiras entre faces as cores possam ser “combinada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sa forma a aresta que marca a passagem de uma face para outra ficará “escondida” pela variação das 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obter suavidade na exibição de objetos com superfícies curvas quando representados por políg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ada vértice é calculado um novo Vetor Normal que é a média das normais das faces que compartilham o vér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r é calculada em cada vér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álculo da cor dos pontos internos da face é feita por interpolaçã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nterpolated shad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10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428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ntos de brilho especular são atenuad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 tentar suavizar as transições entre as faces da intensidade de luz refletida, efeitos associados a variações abruptas dessa intensidade são elimin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, as imagens geradas pelo algoritmo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Gouraud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êm como “assinatura” a aparência fosca, típica de superfícies em que a componente difusa da luz refletida é predomin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8172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: Coloração de Gou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3573"/>
          <a:stretch/>
        </p:blipFill>
        <p:spPr>
          <a:xfrm>
            <a:off x="1258920" y="2421000"/>
            <a:ext cx="3025800" cy="203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0" r="1950" b="11235"/>
          <a:stretch/>
        </p:blipFill>
        <p:spPr>
          <a:xfrm>
            <a:off x="4788000" y="4116240"/>
            <a:ext cx="396072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empírico introduzido em 1975 por B. Ph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a três tipos de interação luz-ob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flexão difusa: luz incidente refletida em todas as direções. Em superfícies difusoras perfeitas, a intensidade é igual em todas essas dire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flexão especular: luz incidente é refletida em direções com ângulos próximos da direção de reflexão que um espelho proporcionaria. Em superfícies especulares perfeitas, toda a reflexão se dá num ângulo igual ao de incid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flexão da luz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obter suavidade na exibição de objetos com superfícies curvas quando representados por políg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tém o brilho espe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ada vértice é calculado um novo Vetor Normal que é a média das normais das faces que compartilham o vértice. Este Vetor é interpolado ao longo das ar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10T03:55:21Z</dcterms:modified>
  <cp:revision>48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