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_rels/presentation.xml.rels" ContentType="application/vnd.openxmlformats-package.relationships+xml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18.png" ContentType="image/png"/>
  <Override PartName="/ppt/media/image20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15.png" ContentType="image/png"/>
  <Override PartName="/ppt/media/image14.wmf" ContentType="image/x-wmf"/>
  <Override PartName="/ppt/media/image13.wmf" ContentType="image/x-wmf"/>
  <Override PartName="/ppt/media/image12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2.png" ContentType="image/png"/>
  <Override PartName="/ppt/media/image35.png" ContentType="image/png"/>
  <Override PartName="/ppt/media/image11.wmf" ContentType="image/x-wmf"/>
  <Override PartName="/ppt/media/image26.png" ContentType="image/png"/>
  <Override PartName="/ppt/media/image36.png" ContentType="image/png"/>
  <Override PartName="/ppt/media/image4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png" ContentType="image/png"/>
  <Override PartName="/ppt/media/image41.wmf" ContentType="image/x-wmf"/>
  <Override PartName="/ppt/media/image3.png" ContentType="image/png"/>
  <Override PartName="/ppt/media/image33.png" ContentType="image/png"/>
  <Override PartName="/ppt/media/image7.png" ContentType="image/png"/>
  <Override PartName="/ppt/media/image37.png" ContentType="image/png"/>
  <Override PartName="/ppt/media/image6.wmf" ContentType="image/x-wmf"/>
  <Override PartName="/ppt/media/image29.wmf" ContentType="image/x-wmf"/>
  <Override PartName="/ppt/media/image1.wmf" ContentType="image/x-wmf"/>
  <Override PartName="/ppt/media/image31.wmf" ContentType="image/x-wmf"/>
  <Override PartName="/ppt/media/image10.wmf" ContentType="image/x-wmf"/>
  <Override PartName="/ppt/media/image25.png" ContentType="image/png"/>
  <Override PartName="/ppt/media/image34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7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5120" cy="365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8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9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E99B-1C14-4B44-89C3-F2AFF16394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8251C-BE1E-49BD-8D72-C6BC61E7AB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65BCF-564B-4B6D-816B-964EEB3D400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CBB3-C01F-4E2E-98E3-757C1AEBFF4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4F4E-6F1C-4FFC-AFB7-DB44588892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48AF4-9A3B-42CC-A15C-E750C860F5F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F7B6-5881-4939-A9D7-E43E472AB90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362FF-5C00-4984-AB7F-A273652EDB6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A016-68FF-4570-B88B-3E5901C487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DE812-BCC4-4A5E-B08C-667F1B2FFFA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19DD-056C-4F5F-A999-FD7732582A0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F5F4-E261-4213-AEB1-4165FCA49B1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049400" y="770040"/>
            <a:ext cx="4821120" cy="36162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42840" y="4618080"/>
            <a:ext cx="503424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3446-B0A0-4FC6-98F9-61F06EBC26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75ABF-41BF-4765-927C-AFE5C4AC6CA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6E77A-5F4D-41A4-BB79-6C23E8D088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59D7D-1725-4C85-8A2A-50B36E97BA2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A3C9-6AD8-4011-BB56-96BB5D0E754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43ED6-9E98-4367-8457-4F2F3F9EA37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33359-0C87-4489-BE73-F9D622631C1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C27B4-711C-4237-B80D-2B8DC46C0AC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CAEB-9629-4061-9CF3-C091798950E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9E1DD-EB0C-4D17-A4D8-A0B9A9BD30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28F6-FA5B-46A1-8BA2-9C08B9D0D15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2699C-04C6-48C1-8147-F8AF57D9A3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4B45-77A0-41D2-B9D5-3F956DF77C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F7BC-4074-41AE-AAE0-0564478545F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BF4DA-3225-4D9C-81B9-7BA9C157D8E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9F53-B66E-4DBD-9917-1ADB10FB191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DC1F4-2AAB-4498-B80E-9DBF230317A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4F80-1C4C-436B-A522-42677E74378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2A54-6E0F-426D-8A4D-F9EE4329260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4B13B-1DF5-450C-AEA0-E9324A0D5E4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2223-40AB-4E55-B042-7651C54BCEE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1C9E0-CBC3-46B5-A32B-7DC3566F53C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7291-FCA0-446E-B5F7-AE53A31515C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BFF2-092A-4401-A08B-748A66699E0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AA9E-6030-4D57-8023-5AAEAE3B06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3AD2D-85FA-4121-A601-D3AC60DD2F7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1F584-A195-475D-BAFC-60D95E5A429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37E39-149F-437A-A052-25551B48C39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F9EE7-89D5-4D49-8247-5F86FCD3DA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8AB7E-6E40-45A6-A686-0DAC97BA84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9959-57A7-4DC8-8766-03E2C29D0E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9A7E-9A4D-481A-8CA0-9A36C71CE9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A2FB-604F-4E06-A5A5-D9E86FE97A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E0B3B-9799-43B2-8CBF-AA4252A8D88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A7359-7F4A-41D2-887D-9C3F4E6715E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D6B5-8658-443D-94AA-C120FF9800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DA957-B1E4-4F56-90AD-996AF2BA1F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0595-713C-48C0-9407-AD5CEE2FB85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4A4-0FCF-42C6-B069-F2056BC7455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41D65-4776-44DA-9E64-55FBFD1A957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7590-E3FA-418B-AF03-64C11FC9F95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992FE-A629-4CD4-B3EF-74358DDB28E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366D-66CF-4A46-A0FD-4AA5DA73CB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2DFE-31C8-4924-9DF7-D8DD890CD08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6D9ED-143D-4078-8060-9ACA846B8A8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96FCD-5DDF-4E24-8441-3B22E2C9398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51B7-F319-410D-B954-CFCCAFC10B3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ECB1-7C77-4974-BBC5-6593DE8991D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C3D14-3B78-48D0-812B-B6BCD694B6B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242E1-53CF-4A3C-B532-8FA1D10E8E4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1742-4497-4BCC-82E7-931942B9B1F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EF6D-BAE0-44DB-8EDB-1B2DDE6A242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59A1-C538-4F90-9F77-BAD2EAFD03B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61702-5CA1-4EF3-980A-BB00DF594E3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7680" y="849240"/>
            <a:ext cx="4559400" cy="34196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0BEEE-03DC-4ECE-8CA1-4B484C154A9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B46D-9246-4D3C-8D9E-43DAA42E201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8174-BD4E-4537-875E-1A3ADC94DDE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50920" y="85104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040" y="4633920"/>
            <a:ext cx="502596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7747-4FEF-4C48-959D-BD8E73545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6422-97BA-4933-BFB7-BA9F140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CB01-671C-42AC-A808-EA77EC0F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F258-D8F4-4760-8C7E-01D9B37AE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B860-9D77-4CE4-8686-EBE919AF5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B4C8A-F619-4D60-8D5E-EC2F45BEE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F4EDC-EEE9-4EE3-890A-BCE809FD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D61B-E235-4585-8A77-6CFC1876C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D700B-7E37-43FE-922C-14C5388D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D547-4B54-4C10-B2BB-D6E3FFCB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795F-7E1F-4820-8E46-09C83C21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1749-3B76-4436-97E9-0422BC718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EA2D-3AED-41AF-BE28-3D7934477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773C-1D5D-4F61-B31D-213FC6B5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30B9C-B1B3-4A6E-A36A-3C60E876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9192D-0B19-42A9-8B9A-C689AEF80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617D2-C325-4BAF-890B-78373591A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3A6A8-5E94-4060-9681-6E3DE1E4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7477-7151-464D-907A-4B33EE2E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8A28-BA60-4A10-A25D-E895B50A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C1FF-87BB-4B52-B194-F9C6D9E4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FEEF-B23E-4374-9DD1-2FAF977E1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C7C7-8669-403A-98A1-0DF4ED277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5A1-52EB-4922-B957-C001E057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wmf"/><Relationship Id="rId6" Type="http://schemas.openxmlformats.org/officeDocument/2006/relationships/image" Target="../media/image5.wmf"/><Relationship Id="rId7" Type="http://schemas.openxmlformats.org/officeDocument/2006/relationships/image" Target="../media/image6.wm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69AF1-1477-4390-A826-24BDF1D4864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00000" y="115920"/>
            <a:ext cx="799308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A Terceira Dimen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0" y="0"/>
            <a:ext cx="826920" cy="4005000"/>
            <a:chOff x="0" y="0"/>
            <a:chExt cx="826920" cy="4005000"/>
          </a:xfrm>
        </p:grpSpPr>
        <p:pic>
          <p:nvPicPr>
            <p:cNvPr id="7" name="" descr=""/>
            <p:cNvPicPr/>
            <p:nvPr/>
          </p:nvPicPr>
          <p:blipFill>
            <a:blip r:embed="rId2"/>
            <a:stretch/>
          </p:blipFill>
          <p:spPr>
            <a:xfrm>
              <a:off x="42120" y="1847160"/>
              <a:ext cx="7848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166680" y="0"/>
              <a:ext cx="37368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80100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" name="" descr=""/>
            <p:cNvPicPr/>
            <p:nvPr/>
          </p:nvPicPr>
          <p:blipFill>
            <a:blip r:embed="rId5"/>
            <a:stretch/>
          </p:blipFill>
          <p:spPr>
            <a:xfrm>
              <a:off x="42120" y="768960"/>
              <a:ext cx="74808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" name=""/>
          <p:cNvGrpSpPr/>
          <p:nvPr/>
        </p:nvGrpSpPr>
        <p:grpSpPr>
          <a:xfrm>
            <a:off x="0" y="3833640"/>
            <a:ext cx="971640" cy="3024360"/>
            <a:chOff x="0" y="3833640"/>
            <a:chExt cx="971640" cy="3024360"/>
          </a:xfrm>
        </p:grpSpPr>
        <p:pic>
          <p:nvPicPr>
            <p:cNvPr id="12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97164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952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952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324000" y="6165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3522-0F58-4770-989A-CCF901D35836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997360"/>
            <a:ext cx="374508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148360" y="2997360"/>
            <a:ext cx="3995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0" y="0"/>
            <a:ext cx="1432080" cy="4005000"/>
            <a:chOff x="0" y="0"/>
            <a:chExt cx="1432080" cy="4005000"/>
          </a:xfrm>
        </p:grpSpPr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73080" y="1847160"/>
              <a:ext cx="1359000" cy="109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" descr=""/>
            <p:cNvPicPr/>
            <p:nvPr/>
          </p:nvPicPr>
          <p:blipFill>
            <a:blip r:embed="rId3"/>
            <a:srcRect l="0" t="19051" r="0" b="0"/>
            <a:stretch/>
          </p:blipFill>
          <p:spPr>
            <a:xfrm>
              <a:off x="289080" y="0"/>
              <a:ext cx="647640" cy="68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" descr=""/>
            <p:cNvPicPr/>
            <p:nvPr/>
          </p:nvPicPr>
          <p:blipFill>
            <a:blip r:embed="rId4"/>
            <a:stretch/>
          </p:blipFill>
          <p:spPr>
            <a:xfrm>
              <a:off x="0" y="2786040"/>
              <a:ext cx="1387440" cy="12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5"/>
            <a:stretch/>
          </p:blipFill>
          <p:spPr>
            <a:xfrm>
              <a:off x="73080" y="768960"/>
              <a:ext cx="1295640" cy="104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" name=""/>
          <p:cNvGrpSpPr/>
          <p:nvPr/>
        </p:nvGrpSpPr>
        <p:grpSpPr>
          <a:xfrm>
            <a:off x="0" y="3833640"/>
            <a:ext cx="1402920" cy="3024360"/>
            <a:chOff x="0" y="3833640"/>
            <a:chExt cx="1402920" cy="3024360"/>
          </a:xfrm>
        </p:grpSpPr>
        <p:pic>
          <p:nvPicPr>
            <p:cNvPr id="64" name="" descr=""/>
            <p:cNvPicPr/>
            <p:nvPr/>
          </p:nvPicPr>
          <p:blipFill>
            <a:blip r:embed="rId6"/>
            <a:stretch/>
          </p:blipFill>
          <p:spPr>
            <a:xfrm>
              <a:off x="0" y="4797360"/>
              <a:ext cx="140292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7"/>
            <a:stretch/>
          </p:blipFill>
          <p:spPr>
            <a:xfrm>
              <a:off x="0" y="5805360"/>
              <a:ext cx="1375560" cy="105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8"/>
            <a:srcRect l="0" t="0" r="12846" b="11577"/>
            <a:stretch/>
          </p:blipFill>
          <p:spPr>
            <a:xfrm>
              <a:off x="0" y="3833640"/>
              <a:ext cx="1375560" cy="1079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jurema-sampaio.pro.br/VRML/teste1.htm" TargetMode="External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52360" y="189000"/>
            <a:ext cx="799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63800" y="2133720"/>
            <a:ext cx="432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Sistemas Multimí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1908000" y="3141720"/>
            <a:ext cx="6400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A Terceira Dimensão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Tahoma"/>
              </a:rPr>
              <a:t>(Parte I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a Joseana Macêdo Fe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polig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stas por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értic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es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a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has polig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erfícies poligonais aber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liedr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uperfícies poligonais fech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ireções perpendiculares às 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lha polig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619280" y="2708280"/>
            <a:ext cx="6397560" cy="3081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is às faces de um cub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4572000" cy="34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rmal a um vérti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2819520"/>
            <a:ext cx="457200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curvas - moti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nversão para polígonos só é feita no instante de elabor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e adaptar a resolução poligonal à resolução da t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ervam a geometria exata dos obje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ortante para gerar dados para a fabricaç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também ser mais efici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guras que teriam que ser representadas por modelos poligonais muito gran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curv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fícies cô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feras, elipses, cilindros, cones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perfícies cúb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de Bézier, “splines”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talho cúb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476360" y="2695680"/>
            <a:ext cx="6829560" cy="325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65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 cúb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286000" y="2514600"/>
            <a:ext cx="4770360" cy="35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00000" y="184428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eometria sólida constru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ções booleanas sobre sólidos bás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conceitualmente fáci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m sempre produz resultados esper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sonância com modelos baseados em superfíc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peração de geometria sólida constru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410080" cy="406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187280" y="2060280"/>
            <a:ext cx="734544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ahoma"/>
              </a:rPr>
              <a:t>Tópic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A Terceira Dimensão (Conceitos Básic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ação gráfica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odelagem tridimens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de imagens tridimensiona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alidade vir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900000" y="1773000"/>
            <a:ext cx="771552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presentações de varred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eradas por deslocamento de uma forma 2D ao longo de um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jetó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mento paralelo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trus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volução em torno de um eixo: 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uperfícies de revolu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99640" y="1916280"/>
            <a:ext cx="45370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 de extrus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4495680" y="1484280"/>
            <a:ext cx="3029040" cy="446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3D - Modelos procediment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m objetos de geometria muito complex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objetos são descritos por algoritm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dos para imitar muitos fenômenos natur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rau de detalhe pode ser controlado para evitar tempos excessivos de elabor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modelos procediment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ractais: relevo, hidrografia, formas abstra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aftais: plant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partículas: fogo, névoa, vap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físicos: baseadas nas propriedades físicas de objetos re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ntanha fra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600200" y="2400480"/>
            <a:ext cx="6019920" cy="37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26560" y="2852280"/>
            <a:ext cx="3240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Graftal em forma de samamba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356000" y="2133720"/>
            <a:ext cx="4486320" cy="384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agem 3D - Modelos volumét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evem tanto a superfície como o interior dos objet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paço é dividido em cubos elementares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voxel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, com cor e transparência individu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dequados para a reconstituição de objetos naturais: tomografias, subsol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âmeras virtu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m como a cena 3D será projetada em imagens 2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o baseado na imitação de câmeras verdadeir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típicos: posição, alvo, aber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vimentos das câmeras virtu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õ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zoom - mudança da aber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magem orig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135160" y="2286000"/>
            <a:ext cx="517068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921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ormatos tr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XF, padrão tridimensional AutoCA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GES, padrão de CAD independente de fabrica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DS, formato binário do 3D Stud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RML, para modelos de realidade virt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l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2008080" y="2209680"/>
            <a:ext cx="53737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roxim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109960" y="2362320"/>
            <a:ext cx="5576760" cy="41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dança da aber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057400" y="2343240"/>
            <a:ext cx="5400720" cy="404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otação da câm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95640" y="2205000"/>
            <a:ext cx="5170320" cy="387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2000"/>
          </a:bodyPr>
          <a:p>
            <a:pPr marL="75240" indent="-752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tridimension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5240" indent="-752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aboraçã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5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en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5691240" cy="427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em fio de a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ostra as arestas, com as faces transparent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com linhas ocult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mostras as arestas, com as faces opac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tenção de imagem fotorea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em fio-de-a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66680" y="2836800"/>
            <a:ext cx="7239240" cy="287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5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isualização com linhas ocul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90720" y="2639880"/>
            <a:ext cx="746748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3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l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ot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 de esca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je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de imagen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rendering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btenção de imagens representativas de projeções da cena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itui normalmente a etapa de produção mais intensiva em processamento, mas não precisa de intervenção man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03640" y="4149720"/>
            <a:ext cx="3241800" cy="2424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476360" y="4867920"/>
            <a:ext cx="345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a paisagem renderizada computacionalment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Funções de um editor gráfico 3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ação de primitiva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trução de estruturas gráfica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nsformações lineares e não-lineares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ualização básica 3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ementos da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da cena, incluindo geometria e materi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âmeras e luz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âmetros da imagem: resolução, canais, grau de fotoreal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alidades de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-de-aram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vistas da geometria para fins de model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prelimin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imagens para avali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definiti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geração de imagens para pós-produção e grav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 de aram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185920" y="2438280"/>
            <a:ext cx="496728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99640" y="184428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em fio de arame com antipseudoním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2268360" y="2349360"/>
            <a:ext cx="4967640" cy="372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laboração preli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0" y="2629080"/>
            <a:ext cx="4581360" cy="285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ilumin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termina a intensidade de cada canal, de cada pixel e de cada imagem d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geometria e materiais da ce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câmer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luz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arâmetros das ima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origi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438280" y="2286000"/>
            <a:ext cx="4770720" cy="366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reduzi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286000" y="2438280"/>
            <a:ext cx="5181480" cy="39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luminação de reflet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133720" y="2362320"/>
            <a:ext cx="502272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981080" y="2590920"/>
            <a:ext cx="5264280" cy="334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formações tridimensiona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979640" y="2133720"/>
            <a:ext cx="5486400" cy="41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905120" y="2646360"/>
            <a:ext cx="5078160" cy="3375000"/>
          </a:xfrm>
          <a:prstGeom prst="rect">
            <a:avLst/>
          </a:prstGeom>
          <a:ln w="0">
            <a:noFill/>
          </a:ln>
        </p:spPr>
      </p:pic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71280" y="1600200"/>
            <a:ext cx="7715160" cy="100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chapad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2228760"/>
            <a:ext cx="524844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Gourau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185920" y="2286000"/>
            <a:ext cx="52722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loração de Pho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36680" y="2362320"/>
            <a:ext cx="50691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6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paração de técnicas de elabor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420840" y="2655720"/>
          <a:ext cx="8548560" cy="265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0840" y="2655720"/>
                    <a:ext cx="854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xtur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mulam detalhes complexos através da projeção de imagens 2D sobre uma superfíci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m efeitos atraentes, mas aumentam muito o tempo de elabor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imagens 2D podem também ser usadas para simular a rugosidade 3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e tex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13000" y="2362320"/>
            <a:ext cx="506880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pla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84400" y="2219400"/>
            <a:ext cx="537372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cilíndr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236680" y="2286000"/>
            <a:ext cx="5069160" cy="380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plicação de imag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2185920" y="2362320"/>
            <a:ext cx="527220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635280" y="623736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a de editor 3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971640" y="476280"/>
            <a:ext cx="7683480" cy="576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apa de rugos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79132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ombras, reflexos e refraçõ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ibuem em muito para o realismo apar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lmente calculadas por métodos aproxim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cálculo segundo as leis da ótica requer o rastreamento de ra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ena com dois obje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981080" y="2438280"/>
            <a:ext cx="5477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nspar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981080" y="2286000"/>
            <a:ext cx="547704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Realidade virtual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biente artificial apresentado a um usuário de forma a que se assemelhe o máximo possível a um ambiente re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mais avançados são imersiv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para grupos: mundos virtu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tares: representações dos usuár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: VR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6021360"/>
            <a:ext cx="7632720" cy="70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xemplo de extrusão em VRM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http://www.jurema-sampaio.pro.br/VRML/teste1.ht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ers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nitores gráficos miniaturiz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óculos especiais ou capace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resentam uma imagem para cada olho, criando tridimension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positivos que monitoram as ações do usuá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óculos e capacetes que sentem os movimentos da cabeç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stemas imersivo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nsores de tato (dispositivos háptico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uvas e trajes sensor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sivelmente com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força para dar ilusão de solid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217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sualização em naveg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3203640" y="1608120"/>
            <a:ext cx="557856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versor de 3DS para VRML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579132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826560" y="2637000"/>
            <a:ext cx="2374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delo exibido em um navegad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3203640" y="836640"/>
            <a:ext cx="57513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4256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editores tridimension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DStudio Ma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ftimage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y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étodos de representação tridimension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geométric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poligon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perfícies curv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ções de varredura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eometria sólida construtiv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procediment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odelos volumétr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97128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odelos geométr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êm informação da geometria de uma cena: objetos, facetas, arestas, vértic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m ser construídos com editores 3D internos ou externos a um sistema de animação 3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êm informação adicional sobre a natureza das superfícies (cor, material, textura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joseana</cp:lastModifiedBy>
  <dcterms:modified xsi:type="dcterms:W3CDTF">2007-05-09T17:46:17Z</dcterms:modified>
  <cp:revision>467</cp:revision>
  <dc:subject/>
  <dc:title>Sistemas Multimíd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